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3C37-ADF9-4132-86FE-2B601E8D4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6B4B-CD04-4098-81DA-A426DA14E790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469-037C-44DE-BC17-165879B652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EE31-1468-4118-8372-2B717B4FEEA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63DB-117D-471A-8CBB-CA8F25ACC35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3D4E-C516-4495-B0F8-A77B07B8B3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CE65-BE8F-4A7C-AC09-AE9F04468C9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8C1-9A3F-482E-B800-F7DA0F9531B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CBEB-D370-4CD5-A044-3A1414CEB1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9FC9-C9A1-47C2-9051-5B7F5617E3A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98D3-060C-4F15-AE3D-0F3C0ACB8B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3EC-E4DF-4335-A4B5-25172BBD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3EA-CAC9-4F12-B6AD-8251ADF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62E-4063-4019-96E0-21AB9F4C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4D3-8A3E-401E-8817-8F1428EC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109-7D02-4846-AB91-3C87D43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4E3-7ED7-4971-B6F8-B39B5433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65C-65B0-454F-8578-D0A926A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650-9760-4F84-90E5-B766B01B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3BC-69E9-410B-93BD-AA0D0A70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328-F17C-42E0-9BA1-F032EC0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F2B-E7D5-4197-B943-5781DF8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8F0-97EB-4841-8888-C60F8D55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24ED-2CB2-41E1-A086-59A12E477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719360" y="290520"/>
            <a:ext cx="93628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01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8537400" y="5440320"/>
            <a:ext cx="2905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446200" y="1440000"/>
            <a:ext cx="824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a@kuzdrav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евская Марина Анатолье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-статист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.т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3842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0502 доб.405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6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57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7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68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79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Раевская Марина Анатольевна</cp:lastModifiedBy>
  <cp:lastPrinted>2018-12-10T14:36:03Z</cp:lastPrinted>
  <dcterms:modified xsi:type="dcterms:W3CDTF">2021-12-10T07:57:08Z</dcterms:modified>
  <cp:revision>130</cp:revision>
  <dc:subject/>
  <dc:title>Презентация PowerPoint</dc:title>
</cp:coreProperties>
</file>