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sldIdLst>
    <p:sldId id="256" r:id="rId43"/>
    <p:sldId id="257" r:id="rId44"/>
    <p:sldId id="258" r:id="rId45"/>
    <p:sldId id="259" r:id="rId46"/>
    <p:sldId id="260" r:id="rId47"/>
    <p:sldId id="261" r:id="rId48"/>
    <p:sldId id="262" r:id="rId49"/>
    <p:sldId id="263" r:id="rId50"/>
    <p:sldId id="264" r:id="rId51"/>
    <p:sldId id="265" r:id="rId52"/>
    <p:sldId id="266" r:id="rId53"/>
    <p:sldId id="267" r:id="rId54"/>
    <p:sldId id="268" r:id="rId55"/>
    <p:sldId id="269" r:id="rId56"/>
    <p:sldId id="270" r:id="rId57"/>
    <p:sldId id="271" r:id="rId58"/>
    <p:sldId id="272" r:id="rId59"/>
    <p:sldId id="273" r:id="rId60"/>
    <p:sldId id="274" r:id="rId61"/>
    <p:sldId id="275" r:id="rId62"/>
    <p:sldId id="276" r:id="rId63"/>
    <p:sldId id="277" r:id="rId64"/>
    <p:sldId id="278" r:id="rId65"/>
    <p:sldId id="279" r:id="rId66"/>
    <p:sldId id="280" r:id="rId67"/>
    <p:sldId id="281" r:id="rId68"/>
    <p:sldId id="282" r:id="rId69"/>
    <p:sldId id="283" r:id="rId70"/>
    <p:sldId id="284" r:id="rId71"/>
    <p:sldId id="285" r:id="rId72"/>
    <p:sldId id="286" r:id="rId73"/>
    <p:sldId id="287" r:id="rId74"/>
    <p:sldId id="288" r:id="rId75"/>
    <p:sldId id="289" r:id="rId76"/>
    <p:sldId id="290" r:id="rId77"/>
    <p:sldId id="291" r:id="rId78"/>
    <p:sldId id="292" r:id="rId79"/>
    <p:sldId id="293" r:id="rId80"/>
    <p:sldId id="294" r:id="rId81"/>
    <p:sldId id="295" r:id="rId82"/>
    <p:sldId id="296" r:id="rId83"/>
    <p:sldId id="297" r:id="rId84"/>
    <p:sldId id="298" r:id="rId85"/>
    <p:sldId id="299" r:id="rId86"/>
    <p:sldId id="300" r:id="rId87"/>
    <p:sldId id="301" r:id="rId88"/>
    <p:sldId id="302" r:id="rId89"/>
    <p:sldId id="303" r:id="rId90"/>
    <p:sldId id="304" r:id="rId91"/>
    <p:sldId id="305" r:id="rId92"/>
    <p:sldId id="306" r:id="rId93"/>
    <p:sldId id="307" r:id="rId94"/>
    <p:sldId id="308" r:id="rId95"/>
    <p:sldId id="309" r:id="rId96"/>
    <p:sldId id="310" r:id="rId97"/>
    <p:sldId id="311" r:id="rId98"/>
    <p:sldId id="312" r:id="rId99"/>
    <p:sldId id="313" r:id="rId100"/>
    <p:sldId id="314" r:id="rId101"/>
    <p:sldId id="315" r:id="rId102"/>
    <p:sldId id="316" r:id="rId103"/>
    <p:sldId id="317" r:id="rId104"/>
    <p:sldId id="318" r:id="rId105"/>
    <p:sldId id="319" r:id="rId106"/>
    <p:sldId id="320" r:id="rId107"/>
    <p:sldId id="321" r:id="rId108"/>
    <p:sldId id="322" r:id="rId109"/>
    <p:sldId id="323" r:id="rId110"/>
    <p:sldId id="324" r:id="rId111"/>
    <p:sldId id="325" r:id="rId112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" Target="slides/slide1.xml"/><Relationship Id="rId44" Type="http://schemas.openxmlformats.org/officeDocument/2006/relationships/slide" Target="slides/slide2.xml"/><Relationship Id="rId45" Type="http://schemas.openxmlformats.org/officeDocument/2006/relationships/slide" Target="slides/slide3.xml"/><Relationship Id="rId46" Type="http://schemas.openxmlformats.org/officeDocument/2006/relationships/slide" Target="slides/slide4.xml"/><Relationship Id="rId47" Type="http://schemas.openxmlformats.org/officeDocument/2006/relationships/slide" Target="slides/slide5.xml"/><Relationship Id="rId48" Type="http://schemas.openxmlformats.org/officeDocument/2006/relationships/slide" Target="slides/slide6.xml"/><Relationship Id="rId49" Type="http://schemas.openxmlformats.org/officeDocument/2006/relationships/slide" Target="slides/slide7.xml"/><Relationship Id="rId50" Type="http://schemas.openxmlformats.org/officeDocument/2006/relationships/slide" Target="slides/slide8.xml"/><Relationship Id="rId51" Type="http://schemas.openxmlformats.org/officeDocument/2006/relationships/slide" Target="slides/slide9.xml"/><Relationship Id="rId52" Type="http://schemas.openxmlformats.org/officeDocument/2006/relationships/slide" Target="slides/slide10.xml"/><Relationship Id="rId53" Type="http://schemas.openxmlformats.org/officeDocument/2006/relationships/slide" Target="slides/slide11.xml"/><Relationship Id="rId54" Type="http://schemas.openxmlformats.org/officeDocument/2006/relationships/slide" Target="slides/slide12.xml"/><Relationship Id="rId55" Type="http://schemas.openxmlformats.org/officeDocument/2006/relationships/slide" Target="slides/slide13.xml"/><Relationship Id="rId56" Type="http://schemas.openxmlformats.org/officeDocument/2006/relationships/slide" Target="slides/slide14.xml"/><Relationship Id="rId57" Type="http://schemas.openxmlformats.org/officeDocument/2006/relationships/slide" Target="slides/slide15.xml"/><Relationship Id="rId58" Type="http://schemas.openxmlformats.org/officeDocument/2006/relationships/slide" Target="slides/slide16.xml"/><Relationship Id="rId59" Type="http://schemas.openxmlformats.org/officeDocument/2006/relationships/slide" Target="slides/slide17.xml"/><Relationship Id="rId60" Type="http://schemas.openxmlformats.org/officeDocument/2006/relationships/slide" Target="slides/slide18.xml"/><Relationship Id="rId61" Type="http://schemas.openxmlformats.org/officeDocument/2006/relationships/slide" Target="slides/slide19.xml"/><Relationship Id="rId62" Type="http://schemas.openxmlformats.org/officeDocument/2006/relationships/slide" Target="slides/slide20.xml"/><Relationship Id="rId63" Type="http://schemas.openxmlformats.org/officeDocument/2006/relationships/slide" Target="slides/slide21.xml"/><Relationship Id="rId64" Type="http://schemas.openxmlformats.org/officeDocument/2006/relationships/slide" Target="slides/slide22.xml"/><Relationship Id="rId65" Type="http://schemas.openxmlformats.org/officeDocument/2006/relationships/slide" Target="slides/slide23.xml"/><Relationship Id="rId66" Type="http://schemas.openxmlformats.org/officeDocument/2006/relationships/slide" Target="slides/slide24.xml"/><Relationship Id="rId67" Type="http://schemas.openxmlformats.org/officeDocument/2006/relationships/slide" Target="slides/slide25.xml"/><Relationship Id="rId68" Type="http://schemas.openxmlformats.org/officeDocument/2006/relationships/slide" Target="slides/slide26.xml"/><Relationship Id="rId69" Type="http://schemas.openxmlformats.org/officeDocument/2006/relationships/slide" Target="slides/slide27.xml"/><Relationship Id="rId70" Type="http://schemas.openxmlformats.org/officeDocument/2006/relationships/slide" Target="slides/slide28.xml"/><Relationship Id="rId71" Type="http://schemas.openxmlformats.org/officeDocument/2006/relationships/slide" Target="slides/slide29.xml"/><Relationship Id="rId72" Type="http://schemas.openxmlformats.org/officeDocument/2006/relationships/slide" Target="slides/slide30.xml"/><Relationship Id="rId73" Type="http://schemas.openxmlformats.org/officeDocument/2006/relationships/slide" Target="slides/slide31.xml"/><Relationship Id="rId74" Type="http://schemas.openxmlformats.org/officeDocument/2006/relationships/slide" Target="slides/slide32.xml"/><Relationship Id="rId75" Type="http://schemas.openxmlformats.org/officeDocument/2006/relationships/slide" Target="slides/slide33.xml"/><Relationship Id="rId76" Type="http://schemas.openxmlformats.org/officeDocument/2006/relationships/slide" Target="slides/slide34.xml"/><Relationship Id="rId77" Type="http://schemas.openxmlformats.org/officeDocument/2006/relationships/slide" Target="slides/slide35.xml"/><Relationship Id="rId78" Type="http://schemas.openxmlformats.org/officeDocument/2006/relationships/slide" Target="slides/slide36.xml"/><Relationship Id="rId79" Type="http://schemas.openxmlformats.org/officeDocument/2006/relationships/slide" Target="slides/slide37.xml"/><Relationship Id="rId80" Type="http://schemas.openxmlformats.org/officeDocument/2006/relationships/slide" Target="slides/slide38.xml"/><Relationship Id="rId81" Type="http://schemas.openxmlformats.org/officeDocument/2006/relationships/slide" Target="slides/slide39.xml"/><Relationship Id="rId82" Type="http://schemas.openxmlformats.org/officeDocument/2006/relationships/slide" Target="slides/slide40.xml"/><Relationship Id="rId83" Type="http://schemas.openxmlformats.org/officeDocument/2006/relationships/slide" Target="slides/slide41.xml"/><Relationship Id="rId84" Type="http://schemas.openxmlformats.org/officeDocument/2006/relationships/slide" Target="slides/slide42.xml"/><Relationship Id="rId85" Type="http://schemas.openxmlformats.org/officeDocument/2006/relationships/slide" Target="slides/slide43.xml"/><Relationship Id="rId86" Type="http://schemas.openxmlformats.org/officeDocument/2006/relationships/slide" Target="slides/slide44.xml"/><Relationship Id="rId87" Type="http://schemas.openxmlformats.org/officeDocument/2006/relationships/slide" Target="slides/slide45.xml"/><Relationship Id="rId88" Type="http://schemas.openxmlformats.org/officeDocument/2006/relationships/slide" Target="slides/slide46.xml"/><Relationship Id="rId89" Type="http://schemas.openxmlformats.org/officeDocument/2006/relationships/slide" Target="slides/slide47.xml"/><Relationship Id="rId90" Type="http://schemas.openxmlformats.org/officeDocument/2006/relationships/slide" Target="slides/slide48.xml"/><Relationship Id="rId91" Type="http://schemas.openxmlformats.org/officeDocument/2006/relationships/slide" Target="slides/slide49.xml"/><Relationship Id="rId92" Type="http://schemas.openxmlformats.org/officeDocument/2006/relationships/slide" Target="slides/slide50.xml"/><Relationship Id="rId93" Type="http://schemas.openxmlformats.org/officeDocument/2006/relationships/slide" Target="slides/slide51.xml"/><Relationship Id="rId94" Type="http://schemas.openxmlformats.org/officeDocument/2006/relationships/slide" Target="slides/slide52.xml"/><Relationship Id="rId95" Type="http://schemas.openxmlformats.org/officeDocument/2006/relationships/slide" Target="slides/slide53.xml"/><Relationship Id="rId96" Type="http://schemas.openxmlformats.org/officeDocument/2006/relationships/slide" Target="slides/slide54.xml"/><Relationship Id="rId97" Type="http://schemas.openxmlformats.org/officeDocument/2006/relationships/slide" Target="slides/slide55.xml"/><Relationship Id="rId98" Type="http://schemas.openxmlformats.org/officeDocument/2006/relationships/slide" Target="slides/slide56.xml"/><Relationship Id="rId99" Type="http://schemas.openxmlformats.org/officeDocument/2006/relationships/slide" Target="slides/slide57.xml"/><Relationship Id="rId100" Type="http://schemas.openxmlformats.org/officeDocument/2006/relationships/slide" Target="slides/slide58.xml"/><Relationship Id="rId101" Type="http://schemas.openxmlformats.org/officeDocument/2006/relationships/slide" Target="slides/slide59.xml"/><Relationship Id="rId102" Type="http://schemas.openxmlformats.org/officeDocument/2006/relationships/slide" Target="slides/slide60.xml"/><Relationship Id="rId103" Type="http://schemas.openxmlformats.org/officeDocument/2006/relationships/slide" Target="slides/slide61.xml"/><Relationship Id="rId104" Type="http://schemas.openxmlformats.org/officeDocument/2006/relationships/slide" Target="slides/slide62.xml"/><Relationship Id="rId105" Type="http://schemas.openxmlformats.org/officeDocument/2006/relationships/slide" Target="slides/slide63.xml"/><Relationship Id="rId106" Type="http://schemas.openxmlformats.org/officeDocument/2006/relationships/slide" Target="slides/slide64.xml"/><Relationship Id="rId107" Type="http://schemas.openxmlformats.org/officeDocument/2006/relationships/slide" Target="slides/slide65.xml"/><Relationship Id="rId108" Type="http://schemas.openxmlformats.org/officeDocument/2006/relationships/slide" Target="slides/slide66.xml"/><Relationship Id="rId109" Type="http://schemas.openxmlformats.org/officeDocument/2006/relationships/slide" Target="slides/slide67.xml"/><Relationship Id="rId110" Type="http://schemas.openxmlformats.org/officeDocument/2006/relationships/slide" Target="slides/slide68.xml"/><Relationship Id="rId111" Type="http://schemas.openxmlformats.org/officeDocument/2006/relationships/slide" Target="slides/slide69.xml"/><Relationship Id="rId112" Type="http://schemas.openxmlformats.org/officeDocument/2006/relationships/slide" Target="slides/slide70.xml"/><Relationship Id="rId1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5568-4A60-440E-B36C-0853C662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2F20-9227-4A7C-9960-BAD5AB62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86355-92D0-41AB-9637-8D5A0401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98062-F241-4B42-A252-047946BB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F5D10-C6E5-4D6D-A2B6-27BC152E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BB53A-1B90-480C-B167-938CB60D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8A9D4-B21F-4946-99EA-195D5A8A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1AFE6-E65E-4AC3-8D93-F507879F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11FBE-17FD-4DC2-9C38-B16B9C1F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BD60D-3F5C-47FF-A4AB-3C8E2068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85B0B-D3D3-4760-9DFC-005AC090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5869B-7276-408B-AE19-B3CDEC0C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6B9F-A76F-4476-8070-D3BB88A6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E59D0-EBF6-4D96-870E-D58B718F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3D394-7263-4757-87DF-BB6CE884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0711E-1C97-4745-80F0-A8D60F6D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5F8FA-CC2C-417A-9360-75BDB886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997F5-3654-4B8D-8330-45CF233B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70CB0-B4B7-4D90-B2CF-8B4EBC2B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18BD0-2137-4452-B5E6-657E8959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C1249-5BAF-4534-A79D-4350472E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06129-86E0-4991-9BFD-CF0A7649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795A2-7590-4B36-96B2-5B63402E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B0CC-F2F8-41AA-A088-27DE1BBC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22870-FE34-44D7-950B-2650158F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FA632-4DC1-4736-ADE8-FCB6C917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F7226-8220-42D3-B6B6-80A2BE43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DCE33-014E-449E-94D2-1907E08F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0CB80-65C0-40AF-9DA3-73EE7298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7DA74-0216-428B-AF08-9551924B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9FEDF-9FC3-4F57-BDB9-0CE95E13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710BA-D09E-4920-B46C-327AA6F4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49725-DB0A-4F06-B66F-F3C587CE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AE4D8-CDC6-4724-9A12-14C1B4BD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AC19-52D0-4428-8EC5-6EA79955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D7755-152E-4806-9F2B-D30E10C2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51886-D210-4839-810C-13337EF9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112A9-A181-4330-B5EB-27AC02E9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DC425-249D-4448-8558-4E1BC5B4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6C1FB-9B84-4581-A716-ED225546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7E5E6-2108-4283-A8FD-CC69B52D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91E2A-B2D2-4483-97BF-9BF7DC41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1F1CC-5A93-4E9C-97AE-75113BAA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07B71-47F0-49EB-8AB8-C50E57FC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CB67F-53D3-4048-A3ED-F556A117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6ADC-4B48-4DBB-A82D-6035CC2E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99988-DB30-4325-915B-9C7EE5E8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14927-F321-403F-9376-5E3B00B3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CF9E7-A82B-404C-B107-ECD5E240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39427-5E9E-4920-B8CC-374AD21C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1BDE0-1211-4F20-AE37-C2D6FD48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B49482-81D1-459C-84C3-F68054BB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C33A5-1CAE-4C61-B1E9-8DC8A6D6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3F875-4AE0-455C-9615-75F39C27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BEC308-44D9-48E7-8D36-A291CB29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7909A-4F0D-4138-8C37-9F43C89D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66F5-4048-4662-97E1-90934843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7E63AB-8236-478B-B371-694B32A2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79037F-A886-4692-8C49-7AF49503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28C91-4E32-4CF9-A68A-4DFF417E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BAB73-7BB1-4352-A14D-6CCDAD26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BDBB06-E75B-4D03-8995-369FDFA6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B885E-B0AE-44B1-8727-806CA432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51E766-FDF4-4831-9A83-26CB5CD1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775BD5-7CEB-44FE-A1AF-FE6B1577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CC9B01-BEB6-4117-8E79-C0DA04B4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8C2EF8-22D4-43B0-A280-FE12D47B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C498-5DD4-4C95-9BD2-2FFCCD60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69C16A-C63A-42DB-B97E-76F06EEA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EFCD7E-F61C-4303-A400-F83903EC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C5A9D2-291F-4E11-9B3F-F2A249BD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6783A3-EE36-4EED-9B8D-5C71F1EC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1ABA09-DD29-4A7C-9726-6BB48DC8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DAC7A4-B690-4640-9261-4D1F57B4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2B8430-FF08-48CF-8966-71470653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3D0926-AC81-4E9F-8F19-378DE31E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0A8448-3313-4F8F-9536-FFF3E3AB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AF0502-75C8-40F6-A466-E40C5468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A3D1-4904-4B28-8821-A2E5EFD0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E7AF27-CA52-4520-BC26-A64979A0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1D97F9-55AE-4F79-914C-C336B129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597063-6513-4BEA-9298-C603E33F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E15E15-F64E-4805-8CD9-E8A0D40F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F4FB0C-B061-4B50-A871-876AC688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4B5135-EB1C-4E63-BB07-3B96718F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9C8169-24D6-4BAF-B259-4736788B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54C46F-D993-4E15-8B02-7FC7E0BA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C41288-2786-4AD0-82E3-28F38531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2816BC-02BB-4F85-B555-5DA648CC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6FAA-9430-47B1-BDAD-2B00069A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C3B7AC-E1EC-418F-AC6F-3BD95835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79F349-B5BF-4D4A-9E9F-CEBFF511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29B8AC-EE2D-43CB-8EB2-6D6F52E7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8AA065-7163-40C1-9894-FA010AC7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1AA7B1-BE8F-4641-AF04-E5D9E14F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922EA7-94FF-4621-B4AC-39B4F4D0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2BF08E-B3E1-483F-94E6-94940ABA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ECDAD7-93E0-423C-9CDF-504B3F38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14632E-113C-4FE4-8F00-F3118DBF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96EDD2-60F3-4D42-9AE3-5C7E9862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A0D2-330A-463B-9476-6A91884F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200B62-1336-4633-A60F-9B10EA47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68D0EA-CEF7-49AE-8E0E-6C2476BE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5EEC0E-D11F-41A6-AD3C-B73814EF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37828D-3183-4BC2-96CE-4E348BDB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ED78DE-BD2E-4B89-8768-5B5B9B74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6A8BA2-F488-4B6E-9475-B4B891D2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CD8150-7B89-430F-8C7A-09056D95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7B721B-592A-4B06-B063-0592AEBF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948F00-7424-499F-8EC6-D1BF8465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0BDAA5-145F-4195-862B-5CEBA4D3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20FD-56FC-47ED-9C2D-65141A06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2028-E0BE-4C7B-BBBA-BF1BD9DB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EFDF24-9431-4404-86DB-E99AFA4E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BB0FFD-922C-47D3-B8B2-1D0C5A4E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289CD4-CC95-4B3E-8FEA-BAE2B38E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9789E9-F3A8-405D-AF57-632CB21B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01C78C-A021-4173-95AE-6B143561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D02FF2-BC76-4BCA-9DAE-4DA53A67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16E37C-0757-4971-A02C-CDD80E6E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90888D-9678-4E32-AC53-7F4FF0D1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4B11E3-FE69-433A-8117-49E7ADF4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32CE90-1EBA-47C4-BDED-9F432475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6E6B-7F91-42EE-B88B-E403BFD3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BAAD2D-C2D0-446F-AC97-D5C48D02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9BAB0D-6E51-4BA7-9B44-1A74FCAA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EDE83D-93E3-4749-87A7-91DEC4EE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55B201-A7B0-438D-AB35-F1BE6E28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E4456F-9897-404F-A3DA-4F2CF47C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E46BB8-C623-4647-B496-E0110323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330E1E-49B9-4868-A4BA-9895E678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532F05-19FC-40B7-898E-F4124535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9D947D-BCCF-4F9D-BA02-571A9A3C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8D0AA8-0FF3-483E-A6DD-9FD476DA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3920-835E-49FD-887C-AA766286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7CC8B3-8678-4180-ACA8-9B1E3302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7D993C-398C-4367-B329-AB13D1DC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51063A-A06B-4D55-B2CB-A445AB0F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9E99D5-4150-44DE-AA71-D9F1287D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9671A6-2E4C-4BE7-9925-C0752145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3B4658-BF87-458D-8917-2B397446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711C62-5ACD-4B26-96BC-53525743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97EEDA-1FEB-4780-99F5-47A221ED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E26A5A-3BCB-4032-AC18-622A0DF8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92452D-2C6A-45C0-B970-F07E611E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E7BD-6D05-4BCC-A553-FC5F7CB5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0F0958-E912-4642-808B-516AF716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6E2E0D-CA00-42C9-A14F-23BB5CFF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54B1C9-6E11-4DE8-9CF9-69716CCF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D28B6F-1288-4E8A-9F43-34763F7D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F3DCF4-55CE-400E-B3B6-60E6444B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2DBD15-70D7-481A-85F1-84891CBB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F9939D-E3D4-4275-9F00-D6027BE5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5F713A-1292-4DD3-BCB9-962D5720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69CCFD-638C-4DDC-8D12-A863F699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D4E4B4-5B7E-4057-A8AD-F3D679F5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3819-F17E-481E-BAF3-56064243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C9285F-858F-4655-9635-FF6AD370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F60C1F-9E5E-4247-9E73-347BC630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3D2AF1-4E79-44FB-A5F0-074D1590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BAB3C6-BBD5-4735-A664-E3AEEA22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C14D70-C5DF-4447-B068-792640FF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8C4185-2F92-480E-8C78-2FC5141A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285625-E2F9-4060-B517-CC321A98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7F8592-4AA2-4F5B-A530-3E6DB9A8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348B4E-23A5-4568-AECB-536F8547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088AE4-AE32-4479-991C-413EA3B0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5C708-627B-4D5D-A8FC-D81118CA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26EDD7-5E95-402C-907A-8A6312C3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E94576-B2E8-4B8D-ACCD-0E1BC251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CADE60-E2A0-4D61-84DE-9398D0FD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62BE40-A7A9-47BA-AFC0-2B40956D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27BEA6-3C33-4640-B789-15D427AA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25F98D-C4F8-4A74-8A6B-16F25D5B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73DDD4-C480-4A73-886F-A4D1D74D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BDC8AE-DB69-4C5C-87E8-9ADC7D0F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D458A0-8A23-42C8-80E7-9896A894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2999E4-8535-403A-8A20-F53400B2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E39CB-6B8A-4B6E-A616-3A6CDDDB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8809C8-954F-4B2D-8861-929A8B2B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A32212-67CC-41BC-BD70-EC4712CE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27EE1B-0B4A-4C58-992D-4EA4E823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37EC92-568A-4869-B935-DA6BB3AC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2A3BE1-099E-41A7-8196-13202A21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9B95FF-40A0-4D92-98FC-E031F5A8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93F5E8-28DD-469C-8F7D-4747DF53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1B7BAB-9300-4A4E-869A-A69DD3E0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679D5C-4F09-4913-B7D7-BB778D9E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192FC9-1664-44A2-A990-B1A47C1E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19719-7FBC-49EB-A77B-146142C8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CED9A9-325A-404D-8EAF-B896ED2A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EC7EF6-FE22-4299-9F0D-D21D0653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F45F02-C077-4EA4-ACD5-23E16A8D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A03002-FA6B-489B-A681-327D4857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13D067-1EB8-4CBD-9D30-91909BFC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5AE9B7-0EB8-4F17-B58E-4FF93556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522509-1DB7-4C55-9B33-CA1E8A00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109020-46F7-4628-97C5-011BF45D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BA4050-D2BF-4B14-B68C-56CD08B7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CFA9DB-6B00-4813-9263-85450ED7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23618-1D3E-4485-B984-A21C0D97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A2961A-64F6-4D05-938B-B554EDB6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D9791B-5858-48B9-AD6F-A2DBDEEB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A6E2A7-08E9-427A-87BD-F4AF2497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99A4DE-4132-4CE7-BF53-3CE4498A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4DD4BA-7C8E-4267-AEFC-A60D97FA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224280-020E-420F-B712-8B9553E2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C17E91-16AC-47EC-B18C-7D110149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402CDE-1052-4FCA-B793-17E7F202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89FB7D-3818-4CA1-9FEE-8DCD88D7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8540C2-E0C1-4ABC-A5FB-DD6E8724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89D94-9AB2-4BDF-9A22-F4403945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D347B6-583D-4258-A48C-FE551252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2E376E-FFCF-484A-9DF5-FE077A7B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74EBC9-BBAC-4331-9641-3DB12359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0BB9E1-2864-4199-AB1B-FFEAA11E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F6435D-34A8-43D8-B518-EE7888A9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80EF5E-197B-4E7B-8954-A905C686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C94549-C70F-4800-B4B6-814318DB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0DC9FD-7335-4698-A4A7-164F80AB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E0EAFB-B5AD-4F71-A789-B96EE85A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7C4951-E0D5-4D28-81BE-2E9390DE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D171-F181-4AA1-836C-31629A00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7A755-9685-4B92-AC18-8F9C6789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9B760C-7E9A-4423-94BE-0E65911D9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786B7B-6C6E-4B6F-9A8F-78462CF2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AC14E0-DC04-4D1C-879D-9625D2E1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DA7D65-8B32-46D3-AB59-487E066E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9870AC-7134-4A26-84D4-CBACC3F2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1411B9-3E78-449C-AA77-3C3AA2BF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F1FE90-6921-464D-8A1A-C9019D45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87E91F-A003-45DD-999D-0736A8E6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0D5638-5991-4BF2-AE26-B1388908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21771A-6BBA-4396-9C89-6E880334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620F6-FB16-4E39-A376-70314C7F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E7A390-BD5F-40FF-B8BA-C31CAE8E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5DD1B9-14EC-4772-A4A6-070586AF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34C116-680D-4C0C-BD46-52B62797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35822C-B333-4759-8BF1-4F0F010E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F9921A-BC31-4AAC-BD56-D02CA542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8C0626-8764-4D17-96D1-C8041F4C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7CAF7A-3F65-4A11-9743-185A81F9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CB582D-0881-4CA4-A907-A014D58E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0AC439-94BF-43EC-B19A-22509CCE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BFB61D-91A1-425A-A57E-1118478B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8C56A-B016-4C2E-AECC-4B89B4B0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5B8844-5784-4F3F-8D60-68AFDE9F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77FAA3-4168-411E-89D2-47EB65ED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FF749C-5333-4B33-BF38-836DDE19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CC45A6-AB74-4AF3-8A79-14FD64C7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B6E9DD-C323-48B0-B0A4-32B149CB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4923C8-3B3F-4F71-BF39-511CF623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25A1F6-96B2-4978-8D0A-6069E8C7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55A31E-DEDE-4C3A-95BC-2B55BC33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C62122-AD9E-4043-ADA1-D541514F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B74275-20C7-48AE-B003-45CBA636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DBB05-43CB-41C0-8A3C-1C9133E3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72CA28-3D33-4A03-AB78-9A659FBE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6145DD-DCF2-4C6F-9B0F-3B236259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FB1C56-BA56-4C21-945F-E22BFD7A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B58B69-076D-44CA-8B00-FEEF8172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81C65E-2B83-43E3-9EBE-DA278EDA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05646E-4A45-40E4-A22D-E6E15AFA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7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8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0505D9-BB6A-4FE7-BCD9-F9445B63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9D2455-47B2-4A32-91AE-96F4A075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644E04-8941-4A07-BEC4-AD86EF5F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009A24-5ADF-46EA-8A52-A3AE5F16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6588E-A24D-4992-A958-B42A9D1B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2912C9-78D2-4518-8D9C-BD2CE7D1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D22CDB-9078-4C72-8FC7-EC1AF815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32F6D6-5B67-4D9A-BC44-BECFF67B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9E3970-0CDB-4CE8-88C2-1E501EA6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28BDC3-7AD2-4B47-B412-2970A96A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512731-700E-494D-B420-AA0A8269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DFEB75-DABA-4852-A857-E72665F6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2EA1CF-7B40-43DC-A842-AC4FFE68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713489-7816-4226-A079-57B6961C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67D8DB-B322-4799-B0BD-1FF7702A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81C04-0D37-4F6E-A787-591CEE5C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FF8D43-1983-4AF1-AA07-82AF72C3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F3CC46-74B1-4AC7-BA21-AC84188B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DD3E4E-53DA-48A5-910E-C0A5128D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CECF86-9789-4997-B996-C1AD9647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228BFD-551E-433D-9499-516D7114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258034-78AD-4482-8C70-2F6AA0D5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764F6D-D9EB-42E7-A1BF-B9A2F178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84589E-2AC4-4669-AF4A-FD3CB74B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457E3C-869D-4028-8362-032A5732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64FCED-6160-4FA5-8209-8B7B756D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8560A-5362-475B-BAF1-291597C7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0353E6-4A1F-42EE-88AE-4ED08BD3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950D54-4EE8-4406-AB1B-6ABAF990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7CBA6E-3D06-4D1E-AD84-F2E21ECF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C93743-6884-434B-93E3-974C6CF2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E1D2FC-78AA-4928-9514-41D41244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867CFA-C5A4-4C77-B4B7-DBC4DBCC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FDD8AC-A4D6-4E37-BFC6-7C19FFDB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24E4D2-9A23-4938-951C-AC7B66A6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666D31-F344-475E-B115-BF186A55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92E933-ACA5-4DB2-8DEC-A1702D69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12B5A-F556-4F5C-B587-6FC18C7A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DF17FE-0809-47E9-AF70-DE2F3484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1F03E1-BAD5-42B6-B582-0DED6B3C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DB67A08-7AC3-470B-8F1A-E2C1F8DC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100C76-F2F4-480E-8E84-A5885139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7A79B0-4292-4D68-B658-D9DC4919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958D8A-9E07-4C80-A61D-748208EF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E5EC3DA-A983-4E5F-AAA2-E314EDAA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C4E1F17-FF91-4644-AC12-B01216A0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715592-6B92-40BB-9B99-675CBA2D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792A8A3-0E6B-48CE-99FA-B46D15B7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B824A-04C8-44D1-A947-9A2F0E63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3462404-71FF-4061-A519-4ECE258E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EC9913D-602A-484E-AC7D-096B27B3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D4688BA-A104-4AB2-8D10-EBF39994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92A422-937B-4203-AC32-587D521C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7BBCB22-BF8F-4211-811B-33E633A7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565E89-DE22-4CB8-ACF7-A69E92B1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FDFBBDF-C3AA-4595-ACEB-B08899BF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056CA3E-2019-4A49-8437-6C310E3B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64A0076-2C0B-4732-90CB-CF41F6E1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150DC6-85CB-4DBE-86FC-64B1CBE0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92F66-5FA4-40C9-B01A-208F6009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469B598-2BA5-4B03-882A-CB823AE0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11AD644-702E-4A7E-8C12-A2C7AFEA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755336B-2CF9-4957-97DA-DED2B536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FF8BA5F-2DEF-4B7C-8D15-45E1A0BD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53C4139-4001-4634-A56F-190C6A84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69FEC2-9D7A-4FCF-A123-D385E6E6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E56A3B-7EBC-4168-87CA-A4B271E6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65EAA23-45C4-4432-85CD-E89EB36A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7B41B8E-A3D2-4437-AD50-3DBAC778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EBC40F6-B005-44AF-BCD9-F909B5BA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C68-CB1F-4BCA-A0E9-B39E3CED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CF899-26EB-4DD1-B02C-07ABFFC2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884A9C4-EDC8-4E56-A0E5-D3CDE893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9E78C1A-432A-4B7E-B5B3-BEB9CAA3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D359CBE-8018-4A25-A43F-36DA4E14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65FEBA9-56B9-40B4-9094-65E85220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D58F78-2B57-4491-9CDD-8188ADD8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D74C6B3-A7B5-4FD7-9AF3-8298B318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571BAFA-33E1-44D5-8D5E-01CB899B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63DF469-1DC2-4F4B-8874-206C2720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3DB88F-1B16-4811-B1DC-1EF878AA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25447D8-C3ED-4CA9-A52B-0BA0431E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A3921-D65D-477C-9414-43A4B7E6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17C1AD7-A76D-4D64-BB66-0D545900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570D54-1EC4-4199-94ED-BD30F24E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F60C3B5-FF2B-4C67-95E3-1D41D57A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C05A70D-90F9-4CBD-B0F5-125E1DD9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ACACC2A-B4B8-4AA1-B285-A080F1AF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AB0CE02-3025-4A85-AF21-BA2B6572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784730E-AC26-4072-AE88-EBF18E3A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EB274B3-5BFC-431F-9EFE-7691ABF2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7DC3449-A445-4F7F-8D6D-9C37F558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4878790-7DEA-4529-B02E-57E15271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C74F4-327C-47C2-AAF4-31FBA1AE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9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0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2182BD2-93AD-4F97-9D15-D29BE16F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448EE1F-D01F-4F97-A196-DC85C9D3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B9ABC91-5561-417B-9A5D-A1BB6E11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3206C5C-2B20-4F86-B011-A69BFC4E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75EFD4F-AAC8-4795-BD62-8DEDA759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8E948D-089D-41D5-8897-BAFC4EB1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B388575-2AC7-4F16-BC37-9E1B1291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BF7D5A8-7B3D-46F8-BF1F-E9D32102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49E9D44-845D-4907-AFE3-D4867A2B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764344E-D5FE-4A69-AB89-7229F322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E5725-229A-41E0-AD66-0E483F00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75FE40-E4BE-4FCA-B5A4-E463C36C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07039B8-86DF-49C3-BAE9-EC363677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DF561E-D22E-475B-B81C-50310D35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F04AEF1-CF06-4274-BF92-7089D718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8264B4D-632B-4C2C-9A65-D5FEE28D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605C9D9-75E2-43BD-AAA2-DE9EA6EB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A35295-FAA3-4156-B569-9BF8763D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7C068F0-42CE-499E-9FBA-6893FCAF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78CA92A-814E-4A08-A2D7-E3808974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44DEECF-E80B-4269-A956-452BEA9C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08C2D-E44A-4FBD-B3E2-3CA6DF0D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BC0CCFF-1D51-4C61-B656-47347E31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7C029E8-A143-4D92-80B1-1CC61E05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F9AFF24-069F-4531-8197-2F38C6C2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DD6659A-D8A9-4CA3-A922-88DE07A6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5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6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E34824F-F446-4DB4-BFA4-888EC22E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5ADACF8-94EB-43C2-B658-BED211C3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27DD3F1-5367-41A0-A88A-48EFB873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3EAD147-7F02-4C0B-B454-37619C2A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F52BEC2-0A6A-4B0F-A9F0-015E87F6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75795C6-B140-4BFA-8122-4C6D6B29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46AA3-26B1-4235-BD6C-66AE5ED4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01BF40F-C375-403D-A7C1-C72C73B8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357EFAC-8C01-4169-85B8-F6B70990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7105966-2CCA-49E4-ABA8-02A8549F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35CC240-5EDB-4263-8B86-C252FCF2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6F673B0-6358-4AF8-99A3-6C72475E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3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E014F00-EEDE-40EB-9D48-A1D9979E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9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0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C697802-A83B-4415-939A-90403359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649159C-3FC5-4F2F-A903-4BCA778E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2CA3460-1FFC-487C-90BD-DCEC556D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1285DF1-A22D-4FB9-99D5-C91452B9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45681-DF83-4FB3-85D9-D0A12A57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C8D278E-074F-47D1-AF97-9208896E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2C799BC-7A2E-4032-83DF-6FC37BB8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987E631-2C05-451D-BB5F-7C0837C7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52DA9BF-AC34-4865-9737-6A948506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28556DE-8F34-4720-9623-4D069130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087F52F-EA62-4698-8F8B-01ADA685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0AEB80E-3BF1-4F77-905E-29401298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7FD2312-62EB-40D4-B2E7-A688D7E9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5B011C4-6B4E-4A5D-BB63-47B045D9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4197CD8-E8E2-45A8-9D55-0112350B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D41B1-D43B-46E5-9E30-05E7640A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0E3E680-25A7-4479-B4AE-BA72219E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020484C-DF22-4A1D-AE3F-D36E193C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2D26CF3-CAF2-4D3D-8179-676CD380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497947C-A8F5-4DF4-8D7F-936FB902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530A967-B770-44E5-BFFF-14F9BAE3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C194ECA-9BA7-48E8-9B63-FA42A0C6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2FBB304-7374-49CF-A319-ACEBCD26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3FA757E-AB1B-46D3-AFF7-7EFE70DF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73ECEEA-CA09-4714-817A-2D8F1DED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8325D4E-3770-4EFF-910F-32832477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96F37-E68A-4AF2-8640-11082891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C9CDC63-3AAB-4C74-9E44-217CF93D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1D8B070-CED6-47B1-B371-4DBCA62D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F194B1D-8B16-4D70-9744-A2E58532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B1A0EA0-6360-4281-97DF-3853961E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41C2993-3DF9-4456-ABDC-49BC0D13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CE9DA36-E866-44A5-A8AA-E3854DC4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9A83CDF-5F4B-4030-8B4E-F0BFFC1F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DEEDE81-CF29-4BF0-A850-3529FDE5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1690658-2FE9-4799-965B-B28C9041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6421428-4CE7-42C3-993C-9B70A33E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8E921-D245-47F5-9E54-D0E1AAE1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3FFFB2B-F8FF-425F-BC9D-B9A79111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19A9364-0B55-433F-BF2D-D28A256A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9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0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EC885A1-337F-4B80-8C07-96EC40F4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000-1851-48CE-A9F3-6261DA34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0B6B6-BA63-4283-A045-8708950A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80F7D-2C40-49D6-99D9-31435A66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08B59-B32F-4A7E-B771-61D8999F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E4C0B-C6DA-44D4-ADEE-E5B056D9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D0F4B-758D-4D60-8F4D-853E523E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B7360-F824-480E-9BD7-8E0880B5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81732-C930-4575-9C3E-8B40A9EA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FE1A1-B27F-436B-943F-FDD28E46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78D94-87AF-4DD1-A27E-8AEDE1E6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782FD-53FA-4163-8AB9-0CC6274C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7A8F-C29B-4B8C-9F72-4E5BAC70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A26E6-D8BF-4C2D-8BC9-1069D45A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E5DC1-4C30-4DC6-A6C4-73BCBDF4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3901D-1333-4282-A3A1-1AF0CA1A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74599-0155-4C0F-A633-423B653A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C2013-62F0-4BEE-A79C-EE2260DB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755EF-2D66-44C2-96A6-40FF59EE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912C7-90A4-42D2-8537-0A9EDB37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3584F-6747-4582-BA40-36B72FE8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54A06-6C39-4B87-B1B1-EFA15787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781CC-C745-457A-A0FB-8B804962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A055-0043-45D7-85BA-ED51C82E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62E65-CE3E-4BA9-8C37-2797870A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F32AF-13AD-4B31-B67A-9F53C2A6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2A65C-31AA-41B3-A4E3-F36A5305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42FEB-66E4-4418-AE42-DAD95D53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35196-F63B-43E4-ACCD-B40BD9F4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88EE6-5B6E-4ECE-ACD3-83F73DDE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3B8D4-23AC-41E4-8E4C-DACDBCF2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22FFE-BDF9-4230-8315-FFF6B95A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64D3D-5A24-4CF9-8642-321C70B1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270EF-2CEA-4ECE-A877-5CF6D5DF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1A14-4F4F-429E-A9B0-BA547E29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FC404-72EB-4C8F-AC6F-5BD1C9DE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9D0AC-20CB-455A-9AEF-BD43D137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C63AE-BF92-4C13-B4C5-54187750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E2C25-367A-4DB5-8416-CAA17BA8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D8A97-955A-4161-8307-4809456E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63F38-E6B2-4D5A-ADDC-B33D8A13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7D88C-CE56-421D-8D7A-79CDE728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21216-AEA4-4457-B8A1-9E29E2F9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73F0A-9863-44D2-B081-4D67CE3A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19BF1-1142-4D35-8C50-F188AFB3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9247-DE66-4F59-B17B-F69E39FE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B5EF3-F39F-43E1-BD48-BD37140F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8F090-E528-4485-A0F1-A65B59F8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B6ACE-016F-4850-B4E8-9FC73594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BFB12-9222-4B8A-B358-7FB944CC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85021-3AFB-4097-B86D-B9D4C762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BFAA8-448C-4922-9177-28A335BF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0E501-83A1-4EB5-81F6-4BBC481E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8AFC7-7551-4712-8DDB-C99D5E2B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B4380-9112-41B1-BD65-69C41382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7A0AA-4865-4426-8B69-ECE8192F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3E42A9-A3F6-4FC8-AA9D-7BB86ECB48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22A22-17A7-485C-A9EE-2E25F1660991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reeform 6"/>
          <p:cNvSpPr/>
          <p:nvPr/>
        </p:nvSpPr>
        <p:spPr>
          <a:xfrm>
            <a:off x="8151840" y="1685880"/>
            <a:ext cx="32767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Freeform 7"/>
          <p:cNvSpPr/>
          <p:nvPr/>
        </p:nvSpPr>
        <p:spPr>
          <a:xfrm>
            <a:off x="8151840" y="1685880"/>
            <a:ext cx="32767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738000" y="6453360"/>
            <a:ext cx="1623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efede3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9829440" y="6453360"/>
            <a:ext cx="1598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5EB26-657B-4A0A-9604-808CFB3E9442}" type="slidenum">
              <a:rPr b="0" lang="ru-RU" sz="1000" spc="-1" strike="noStrike">
                <a:solidFill>
                  <a:srgbClr val="efede3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89666-40F3-4643-BEFC-C04209B161B4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37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38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39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0BF1C-4986-41A2-A5D0-5395C3EC7854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40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41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2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3575C-9131-4B77-9B99-B06943B7AAFB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3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4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5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05142-1496-4584-A50C-46E0C761DDCA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6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7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46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47"/>
          </p:nvPr>
        </p:nvSpPr>
        <p:spPr>
          <a:xfrm>
            <a:off x="2204640" y="6453360"/>
            <a:ext cx="237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48"/>
          </p:nvPr>
        </p:nvSpPr>
        <p:spPr>
          <a:xfrm>
            <a:off x="988236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D1322D-3D8E-4F5B-BBB8-2656C4FA7187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0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1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49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50"/>
          </p:nvPr>
        </p:nvSpPr>
        <p:spPr>
          <a:xfrm>
            <a:off x="2204640" y="6453360"/>
            <a:ext cx="237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51"/>
          </p:nvPr>
        </p:nvSpPr>
        <p:spPr>
          <a:xfrm>
            <a:off x="988236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06D494-1614-4AC7-B686-0E72CD82C456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4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52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53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54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8C13E-C91F-455F-8424-E950E4697E2B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7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5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6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7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CBE6A-5147-4140-94CD-5C7F37318F42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91b0e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91b0e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FCA2-C1CA-40D5-9E0A-122FDB8FFE93}" type="slidenum">
              <a:rPr b="0" lang="ru-RU" sz="1000" spc="-1" strike="noStrike">
                <a:solidFill>
                  <a:srgbClr val="191b0e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Group 7"/>
          <p:cNvGrpSpPr/>
          <p:nvPr/>
        </p:nvGrpSpPr>
        <p:grpSpPr>
          <a:xfrm>
            <a:off x="754200" y="744120"/>
            <a:ext cx="10674360" cy="5350320"/>
            <a:chOff x="754200" y="744120"/>
            <a:chExt cx="10674360" cy="5350320"/>
          </a:xfrm>
        </p:grpSpPr>
        <p:sp>
          <p:nvSpPr>
            <p:cNvPr id="850" name="Freeform 6"/>
            <p:cNvSpPr/>
            <p:nvPr/>
          </p:nvSpPr>
          <p:spPr>
            <a:xfrm>
              <a:off x="81536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357"/>
                  </a:lnTo>
                  <a:lnTo>
                    <a:pt x="8761" y="935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51" name="Freeform 6"/>
            <p:cNvSpPr/>
            <p:nvPr/>
          </p:nvSpPr>
          <p:spPr>
            <a:xfrm flipH="1" flipV="1">
              <a:off x="753840" y="743760"/>
              <a:ext cx="3275280" cy="4408920"/>
            </a:xfrm>
            <a:custGeom>
              <a:avLst/>
              <a:gdLst/>
              <a:ahLst/>
              <a:rect l="l" t="t" r="r" b="b"/>
              <a:pathLst>
                <a:path w="10001" h="10000">
                  <a:moveTo>
                    <a:pt x="8762" y="0"/>
                  </a:moveTo>
                  <a:lnTo>
                    <a:pt x="10001" y="0"/>
                  </a:lnTo>
                  <a:lnTo>
                    <a:pt x="10001" y="10000"/>
                  </a:lnTo>
                  <a:lnTo>
                    <a:pt x="1" y="10000"/>
                  </a:lnTo>
                  <a:cubicBezTo>
                    <a:pt x="-2" y="9766"/>
                    <a:pt x="4" y="9586"/>
                    <a:pt x="1" y="9352"/>
                  </a:cubicBezTo>
                  <a:lnTo>
                    <a:pt x="8762" y="9346"/>
                  </a:lnTo>
                  <a:lnTo>
                    <a:pt x="8762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dt" idx="58"/>
          </p:nvPr>
        </p:nvSpPr>
        <p:spPr>
          <a:xfrm>
            <a:off x="754200" y="6453360"/>
            <a:ext cx="1606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ftr" idx="59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sldNum" idx="60"/>
          </p:nvPr>
        </p:nvSpPr>
        <p:spPr>
          <a:xfrm>
            <a:off x="9829440" y="6453360"/>
            <a:ext cx="1598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E4742-745E-417C-9A5A-3057C21940B5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4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6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6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63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80A7B-5B74-410C-973B-DC681C93BF64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Freeform 6"/>
          <p:cNvSpPr/>
          <p:nvPr/>
        </p:nvSpPr>
        <p:spPr>
          <a:xfrm>
            <a:off x="8151840" y="1685880"/>
            <a:ext cx="32767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7" name="Freeform 7"/>
          <p:cNvSpPr/>
          <p:nvPr/>
        </p:nvSpPr>
        <p:spPr>
          <a:xfrm>
            <a:off x="8151840" y="1685880"/>
            <a:ext cx="32767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64"/>
          </p:nvPr>
        </p:nvSpPr>
        <p:spPr>
          <a:xfrm>
            <a:off x="738000" y="6453360"/>
            <a:ext cx="1623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efede3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6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66"/>
          </p:nvPr>
        </p:nvSpPr>
        <p:spPr>
          <a:xfrm>
            <a:off x="9829440" y="6453360"/>
            <a:ext cx="1598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46E6F1-AD51-4158-8B3B-C748234E9BCE}" type="slidenum">
              <a:rPr b="0" lang="ru-RU" sz="1000" spc="-1" strike="noStrike">
                <a:solidFill>
                  <a:srgbClr val="efede3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7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8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9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ACE9C-A614-4F8A-AD34-C625506D7851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3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dt" idx="70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ftr" idx="71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sldNum" idx="72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CD295-BC05-4497-BEEE-5282EDD0FB5C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73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74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75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068197-508B-4426-9A21-0092D17FB132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9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6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77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78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B6E01-04EC-4E57-8C46-B29E1AA64F31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3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79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ftr" idx="80"/>
          </p:nvPr>
        </p:nvSpPr>
        <p:spPr>
          <a:xfrm>
            <a:off x="2204640" y="6453360"/>
            <a:ext cx="237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sldNum" idx="81"/>
          </p:nvPr>
        </p:nvSpPr>
        <p:spPr>
          <a:xfrm>
            <a:off x="988236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839D0C-33BC-4D7C-8BAA-118E7F2FD7DE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6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7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dt" idx="82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ftr" idx="83"/>
          </p:nvPr>
        </p:nvSpPr>
        <p:spPr>
          <a:xfrm>
            <a:off x="2204640" y="6453360"/>
            <a:ext cx="237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 type="sldNum" idx="84"/>
          </p:nvPr>
        </p:nvSpPr>
        <p:spPr>
          <a:xfrm>
            <a:off x="988236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8110C-7B33-4D18-A137-6D2E54EB1693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0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dt" idx="85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ftr" idx="86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 type="sldNum" idx="87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91111-7238-4D31-9E96-EF0C099AC120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91b0e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91b0e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27B2-3711-45EA-927B-7F6299993937}" type="slidenum">
              <a:rPr b="0" lang="ru-RU" sz="1000" spc="-1" strike="noStrike">
                <a:solidFill>
                  <a:srgbClr val="191b0e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3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8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9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90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795E7-84AD-4901-A193-75DD00913133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5" name="Group 7"/>
          <p:cNvGrpSpPr/>
          <p:nvPr/>
        </p:nvGrpSpPr>
        <p:grpSpPr>
          <a:xfrm>
            <a:off x="754200" y="744120"/>
            <a:ext cx="10674360" cy="5350320"/>
            <a:chOff x="754200" y="744120"/>
            <a:chExt cx="10674360" cy="5350320"/>
          </a:xfrm>
        </p:grpSpPr>
        <p:sp>
          <p:nvSpPr>
            <p:cNvPr id="1326" name="Freeform 6"/>
            <p:cNvSpPr/>
            <p:nvPr/>
          </p:nvSpPr>
          <p:spPr>
            <a:xfrm>
              <a:off x="81536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357"/>
                  </a:lnTo>
                  <a:lnTo>
                    <a:pt x="8761" y="935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327" name="Freeform 6"/>
            <p:cNvSpPr/>
            <p:nvPr/>
          </p:nvSpPr>
          <p:spPr>
            <a:xfrm flipH="1" flipV="1">
              <a:off x="753840" y="743760"/>
              <a:ext cx="3275280" cy="4408920"/>
            </a:xfrm>
            <a:custGeom>
              <a:avLst/>
              <a:gdLst/>
              <a:ahLst/>
              <a:rect l="l" t="t" r="r" b="b"/>
              <a:pathLst>
                <a:path w="10001" h="10000">
                  <a:moveTo>
                    <a:pt x="8762" y="0"/>
                  </a:moveTo>
                  <a:lnTo>
                    <a:pt x="10001" y="0"/>
                  </a:lnTo>
                  <a:lnTo>
                    <a:pt x="10001" y="10000"/>
                  </a:lnTo>
                  <a:lnTo>
                    <a:pt x="1" y="10000"/>
                  </a:lnTo>
                  <a:cubicBezTo>
                    <a:pt x="-2" y="9766"/>
                    <a:pt x="4" y="9586"/>
                    <a:pt x="1" y="9352"/>
                  </a:cubicBezTo>
                  <a:lnTo>
                    <a:pt x="8762" y="9346"/>
                  </a:lnTo>
                  <a:lnTo>
                    <a:pt x="8762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91"/>
          </p:nvPr>
        </p:nvSpPr>
        <p:spPr>
          <a:xfrm>
            <a:off x="754200" y="6453360"/>
            <a:ext cx="1606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92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3"/>
          </p:nvPr>
        </p:nvSpPr>
        <p:spPr>
          <a:xfrm>
            <a:off x="9829440" y="6453360"/>
            <a:ext cx="1598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6E6C8-0DDF-4CDE-9DCF-30CA7B746D8B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0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94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95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96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602F9-CE93-490A-833E-E49D353689D9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Freeform 6"/>
          <p:cNvSpPr/>
          <p:nvPr/>
        </p:nvSpPr>
        <p:spPr>
          <a:xfrm>
            <a:off x="8151840" y="1685880"/>
            <a:ext cx="32767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3" name="Freeform 7"/>
          <p:cNvSpPr/>
          <p:nvPr/>
        </p:nvSpPr>
        <p:spPr>
          <a:xfrm>
            <a:off x="8151840" y="1685880"/>
            <a:ext cx="32767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97"/>
          </p:nvPr>
        </p:nvSpPr>
        <p:spPr>
          <a:xfrm>
            <a:off x="738000" y="6453360"/>
            <a:ext cx="1623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efede3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9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99"/>
          </p:nvPr>
        </p:nvSpPr>
        <p:spPr>
          <a:xfrm>
            <a:off x="9829440" y="6453360"/>
            <a:ext cx="1598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2C483-D2CD-4CAA-8C49-72D00DC373FA}" type="slidenum">
              <a:rPr b="0" lang="ru-RU" sz="1000" spc="-1" strike="noStrike">
                <a:solidFill>
                  <a:srgbClr val="efede3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6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dt" idx="100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ftr" idx="101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sldNum" idx="102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96634-7E9F-4B21-A1C6-2CA1DEDE4148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9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 type="dt" idx="103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 type="ftr" idx="104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 type="sldNum" idx="105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E421F-72EB-42A3-99E3-A788B87487E8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2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106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107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108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79CBAA-2B93-4402-A1F0-190572BD12B4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5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dt" idx="109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ftr" idx="110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 type="sldNum" idx="111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96935-5D90-45EF-9A55-053DD916695F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8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9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 type="dt" idx="112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 type="ftr" idx="113"/>
          </p:nvPr>
        </p:nvSpPr>
        <p:spPr>
          <a:xfrm>
            <a:off x="2204640" y="6453360"/>
            <a:ext cx="237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 type="sldNum" idx="114"/>
          </p:nvPr>
        </p:nvSpPr>
        <p:spPr>
          <a:xfrm>
            <a:off x="988236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90C27-C47A-40EC-84BF-E686CDCD2357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3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 type="dt" idx="115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 type="ftr" idx="116"/>
          </p:nvPr>
        </p:nvSpPr>
        <p:spPr>
          <a:xfrm>
            <a:off x="2204640" y="6453360"/>
            <a:ext cx="237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 type="sldNum" idx="117"/>
          </p:nvPr>
        </p:nvSpPr>
        <p:spPr>
          <a:xfrm>
            <a:off x="988236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2BA7B-6F4B-4237-A498-FDA8DB011132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91b0e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91b0e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C990-ADFF-44CB-A3B6-57831B7A4B4C}" type="slidenum">
              <a:rPr b="0" lang="ru-RU" sz="1000" spc="-1" strike="noStrike">
                <a:solidFill>
                  <a:srgbClr val="191b0e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6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 type="dt" idx="118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 type="ftr" idx="119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 type="sldNum" idx="120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C3B8A-233C-4AB8-8195-B52B53166CB9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9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 type="dt" idx="12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 type="ftr" idx="12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4" name="PlaceHolder 5"/>
          <p:cNvSpPr>
            <a:spLocks noGrp="1"/>
          </p:cNvSpPr>
          <p:nvPr>
            <p:ph type="sldNum" idx="123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7F844-4C9C-4964-899C-7F916156B211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18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178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/>
              <a:ahLst/>
              <a:rect l="l" t="t" r="r" b="b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79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/>
              <a:ahLst/>
              <a:rect l="l" t="t" r="r" b="b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80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/>
              <a:ahLst/>
              <a:rect l="l" t="t" r="r" b="b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81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/>
              <a:ahLst/>
              <a:rect l="l" t="t" r="r" b="b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82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/>
              <a:ahLst/>
              <a:rect l="l" t="t" r="r" b="b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83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/>
              <a:ahLst/>
              <a:rect l="l" t="t" r="r" b="b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03385-BE69-4031-A03C-7A61F739F1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226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27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28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29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30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8F341-B091-4FD6-93C0-064C0A55E3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274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75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76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80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E5157-F8A7-480D-B290-A91EABF1CC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324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5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6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7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8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9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30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2F0E4D-55C6-456F-A9F3-137B782909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7"/>
          <p:cNvGrpSpPr/>
          <p:nvPr/>
        </p:nvGrpSpPr>
        <p:grpSpPr>
          <a:xfrm>
            <a:off x="754200" y="744120"/>
            <a:ext cx="10674360" cy="5350320"/>
            <a:chOff x="754200" y="744120"/>
            <a:chExt cx="10674360" cy="5350320"/>
          </a:xfrm>
        </p:grpSpPr>
        <p:sp>
          <p:nvSpPr>
            <p:cNvPr id="374" name="Freeform 6"/>
            <p:cNvSpPr/>
            <p:nvPr/>
          </p:nvSpPr>
          <p:spPr>
            <a:xfrm>
              <a:off x="81536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357"/>
                  </a:lnTo>
                  <a:lnTo>
                    <a:pt x="8761" y="935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75" name="Freeform 6"/>
            <p:cNvSpPr/>
            <p:nvPr/>
          </p:nvSpPr>
          <p:spPr>
            <a:xfrm flipH="1" flipV="1">
              <a:off x="753840" y="743760"/>
              <a:ext cx="3275280" cy="4408920"/>
            </a:xfrm>
            <a:custGeom>
              <a:avLst/>
              <a:gdLst/>
              <a:ahLst/>
              <a:rect l="l" t="t" r="r" b="b"/>
              <a:pathLst>
                <a:path w="10001" h="10000">
                  <a:moveTo>
                    <a:pt x="8762" y="0"/>
                  </a:moveTo>
                  <a:lnTo>
                    <a:pt x="10001" y="0"/>
                  </a:lnTo>
                  <a:lnTo>
                    <a:pt x="10001" y="10000"/>
                  </a:lnTo>
                  <a:lnTo>
                    <a:pt x="1" y="10000"/>
                  </a:lnTo>
                  <a:cubicBezTo>
                    <a:pt x="-2" y="9766"/>
                    <a:pt x="4" y="9586"/>
                    <a:pt x="1" y="9352"/>
                  </a:cubicBezTo>
                  <a:lnTo>
                    <a:pt x="8762" y="9346"/>
                  </a:lnTo>
                  <a:lnTo>
                    <a:pt x="8762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754200" y="6453360"/>
            <a:ext cx="1606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9829440" y="6453360"/>
            <a:ext cx="1598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D1B14-8D0E-4B36-A422-B649B28C266D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1" name="Заголовок 1" descr=""/>
          <p:cNvPicPr/>
          <p:nvPr/>
        </p:nvPicPr>
        <p:blipFill>
          <a:blip r:embed="rId1"/>
          <a:stretch/>
        </p:blipFill>
        <p:spPr>
          <a:xfrm>
            <a:off x="1414440" y="506520"/>
            <a:ext cx="10406160" cy="4016160"/>
          </a:xfrm>
          <a:prstGeom prst="rect">
            <a:avLst/>
          </a:prstGeom>
          <a:ln w="0">
            <a:noFill/>
          </a:ln>
        </p:spPr>
      </p:pic>
      <p:sp>
        <p:nvSpPr>
          <p:cNvPr id="1802" name=""/>
          <p:cNvSpPr txBox="1"/>
          <p:nvPr/>
        </p:nvSpPr>
        <p:spPr>
          <a:xfrm>
            <a:off x="1828800" y="4889160"/>
            <a:ext cx="9847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 algn="ctr">
              <a:lnSpc>
                <a:spcPct val="80000"/>
              </a:lnSpc>
              <a:spcBef>
                <a:spcPts val="1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ач-статистик отдела мед. статистики и анализа ГАУЗ «КМИАЦ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закова Наталья Владиславо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. почт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v@kuzdra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тел. 68-05-02, доб.408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757160" y="185400"/>
            <a:ext cx="989964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СНОВНЫЕ ЗАМЕЧАНИЯ ПРИ ЗАПОЛНЕНИИ ТАБЛИЦЫ 2000!!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8" name=""/>
          <p:cNvSpPr txBox="1"/>
          <p:nvPr/>
        </p:nvSpPr>
        <p:spPr>
          <a:xfrm>
            <a:off x="1961640" y="1066680"/>
            <a:ext cx="9695160" cy="488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тить внимание на строку 15.10 «расстройства менструаций» у лиц старше трудоспособного возраста. Таких пациентов в этой возрастной группе должны быть единиц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графы 4,13,22 «выписано, всего» не должны включаться умершие пациенты, также как и в графы 7,16,26 «проведено выписанными койко-дней» не должны показываться койко-дни умерших пациент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зделе В. Дети (в возрасте 0-17 лет включительно) ошибки связаны с графами 25 (выписано детей до 1 года) и 27 (проведено койко-дней в возрасте до 1 года).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братите внимание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что не могут быть строго одинаковыми числа по выписанным детям до 1 года и проведенным ими койко-дня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9" name=""/>
          <p:cNvGraphicFramePr/>
          <p:nvPr/>
        </p:nvGraphicFramePr>
        <p:xfrm>
          <a:off x="1558800" y="841320"/>
          <a:ext cx="10328400" cy="4543560"/>
        </p:xfrm>
        <a:graphic>
          <a:graphicData uri="http://schemas.openxmlformats.org/drawingml/2006/table">
            <a:tbl>
              <a:tblPr/>
              <a:tblGrid>
                <a:gridCol w="2533680"/>
                <a:gridCol w="957240"/>
                <a:gridCol w="1219320"/>
                <a:gridCol w="1338120"/>
                <a:gridCol w="1063800"/>
                <a:gridCol w="1387440"/>
                <a:gridCol w="896760"/>
                <a:gridCol w="93204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е старше трудоспособного возра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.-мед. вскрыт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. суд.-мед. вскрыт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444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617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апирамидные и др. двигательные нару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48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б-нь Паркинс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03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.экстрапирамидные двиг. нару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41600">
                <a:tc>
                  <a:txBody>
                    <a:bodyPr lIns="25704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25704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-7.3.1-7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1820" name="Прямоугольник 2"/>
          <p:cNvSpPr/>
          <p:nvPr/>
        </p:nvSpPr>
        <p:spPr>
          <a:xfrm>
            <a:off x="4514760" y="318960"/>
            <a:ext cx="35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1. Таблица 200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Заголовок 1"/>
          <p:cNvSpPr/>
          <p:nvPr/>
        </p:nvSpPr>
        <p:spPr>
          <a:xfrm>
            <a:off x="2449440" y="21600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2.  Таблица 200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822" name=""/>
          <p:cNvGraphicFramePr/>
          <p:nvPr/>
        </p:nvGraphicFramePr>
        <p:xfrm>
          <a:off x="1419120" y="800280"/>
          <a:ext cx="10433160" cy="5163840"/>
        </p:xfrm>
        <a:graphic>
          <a:graphicData uri="http://schemas.openxmlformats.org/drawingml/2006/table">
            <a:tbl>
              <a:tblPr/>
              <a:tblGrid>
                <a:gridCol w="2521080"/>
                <a:gridCol w="655560"/>
                <a:gridCol w="855720"/>
                <a:gridCol w="809640"/>
                <a:gridCol w="890640"/>
                <a:gridCol w="925560"/>
                <a:gridCol w="820440"/>
                <a:gridCol w="727200"/>
                <a:gridCol w="738360"/>
                <a:gridCol w="679320"/>
                <a:gridCol w="809640"/>
              </a:tblGrid>
              <a:tr h="27864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. выпис. к/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ставл. по экстр.показа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ациент, доставл. СМП (из гр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. патологоанатом. вск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. расхожд.диаг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. суд-медиц. вск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. расхожд.диаг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487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реброваскулярные боле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33 5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 8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0 7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534 6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 2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 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4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281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убарахн . кровоиз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4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3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2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 8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487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мозг. и вн.череп.кровоиз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8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0 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8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282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аркт моз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 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9 8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 3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317 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 3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281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ульт не уточне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0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8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 4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264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упорка и стеноз ц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3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2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5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 3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281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. ЦВ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0 2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 8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 7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764 2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6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280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4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 7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3" name=""/>
          <p:cNvGraphicFramePr/>
          <p:nvPr/>
        </p:nvGraphicFramePr>
        <p:xfrm>
          <a:off x="1395360" y="809640"/>
          <a:ext cx="10574280" cy="5103720"/>
        </p:xfrm>
        <a:graphic>
          <a:graphicData uri="http://schemas.openxmlformats.org/drawingml/2006/table">
            <a:tbl>
              <a:tblPr/>
              <a:tblGrid>
                <a:gridCol w="2075040"/>
                <a:gridCol w="587160"/>
                <a:gridCol w="760680"/>
                <a:gridCol w="973080"/>
                <a:gridCol w="1031760"/>
                <a:gridCol w="903240"/>
                <a:gridCol w="655560"/>
                <a:gridCol w="892440"/>
                <a:gridCol w="901440"/>
                <a:gridCol w="938160"/>
                <a:gridCol w="855720"/>
              </a:tblGrid>
              <a:tr h="31896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gridSpan="3"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. Выписан. койко-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. патологоанатом. вск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. диаг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. судебно-медиц. вск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. расхождений диаг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1486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став. по экстр.показа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ациентов, доста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П (из гр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реброваскулярные боле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4 3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6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 4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76 8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0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убарахн . кровоиз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2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 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493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мозг и вн.череп.кровоиз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0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9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2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 6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9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6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284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аркт моз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3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4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 4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52 8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5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5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284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ульт не уточне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4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284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упорка и стеноз ц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8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6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 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282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.ЦВ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 7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7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6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86 8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284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5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b7b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b7b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b7b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824" name="Прямоугольник 2"/>
          <p:cNvSpPr/>
          <p:nvPr/>
        </p:nvSpPr>
        <p:spPr>
          <a:xfrm>
            <a:off x="4921200" y="220680"/>
            <a:ext cx="35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3. Таблица 200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5" name=""/>
          <p:cNvGraphicFramePr/>
          <p:nvPr/>
        </p:nvGraphicFramePr>
        <p:xfrm>
          <a:off x="1922400" y="1160640"/>
          <a:ext cx="9753840" cy="3821040"/>
        </p:xfrm>
        <a:graphic>
          <a:graphicData uri="http://schemas.openxmlformats.org/drawingml/2006/table">
            <a:tbl>
              <a:tblPr/>
              <a:tblGrid>
                <a:gridCol w="2274840"/>
                <a:gridCol w="901800"/>
                <a:gridCol w="1219320"/>
                <a:gridCol w="1419120"/>
                <a:gridCol w="1152360"/>
                <a:gridCol w="1392480"/>
                <a:gridCol w="1393920"/>
              </a:tblGrid>
              <a:tr h="342720">
                <a:tc gridSpan="7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2 в возрасте до 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выписанными койко-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к/д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26) в возрасте до 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к/день в возрасте до 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443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745920">
                <a:tc>
                  <a:txBody>
                    <a:bodyPr lIns="25704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инфекционный энтерит и кол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620640">
                <a:tc>
                  <a:txBody>
                    <a:bodyPr lIns="3430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болезнь Кр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01920">
                <a:tc>
                  <a:txBody>
                    <a:bodyPr lIns="3430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венный кол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4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1826" name="Прямоугольник 3"/>
          <p:cNvSpPr/>
          <p:nvPr/>
        </p:nvSpPr>
        <p:spPr>
          <a:xfrm>
            <a:off x="4714560" y="495360"/>
            <a:ext cx="35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4. Таблица 200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7" name=""/>
          <p:cNvGraphicFramePr/>
          <p:nvPr/>
        </p:nvGraphicFramePr>
        <p:xfrm>
          <a:off x="1441440" y="973080"/>
          <a:ext cx="10480680" cy="4908600"/>
        </p:xfrm>
        <a:graphic>
          <a:graphicData uri="http://schemas.openxmlformats.org/drawingml/2006/table">
            <a:tbl>
              <a:tblPr/>
              <a:tblGrid>
                <a:gridCol w="1500120"/>
                <a:gridCol w="525600"/>
                <a:gridCol w="1085760"/>
                <a:gridCol w="1025640"/>
                <a:gridCol w="739800"/>
                <a:gridCol w="1042920"/>
                <a:gridCol w="949320"/>
                <a:gridCol w="750960"/>
                <a:gridCol w="1042920"/>
                <a:gridCol w="985680"/>
                <a:gridCol w="831960"/>
              </a:tblGrid>
              <a:tr h="68436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старше трудоспособного возра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. выписанными к/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 к/д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. выписанными к/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 к/д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. выписанными к/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 к/д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/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16/4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784080">
                <a:tc>
                  <a:txBody>
                    <a:bodyPr lIns="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апир.и др. двиг. нару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5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70488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б-нь Паркинс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7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89064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.экстрапир. и двигат. наруш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</a:tr>
              <a:tr h="371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f8294"/>
                        </a:gs>
                        <a:gs pos="100000">
                          <a:srgbClr val="a7e0fd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b7b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4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b7b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b7b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b7b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b7b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b7b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b7b1"/>
                    </a:solidFill>
                  </a:tcPr>
                </a:tc>
              </a:tr>
            </a:tbl>
          </a:graphicData>
        </a:graphic>
      </p:graphicFrame>
      <p:sp>
        <p:nvSpPr>
          <p:cNvPr id="1828" name="Прямоугольник 3"/>
          <p:cNvSpPr/>
          <p:nvPr/>
        </p:nvSpPr>
        <p:spPr>
          <a:xfrm>
            <a:off x="4862160" y="266760"/>
            <a:ext cx="35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5. Таблица 200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1528560" y="239760"/>
            <a:ext cx="1001844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№210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1636560" y="1523880"/>
            <a:ext cx="10018800" cy="37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выписанных пациентов направлено в организации медицинской реабилитации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________ 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натории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________ 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утать сведения в таблице с переведенными пациентами в другие медицинские организации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484280" y="151920"/>
            <a:ext cx="100188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2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из общего числа умерших, умерло новорожденных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2" name=""/>
          <p:cNvSpPr txBox="1"/>
          <p:nvPr/>
        </p:nvSpPr>
        <p:spPr>
          <a:xfrm>
            <a:off x="2157120" y="2004480"/>
            <a:ext cx="9588600" cy="425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251280" indent="-2512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- показываются все умершие в стационаре новорожденные в первые 168 часов после рождения независимо от того в каком отделении наступила смерть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51280" indent="-2512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2 - показываются дети, умершие в первые 24 часа после поступления в стационар в возрасте 0-24 часа после рождения в акушерских, гинекологических и других отделениях, а также поступившие и умершие в отделениях реанимации или отделениях недоношенных, т.е. во всех отделениях, независимо от того, откуда дети переведены или поступили, или ниоткуда не поступали, так как родились там же, где умерл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51280" indent="-2512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3 - заполняется из строки 2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51280" indent="-2512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4 - показываются дети в возрасте до 1 года, умершие в первые 24 часа после поступления,  без учета новорожденных в возрасте 0-24 часа, умерших в первые сутк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51280" indent="-2512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- заполняется из строки 4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51280" indent="-2512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1484280" y="468360"/>
            <a:ext cx="100188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300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оступило пациентов с инфарктом миокарда)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4" name=""/>
          <p:cNvSpPr txBox="1"/>
          <p:nvPr/>
        </p:nvSpPr>
        <p:spPr>
          <a:xfrm>
            <a:off x="1484280" y="1582560"/>
            <a:ext cx="10018800" cy="397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4 «проведена тромболитическая терапия» показываются все случаи тромболизиса, выполненного пациентам с инфарктом миокарда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шей медицинской организацией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госпитальном этапе с учетом и тех пациентов, которые в дальнейшем были направлены на стентирование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омболизисы, проводимые на догоспитальном этапе, в данной строке не показывать.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«стентирование» и строка 6 «тромболитическая терапия с последующим стентированием»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лняются только региональными сосудистыми центрам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517400" y="329760"/>
            <a:ext cx="1001844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7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из общего числа отказов в госпитализации)</a:t>
            </a:r>
            <a:r>
              <a:rPr b="1" lang="ru-RU" sz="2500" spc="-1" strike="noStrike">
                <a:solidFill>
                  <a:srgbClr val="191b0e"/>
                </a:solidFill>
                <a:latin typeface="Corbel"/>
                <a:ea typeface="Times New Roman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6" name=""/>
          <p:cNvSpPr txBox="1"/>
          <p:nvPr/>
        </p:nvSpPr>
        <p:spPr>
          <a:xfrm>
            <a:off x="1778040" y="1307880"/>
            <a:ext cx="9499680" cy="53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казы в госпитализ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Отсутствие показаний к госпитализац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Медицинская помощь оказана амбулаторн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аправлен в другой стационар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Отказ пациента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четкая ориентация (информированность) пациента врачом, направившим на госпитализацию («вас там посмотрят и отпустят»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по семейным обстоятельствам (надежда на выздоровление в домашних условиях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боязнь госпитализации (боязнь возможного инфицирования, желание получить только разъяснения и т.п.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ЫДЕРЖКА ИЗ УКАЗАНИЯ ПО ЗАПОЛНЕНИЮ ФОРМЫ ФЕДЕРАЛЬНОГО СТАТИСТИЧЕСКОГО НАБЛЮД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4" name=""/>
          <p:cNvSpPr txBox="1"/>
          <p:nvPr/>
        </p:nvSpPr>
        <p:spPr>
          <a:xfrm>
            <a:off x="1693800" y="2324160"/>
            <a:ext cx="9599760" cy="35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№14 «Сведения о деятельности подразделений медицинской организации, оказывающих медицинскую помощь в стационарных условиях», составляется всеми медицинскими организациями - юридическими лицами, оказывающими медицинскую помощь в стационарных условиях (Приказ Минздрава России от 6 августа 2013г. №529н « Об утверждении номенклатуры медицинских организаций», зарегистрирован Минюстом России 13 сентября 2013г. №29950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1650600" y="407880"/>
            <a:ext cx="95346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№290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8" name=""/>
          <p:cNvSpPr txBox="1"/>
          <p:nvPr/>
        </p:nvSpPr>
        <p:spPr>
          <a:xfrm>
            <a:off x="1528560" y="1606680"/>
            <a:ext cx="10018440" cy="29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!!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900 показывают только 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авматические переломы, которые должны быть учтены только после проведения денситометрии и исключения диагноза «остеопороза с патологическим переломом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3 «эндопротезирование» показывается из строки 2 «получили медицинскую помощь в форме хирургического вмешательства»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1663560" y="330120"/>
            <a:ext cx="947448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30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Состав новорожденных с заболеваниями, поступивших в возрасте 0-6 дней жизни, и исходы их лечения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0" name=""/>
          <p:cNvSpPr txBox="1"/>
          <p:nvPr/>
        </p:nvSpPr>
        <p:spPr>
          <a:xfrm>
            <a:off x="2050560" y="1500120"/>
            <a:ext cx="9542520" cy="443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70000"/>
              </a:lnSpc>
              <a:spcBef>
                <a:spcPts val="1001"/>
              </a:spcBef>
              <a:spcAft>
                <a:spcPts val="2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заполняется только теми медицинскими организациями, в которые поступили новорожденные указанного возраста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 других медицинских организаций и в данной организации есть койки для выхаживания недоношенных и патологии новорожденных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В таблицу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включаются </a:t>
            </a: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сведения о больных и заболевших детях (плодах), оставленных в палатах новорожденных мед. организаций (отделений) родовспоможе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550880" y="157320"/>
            <a:ext cx="100173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40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Хирургическая работа организации)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2" name=""/>
          <p:cNvSpPr txBox="1"/>
          <p:nvPr/>
        </p:nvSpPr>
        <p:spPr>
          <a:xfrm>
            <a:off x="2049120" y="1508040"/>
            <a:ext cx="9410760" cy="506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77200" indent="-277200" algn="just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Если одному и тому же пациенту произведено несколько операций, то он будет показан в таблице столько раз, сколько операций ему произведено, независимо от того, одномоментно или в разные сроки были произведены эти операци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Операция, произведенная в несколько этапов, в случае если пациент не выписывался из стационара в промежутки между этапами операции, учитывается как одна операция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и на сосудах  (строка 8) и операции на нервной системе (2)  не должны дублироваться. Если данные операции подходят как для строки 8, так и для строки 2, следует  отметить их только в одной строке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0c5a82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ока 8 «Операции на сосудах» равна сумме строки 8.1. «Операции на артериях» и строки 8.2. «Операции на венах» по всем графам!!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материалы в ходе операции по внематочной беременности должны в 100% направляться на морфологическое исследование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2058840" y="167760"/>
            <a:ext cx="9290160" cy="73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4000 (Хирургическая работа организации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должение)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4" name=""/>
          <p:cNvSpPr txBox="1"/>
          <p:nvPr/>
        </p:nvSpPr>
        <p:spPr>
          <a:xfrm>
            <a:off x="1968480" y="905040"/>
            <a:ext cx="9617040" cy="60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4040" indent="-284040" algn="just"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В графе «умерло оперированных в стационаре» указывается число умерших оперированных пациентов, независимо от того, что послужило причиной смерти: заболевание, по поводу которого была произведена операция, осложнение при или после операции или другие заболева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4040" indent="-284040" algn="just"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c5a82"/>
                </a:solidFill>
                <a:latin typeface="Times New Roman"/>
                <a:ea typeface="Times New Roman"/>
              </a:rPr>
              <a:t>Например. </a:t>
            </a:r>
            <a:r>
              <a:rPr b="1" lang="ru-RU" sz="18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Случаи, когда пациент, оперированный по поводу катаракты,   аппендицита, грыжи и т. д., умер от инфаркта миокарда, инсульта и т. д.,   развившихся после операц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4040" indent="-284040" algn="just"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В случае смерти пациента, перенесшего несколько операций, как умершего его следуют показывать лишь по одной операции (наиболее серьезной и радикальной)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4040" indent="-2840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графе 28 необходимо указывать число направленных материалов на морфологическое исследование </a:t>
            </a:r>
            <a:r>
              <a:rPr b="1" lang="ru-RU" sz="2200" spc="-1" strike="noStrike" u="sng">
                <a:solidFill>
                  <a:srgbClr val="a50021"/>
                </a:solidFill>
                <a:uFillTx/>
                <a:latin typeface="Times New Roman"/>
              </a:rPr>
              <a:t>по числу операций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З РФ от 24 марта 2016 г. № 179Н) </a:t>
            </a:r>
            <a:r>
              <a:rPr b="1" i="1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Не забывайте заполнять графу 28!!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4040" indent="-28404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расшифровку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очих» операций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 вошедших в предлагаемый  перечень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4040" indent="-2840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Прямоугольник 1"/>
          <p:cNvSpPr/>
          <p:nvPr/>
        </p:nvSpPr>
        <p:spPr>
          <a:xfrm>
            <a:off x="2192400" y="152280"/>
            <a:ext cx="855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4001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Хирургическая работа организ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старше трудоспособного возраста)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6" name="Прямоугольник 2"/>
          <p:cNvSpPr/>
          <p:nvPr/>
        </p:nvSpPr>
        <p:spPr>
          <a:xfrm>
            <a:off x="1589040" y="2251080"/>
            <a:ext cx="99172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бования к заполнению т.4001 точно такие же, как и к заполнению т.4000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следует забывать, что сведения в т.4001 следуют из т.4000 и необходимо принимать во внимание заложенные для этого контрол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1671480" y="274320"/>
            <a:ext cx="1001880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нения, внесенные в таблицы 4000 и 400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848" name=""/>
          <p:cNvGraphicFramePr/>
          <p:nvPr/>
        </p:nvGraphicFramePr>
        <p:xfrm>
          <a:off x="2459160" y="2413080"/>
          <a:ext cx="8921520" cy="2728800"/>
        </p:xfrm>
        <a:graphic>
          <a:graphicData uri="http://schemas.openxmlformats.org/drawingml/2006/table">
            <a:tbl>
              <a:tblPr/>
              <a:tblGrid>
                <a:gridCol w="7284960"/>
                <a:gridCol w="1636560"/>
              </a:tblGrid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ерации на сердц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 - на открытом сердц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 - с искусственным кровообращение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1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рекция врожденных пороков сердц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из них: с искусственным кровообращение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.2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рекция приобретенных поражений клапанов сердц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из них: с искусственным кровообращение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.3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эндоваскулярн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.3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1670040" y="277560"/>
            <a:ext cx="100188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нения, внесенные в таблицы 4000 и 400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850" name=""/>
          <p:cNvGraphicFramePr/>
          <p:nvPr/>
        </p:nvGraphicFramePr>
        <p:xfrm>
          <a:off x="1886040" y="1352520"/>
          <a:ext cx="9588240" cy="4602240"/>
        </p:xfrm>
        <a:graphic>
          <a:graphicData uri="http://schemas.openxmlformats.org/drawingml/2006/table">
            <a:tbl>
              <a:tblPr/>
              <a:tblGrid>
                <a:gridCol w="8055000"/>
                <a:gridCol w="1533240"/>
              </a:tblGrid>
              <a:tr h="35892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нарушениях ритма – всег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 - имплантация кардиостимулятор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4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из них: трехкамерны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.4.1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рекция тахиаритм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4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 - катетерных аблац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4.2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имплантированных кардиовертеров-дефибрилляторов (ИКД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.4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из них: трехкамерных ИК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.4.3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поводу ишемических болезней сердц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 - аортокоронарное шунтировани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5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из них: с искусственным кровообращение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.5.1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алоинвазивная реваскуляризация миокарда (МИР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.5.1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гиопластика коронарных артер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5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 - со стентирование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5.2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1733400" y="250920"/>
            <a:ext cx="100188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нения, внесенные в таблицы 4000 и 400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852" name=""/>
          <p:cNvGraphicFramePr/>
          <p:nvPr/>
        </p:nvGraphicFramePr>
        <p:xfrm>
          <a:off x="1900080" y="1438200"/>
          <a:ext cx="9498240" cy="4111560"/>
        </p:xfrm>
        <a:graphic>
          <a:graphicData uri="http://schemas.openxmlformats.org/drawingml/2006/table">
            <a:tbl>
              <a:tblPr/>
              <a:tblGrid>
                <a:gridCol w="7947360"/>
                <a:gridCol w="1550880"/>
              </a:tblGrid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ерации на сосуда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 - операции на артерия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 - на питающих головной моз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1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 - каротидные эндартерэктом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1.1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траинтракраниальные анастомоз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1.1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нтгенэндоваскулярные дилята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1.1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 - со стентирование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1.1.3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почечных артерия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1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аорт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1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из них при аневризмах и расслоениях восходящего отдела аор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.1.3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ерации на вена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4110 (виды анестезий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4" name=""/>
          <p:cNvSpPr txBox="1"/>
          <p:nvPr/>
        </p:nvSpPr>
        <p:spPr>
          <a:xfrm>
            <a:off x="1623960" y="1294920"/>
            <a:ext cx="10136160" cy="372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ую анестезию в данную таблицу не включа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 равна сумме строк с 1 по 9 включительн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«умерло пациентов» указываются данные только по умершим от проводимой анестез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1484280" y="163440"/>
            <a:ext cx="10018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4201 (проведено трансплантаций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6" name=""/>
          <p:cNvSpPr txBox="1"/>
          <p:nvPr/>
        </p:nvSpPr>
        <p:spPr>
          <a:xfrm>
            <a:off x="1484280" y="1312560"/>
            <a:ext cx="10018800" cy="47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 вносится информация о пересадке органов, а из тканей – только о костном мозг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пересадке тканей (роговицы, свободного кожного лоскута и т.д.)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внося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пок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нструктивно-пластические операции с использованием аутотрансплантатов органов или тканей человека, а также с использованием медицинских изделий, полученных из органов или тканей челове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братить внимание, что строка 1 равна сумме строк 2-9 по всем графам. Строка 10 не суммирует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"/>
          <p:cNvSpPr txBox="1"/>
          <p:nvPr/>
        </p:nvSpPr>
        <p:spPr>
          <a:xfrm>
            <a:off x="1828800" y="850680"/>
            <a:ext cx="9423360" cy="494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 числе койко-дней, проведенных пациентами в круглосуточном стационаре, о числе и составе пациентов, исходах их лечения и об объеме хирургической помощи (экстренной и плановой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е отражаются  сведения о числе операций, независимо от профиля, вида, метода проведения, выполненных пациентам, выбывшим из стационара, либо умерши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проведенных в стационаре операций выделяется число операций, при которых наблюдались осложне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1484280" y="93240"/>
            <a:ext cx="10018800" cy="11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4201 (проведено трансплантаций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8" name=""/>
          <p:cNvSpPr txBox="1"/>
          <p:nvPr/>
        </p:nvSpPr>
        <p:spPr>
          <a:xfrm>
            <a:off x="1484280" y="1558440"/>
            <a:ext cx="10136160" cy="47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в т. 4201 по числу проведенных трансплантаций должны соответствовать данным из формы №63 «Сведения о донорстве органов и тканей и трансплантации в медицинских организациях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каз МЗ РФ от 8 июня 2016 г. № 355н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«прочие органы» вносится информация о пересадке трахеи, верхней конечности и ее фрагментов, нижней конечности и ее фрагмент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едоставить расшифровку строки 9 – трансплантация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прочих орган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9 необходимо указывать число направленных материалов на морфологическое исследование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по числу трансплантаций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З РФ от 24 марта 2016 г. № 179Н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1484280" y="468360"/>
            <a:ext cx="10018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КОТОРЫЕ УСЛОВИЯ КОНТРОЛ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Таблица 2000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0" name=""/>
          <p:cNvSpPr txBox="1"/>
          <p:nvPr/>
        </p:nvSpPr>
        <p:spPr>
          <a:xfrm>
            <a:off x="1514160" y="1758960"/>
            <a:ext cx="10325160" cy="48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77200" indent="-27720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.0 равна сумме строк (2.0+3.0+……. + 21.0) по всем графа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2.0 больше суммы строк (2.1+2.2+……. + 2.8) по всем графа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ичное условие контроля распространяется на строк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0, 4.0, 5.0, 6.0, 7.0, 8.0, 9.0, 10.0, 11.0, 12.0, 13.0, 14.0, 15.0, 18.0, 20.0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3 равна сумме строк (10.3.1+10.3.2+10.3.3+ 10.3.4) по всем графа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ные строки 3.2 "Злокачественные новообразования сетчатки" с   кодом С69.2 уже входят в стр. 3.1"Злокачественные новообразования " с кодом С00-С97, поэтому злокачественные новообразования сетчатк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лжны быть указаны в строке 3.2, а также входить в состав  строки 3.1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1739880" y="431280"/>
            <a:ext cx="94680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КОТОРЫЕ УСЛОВИЯ КОНТРОЛ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Таблица 2000, 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2" name=""/>
          <p:cNvSpPr txBox="1"/>
          <p:nvPr/>
        </p:nvSpPr>
        <p:spPr>
          <a:xfrm>
            <a:off x="1510920" y="1460160"/>
            <a:ext cx="9893160" cy="458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ШЕМИЧЕСКИЕ БОЛЕЗНИ СЕРДЦ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: СТРОКА 10.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графам 4-12, 13-21, 22-33 должна быть равна сумме строк: 10.4.1 + 10.4.2 + 10.4.3 +10.4.4 +10.4.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4.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быть равна «0» по графам 8-12,17-21,28-3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РЕБРОВАСКУЛЯРНЫЕ БОЛЕЗН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: СТРОКА 10.7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рафам 4-7, 13-16, 22-27 должна быть равна сумме строк: 10.7.1 + 10.7.2 + 10.7.3 + 10.7.4 + 10.7.5 + 10.7.6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: СТРОКА 10.7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рафам 8-12, 17-21, 28-33 может быть больше суммы строк: 10.7.1 + 10.7.2 + 10.7.3 + 10.7.4 + 10.7.5 + 10.7.6 за счет рубрики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69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«Последствия цереброваскулярных болезней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1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1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2198520" y="190440"/>
            <a:ext cx="91965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КОТОРЫЕ УСЛОВИЯ КОНТРОЛ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родолжение) (Таблица 2000 – ДЕТИ*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4" name="Прямоугольник 5"/>
          <p:cNvSpPr/>
          <p:nvPr/>
        </p:nvSpPr>
        <p:spPr>
          <a:xfrm>
            <a:off x="2320920" y="6451560"/>
            <a:ext cx="898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*Эти диагнозы не могут быть причиной болезни детей в возрасте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до 1 го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865" name=""/>
          <p:cNvGraphicFramePr/>
          <p:nvPr/>
        </p:nvGraphicFramePr>
        <p:xfrm>
          <a:off x="2198520" y="957240"/>
          <a:ext cx="9196560" cy="5486400"/>
        </p:xfrm>
        <a:graphic>
          <a:graphicData uri="http://schemas.openxmlformats.org/drawingml/2006/table">
            <a:tbl>
              <a:tblPr/>
              <a:tblGrid>
                <a:gridCol w="4519800"/>
                <a:gridCol w="1474920"/>
                <a:gridCol w="1449360"/>
                <a:gridCol w="1752480"/>
              </a:tblGrid>
              <a:tr h="80892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КБ-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возрасте до 1 г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</a:tr>
              <a:tr h="80892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ит хронический и  неуточненный, эмфизем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0-J4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80892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ая хроническая обструктивная  легочная болезнь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45036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оэктатическая болез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45036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45036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45036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91-N9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45036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ое бесплод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80892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1484280" y="165240"/>
            <a:ext cx="100188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КОТОРЫЕ УСЛОВИЯ КОНТРОЛ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1483920" y="1574280"/>
            <a:ext cx="10199880" cy="453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ЕЗНИ УХА И СОСЦЕВИДНОГО ОТРОСТ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: СТРОКИ 9.2.1, 9.3., 9.3.1, 9.3.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быть равны «0» по графам 8-12,17-21,28-3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РОЖДЕННЫЕ АНОМАЛИИ ГЛАЗ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: СТРОКА 18.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быть равна «0» по графам 8-12,17-21, 28-3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НДРОМ ДАУН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: СТРОКА 18.9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быть равна «0» по графам 8-12,17-21, 28-3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ПТОМЫ И ПРИЗНАКИ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: СТРОКА 19.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быть равна «0» по всем графа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1704600" y="279360"/>
            <a:ext cx="957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9" name=""/>
          <p:cNvSpPr txBox="1"/>
          <p:nvPr/>
        </p:nvSpPr>
        <p:spPr>
          <a:xfrm>
            <a:off x="1968120" y="1193400"/>
            <a:ext cx="9194760" cy="23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Количество умерших новорожденных, указанных в </a:t>
            </a:r>
            <a:r>
              <a:rPr b="1" lang="ru-RU" sz="24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таб. 2200 «Из общего числа умерших (стр.1) </a:t>
            </a:r>
            <a:r>
              <a:rPr b="1" lang="ru-RU" sz="2400" spc="-1" strike="noStrike" u="sng">
                <a:solidFill>
                  <a:srgbClr val="7d5013"/>
                </a:solidFill>
                <a:uFillTx/>
                <a:latin typeface="Times New Roman"/>
                <a:ea typeface="Times New Roman"/>
              </a:rPr>
              <a:t>умерло новорожденных в первые 168 часов жизни</a:t>
            </a:r>
            <a:r>
              <a:rPr b="0" lang="ru-RU" sz="24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 должно превышать число, указанное в </a:t>
            </a:r>
            <a:r>
              <a:rPr b="1" lang="ru-RU" sz="24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табл. 2000 «дети от 0-17 лет», гр. </a:t>
            </a:r>
            <a:r>
              <a:rPr b="1" lang="en-US" sz="24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33</a:t>
            </a:r>
            <a:r>
              <a:rPr b="1" lang="ru-RU" sz="24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 «</a:t>
            </a:r>
            <a:r>
              <a:rPr b="1" lang="ru-RU" sz="2400" spc="-1" strike="noStrike" u="sng">
                <a:solidFill>
                  <a:srgbClr val="7d5013"/>
                </a:solidFill>
                <a:uFillTx/>
                <a:latin typeface="Times New Roman"/>
                <a:ea typeface="Times New Roman"/>
              </a:rPr>
              <a:t>Умерло в возрасте до 1 года</a:t>
            </a:r>
            <a:r>
              <a:rPr b="0" lang="ru-RU" sz="24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870" name="Прямоугольник 3"/>
          <p:cNvGrpSpPr/>
          <p:nvPr/>
        </p:nvGrpSpPr>
        <p:grpSpPr>
          <a:xfrm>
            <a:off x="1755720" y="3286080"/>
            <a:ext cx="9528120" cy="2712960"/>
            <a:chOff x="1755720" y="3286080"/>
            <a:chExt cx="9528120" cy="2712960"/>
          </a:xfrm>
        </p:grpSpPr>
        <p:pic>
          <p:nvPicPr>
            <p:cNvPr id="1871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755720" y="3286080"/>
              <a:ext cx="9528120" cy="27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2" name=""/>
            <p:cNvSpPr/>
            <p:nvPr/>
          </p:nvSpPr>
          <p:spPr>
            <a:xfrm>
              <a:off x="1968480" y="3505320"/>
              <a:ext cx="919476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00)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з общего числа умерших (стр.1) </a:t>
              </a:r>
              <a:r>
                <a:rPr b="0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мерло новорожденных в первые 168 часов жизни </a:t>
              </a: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1 _______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мерло в первые 24 часа после поступления в стационар: в возрасте 0 - 24 часа после рождения 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________ 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них недоношенных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_______ 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 1 года (без умерших в первые 24 часа после рождения)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______ 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 от пневмонии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 ________ .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873" name="Line 9"/>
          <p:cNvSpPr/>
          <p:nvPr/>
        </p:nvSpPr>
        <p:spPr>
          <a:xfrm>
            <a:off x="3813120" y="2425680"/>
            <a:ext cx="2117880" cy="172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484280" y="368280"/>
            <a:ext cx="10018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 (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5" name=""/>
          <p:cNvSpPr txBox="1"/>
          <p:nvPr/>
        </p:nvSpPr>
        <p:spPr>
          <a:xfrm>
            <a:off x="1777680" y="1549440"/>
            <a:ext cx="9372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2400" spc="-1" strike="noStrike" u="sng">
                <a:solidFill>
                  <a:srgbClr val="7d5013"/>
                </a:solidFill>
                <a:uFillTx/>
                <a:latin typeface="Times New Roman"/>
                <a:ea typeface="Times New Roman"/>
              </a:rPr>
              <a:t>умерших беременных, рожениц и родильниц</a:t>
            </a:r>
            <a:r>
              <a:rPr b="1" lang="ru-RU" sz="24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указанных </a:t>
            </a:r>
            <a:r>
              <a:rPr b="1" lang="ru-RU" sz="2400" spc="-1" strike="noStrike" u="sng">
                <a:solidFill>
                  <a:srgbClr val="7d5013"/>
                </a:solidFill>
                <a:uFillTx/>
                <a:latin typeface="Times New Roman"/>
                <a:ea typeface="Times New Roman"/>
              </a:rPr>
              <a:t>в табл. 2400 </a:t>
            </a: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 должно быть больше, чем в </a:t>
            </a:r>
            <a:r>
              <a:rPr b="1" lang="ru-RU" sz="24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табл. 2000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876" name="Скругленный прямоугольник 3"/>
          <p:cNvGrpSpPr/>
          <p:nvPr/>
        </p:nvGrpSpPr>
        <p:grpSpPr>
          <a:xfrm>
            <a:off x="1798560" y="3170160"/>
            <a:ext cx="9472680" cy="2859120"/>
            <a:chOff x="1798560" y="3170160"/>
            <a:chExt cx="9472680" cy="2859120"/>
          </a:xfrm>
        </p:grpSpPr>
        <p:pic>
          <p:nvPicPr>
            <p:cNvPr id="1877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798560" y="3170160"/>
              <a:ext cx="9472680" cy="28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8" name=""/>
            <p:cNvSpPr/>
            <p:nvPr/>
          </p:nvSpPr>
          <p:spPr>
            <a:xfrm>
              <a:off x="2044800" y="3403440"/>
              <a:ext cx="89787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(2400)</a:t>
              </a:r>
              <a:r>
                <a:rPr b="0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Умерло беременных, рожениц и родильниц (при сроке беременности 22 недель и более)  </a:t>
              </a: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1 __________ , </a:t>
              </a:r>
              <a:r>
                <a:rPr b="0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из них умерло от заболеваний, осложнивших беременность и роды </a:t>
              </a: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2 ________ .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879" name="Line 9"/>
          <p:cNvSpPr/>
          <p:nvPr/>
        </p:nvSpPr>
        <p:spPr>
          <a:xfrm>
            <a:off x="2894040" y="2577960"/>
            <a:ext cx="636480" cy="1244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484280" y="177840"/>
            <a:ext cx="1001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 (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1" name=""/>
          <p:cNvSpPr txBox="1"/>
          <p:nvPr/>
        </p:nvSpPr>
        <p:spPr>
          <a:xfrm>
            <a:off x="1752120" y="1308240"/>
            <a:ext cx="951228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24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умерших от инфаркта миокарда  (таб. 2000, стр. 10.4.2 + стр. 10.4.3)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 должно быть меньше числа </a:t>
            </a:r>
            <a:r>
              <a:rPr b="1" lang="ru-RU" sz="24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умерших от инфаркта миокарда (стр. 10.4.2 + стр. 10.4.3) в первые 24 часа после поступления в стационар (таб. 2300, гр.5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882" name="Скругленный прямоугольник 3"/>
          <p:cNvGrpSpPr/>
          <p:nvPr/>
        </p:nvGrpSpPr>
        <p:grpSpPr>
          <a:xfrm>
            <a:off x="1785960" y="2517840"/>
            <a:ext cx="9472680" cy="4174920"/>
            <a:chOff x="1785960" y="2517840"/>
            <a:chExt cx="9472680" cy="4174920"/>
          </a:xfrm>
        </p:grpSpPr>
        <p:pic>
          <p:nvPicPr>
            <p:cNvPr id="1883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785960" y="2517840"/>
              <a:ext cx="9472680" cy="41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4" name=""/>
            <p:cNvSpPr/>
            <p:nvPr/>
          </p:nvSpPr>
          <p:spPr>
            <a:xfrm>
              <a:off x="2092320" y="2816280"/>
              <a:ext cx="8858160" cy="34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2300)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оступило пациентов с инфарктом миокарда в стационар в первые сутки от начала заболевания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_______ 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 в первые 12 часов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_______ 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них проведена тромболитическая терапия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______ 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ентирование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_______ ; </a:t>
              </a:r>
              <a:r>
                <a:rPr b="0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из общего числа умерших умерло пациентов с инфарктом миокарда (стр. 10.4.2+10.4.3) в первые 24 часа после поступления в стационар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5 ______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 в возрасте до 65 лет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6 _______ 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числа умерших в первые в 24 часа поступления в стационар пациентов с инфарктом миокарда проведена тромболитическая терапия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 ________ 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ентирование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 ________ . 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885" name="Line 9"/>
          <p:cNvSpPr/>
          <p:nvPr/>
        </p:nvSpPr>
        <p:spPr>
          <a:xfrm>
            <a:off x="2197080" y="2400480"/>
            <a:ext cx="469800" cy="2705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9321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 (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7" name=""/>
          <p:cNvSpPr txBox="1"/>
          <p:nvPr/>
        </p:nvSpPr>
        <p:spPr>
          <a:xfrm>
            <a:off x="1904760" y="1510920"/>
            <a:ext cx="9219960" cy="17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обходимо проводить сверку числа </a:t>
            </a:r>
            <a:r>
              <a:rPr b="1" lang="ru-RU" sz="24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«умерших в первые 24 часа после поступления в стационар»: «детей (0-17 лет вкл.)» </a:t>
            </a: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и пациентов </a:t>
            </a:r>
            <a:r>
              <a:rPr b="1" lang="ru-RU" sz="24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«в возрасте от 18 до 65 лет»</a:t>
            </a:r>
            <a:r>
              <a:rPr b="0" lang="ru-RU" sz="24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с таблицей </a:t>
            </a:r>
            <a:r>
              <a:rPr b="1" lang="ru-RU" sz="24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2000, гр. «умерло»</a:t>
            </a:r>
            <a:r>
              <a:rPr b="0" lang="ru-RU" sz="24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888" name="Прямоугольник 3"/>
          <p:cNvGrpSpPr/>
          <p:nvPr/>
        </p:nvGrpSpPr>
        <p:grpSpPr>
          <a:xfrm>
            <a:off x="1689120" y="3224160"/>
            <a:ext cx="9569520" cy="2347920"/>
            <a:chOff x="1689120" y="3224160"/>
            <a:chExt cx="9569520" cy="2347920"/>
          </a:xfrm>
        </p:grpSpPr>
        <p:pic>
          <p:nvPicPr>
            <p:cNvPr id="1889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689120" y="3224160"/>
              <a:ext cx="95695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0" name=""/>
            <p:cNvSpPr/>
            <p:nvPr/>
          </p:nvSpPr>
          <p:spPr>
            <a:xfrm>
              <a:off x="1905120" y="3378240"/>
              <a:ext cx="92199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2500)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общего числа умерших (стр.1) умерло в первые 24 часа после поступления в стационар: </a:t>
              </a:r>
              <a:r>
                <a:rPr b="0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детей в возрасте 0-17 лет включительно </a:t>
              </a: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1 _________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ациентов </a:t>
              </a:r>
              <a:r>
                <a:rPr b="0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 возрасте от 18 до 65 лет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2 _______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них пациентов с острыми цереброваскулярными болезнями  (стр. 10.7.1-10.7.4)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_________ .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891" name="Line 9"/>
          <p:cNvSpPr/>
          <p:nvPr/>
        </p:nvSpPr>
        <p:spPr>
          <a:xfrm>
            <a:off x="2387520" y="2717640"/>
            <a:ext cx="622440" cy="2121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2" name="Line 9"/>
          <p:cNvSpPr/>
          <p:nvPr/>
        </p:nvSpPr>
        <p:spPr>
          <a:xfrm>
            <a:off x="3098880" y="2717640"/>
            <a:ext cx="1498680" cy="176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1714680" y="558360"/>
            <a:ext cx="952488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 (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4" name=""/>
          <p:cNvSpPr txBox="1"/>
          <p:nvPr/>
        </p:nvSpPr>
        <p:spPr>
          <a:xfrm>
            <a:off x="1714680" y="1371240"/>
            <a:ext cx="9423360" cy="25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24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умерших</a:t>
            </a: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пациентов </a:t>
            </a:r>
            <a:r>
              <a:rPr b="1" lang="ru-RU" sz="24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в таб. 2000</a:t>
            </a:r>
            <a:r>
              <a:rPr b="0" lang="ru-RU" sz="24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с острыми цереброваскулярными болезнями  (стр. 10.7.1-10.7.4)  </a:t>
            </a: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 должно быть меньше числа </a:t>
            </a:r>
            <a:r>
              <a:rPr b="1" lang="ru-RU" sz="24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умерших</a:t>
            </a: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пациентов </a:t>
            </a:r>
            <a:r>
              <a:rPr b="1" lang="ru-RU" sz="24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в первые 24 часа после поступления в стационар в возрасте от 18 до 65 лет с острыми цереброваскулярными болезнями (стр. 10.7.1-10.7.4), указанных в  таб. 2500, гр.3</a:t>
            </a:r>
            <a:r>
              <a:rPr b="0" lang="ru-RU" sz="24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895" name="Скругленный прямоугольник 4"/>
          <p:cNvGrpSpPr/>
          <p:nvPr/>
        </p:nvGrpSpPr>
        <p:grpSpPr>
          <a:xfrm>
            <a:off x="2090880" y="3584520"/>
            <a:ext cx="8796240" cy="2760840"/>
            <a:chOff x="2090880" y="3584520"/>
            <a:chExt cx="8796240" cy="2760840"/>
          </a:xfrm>
        </p:grpSpPr>
        <p:pic>
          <p:nvPicPr>
            <p:cNvPr id="1896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090880" y="3584520"/>
              <a:ext cx="8796240" cy="276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7" name=""/>
            <p:cNvSpPr/>
            <p:nvPr/>
          </p:nvSpPr>
          <p:spPr>
            <a:xfrm>
              <a:off x="2332080" y="3813120"/>
              <a:ext cx="8289720" cy="22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rbel"/>
                </a:rPr>
                <a:t>(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00)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общего числа умерших (стр.1) умерло в первые 24 часа после поступления в стационар: детей в возрасте 0-17 лет включительно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_________, </a:t>
              </a:r>
              <a:r>
                <a:rPr b="0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ациентов в возрасте от 18 до 65 лет </a:t>
              </a: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2 _______ , </a:t>
              </a:r>
              <a:r>
                <a:rPr b="0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из них пациентов с острыми цереброваскулярными болезнями  (стр. 10.7.1-10.7.4) 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3 _________ .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cxnSp>
        <p:nvCxnSpPr>
          <p:cNvPr id="1898" name="Прямая со стрелкой 5"/>
          <p:cNvCxnSpPr/>
          <p:nvPr/>
        </p:nvCxnSpPr>
        <p:spPr>
          <a:xfrm>
            <a:off x="2743200" y="3378240"/>
            <a:ext cx="813600" cy="256608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"/>
          <p:cNvSpPr txBox="1"/>
          <p:nvPr/>
        </p:nvSpPr>
        <p:spPr>
          <a:xfrm>
            <a:off x="1879200" y="1166760"/>
            <a:ext cx="9347400" cy="45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ставлении Формы для отнесения заболеваний к той или иной нозологической форме или классу заболеваний, следует руководствоваться заключительным клиническим диагнозом, а в случае смерти – первоначальной причиной смерт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включаются только те заболевания, которые выставлены в качестве «основного заболевания». Если состояния, указанные в строках 10.6.5, 10.6.6 и 10.6.7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рдно-желудочковая (атриовентрикулярная) блока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чковая тахикардия, фибрилляция и трепетание предсерди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ются осложнением «основного заболевания», они в Форму не включаютс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1765440" y="291960"/>
            <a:ext cx="96012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 (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0" name=""/>
          <p:cNvSpPr txBox="1"/>
          <p:nvPr/>
        </p:nvSpPr>
        <p:spPr>
          <a:xfrm>
            <a:off x="1765080" y="1181160"/>
            <a:ext cx="9093240" cy="35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82680" indent="-38268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Сумма числа </a:t>
            </a:r>
            <a:r>
              <a:rPr b="1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умерших взрослых в возрасте до 65 лет от инфаркта миокарда</a:t>
            </a: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(стр. 10.4.2 +10.4.3)  в первые 24 часа после поступления в стационар (таб. 2300, гр. 6) и </a:t>
            </a:r>
            <a:r>
              <a:rPr b="1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пациентов с острыми ЦВБ</a:t>
            </a: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(из табл. 2000 стр. 10.7.1-10.7.4) также умерших в первые 24 часа после поступления в стационар в возрасте от 18 до 65 лет</a:t>
            </a:r>
            <a:r>
              <a:rPr b="0" lang="ru-RU" sz="2400" spc="-1" strike="noStrike">
                <a:solidFill>
                  <a:srgbClr val="191b0e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(таб. 2500, гр.3), </a:t>
            </a:r>
            <a:r>
              <a:rPr b="1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 должно быть больше</a:t>
            </a: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исла умерших в первые 24 часа после поступления в стационар в возрасте от 18 до 65 лет</a:t>
            </a: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, указанного в таб. 2500, гр. 2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1" name="Стрелка вниз 3"/>
          <p:cNvSpPr/>
          <p:nvPr/>
        </p:nvSpPr>
        <p:spPr>
          <a:xfrm>
            <a:off x="5446800" y="4444920"/>
            <a:ext cx="1728720" cy="165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8c8c8"/>
          </a:solidFill>
          <a:ln w="34920">
            <a:solidFill>
              <a:srgbClr val="656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1484280" y="343080"/>
            <a:ext cx="10018800" cy="72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аб. 2300, гр. 7 + таб. 2500, гр.3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&lt;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ли =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аб. 2500, гр. 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903" name="Скругленный прямоугольник 3"/>
          <p:cNvGrpSpPr/>
          <p:nvPr/>
        </p:nvGrpSpPr>
        <p:grpSpPr>
          <a:xfrm>
            <a:off x="1359000" y="957240"/>
            <a:ext cx="10064520" cy="3895920"/>
            <a:chOff x="1359000" y="957240"/>
            <a:chExt cx="10064520" cy="3895920"/>
          </a:xfrm>
        </p:grpSpPr>
        <p:pic>
          <p:nvPicPr>
            <p:cNvPr id="1904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359000" y="957240"/>
              <a:ext cx="10064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5" name=""/>
            <p:cNvSpPr/>
            <p:nvPr/>
          </p:nvSpPr>
          <p:spPr>
            <a:xfrm>
              <a:off x="1660680" y="1243080"/>
              <a:ext cx="9462960" cy="32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300)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оступило пациентов с инфарктом миокарда в стационар в первые сутки от начала заболевания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_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 в первые 12 часов 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_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них в первые 2 часа 3 ________из них проведена тромболитическая терапия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ентирование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 _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омболтитическая терапия с последующим стентированием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________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общего числа умерших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мерло пациентов с инфарктом миокарда (стр. 10.4.2+10.4.3) в первые 24 часа после поступления в стационар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______ ,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 том числе в возрасте до 65 лет</a:t>
              </a:r>
              <a:r>
                <a:rPr b="1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8_______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числа умерших в первые в 24 часа поступления в стационар пациентов с инфарктом миокарда проведена тромболитическая терапия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 __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ентирование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 ________ </a:t>
              </a:r>
              <a:r>
                <a:rPr b="1" lang="ru-RU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1906" name="Скругленный прямоугольник 4"/>
          <p:cNvGrpSpPr/>
          <p:nvPr/>
        </p:nvGrpSpPr>
        <p:grpSpPr>
          <a:xfrm>
            <a:off x="2530440" y="4834080"/>
            <a:ext cx="8893080" cy="2206440"/>
            <a:chOff x="2530440" y="4834080"/>
            <a:chExt cx="8893080" cy="2206440"/>
          </a:xfrm>
        </p:grpSpPr>
        <p:pic>
          <p:nvPicPr>
            <p:cNvPr id="1907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530440" y="4834080"/>
              <a:ext cx="8893080" cy="22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8" name=""/>
            <p:cNvSpPr/>
            <p:nvPr/>
          </p:nvSpPr>
          <p:spPr>
            <a:xfrm>
              <a:off x="2747880" y="5035680"/>
              <a:ext cx="845820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00)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общего числа умерших (стр.1)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мерло в первые 24 часа после поступления в стационар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детей в возрасте 0-17 лет включительно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_________, </a:t>
              </a:r>
              <a:r>
                <a:rPr b="1" lang="ru-RU" sz="2200" spc="-1" strike="noStrike">
                  <a:solidFill>
                    <a:srgbClr val="003300"/>
                  </a:solidFill>
                  <a:latin typeface="Times New Roman"/>
                  <a:ea typeface="Times New Roman"/>
                </a:rPr>
                <a:t>пациентов в возрасте от 18 до 65 лет 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00"/>
                  </a:solidFill>
                  <a:latin typeface="Times New Roman"/>
                  <a:ea typeface="Times New Roman"/>
                </a:rPr>
                <a:t>2 _______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них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ациентов с острыми цереброваскулярными болезнями  (стр. 10.7.1-10.7.4) </a:t>
              </a:r>
              <a:r>
                <a:rPr b="1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3 _________ .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909" name="Line 9"/>
          <p:cNvSpPr/>
          <p:nvPr/>
        </p:nvSpPr>
        <p:spPr>
          <a:xfrm>
            <a:off x="4178160" y="879480"/>
            <a:ext cx="4737240" cy="2371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0" name="Line 9"/>
          <p:cNvSpPr/>
          <p:nvPr/>
        </p:nvSpPr>
        <p:spPr>
          <a:xfrm>
            <a:off x="6391440" y="879480"/>
            <a:ext cx="644400" cy="572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1" name="Line 9"/>
          <p:cNvSpPr/>
          <p:nvPr/>
        </p:nvSpPr>
        <p:spPr>
          <a:xfrm>
            <a:off x="8915400" y="879480"/>
            <a:ext cx="1015920" cy="4873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994040" y="418680"/>
            <a:ext cx="9169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 (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3" name=""/>
          <p:cNvSpPr txBox="1"/>
          <p:nvPr/>
        </p:nvSpPr>
        <p:spPr>
          <a:xfrm>
            <a:off x="1841400" y="1180800"/>
            <a:ext cx="93218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операций, указанных в таб.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00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лжно превышать число операций в таб.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, гр.3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видам (на органе зрения, на ухе, на желудке)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914" name=""/>
          <p:cNvGraphicFramePr/>
          <p:nvPr/>
        </p:nvGraphicFramePr>
        <p:xfrm>
          <a:off x="2374920" y="2863800"/>
          <a:ext cx="8253360" cy="3686400"/>
        </p:xfrm>
        <a:graphic>
          <a:graphicData uri="http://schemas.openxmlformats.org/drawingml/2006/table">
            <a:tbl>
              <a:tblPr/>
              <a:tblGrid>
                <a:gridCol w="5295960"/>
                <a:gridCol w="990360"/>
                <a:gridCol w="863640"/>
                <a:gridCol w="11034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у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органе зрения (из стр. 4 табл. 4000)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……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хе (стр.5.1 табл. 4000) - слухоулучшающ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кохлеарная имплант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желудке по поводу язвенной болезни (стр.9.1 табл..4000) – органосохраняющ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5" name="Прямоугольник 4"/>
          <p:cNvSpPr/>
          <p:nvPr/>
        </p:nvSpPr>
        <p:spPr>
          <a:xfrm>
            <a:off x="2227680" y="2343240"/>
            <a:ext cx="63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Таблица 4200 «Из общего числа операций  (единиц)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1916" name="Прямая со стрелкой 5"/>
          <p:cNvCxnSpPr/>
          <p:nvPr/>
        </p:nvCxnSpPr>
        <p:spPr>
          <a:xfrm flipH="1">
            <a:off x="7124040" y="1821960"/>
            <a:ext cx="1662840" cy="140436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7" name=""/>
          <p:cNvGraphicFramePr/>
          <p:nvPr/>
        </p:nvGraphicFramePr>
        <p:xfrm>
          <a:off x="2238480" y="1089000"/>
          <a:ext cx="8173800" cy="335160"/>
        </p:xfrm>
        <a:graphic>
          <a:graphicData uri="http://schemas.openxmlformats.org/drawingml/2006/table">
            <a:tbl>
              <a:tblPr/>
              <a:tblGrid>
                <a:gridCol w="4232160"/>
                <a:gridCol w="574560"/>
                <a:gridCol w="3367080"/>
              </a:tblGrid>
              <a:tr h="33516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Форма  №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5760" marR="95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Форма  № 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8" name=""/>
          <p:cNvGraphicFramePr/>
          <p:nvPr/>
        </p:nvGraphicFramePr>
        <p:xfrm>
          <a:off x="2203560" y="1832040"/>
          <a:ext cx="8208720" cy="2365200"/>
        </p:xfrm>
        <a:graphic>
          <a:graphicData uri="http://schemas.openxmlformats.org/drawingml/2006/table">
            <a:tbl>
              <a:tblPr/>
              <a:tblGrid>
                <a:gridCol w="4295520"/>
                <a:gridCol w="538200"/>
                <a:gridCol w="337500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Всего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2000 «Взрослые» стр.1, гр. 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 т. 2000 «Дети от 0-17 лет»  стр. 1, гр. 29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5503 гр. 3, стр. 1.1 - гр. 9, стр. 1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Взрослые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2000 «Взрослые» стр.1, гр. 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5503 гр. 3, (стр. 1.1 - стр.1.1.1)  - гр. 9, (стр. 1.1 – стр. 1.1.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Дети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2000  стр. 1, гр. 2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5503 гр. 3, стр.1.1.1  - гр. 9,  стр. 1.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Старше трудоспособ.: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2000 стр. 1, гр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5503 гр. 3, стр.1.1.3 - гр. 9,  стр. 1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9" name="Прямоугольник 3"/>
          <p:cNvSpPr/>
          <p:nvPr/>
        </p:nvSpPr>
        <p:spPr>
          <a:xfrm>
            <a:off x="3095640" y="25884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ЖФОРМЕННЫЙ КОНТРОЛЬ (продолжение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0" name="Rectangle 37"/>
          <p:cNvSpPr/>
          <p:nvPr/>
        </p:nvSpPr>
        <p:spPr>
          <a:xfrm>
            <a:off x="2695680" y="4197240"/>
            <a:ext cx="7140600" cy="916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количеству умерших новорожденных в первые 168 часов жизни в стационаре и вскрытиям новорожденных умерших в первые 0-6 суток жизн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921" name=""/>
          <p:cNvGraphicFramePr/>
          <p:nvPr/>
        </p:nvGraphicFramePr>
        <p:xfrm>
          <a:off x="2203560" y="5113440"/>
          <a:ext cx="8208720" cy="1363680"/>
        </p:xfrm>
        <a:graphic>
          <a:graphicData uri="http://schemas.openxmlformats.org/drawingml/2006/table">
            <a:tbl>
              <a:tblPr/>
              <a:tblGrid>
                <a:gridCol w="4219560"/>
                <a:gridCol w="538200"/>
                <a:gridCol w="3450960"/>
              </a:tblGrid>
              <a:tr h="136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 2200 гр. 1 «умерло новорожденных в первые 168 ч. жизн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быть больше, так как не всегда дети вскрываются (например по религиозным взгляда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 5503 гр. 3,  стр.4  - гр. 9, стр.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скрыто новорожденных умерших в 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ервые 0-6 суток (168 ч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2" name="Rectangle 50"/>
          <p:cNvSpPr/>
          <p:nvPr/>
        </p:nvSpPr>
        <p:spPr>
          <a:xfrm>
            <a:off x="2695680" y="1442880"/>
            <a:ext cx="714060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патологоанатомическим вскрытия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Rectangle 2"/>
          <p:cNvSpPr/>
          <p:nvPr/>
        </p:nvSpPr>
        <p:spPr>
          <a:xfrm>
            <a:off x="2427120" y="490680"/>
            <a:ext cx="82296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ЖФОРМЕННЫЙ КОНТРОЛЬ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924" name=""/>
          <p:cNvGraphicFramePr/>
          <p:nvPr/>
        </p:nvGraphicFramePr>
        <p:xfrm>
          <a:off x="2279520" y="1235160"/>
          <a:ext cx="8367840" cy="365040"/>
        </p:xfrm>
        <a:graphic>
          <a:graphicData uri="http://schemas.openxmlformats.org/drawingml/2006/table">
            <a:tbl>
              <a:tblPr/>
              <a:tblGrid>
                <a:gridCol w="3486240"/>
                <a:gridCol w="620640"/>
                <a:gridCol w="426096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Форма  № 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Форма  № 3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5" name="Rectangle 23"/>
          <p:cNvSpPr/>
          <p:nvPr/>
        </p:nvSpPr>
        <p:spPr>
          <a:xfrm>
            <a:off x="2351160" y="1700280"/>
            <a:ext cx="8367480" cy="703800"/>
          </a:xfrm>
          <a:prstGeom prst="rect">
            <a:avLst/>
          </a:prstGeom>
          <a:solidFill>
            <a:srgbClr val="ad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количеству умерших новорожденных в первые 168 часов жизни в стационар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926" name=""/>
          <p:cNvGraphicFramePr/>
          <p:nvPr/>
        </p:nvGraphicFramePr>
        <p:xfrm>
          <a:off x="2279520" y="2508120"/>
          <a:ext cx="8439120" cy="2957760"/>
        </p:xfrm>
        <a:graphic>
          <a:graphicData uri="http://schemas.openxmlformats.org/drawingml/2006/table">
            <a:tbl>
              <a:tblPr/>
              <a:tblGrid>
                <a:gridCol w="3562560"/>
                <a:gridCol w="609480"/>
                <a:gridCol w="4267080"/>
              </a:tblGrid>
              <a:tr h="296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2200 гр. 1, (умерло  новорожденных в первые 168 часов жизн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2250 стр. 1, гр.6 «умерло новорожденных в возрасте 0-6 дней жизни» + т. 2260 стр. 1, гр.8 «умерло новорожденных в возрасте 0-6 дней жизн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учитываются только новорожденные, умершие  в родильных отделениях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7" name="Rectangle 43"/>
          <p:cNvSpPr/>
          <p:nvPr/>
        </p:nvSpPr>
        <p:spPr>
          <a:xfrm>
            <a:off x="2427120" y="566244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G Times"/>
                <a:ea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.к. умирают не только в учреждениях родовспоможения, но и в других учреждениях на детских койках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8" name="AutoShape 71"/>
          <p:cNvSpPr/>
          <p:nvPr/>
        </p:nvSpPr>
        <p:spPr>
          <a:xfrm>
            <a:off x="5938920" y="3816360"/>
            <a:ext cx="485640" cy="1087560"/>
          </a:xfrm>
          <a:prstGeom prst="downArrow">
            <a:avLst>
              <a:gd name="adj1" fmla="val 50000"/>
              <a:gd name="adj2" fmla="val 61450"/>
            </a:avLst>
          </a:prstGeom>
          <a:solidFill>
            <a:srgbClr val="8c8d8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Rectangle 2"/>
          <p:cNvSpPr/>
          <p:nvPr/>
        </p:nvSpPr>
        <p:spPr>
          <a:xfrm>
            <a:off x="213516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ЖФОРМЕННЫЙ КОНТРОЛЬ (продолжение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930" name=""/>
          <p:cNvGraphicFramePr/>
          <p:nvPr/>
        </p:nvGraphicFramePr>
        <p:xfrm>
          <a:off x="2006640" y="692280"/>
          <a:ext cx="8750160" cy="365040"/>
        </p:xfrm>
        <a:graphic>
          <a:graphicData uri="http://schemas.openxmlformats.org/drawingml/2006/table">
            <a:tbl>
              <a:tblPr/>
              <a:tblGrid>
                <a:gridCol w="4172040"/>
                <a:gridCol w="571320"/>
                <a:gridCol w="400680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Форма  № 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Форма  № 1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1" name="Rectangle 13"/>
          <p:cNvSpPr/>
          <p:nvPr/>
        </p:nvSpPr>
        <p:spPr>
          <a:xfrm>
            <a:off x="3648240" y="3284640"/>
            <a:ext cx="59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932" name=""/>
          <p:cNvGraphicFramePr/>
          <p:nvPr/>
        </p:nvGraphicFramePr>
        <p:xfrm>
          <a:off x="2006640" y="1511280"/>
          <a:ext cx="8750160" cy="3187800"/>
        </p:xfrm>
        <a:graphic>
          <a:graphicData uri="http://schemas.openxmlformats.org/drawingml/2006/table">
            <a:tbl>
              <a:tblPr/>
              <a:tblGrid>
                <a:gridCol w="4172040"/>
                <a:gridCol w="571320"/>
                <a:gridCol w="4006800"/>
              </a:tblGrid>
              <a:tr h="97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4000 стр. 14.6, гр. 3 (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0-O07)</a:t>
                      </a:r>
                      <a:r>
                        <a:rPr b="0" lang="ru-RU" sz="1800" spc="-1" strike="noStrike">
                          <a:solidFill>
                            <a:srgbClr val="77a2bb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1000 стр. 1, гр.4 (аборты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 12 нед.)+ т. 2000 стр. 1, гр.4 (аборты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т 12 нед. до 22 нед.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4000 стр. 14.6, «аборт» гр. 19 (умерло оперированных в стационаре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"/>
                        </a:rPr>
                        <a:t>&lt;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3000 гр.4, стр.1 (умерло от беременности с  абортивным исходо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4000 гр.11, стр.1 «Число операций, при которых наблюдались осложне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1105 +2105 «Осложнения, вызванные абор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3" name="Rectangle 36"/>
          <p:cNvSpPr/>
          <p:nvPr/>
        </p:nvSpPr>
        <p:spPr>
          <a:xfrm>
            <a:off x="2006640" y="4843440"/>
            <a:ext cx="87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проводится контроль по количеству выполненных акушерских операций в форме №14 т.4000 с вкладышем к форме №32. Должно быть равно (кесарево в зависимости от срока беременности)!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4" name="Rectangle 47"/>
          <p:cNvSpPr/>
          <p:nvPr/>
        </p:nvSpPr>
        <p:spPr>
          <a:xfrm>
            <a:off x="2006640" y="1052640"/>
            <a:ext cx="8750160" cy="368280"/>
          </a:xfrm>
          <a:prstGeom prst="rect">
            <a:avLst/>
          </a:prstGeom>
          <a:solidFill>
            <a:srgbClr val="ad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количеству выполненных абортов, осложнений и смертей вызванных аборто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Прямоугольник 1"/>
          <p:cNvSpPr/>
          <p:nvPr/>
        </p:nvSpPr>
        <p:spPr>
          <a:xfrm>
            <a:off x="1749600" y="1724040"/>
            <a:ext cx="9462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Некоторые аспекты кодирования по МКБ-10 основного заболевания и первоначальной причины смерти пациент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Прямоугольник 1"/>
          <p:cNvSpPr/>
          <p:nvPr/>
        </p:nvSpPr>
        <p:spPr>
          <a:xfrm>
            <a:off x="2014560" y="1109520"/>
            <a:ext cx="909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Основная ошибка </a:t>
            </a:r>
            <a:r>
              <a:rPr b="1" lang="ru-RU" sz="2400" spc="-1" strike="noStrike">
                <a:solidFill>
                  <a:srgbClr val="0c0472"/>
                </a:solidFill>
                <a:latin typeface="Arial"/>
                <a:ea typeface="Times New Roman"/>
              </a:rPr>
              <a:t>при кодировании летальных исходов – в качестве первоначальной причины смерти используют непосредственную причину смер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7" name="Прямоугольник 2"/>
          <p:cNvSpPr/>
          <p:nvPr/>
        </p:nvSpPr>
        <p:spPr>
          <a:xfrm>
            <a:off x="2014560" y="2701800"/>
            <a:ext cx="90201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Первоначальной причиной смерти</a:t>
            </a:r>
            <a:r>
              <a:rPr b="1" lang="ru-RU" sz="2400" spc="-1" strike="noStrike">
                <a:solidFill>
                  <a:srgbClr val="376092"/>
                </a:solidFill>
                <a:latin typeface="Arial"/>
                <a:ea typeface="Times New Roman"/>
              </a:rPr>
              <a:t> являются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Arial"/>
                <a:ea typeface="Times New Roman"/>
              </a:rPr>
              <a:t>болезнь или травма, вызвавшая цепь событий, непосредственно приведших к смер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Arial"/>
                <a:ea typeface="Times New Roman"/>
              </a:rPr>
              <a:t>обстоятельства несчастного случая или акта насилия, которые вызвали смертельную травм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Заголовок 1"/>
          <p:cNvSpPr/>
          <p:nvPr/>
        </p:nvSpPr>
        <p:spPr>
          <a:xfrm>
            <a:off x="1778040" y="257040"/>
            <a:ext cx="10018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51a42"/>
                </a:solidFill>
                <a:latin typeface="Times New Roman"/>
                <a:ea typeface="Times New Roman"/>
              </a:rPr>
              <a:t>ОСОБЕННОСТИ КОДИРОВАНИЯ ПРИЧИН СМЕР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9" name="Объект 2"/>
          <p:cNvSpPr/>
          <p:nvPr/>
        </p:nvSpPr>
        <p:spPr>
          <a:xfrm>
            <a:off x="1671480" y="1055520"/>
            <a:ext cx="100188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псис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является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ложнением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обширных гнойных процессов (одонтогенных, остеогенных, отогенных, тонзиллогенных, риногенных, генитальных, урогенных, раневых и т.д.) и не может быть первоначальной причиной смерти в стационаре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дких случа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гда причину сепсиса установить не удается, он носит назва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птогенно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одируется как самостоятельная нозологическая форма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еобходимо обратить внимание на такое нарушение, когда в акушерско-гинекологической практике сепсис регистрируется не как осложнение аборта, беременности, родов и послеродового периода, а как криптогенное заболевание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Заголовок 1"/>
          <p:cNvSpPr/>
          <p:nvPr/>
        </p:nvSpPr>
        <p:spPr>
          <a:xfrm>
            <a:off x="1484280" y="222120"/>
            <a:ext cx="1001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51a42"/>
                </a:solidFill>
                <a:latin typeface="Times New Roman"/>
                <a:ea typeface="Times New Roman"/>
              </a:rPr>
              <a:t>ОСОБЕННОСТИ КОДИРОВАНИЯ ПРИЧИН СМЕР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1" name="Объект 2"/>
          <p:cNvSpPr/>
          <p:nvPr/>
        </p:nvSpPr>
        <p:spPr>
          <a:xfrm>
            <a:off x="1589040" y="1106640"/>
            <a:ext cx="1024416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еские расстройства и расстройства поведения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01-F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рока 6.0) – данные рубрики не используются для кодирования причины смерти, если известно первоначальное соматическое состояни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рика F01(сосудистая деменция)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огда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т применяться в качестве                      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начальной причины при упоминании о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енерализованном и неуточненном атеросклерозе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70.1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м атеросклерозе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67.2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c5a82"/>
                </a:solidFill>
                <a:latin typeface="Times New Roman"/>
                <a:ea typeface="Times New Roman"/>
              </a:rPr>
              <a:t>ИСТОЧНИКОМ ИНФОРМАЦИИ ПРИ СОСТАВЛЕНИИ ФОРМЫ ЯВЛЯЮТСЯ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8" name=""/>
          <p:cNvSpPr txBox="1"/>
          <p:nvPr/>
        </p:nvSpPr>
        <p:spPr>
          <a:xfrm>
            <a:off x="1484280" y="1701360"/>
            <a:ext cx="10018800" cy="44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SzPct val="145000"/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форма №066/у-02 «Статистическая карта выбывшего из стационара»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SzPct val="145000"/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форма №016/у-02 «Ведомость учета движения пациентов и коечного фонда стационара»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SzPct val="145000"/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форма №001 «Журнал учета приема больных и отказов в госпитализации»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06/у «Медицинское свидетельство о смерти» и форма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6-2/у «Медицинское свидетельство о перинатальной смерти»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З РФ от 15.04.2021 №352н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Прямоугольник 1"/>
          <p:cNvSpPr/>
          <p:nvPr/>
        </p:nvSpPr>
        <p:spPr>
          <a:xfrm>
            <a:off x="3540240" y="331920"/>
            <a:ext cx="67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ОЧЕЧНАЯ НЕДОСТАТОЧНО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3" name="Прямоугольник 2"/>
          <p:cNvSpPr/>
          <p:nvPr/>
        </p:nvSpPr>
        <p:spPr>
          <a:xfrm>
            <a:off x="2157480" y="793800"/>
            <a:ext cx="960120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ИЧИНЫ ХРОНИЧЕСКОЙ ПОЧЕЧНОЙ НЕДОСТАТОЧНОС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Хр. гломерулонефрит (поражение клубочкового аппарата почек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Вторичные поражения почек, вызванные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ахарным диабетом 1 и 2 типа;</a:t>
            </a:r>
            <a:br>
              <a:rPr sz="2400"/>
            </a:b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 артериальной гипертензией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стемными заболеваниями соединительной ткан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русным гепатитом «В» и/или «С»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стемными васкулитам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агрой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лярие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локачественными новообразованиям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Хронический пиелонефри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Мочекаменная болезнь, обструкция мочевыводящих пут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Аномалии развития мочевыделительной систем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Поликистоз поче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Действие токсических веществ и лекарст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1484280" y="221760"/>
            <a:ext cx="1001880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емии, ожир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5" name=""/>
          <p:cNvSpPr txBox="1"/>
          <p:nvPr/>
        </p:nvSpPr>
        <p:spPr>
          <a:xfrm>
            <a:off x="1652400" y="1127160"/>
            <a:ext cx="10018440" cy="494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емия не может быть первоначальной причиной летального исхода и рассматривается осложнением при наличи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Хронических болезней, классифицированных в других рубриках (сопровождающихся развитием вторичных анемий)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SzPct val="14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вообразовани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SzPct val="14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угих состояний, которые могут привести к анем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жирение (Е66, строка 5.11) – не используется для кодирования причины смерти, допускается использовать рубрику Е68 – последствия избыточности пит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Заголовок 1"/>
          <p:cNvSpPr/>
          <p:nvPr/>
        </p:nvSpPr>
        <p:spPr>
          <a:xfrm>
            <a:off x="1484280" y="406440"/>
            <a:ext cx="10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БХОДИМО ПРЕДОСТАВИТЬ ПОДТВЕРЖДЕНИЯ НА СЛЕДУЮЩИЕ СЛУЧАИ СМЕРТИ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7" name="Объект 2"/>
          <p:cNvSpPr/>
          <p:nvPr/>
        </p:nvSpPr>
        <p:spPr>
          <a:xfrm>
            <a:off x="1484280" y="1312920"/>
            <a:ext cx="1042056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271440" indent="-2714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псис (А40-41, строка 2.4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и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50-D6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рока 4.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ые нарушения, вовлекающие иммунный механизм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80-D89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рока 4.3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рение (Е66, строка 5.1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еские расстройства и расстройства поведения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01-F99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рока 6.0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е респираторные  инфекции верхних дыхательных путей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00-J0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рок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ит и дуоденит (К29, строка 12.2) – для взрослых 18 лет и старш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ые поражения соединительной ткани (М30-М35, строка 14.2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и кожи и подкожной клетчатки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00-L98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случаи смерти женщин (от внематочной беременности, аборта, беременных, рожениц и родильниц) (О00-О99, строка 16.0)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 algn="just">
              <a:lnSpc>
                <a:spcPct val="80000"/>
              </a:lnSpc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 algn="just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 algn="just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 algn="just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Каждый случай летального исхода при этих состояниях должен быть подтвержден  копией протокола патолого-анатомического исследования при сдаче годового отчета с указанием кода МКБ о первоначальной причине смерт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ротоколы необходимо прислать по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VipNet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на адрес 42(Кем) КОМИАЦ СТА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 algn="just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Прямоугольник 2"/>
          <p:cNvSpPr/>
          <p:nvPr/>
        </p:nvSpPr>
        <p:spPr>
          <a:xfrm>
            <a:off x="1992240" y="182520"/>
            <a:ext cx="936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 ишемических болезней сердца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Times New Roman"/>
                <a:ea typeface="Times New Roman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Times New Roman"/>
                <a:ea typeface="Times New Roman"/>
              </a:rPr>
              <a:t>от 26 апреля 2011 г.)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9" name="Прямоугольник 4"/>
          <p:cNvSpPr/>
          <p:nvPr/>
        </p:nvSpPr>
        <p:spPr>
          <a:xfrm>
            <a:off x="1770120" y="1593720"/>
            <a:ext cx="9906120" cy="47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смерти от острого или повторного инфаркта миокарда следует помнить, что не все случаи инфарктов миокарда кодируются  I21-I22: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четании острого или повторного инфаркта миокарда со злокачественным новообразованием, сахарным диабетом или бронхиальной астмой первоначальной причиной смерти считают эти заболевания, а инфаркты миокарда – их осложнениями (МКБ-10, т. 2, стр. 75), данные сочетания должны быть правильно отражены в заключительном посмертном диагнозе, промежуток времени сохраняется – не позднее 28 дней от начала возникновения инфаркта или в пределах эпизода оказания медицинской помощи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тальных случаях первоначальной причиной смерти следует считать острый или повторный инфаркт миокарда (коды I21-I22) в промежуток времени до 28 дней или в пределах эпизода оказания медицинской помощи (даже, если эпизод закончился позже 28 дней)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иагноз инфаркта миокарда был установлен после 28 дней от  его возникновения, первоначальной причиной смерти следует считать постинфарктный кардиосклероз, код I25.8 (МКБ-10, т. 1, ч. 1, стр. 492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Прямоугольник 2"/>
          <p:cNvSpPr/>
          <p:nvPr/>
        </p:nvSpPr>
        <p:spPr>
          <a:xfrm>
            <a:off x="2430360" y="287280"/>
            <a:ext cx="7932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 ишемических болезней сердца (продолжение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Times New Roman"/>
                <a:ea typeface="Times New Roman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от 26 апреля 2011 г.)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1" name="Прямоугольник 4"/>
          <p:cNvSpPr/>
          <p:nvPr/>
        </p:nvSpPr>
        <p:spPr>
          <a:xfrm>
            <a:off x="1981080" y="1911240"/>
            <a:ext cx="957744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I25.2 в качестве первоначальной причины смерти не применяется, данное состояние обозначает инфаркт миокарда, перенесенный в прошлом и диагностированный по ЭКГ, в текущий период – бессимптомный. При наличии в первичной медицинской документации записи о перенесенном в прошлом инфаркте миокарда как единичном состоянии и отсутствии диагнозов других заболеваний, первоначальной причиной смерти следует считать постинфарктный кардиосклероз, код I25.8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ы I23 и I24.0 в качестве первоначальной причины смерти также не применяются, необходимо использовать коды I21-I22 (МКБ-10, т. 2, стр. 61)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смерти больного, поступившего с диагнозом Стенокардия (Нестабильная стенокардия) используется код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25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Хроническая ишемическая болезнь сердца - строка 10.4.5, графа 8 (17)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четании инфаркта миокарда (острого или повторного) с болезнями, характеризующимися повышенным кровяным давлением, приоритет при выборе первоначальной причины смерти всегда отдается инфаркту миокарда (МКБ-10, т. 2, стр. 59-61)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Схема 1" descr=""/>
          <p:cNvPicPr/>
          <p:nvPr/>
        </p:nvPicPr>
        <p:blipFill>
          <a:blip r:embed="rId1"/>
          <a:stretch/>
        </p:blipFill>
        <p:spPr>
          <a:xfrm>
            <a:off x="2017800" y="353880"/>
            <a:ext cx="9289800" cy="6070680"/>
          </a:xfrm>
          <a:prstGeom prst="rect">
            <a:avLst/>
          </a:prstGeom>
          <a:ln w="0">
            <a:noFill/>
          </a:ln>
        </p:spPr>
      </p:pic>
      <p:pic>
        <p:nvPicPr>
          <p:cNvPr id="1953" name="Рисунок 2" descr=""/>
          <p:cNvPicPr/>
          <p:nvPr/>
        </p:nvPicPr>
        <p:blipFill>
          <a:blip r:embed="rId2"/>
          <a:stretch/>
        </p:blipFill>
        <p:spPr>
          <a:xfrm>
            <a:off x="8772480" y="3081240"/>
            <a:ext cx="114624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Прямоугольник 2"/>
          <p:cNvSpPr/>
          <p:nvPr/>
        </p:nvSpPr>
        <p:spPr>
          <a:xfrm>
            <a:off x="2513160" y="299880"/>
            <a:ext cx="80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 цереброваскулярных болезне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Times New Roman"/>
                <a:ea typeface="Times New Roman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от 26 апреля 2011 г.)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5" name="Прямоугольник 4"/>
          <p:cNvSpPr/>
          <p:nvPr/>
        </p:nvSpPr>
        <p:spPr>
          <a:xfrm>
            <a:off x="1735200" y="1946160"/>
            <a:ext cx="9858240" cy="39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 острые формы цереброваскулярных болезней продолжительностью до 30 дней (приказ  Минздравсоцразвития России от 01.08.2007 № 513) – рубрики I60-I66; хронические формы, классифицированы в рубрике I67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 цереброваскулярных болезней (рубрика I69) используются только для регистрации летальных исходов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 цереброваскулярных болезней существуют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течение года и более с момента возникновения острой формы заболевания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ют в себя различные состояния, классифицированные в других рубриках (МКБ-10, т. 1, ч. 1, стр. 512)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заболеваемости не следует использовать рубрику последствий (I69), а необходимо указывать конкретные состояния, которые явились следствием острых форм цереброваскулярных болезней, например, энцефалопатия, паралич и т.д. (МКБ-10, т. 2, стр.115-116). При этом минимальный промежуток времени не установлен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Прямоугольник 2"/>
          <p:cNvSpPr/>
          <p:nvPr/>
        </p:nvSpPr>
        <p:spPr>
          <a:xfrm>
            <a:off x="1922400" y="299880"/>
            <a:ext cx="92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 цереброваскулярных болезне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Times New Roman"/>
                <a:ea typeface="Times New Roman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от 26 апреля 2011 г.) </a:t>
            </a:r>
            <a:r>
              <a:rPr b="1" lang="ru-RU" sz="1400" spc="-1" strike="noStrike">
                <a:solidFill>
                  <a:srgbClr val="6d2f3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7" name="Прямоугольник 4"/>
          <p:cNvSpPr/>
          <p:nvPr/>
        </p:nvSpPr>
        <p:spPr>
          <a:xfrm>
            <a:off x="1781280" y="1625760"/>
            <a:ext cx="9624960" cy="37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делах эпизода оказания медицинской помощи, если диагноз эпизода или госпитализации установлен до 30 дней от начала заболевания, то  регистрируют острые формы цереброваскулярных болезней, независимо от продолжительности эпизода или госпитализаци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, в пределах 30 дней закончилась первая госпитализация и началась вторая, то при второй госпитализации регистрируют  хроническую форму, классифицированную в рубрик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67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одно из состояний в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бриках конкретных неврологических расстройст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пизод начался позже 30 дней, то регистрируют  хронические формы, классифицированные в рубрик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67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состояни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рубриках конкретных неврологических расстройст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оследстви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оваскулярных болезней (рубрика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69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Прямоугольник 2"/>
          <p:cNvSpPr/>
          <p:nvPr/>
        </p:nvSpPr>
        <p:spPr>
          <a:xfrm>
            <a:off x="2805120" y="311040"/>
            <a:ext cx="73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 цереброваскулярных болезне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9" name="Прямоугольник 5"/>
          <p:cNvSpPr/>
          <p:nvPr/>
        </p:nvSpPr>
        <p:spPr>
          <a:xfrm>
            <a:off x="1687680" y="1160640"/>
            <a:ext cx="9835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смерти от острых форм цереброваскулярных болезней следует помнить, что не все эти случаи кодируются  I60-I64: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сочетании острых форм цереброваскулярных болезней со злокачественным новообразованием, сахарным диабетом или бронхиальной астмой первоначальной причиной смерти считают эти заболевания, а острые формы цереброваскулярных болезней – их осложнениями (МКБ-10, т. 2, стр. 75), данные сочетания должны быть правильно отражены в заключительном посмертном диагнозе, промежуток времени сохраняется – не позднее 30 дней от начала возникновения заболевания или в пределах эпизода оказания медицинской помощи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остальных случаях первоначальной причиной смерти следует считать острые формы цереброваскулярных болезней (коды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60-I6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 промежуток времени до 30 дней или в пределах эпизода оказания медицинской помощи (даже, если он закончился позже);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ли диагноз установлен после 30 дней от возникновения заболевания, первоначальной причиной смерти следует считать хронические формы, классифицированные в рубрик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67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последствия цереброваскулярных болезней (рубрика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69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ды I65 и I66 в качестве первоначальной причины смерти не применяются, необходимо использовать коды I63 (МКБ-10, т. 2, стр. 62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0" name="Схема 1" descr=""/>
          <p:cNvPicPr/>
          <p:nvPr/>
        </p:nvPicPr>
        <p:blipFill>
          <a:blip r:embed="rId1"/>
          <a:stretch/>
        </p:blipFill>
        <p:spPr>
          <a:xfrm>
            <a:off x="2146320" y="212760"/>
            <a:ext cx="93996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1617480" y="235080"/>
            <a:ext cx="9885240" cy="13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0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 ПАЦИЕНТОВ В СТАЦИОНАРЕ, СРОКИ И ИСХОДЫ ЛЕЧ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0" name=""/>
          <p:cNvSpPr txBox="1"/>
          <p:nvPr/>
        </p:nvSpPr>
        <p:spPr>
          <a:xfrm>
            <a:off x="1617480" y="1236240"/>
            <a:ext cx="10018440" cy="52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 включаются сведения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сех выписанных пациентах изо всех стационаров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оставленных по экстренным показаниям, в том числе СМП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роведенных койко-днях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мерших во всех стационарах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исле вскрытий (патологоанатомических и судебно-медицинских) и числе расхождений диагноз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данную таблицу не включаются сведения о переведенных пациентах на лечение в другие стационары !!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858680" y="231480"/>
            <a:ext cx="9783720" cy="83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 КОРОНАВИРУСНОЙ ИНФЕКЦИИ, ВЫЗВАННОЙ COVID-19</a:t>
            </a:r>
            <a:br>
              <a:rPr sz="1800"/>
            </a:br>
            <a:r>
              <a:rPr b="1" lang="ru-RU" sz="1800" spc="-1" strike="noStrike">
                <a:solidFill>
                  <a:srgbClr val="712018"/>
                </a:solidFill>
                <a:latin typeface="Times New Roman"/>
                <a:ea typeface="Times New Roman"/>
              </a:rPr>
              <a:t>(Методические рекомендации «Профилактика, диагностика и лечение новой коронавирусной инфекции (СО</a:t>
            </a:r>
            <a:r>
              <a:rPr b="1" lang="en-US" sz="1800" spc="-1" strike="noStrike">
                <a:solidFill>
                  <a:srgbClr val="712018"/>
                </a:solidFill>
                <a:latin typeface="Times New Roman"/>
                <a:ea typeface="Times New Roman"/>
              </a:rPr>
              <a:t>VID-19</a:t>
            </a:r>
            <a:r>
              <a:rPr b="1" lang="ru-RU" sz="1800" spc="-1" strike="noStrike">
                <a:solidFill>
                  <a:srgbClr val="712018"/>
                </a:solidFill>
                <a:latin typeface="Times New Roman"/>
                <a:ea typeface="Times New Roman"/>
              </a:rPr>
              <a:t>)», версия 13.1 (17.11.2021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1623960" y="1252080"/>
            <a:ext cx="10018800" cy="506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07.1 – Коронавирусная инфекция COVID-19, вирус идентифицирован (подтвержден лабораторным тестированием независимо от тяжести клинических признаков или симптомов)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07.2 – Коронавирусная инфекция COVID-19, вирус не идентифицирован (COVID-19 диагностируется клинически или эпидемиологически, но лабораторные исследования неубедительны или недоступны)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Z03.8 – Наблюдение при подозрении на коронавирусную инфекцию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Z22.8 – Носительство возбудителя коронавирусной инфекции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Z20.8 – Контакт с больным коронавирусной инфекцией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Z11.5 – Скрининговое обследование с целью выявления коронавирусной инфекции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34.2 – Коронавирусная инфекция неуточненная (кроме COVID-19)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33.8 – Коронавирусная инфекция уточненная (кроме COVID-19)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Z29.0 – Изоляция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08.9 – В личном анамнезе COVID-19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09.9 – Состояние после COVID-19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.9 – Мультисистемный воспалительный синдром, связанный с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VID-19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11.9 – Необходимость иммунизации против COVID-19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Z25.8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12.9 – Вакцина против COVID-19, вызвавшая неблагоприятную реакцию (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59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1882440" y="310680"/>
            <a:ext cx="962028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 КОРОНАВИРУСНОЙ ИНФЕКЦИИ, ВЫЗВАННОЙ COVID-19</a:t>
            </a:r>
            <a:br>
              <a:rPr sz="1800"/>
            </a:br>
            <a:r>
              <a:rPr b="1" lang="ru-RU" sz="1800" spc="-1" strike="noStrike">
                <a:solidFill>
                  <a:srgbClr val="712018"/>
                </a:solidFill>
                <a:latin typeface="Times New Roman"/>
                <a:ea typeface="Times New Roman"/>
              </a:rPr>
              <a:t>(Методические рекомендации «Профилактика, диагностика и лечение новой коронавирусной инфекции (СО</a:t>
            </a:r>
            <a:r>
              <a:rPr b="1" lang="en-US" sz="1800" spc="-1" strike="noStrike">
                <a:solidFill>
                  <a:srgbClr val="712018"/>
                </a:solidFill>
                <a:latin typeface="Times New Roman"/>
                <a:ea typeface="Times New Roman"/>
              </a:rPr>
              <a:t>VID-19</a:t>
            </a:r>
            <a:r>
              <a:rPr b="1" lang="ru-RU" sz="1800" spc="-1" strike="noStrike">
                <a:solidFill>
                  <a:srgbClr val="712018"/>
                </a:solidFill>
                <a:latin typeface="Times New Roman"/>
                <a:ea typeface="Times New Roman"/>
              </a:rPr>
              <a:t>)», версия 13.1 (17.11.2021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4" name=""/>
          <p:cNvSpPr txBox="1"/>
          <p:nvPr/>
        </p:nvSpPr>
        <p:spPr>
          <a:xfrm>
            <a:off x="1484280" y="1490760"/>
            <a:ext cx="10018800" cy="43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осложнениях вакцинации против COVID-19 используют двойное кодирование: основное состояние и его код из XIX класса МКБ-10, а формулировка и код внешней причины – из XXII класса (МКБ-10: U12.9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ое заболевание: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филактический шок, связанный с                                     введением вакцины против COVID-19, (код МКБ-10: T88.6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ешняя причина: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кцина против COVID-19, вызвавшая неблагоприятную реакцию (код МКБ-10: U12.9).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1778040" y="150480"/>
            <a:ext cx="1001880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чаи, связанные с COVID-19 в статистике смертности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(Методические рекомендации по кодированию и выбору основного состояния в статистике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болеваемости и первоначальной причины в статистике смертности, связанных с COVID-19 Версия 2 (02.07.202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6" name=""/>
          <p:cNvSpPr txBox="1"/>
          <p:nvPr/>
        </p:nvSpPr>
        <p:spPr>
          <a:xfrm>
            <a:off x="1484280" y="1712880"/>
            <a:ext cx="10018800" cy="42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оформлении медицинского свидетельства о смерти важно следовать рекомендациям ВОЗ и положениям МКБ-10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едицинских свидетельствах о смерти рекомендуется указывать логическую последовательность патологических процессов, приведших к смерти от COVID-19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случаи смерти, связанные с COVID-19, подразделяются на две группы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– случаи, когда COVID-19 выбирают в качестве первоначальной причины смерти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– случаи, когда COVID-19 выбирают в качестве прочего важного состояния, способствовавшего смерт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1724040" y="293400"/>
            <a:ext cx="100188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чаи, связанные с COVID-19 в статистике смертности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(Методические рекомендации по кодированию и выбору основного состояния в статистике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болеваемости и первоначальной причины в статистике смертности, связанных с COVID-19 Версия 2 (02.07.202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8" name=""/>
          <p:cNvSpPr txBox="1"/>
          <p:nvPr/>
        </p:nvSpPr>
        <p:spPr>
          <a:xfrm>
            <a:off x="1635120" y="1838160"/>
            <a:ext cx="10018800" cy="33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правилу МКБ-10 при сочетании COVID-19 и злокачественного новообразования, первоначальной причиной смерти выбирают COVID-19, а хроническое заболевание (рак) записывают в части II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ые хронические заболевания при сочетании с COVID-19 с осложнениями, выбираются в качестве прочих важных состояний, способствовавших смерти, и записываются в части II медицинского свидетельства о смерт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1714320" y="266400"/>
            <a:ext cx="1001844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чаи, когда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VID-19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ыбирают  в качестве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оначальной причины смерти (пример 1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0" name=""/>
          <p:cNvSpPr txBox="1"/>
          <p:nvPr/>
        </p:nvSpPr>
        <p:spPr>
          <a:xfrm>
            <a:off x="1495080" y="1060560"/>
            <a:ext cx="4924440" cy="441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ительный клинический диагноз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е заболевание: Коронавирусная инфекция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VID-19, вирус идентифицирован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07.1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ложнения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русная пневмония, вызванная SARS-CoV-2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рый респираторный дистресс синдром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ыхательная недостаточность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путствующие заболевания: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инфарктный кардиосклероз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стойная сердечная недостаточност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1" name="Прямоугольник 3"/>
          <p:cNvSpPr/>
          <p:nvPr/>
        </p:nvSpPr>
        <p:spPr>
          <a:xfrm>
            <a:off x="6462720" y="1820880"/>
            <a:ext cx="546264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Острый респираторный дистресс синдром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J 80.X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Вирусная пневмония, вызванная SARS-CoV2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J 12.8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) Коронавирусная инфекция COVID-19, вирус идентифицирован  U 07.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.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инфарктный кардиосклероз c застойной сердечной недостаточностью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25.8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2" name="Прямоугольник 4"/>
          <p:cNvSpPr/>
          <p:nvPr/>
        </p:nvSpPr>
        <p:spPr>
          <a:xfrm>
            <a:off x="6735960" y="1138320"/>
            <a:ext cx="45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ицинское свидетельство о смер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736640" y="221760"/>
            <a:ext cx="100188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чаи, когда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VID-19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ыбирают  в качестве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оначальной причины смерти (пример 2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4" name=""/>
          <p:cNvSpPr txBox="1"/>
          <p:nvPr/>
        </p:nvSpPr>
        <p:spPr>
          <a:xfrm>
            <a:off x="1568160" y="1856880"/>
            <a:ext cx="4755960" cy="346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е заболевание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онавирусная инфекция COVID-19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 07.1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ложнения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усторонняя пневмония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псис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ыхательная недостаточность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путствующие заболевания: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езнь, вызванная ВИЧ, с туберкулезом и саркомой Капош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5" name="Прямоугольник 3"/>
          <p:cNvSpPr/>
          <p:nvPr/>
        </p:nvSpPr>
        <p:spPr>
          <a:xfrm>
            <a:off x="6551640" y="1984320"/>
            <a:ext cx="520380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.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псис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41.9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усторонняя пневмония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J 18.9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) Коронавирусная инфекция COVID-19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 07.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.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езнь, вызванная ВИЧ, с туберкулезом и саркомой Капоши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22.7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6" name="Прямоугольник 4"/>
          <p:cNvSpPr/>
          <p:nvPr/>
        </p:nvSpPr>
        <p:spPr>
          <a:xfrm>
            <a:off x="1568520" y="1054080"/>
            <a:ext cx="48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ительный клинический диагноз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7" name="Прямоугольник 5"/>
          <p:cNvSpPr/>
          <p:nvPr/>
        </p:nvSpPr>
        <p:spPr>
          <a:xfrm>
            <a:off x="6757920" y="1054080"/>
            <a:ext cx="45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ицинское свидетельство о смер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1768320" y="259920"/>
            <a:ext cx="100188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чаи, когда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VID-19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ыбирают  в качестве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оначальной причины смерти (пример 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9" name=""/>
          <p:cNvSpPr txBox="1"/>
          <p:nvPr/>
        </p:nvSpPr>
        <p:spPr>
          <a:xfrm>
            <a:off x="1407960" y="2017440"/>
            <a:ext cx="51120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е заболевание: Коронавирусная инфекция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VID-19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 07.1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ложнения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усторонняя вирусная пневмония, вызванная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ARS-CoV-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омбоэмболия легочной артери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ыхательная недостаточност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путствующие заболевания: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локачественное новообразование средней трети тела желудка, cT3N0M0 IIб стадия (тубулярная аденокарцинома G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0" name="Прямоугольник 3"/>
          <p:cNvSpPr/>
          <p:nvPr/>
        </p:nvSpPr>
        <p:spPr>
          <a:xfrm>
            <a:off x="6600960" y="2017800"/>
            <a:ext cx="525132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омбоэмболия легочной артерии из вен малого таза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.9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9960" indent="-399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усторонняя  вирусная пневмония,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9960" indent="-399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званная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ARS-CoV-2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J 12.8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9960" indent="-399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) Коронавирусная инфекция COVID-19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9960" indent="-399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 07.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9960" indent="-399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.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к тела желудка IIб стадия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С 16.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1" name="Прямоугольник 4"/>
          <p:cNvSpPr/>
          <p:nvPr/>
        </p:nvSpPr>
        <p:spPr>
          <a:xfrm>
            <a:off x="1491480" y="1292400"/>
            <a:ext cx="47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ительный клинический диагноз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2" name="Прямоугольник 5"/>
          <p:cNvSpPr/>
          <p:nvPr/>
        </p:nvSpPr>
        <p:spPr>
          <a:xfrm>
            <a:off x="7015320" y="1292400"/>
            <a:ext cx="45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ицинское свидетельство о смер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1766520" y="168120"/>
            <a:ext cx="980748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чаи, когда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VID-19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ыбирают  в качестве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оначальной причины смерти (пример 4)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витие инфаркта миокарда на фоне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VID-19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с осложнениями</a:t>
            </a:r>
            <a:br>
              <a:rPr sz="20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4" name=""/>
          <p:cNvSpPr txBox="1"/>
          <p:nvPr/>
        </p:nvSpPr>
        <p:spPr>
          <a:xfrm>
            <a:off x="1325520" y="1766520"/>
            <a:ext cx="5199120" cy="37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е заболевание: Коронавирусная инфекция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VID-19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 07.1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новое заболевание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харный диабет 2 типа с почечными осложнениям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ложнения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усторонняя полисегментарная вирусная пневмония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ыхательная недостаточность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рый инфаркт миокарда задней стенки левого желудочк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ек легких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5" name="Прямоугольник 5"/>
          <p:cNvSpPr/>
          <p:nvPr/>
        </p:nvSpPr>
        <p:spPr>
          <a:xfrm>
            <a:off x="6616800" y="1762200"/>
            <a:ext cx="5240160" cy="31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.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рый инфаркт миокарда задней стенки левого желудочка 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устороняя полисегментарная вирусная пневмония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J 12.8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) Коронавирусная инфекция COVID-19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 07.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.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харный диабет 2 типа с почечными осложнениями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 11.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6" name="Прямоугольник 6"/>
          <p:cNvSpPr/>
          <p:nvPr/>
        </p:nvSpPr>
        <p:spPr>
          <a:xfrm>
            <a:off x="1533600" y="1198440"/>
            <a:ext cx="47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ительный клинический диагноз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7" name="Прямоугольник 7"/>
          <p:cNvSpPr/>
          <p:nvPr/>
        </p:nvSpPr>
        <p:spPr>
          <a:xfrm>
            <a:off x="6681960" y="1228680"/>
            <a:ext cx="45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ицинское свидетельство о смер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8" name="Прямоугольник 8"/>
          <p:cNvSpPr/>
          <p:nvPr/>
        </p:nvSpPr>
        <p:spPr>
          <a:xfrm>
            <a:off x="1766880" y="5527800"/>
            <a:ext cx="980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случаях, когда острый инфаркт миокарда развился до возникновения COVID-19, и имеются осложнения COVID-19 (пневмония и др.), при летальном исходе, первоначальной причиной смерти выбирают COVID-19, а острый инфаркт миокарда записывают в части II свидетельств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1741320" y="261720"/>
            <a:ext cx="10018800" cy="80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чаи, когда COVID-19 выбирают в качестве прочего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ажного состояния, способствовавшего смерти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0" name=""/>
          <p:cNvSpPr txBox="1"/>
          <p:nvPr/>
        </p:nvSpPr>
        <p:spPr>
          <a:xfrm>
            <a:off x="1601640" y="1106640"/>
            <a:ext cx="10298160" cy="46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сочетании установленного диагноза COVID-19 с некоторыми острыми состояниями, в качестве первоначальной причины следует выбирать острые состояния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SzPct val="14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вмы и отравлен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Следует обратить внимание, что при травмах и отравлениях в Российской Федерации используется двойное кодирование и учитываются обе причины смерти как первоначальные: например, травматическое субдуральное кровоизлияние (характер травмы) и дорожный несчастный случай (внешняя причина)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SzPct val="14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рая хирургическая патолог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COVID-19 может сочетаться с острой хирургической патологией, требующей экстренного оперативного вмешательства (язвенное кровотечение, прободная язва желудка, острый аппендицит и др.). Данные состояния должны выбираться в качестве первоначальной причины смерти, а COVID-19 записывают в части II свидетельст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1484280" y="293760"/>
            <a:ext cx="100188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чаи, когда COVID-19 выбирают в качестве прочего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ажного состояния, способствовавшего смерти (пример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2" name=""/>
          <p:cNvSpPr txBox="1"/>
          <p:nvPr/>
        </p:nvSpPr>
        <p:spPr>
          <a:xfrm>
            <a:off x="1348920" y="2230560"/>
            <a:ext cx="49482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е заболевание: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рая язва желудка с кровотечением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ложнения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елудочное кровотечение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рая постгеморрагическая анем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рдечная недостаточност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путствующие заболевания: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VID-19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3" name="Прямоугольник 3"/>
          <p:cNvSpPr/>
          <p:nvPr/>
        </p:nvSpPr>
        <p:spPr>
          <a:xfrm>
            <a:off x="6215040" y="2362320"/>
            <a:ext cx="571644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I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Острая постгеморрагическая анемия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2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X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Желудочное кровотечение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 92.2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) Острая язва желудка с кровотечением К 25.0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. COVID-19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07.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4" name="Прямоугольник 4"/>
          <p:cNvSpPr/>
          <p:nvPr/>
        </p:nvSpPr>
        <p:spPr>
          <a:xfrm>
            <a:off x="1500120" y="1413000"/>
            <a:ext cx="47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ительный клинический диагноз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5" name="Прямоугольник 5"/>
          <p:cNvSpPr/>
          <p:nvPr/>
        </p:nvSpPr>
        <p:spPr>
          <a:xfrm>
            <a:off x="6597720" y="1430280"/>
            <a:ext cx="45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ицинское свидетельство о смер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1484280" y="281160"/>
            <a:ext cx="10018800" cy="126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0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 ПАЦИЕНТОВ В СТАЦИОНАРЕ, СРОКИ И ИСХОДЫ ЛЕЧ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1823760" y="1652400"/>
            <a:ext cx="9793080" cy="49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271440" indent="-271440"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исле умерших беременных, а также женщин, умерших в течение 42 дней после окончания беременности независимо от ее продолжительности и локализации от какой-либо причины, связанной с беременностью, отягощенной ею или ее ведением, но не от несчастного случая или случайно возникшей причины, в соответствии с критериями ВОЗ, включаются в строку 16.0 «Беременность, роды и послеродовый период»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 случаях смерти женщин по истечении 42 дней после беременности показываются в форме на общих основаниях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и смерти пациента, оставленного для стационарного лечения, в приемном отделении следует рассматривать как смерть в стационар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2"/>
          <p:cNvSpPr/>
          <p:nvPr/>
        </p:nvSpPr>
        <p:spPr>
          <a:xfrm>
            <a:off x="2565360" y="3094200"/>
            <a:ext cx="8710560" cy="78552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БЛАГОДАРЮ ЗА ВНИМАНИЕ !!!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2043000" y="-360"/>
            <a:ext cx="918864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0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 ПАЦИЕНТОВ В СТАЦИОНАРЕ, СРОКИ И ИСХОДЫ ЛЕЧ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4" name=""/>
          <p:cNvSpPr txBox="1"/>
          <p:nvPr/>
        </p:nvSpPr>
        <p:spPr>
          <a:xfrm>
            <a:off x="1838160" y="2538360"/>
            <a:ext cx="9887040" cy="36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marL="202680" indent="-20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включает в себя сумму строк со 2 по 21 включительно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02680" indent="-20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е 17 «Отдельные состояния, возникающие в перинатальном периоде» коды по МКБ-10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02680" indent="-20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00-Р04 по графам с 4 по 21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02680" indent="-20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05-Р96 по графам с 22 по 33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02680" indent="-20268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рики Р00-Р04 характеризуют состояния матери, оказавшие влияние на новорожденного или плод, и не применяются у дете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02680" indent="-20268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плода или новорожденного кодируют рубриками Р05-Р96 (Перинатальные состояния) ил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00-Q96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рожденные аномалии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02680" indent="-20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7 у взрослых заполняется в том случае, если основное заболевание новорожденного (в возрасте 0-6 дней) или первоначальна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 смерти новорожденного или плода кодируются рубриками Р00-Р04. В остальных случаях заполняется строка 17 у дет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02680" indent="-20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Прямоугольник 1"/>
          <p:cNvSpPr/>
          <p:nvPr/>
        </p:nvSpPr>
        <p:spPr>
          <a:xfrm>
            <a:off x="1817640" y="339840"/>
            <a:ext cx="986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СНОВНЫЕ ЗАМЕЧАНИЯ ПРИ ЗАПОЛНЕНИИ ТАБЛИЦЫ 2000!!!</a:t>
            </a:r>
            <a:r>
              <a:rPr b="1" lang="ru-RU" sz="24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6" name="Прямоугольник 2"/>
          <p:cNvSpPr/>
          <p:nvPr/>
        </p:nvSpPr>
        <p:spPr>
          <a:xfrm>
            <a:off x="1712880" y="1139760"/>
            <a:ext cx="1010448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проводится контроль числа заболеваний по каждой строке в таблице между графами, а также между разделами А. Взрослые (18 лет и более) и Б. Взрослые старше трудоспособного возраста по всем строкам и графа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проводится контроль числа «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чих»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болеваний по каждому классу болезней между разделами А. Взрослые (18 лет и более) и Б. Взрослые старше трудоспособного возраста по всем строкам и графа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зывается некорректное число проведенных выписанными пациентами койко-дней. Средний койко-день не может быть менее 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4T05:34:41Z</dcterms:created>
  <dc:creator>Пользователь</dc:creator>
  <dc:description/>
  <dc:language>en-US</dc:language>
  <cp:lastModifiedBy>Карзакова Наталья Владиславовна</cp:lastModifiedBy>
  <cp:lastPrinted>2019-11-12T07:25:06Z</cp:lastPrinted>
  <dcterms:modified xsi:type="dcterms:W3CDTF">2021-12-13T09:34:59Z</dcterms:modified>
  <cp:revision>473</cp:revision>
  <dc:subject/>
  <dc:title>СВЕДЕНИЯ О ДЕЯТЕЛЬНОСТИ  ПОДРАЗДЕЛЕНИЙ МЕДИЦИНСКОЙ ОРГАНИЗАЦИИ, ОКАЗЫВАЮЩИХ МЕДИЦИНСКУЮ ПОМОЩЬ В СТАЦИОНАРНЫХ УСЛОВИЯХ за 2016 год Форма №14</dc:title>
</cp:coreProperties>
</file>