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C2AD-14AE-4AC5-8059-24BAAD8BD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B99-A6EB-4A9E-933C-68EAA9D5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BF59-489C-4A6C-94F8-C160D64DD6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BC24-A21E-4FDF-A27D-D0CC8B020E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F13-398D-457C-A047-7528FDE9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430-CE89-49AE-9B17-B9D50094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AE4-C9A0-4F25-9DB0-AD9F96F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FBA-1B31-4A8E-9D3A-6EC2CC9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962-84A0-416A-8198-24CC2311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1A8-6B96-46AE-B00F-E107706C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0E88-F8DA-423F-9534-7B24BCC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6B10-2250-4601-9FD9-C1C0939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1C57-1F87-4F14-9CB1-A34C28C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B3E1-1924-42FB-93F2-F148760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2BE-C864-4E18-8CE4-6C6CFA86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374-888A-48C1-8371-73048D7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16B-BCDD-4FCA-8C76-2BF9FEE1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2576-903C-4F1C-9244-4369CEB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E541-7AB7-4B1C-B873-C1478A5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8218-7DE8-43B6-AC25-BCD3E36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1E9-F2E2-4C5F-8910-267B8CE8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DD7C-55AC-43B5-92A2-53885B13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8CE-86D5-407E-9504-47D6D03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675-5CE8-4AAE-8DEB-6DEFF0E2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4D7-2A29-4D45-A0FA-BFF3C62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9B7-70A8-4BCF-8AEB-07F0918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807-89F9-4E1A-BB59-E1D2C96E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428-CDE3-4DE1-A36C-4E9FB50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B11-C00C-4AFC-949B-92C0E3F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0E9-B538-4F05-8163-440988FB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5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6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49E6-26E7-477B-B8EB-2245B582ACC3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79"/>
          <p:cNvSpPr/>
          <p:nvPr/>
        </p:nvSpPr>
        <p:spPr>
          <a:xfrm>
            <a:off x="141120" y="38412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4883040" y="1946160"/>
            <a:ext cx="3994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ДЕЯТЕЛЬНОСТЬ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ОРГАНИЗАЦИИ </a:t>
            </a:r>
            <a:br>
              <a:rPr sz="2400"/>
            </a:b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ПО ОКАЗАНИЮ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ПОМОЩИ В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АМБУЛАТОРНЫХ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41120" y="1946160"/>
            <a:ext cx="50882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600" y="231480"/>
            <a:ext cx="67053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725480" y="960480"/>
            <a:ext cx="670572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marL="745560" indent="-74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т посещений, связанных 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vid-1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301680" y="5510160"/>
            <a:ext cx="3494160" cy="731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425520" y="4413240"/>
            <a:ext cx="3178080" cy="5842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73234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0" t="8814" r="0" b="10044"/>
          <a:stretch/>
        </p:blipFill>
        <p:spPr>
          <a:xfrm>
            <a:off x="260280" y="1994040"/>
            <a:ext cx="3576600" cy="2246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6"/>
          <p:cNvSpPr/>
          <p:nvPr/>
        </p:nvSpPr>
        <p:spPr>
          <a:xfrm>
            <a:off x="4226040" y="2158920"/>
            <a:ext cx="4492440" cy="82404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братился пациент по поводу контакта с больны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COVID-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08"/>
          <p:cNvSpPr/>
          <p:nvPr/>
        </p:nvSpPr>
        <p:spPr>
          <a:xfrm>
            <a:off x="2075040" y="1389240"/>
            <a:ext cx="4967280" cy="520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АЛОН открывается на обращение!!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6"/>
          <p:cNvSpPr/>
          <p:nvPr/>
        </p:nvSpPr>
        <p:spPr>
          <a:xfrm>
            <a:off x="4241880" y="3166920"/>
            <a:ext cx="4492440" cy="58068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ткрывается ТАЛОН с профилактической целью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20.8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6"/>
          <p:cNvSpPr/>
          <p:nvPr/>
        </p:nvSpPr>
        <p:spPr>
          <a:xfrm>
            <a:off x="4226040" y="3952800"/>
            <a:ext cx="4492440" cy="106740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рач ежедневно в течении 10 дней проводит медицинский осмотр пациента на дому, проводятся соответствующие диагностические исследования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6"/>
          <p:cNvSpPr/>
          <p:nvPr/>
        </p:nvSpPr>
        <p:spPr>
          <a:xfrm>
            <a:off x="4226040" y="5410080"/>
            <a:ext cx="4492440" cy="82404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 11 день наблюдения приходит подтвержденный положительный тес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OVID-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41"/>
          <p:cNvSpPr/>
          <p:nvPr/>
        </p:nvSpPr>
        <p:spPr>
          <a:xfrm rot="5400000">
            <a:off x="6295680" y="2917800"/>
            <a:ext cx="344520" cy="243000"/>
          </a:xfrm>
          <a:custGeom>
            <a:avLst/>
            <a:gdLst>
              <a:gd name="textAreaLeft" fmla="*/ 0 w 344520"/>
              <a:gd name="textAreaRight" fmla="*/ 344880 w 344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41"/>
          <p:cNvSpPr/>
          <p:nvPr/>
        </p:nvSpPr>
        <p:spPr>
          <a:xfrm rot="5400000">
            <a:off x="6321240" y="3746520"/>
            <a:ext cx="344520" cy="242640"/>
          </a:xfrm>
          <a:custGeom>
            <a:avLst/>
            <a:gdLst>
              <a:gd name="textAreaLeft" fmla="*/ 0 w 344520"/>
              <a:gd name="textAreaRight" fmla="*/ 344880 w 344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41"/>
          <p:cNvSpPr/>
          <p:nvPr/>
        </p:nvSpPr>
        <p:spPr>
          <a:xfrm rot="5400000">
            <a:off x="6300360" y="5092560"/>
            <a:ext cx="344520" cy="243000"/>
          </a:xfrm>
          <a:custGeom>
            <a:avLst/>
            <a:gdLst>
              <a:gd name="textAreaLeft" fmla="*/ 0 w 344520"/>
              <a:gd name="textAreaRight" fmla="*/ 344880 w 344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Левая фигурная скобка 25"/>
          <p:cNvSpPr/>
          <p:nvPr/>
        </p:nvSpPr>
        <p:spPr>
          <a:xfrm>
            <a:off x="3860640" y="2158920"/>
            <a:ext cx="392400" cy="2884680"/>
          </a:xfrm>
          <a:custGeom>
            <a:avLst/>
            <a:gdLst>
              <a:gd name="textAreaLeft" fmla="*/ 250920 w 392400"/>
              <a:gd name="textAreaRight" fmla="*/ 392760 w 392400"/>
              <a:gd name="textAreaTop" fmla="*/ 10080 h 2884680"/>
              <a:gd name="textAreaBottom" fmla="*/ 2874600 h 288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8599"/>
                </a:lnTo>
                <a:cubicBezTo>
                  <a:pt x="10800" y="18722"/>
                  <a:pt x="5400" y="18844"/>
                  <a:pt x="0" y="18844"/>
                </a:cubicBezTo>
                <a:cubicBezTo>
                  <a:pt x="5400" y="18844"/>
                  <a:pt x="10800" y="18967"/>
                  <a:pt x="10800" y="19089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solidFill>
            <a:srgbClr val="732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6"/>
          <p:cNvSpPr/>
          <p:nvPr/>
        </p:nvSpPr>
        <p:spPr>
          <a:xfrm>
            <a:off x="425520" y="4413240"/>
            <a:ext cx="32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щение с профилактической целью с 10 посещениями на дом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Левая фигурная скобка 27"/>
          <p:cNvSpPr/>
          <p:nvPr/>
        </p:nvSpPr>
        <p:spPr>
          <a:xfrm>
            <a:off x="3897360" y="5410080"/>
            <a:ext cx="334800" cy="831960"/>
          </a:xfrm>
          <a:custGeom>
            <a:avLst/>
            <a:gdLst>
              <a:gd name="textAreaLeft" fmla="*/ 213840 w 334800"/>
              <a:gd name="textAreaRight" fmla="*/ 335160 w 334800"/>
              <a:gd name="textAreaTop" fmla="*/ 8640 h 831960"/>
              <a:gd name="textAreaBottom" fmla="*/ 82332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4"/>
                  <a:pt x="10800" y="728"/>
                </a:cubicBezTo>
                <a:lnTo>
                  <a:pt x="10800" y="10072"/>
                </a:lnTo>
                <a:cubicBezTo>
                  <a:pt x="10800" y="10436"/>
                  <a:pt x="5400" y="10800"/>
                  <a:pt x="0" y="10800"/>
                </a:cubicBezTo>
                <a:cubicBezTo>
                  <a:pt x="5400" y="10800"/>
                  <a:pt x="10800" y="11164"/>
                  <a:pt x="10800" y="11528"/>
                </a:cubicBezTo>
                <a:lnTo>
                  <a:pt x="10800" y="20872"/>
                </a:lnTo>
                <a:cubicBezTo>
                  <a:pt x="10800" y="21236"/>
                  <a:pt x="16200" y="21600"/>
                  <a:pt x="21600" y="21600"/>
                </a:cubicBezTo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6"/>
          <p:cNvSpPr/>
          <p:nvPr/>
        </p:nvSpPr>
        <p:spPr>
          <a:xfrm>
            <a:off x="425520" y="5605560"/>
            <a:ext cx="32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ткрывается новый ТАЛОН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able" descr=""/>
          <p:cNvPicPr/>
          <p:nvPr/>
        </p:nvPicPr>
        <p:blipFill>
          <a:blip r:embed="rId1"/>
          <a:stretch/>
        </p:blipFill>
        <p:spPr>
          <a:xfrm>
            <a:off x="647640" y="1677960"/>
            <a:ext cx="7848720" cy="3840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730080" y="615960"/>
            <a:ext cx="8028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МЕНЕНИЯ, ВНОСИМЫЕ В ФОРМУ ФЕДЕРАЛЬНОГО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АТИСТИЧЕСКОГО   НАБЛЮДЕНИЯ № 3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  таблицу  210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4479840" y="32590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914400"/>
          <a:ext cx="8763120" cy="468936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делениях,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68760" rIns="68760" tIns="0" bIns="0" anchor="t">
                      <a:noAutofit/>
                    </a:bodyPr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ия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68760" rIns="68760" tIns="0" bIns="0" anchor="t">
                      <a:noAutofit/>
                    </a:bodyPr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 передвиж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52280" y="5756400"/>
            <a:ext cx="8744040" cy="10396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включаются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едрейсовые и послерейсовые осмотры, проведенные медицинскими сестрами в таблицу 2101 не включаю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697"/>
          <p:cNvSpPr/>
          <p:nvPr/>
        </p:nvSpPr>
        <p:spPr>
          <a:xfrm>
            <a:off x="4414680" y="3695760"/>
            <a:ext cx="4496040" cy="274644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5 "мобильная медицинская бригада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выполненные врачебные посещения бригадой, если она выезжала не на мобильном медицинском комплексе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6 "мобильный медицинский комплекс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посещения, выполненные мобильной медицинской бригадой с использованием мобильного медицинского комплекс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03"/>
          <p:cNvSpPr/>
          <p:nvPr/>
        </p:nvSpPr>
        <p:spPr>
          <a:xfrm>
            <a:off x="4419720" y="1866960"/>
            <a:ext cx="4491000" cy="1878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26"/>
          <p:cNvSpPr/>
          <p:nvPr/>
        </p:nvSpPr>
        <p:spPr>
          <a:xfrm>
            <a:off x="7141680" y="403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697"/>
          <p:cNvSpPr/>
          <p:nvPr/>
        </p:nvSpPr>
        <p:spPr>
          <a:xfrm>
            <a:off x="4419720" y="3505320"/>
            <a:ext cx="4495680" cy="16891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3 – графа 4 = городские жители всего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5 – графа 6 = городские жители де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!!!Всего не должно быть больше чем дети по всем строк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26"/>
          <p:cNvSpPr/>
          <p:nvPr/>
        </p:nvSpPr>
        <p:spPr>
          <a:xfrm>
            <a:off x="7141680" y="403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03"/>
          <p:cNvSpPr/>
          <p:nvPr/>
        </p:nvSpPr>
        <p:spPr>
          <a:xfrm>
            <a:off x="1676520" y="3276720"/>
            <a:ext cx="6324480" cy="24336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посещения учитываются  по установленному порядку: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Все посещения по поводу диспансерного наблюдения указываются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азовые посещения по поводу заболевания у стоматологов учитываются соответственно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из них в центрах здоровь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Выездная врачебная бригада является временным или постоянно действующим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функциональным подразделением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. Формируется руководителем медицинской организации из числа штатных врачей и средних медицинских работников с соблюдением действующего законодательства. Выездная врачебная бригада работает по плану и графику, утверждаемому в установленном порядке руководителем медицинской организации, в составе которой она организ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7480" y="1960560"/>
            <a:ext cx="8089560" cy="404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ВСЕМИ МЕДИЦИНСКИМИ ОРАНИЗАЦИЯМИ, ОКАЗЫВАЮЩИМИ МЕДИЦИНСКУЮ ПОМОЩЬ В АМБУЛАТОРНЫХ УСЛОВИЯХ И НА ДО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СВЕДЕНИЯ О ДЕЯТЕЛЬНОСТИ ВРАЧЕЙ, ЗАНИМАЮЩИХ СООТВЕТСТВУЮЩИЕ ДОЛЖНОСТИ, ОСУЩЕСТВЛЯЮЩИХ ПРИЕМ ПАЦИЕНТОВ В АМБУЛАТОРНЫХ УСЛОВИЯХ ( В ТОМ ЧИСЛЕ КОНСУЛЬТАТИВНЫЙ) И НА ДО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НЕ ВКЛЮЧАЮТСЯ ПОСЕЩЕНИЯ СРЕДНЕГО МЕДИЦИНСКОГО ПЕРСОНАЛ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3520" y="1125360"/>
            <a:ext cx="78706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рачей медицинской организации в амбулатор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06600" y="333360"/>
            <a:ext cx="786096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95200" y="772920"/>
            <a:ext cx="689580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сены изменения в таблицу 21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76440" y="1704960"/>
          <a:ext cx="8029440" cy="3516480"/>
        </p:xfrm>
        <a:graphic>
          <a:graphicData uri="http://schemas.openxmlformats.org/drawingml/2006/table">
            <a:tbl>
              <a:tblPr/>
              <a:tblGrid>
                <a:gridCol w="8029440"/>
              </a:tblGrid>
              <a:tr h="351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107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та медицинских организаций и их подразделений, оказывающих медицинскую помощь в амбулаторных условиях, участвующих в создании и тиражировании «Новой модел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», посещения: к врачам, всего 1 __________, из них: сельских жителей 2 _________, к среднему медицинскому персоналу 3 ________, из них: сельских жителей 4 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бота медицинских организаций и их подразделений с созданной современной инфраструктурой оказания медицинской помощи детям, посещения: к врачам, всего 5__________, из них: сельских жителей 6 _________, к среднему медицинскому персоналу 7 ________, из них: сельских жителей 8 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520"/>
          <p:cNvSpPr/>
          <p:nvPr/>
        </p:nvSpPr>
        <p:spPr>
          <a:xfrm>
            <a:off x="152280" y="4629240"/>
            <a:ext cx="8763120" cy="13143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абсолютных значен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10. Работа врачей-стоматолог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2"/>
          <p:cNvSpPr/>
          <p:nvPr/>
        </p:nvSpPr>
        <p:spPr>
          <a:xfrm>
            <a:off x="701640" y="2254320"/>
            <a:ext cx="831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ЧЕБНО-ВСПОМОГАТЕЛЬНЫХ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43080" y="2244600"/>
          <a:ext cx="8619840" cy="3567240"/>
        </p:xfrm>
        <a:graphic>
          <a:graphicData uri="http://schemas.openxmlformats.org/drawingml/2006/table">
            <a:tbl>
              <a:tblPr/>
              <a:tblGrid>
                <a:gridCol w="8619840"/>
              </a:tblGrid>
              <a:tr h="3567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Внутритабличный и межтабличный контроль: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1 должна быть равна сумме строк 1.1 + 1.2 + 1.3 + 1.4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1 должна быть равна сумме строк 2 + 3 + 4 + 5 + 6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 должна быть равна сумме строк 2.1 + 2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1 должна быть равна сумме строк 2.1.1 + 2.1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2 должна быть равна сумме строк 2.2.1 + 2.2.2 + 2.2.3 + 2.2.4 +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2.2.5 + 2.2.6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2.3 должна быть равна сумме строк 2.3.1 + 2.3.2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3 должна быть равна сумме строк 3.1 + 3.2 + 3.3 + 3.4 + 3.5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6 должна быть равна сумме строк 6.1+6.2+6.3+6.4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- строка 8 должна быть равна сумме строк 8.1+8.2+8.3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Информация по строкам со 2 по 6 должна отражаться при налич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NewRomanPSMT"/>
                        </a:rPr>
                        <a:t>соответствующего оборудования, указанного в таблице 51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2"/>
          <p:cNvSpPr/>
          <p:nvPr/>
        </p:nvSpPr>
        <p:spPr>
          <a:xfrm>
            <a:off x="554040" y="50976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Деятельность радиотерапевтического отделения (кабинета лучевой терапии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55560" y="1538280"/>
            <a:ext cx="8488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блица 4201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здел заполняется в отчете только при наличие в структуре медицинской организации соответствующих отделений (кабинетов), показанных в таблице 1001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Group 54" descr=""/>
          <p:cNvPicPr/>
          <p:nvPr/>
        </p:nvPicPr>
        <p:blipFill>
          <a:blip r:embed="rId1"/>
          <a:stretch/>
        </p:blipFill>
        <p:spPr>
          <a:xfrm>
            <a:off x="133200" y="2279520"/>
            <a:ext cx="8724960" cy="31338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554040" y="36036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Деятельность физиотерапевтического отделения (кабинета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738360" y="1442880"/>
            <a:ext cx="7864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60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заполняются на основании карты больного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чащегося в физиотерапевтическом отделении (кабинете)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.форма № 044/у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3"/>
          <p:cNvSpPr/>
          <p:nvPr/>
        </p:nvSpPr>
        <p:spPr>
          <a:xfrm>
            <a:off x="5052960" y="3897360"/>
            <a:ext cx="3721320" cy="11332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1042920" y="57456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Деятельность кабинета ЛФ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793800" y="1144440"/>
            <a:ext cx="7893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70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заполняется на основании сведений, содержащихся в учетной форме № 042/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таблицу включаются сведения о пациентах, получивших лечебный массаж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Таблица 3" descr=""/>
          <p:cNvPicPr/>
          <p:nvPr/>
        </p:nvPicPr>
        <p:blipFill>
          <a:blip r:embed="rId1"/>
          <a:stretch/>
        </p:blipFill>
        <p:spPr>
          <a:xfrm>
            <a:off x="371520" y="2206800"/>
            <a:ext cx="8443800" cy="34318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53"/>
          <p:cNvSpPr/>
          <p:nvPr/>
        </p:nvSpPr>
        <p:spPr>
          <a:xfrm>
            <a:off x="5154480" y="4184640"/>
            <a:ext cx="3657600" cy="1222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-371520" y="2122560"/>
            <a:ext cx="10001160" cy="169236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979560" y="1523880"/>
            <a:ext cx="46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блица 4804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05"/>
          <p:cNvSpPr/>
          <p:nvPr/>
        </p:nvSpPr>
        <p:spPr>
          <a:xfrm>
            <a:off x="203040" y="573120"/>
            <a:ext cx="8560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Логопедическая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53"/>
          <p:cNvSpPr/>
          <p:nvPr/>
        </p:nvSpPr>
        <p:spPr>
          <a:xfrm>
            <a:off x="285840" y="4027320"/>
            <a:ext cx="8686800" cy="12193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на основании сведений, указанных в медицинской карте пациента, получающего медицинскую помощь в амбулаторных условиях (ф. 025/у) и истории развития ребенка (ф. 112/у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ются по всем пациентам, закончившим занятия с логопедо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3"/>
          <p:cNvSpPr/>
          <p:nvPr/>
        </p:nvSpPr>
        <p:spPr>
          <a:xfrm>
            <a:off x="5273640" y="5340240"/>
            <a:ext cx="3276720" cy="12956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может быть больше суммы строк 2+3 за счет пациентов в возрасте 18 лет и старше, закончивших занятия с логопед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05"/>
          <p:cNvSpPr/>
          <p:nvPr/>
        </p:nvSpPr>
        <p:spPr>
          <a:xfrm>
            <a:off x="22860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762480" indent="-762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. Деятельность отделения гемосорбции и гравитационной хирургии кров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28600" y="1219320"/>
            <a:ext cx="19810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5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15800" y="1523880"/>
          <a:ext cx="8499600" cy="3916440"/>
        </p:xfrm>
        <a:graphic>
          <a:graphicData uri="http://schemas.openxmlformats.org/drawingml/2006/table">
            <a:tbl>
              <a:tblPr/>
              <a:tblGrid>
                <a:gridCol w="3481560"/>
                <a:gridCol w="685800"/>
                <a:gridCol w="682560"/>
                <a:gridCol w="2594160"/>
                <a:gridCol w="1055520"/>
              </a:tblGrid>
              <a:tr h="324000"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дневного стационар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ст в отделен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роцедур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гемосорбц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ферезо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зерн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озонотерапии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453"/>
          <p:cNvSpPr/>
          <p:nvPr/>
        </p:nvSpPr>
        <p:spPr>
          <a:xfrm>
            <a:off x="4881600" y="3322800"/>
            <a:ext cx="3657600" cy="8380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может быть больше суммы строк с 3 по 7 на прочие процедуры, которые необходимо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3"/>
          <p:cNvSpPr/>
          <p:nvPr/>
        </p:nvSpPr>
        <p:spPr>
          <a:xfrm>
            <a:off x="4876920" y="4495680"/>
            <a:ext cx="3657600" cy="9907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процедур, выполненных в стационарных условиях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95280" y="129240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1920960"/>
            <a:ext cx="8564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05"/>
          <p:cNvSpPr/>
          <p:nvPr/>
        </p:nvSpPr>
        <p:spPr>
          <a:xfrm>
            <a:off x="2286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0. Деятельность отделения (кабинета) медицинской профилак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228600" y="990720"/>
            <a:ext cx="1752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9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9200" y="1468440"/>
          <a:ext cx="8874360" cy="3610080"/>
        </p:xfrm>
        <a:graphic>
          <a:graphicData uri="http://schemas.openxmlformats.org/drawingml/2006/table">
            <a:tbl>
              <a:tblPr/>
              <a:tblGrid>
                <a:gridCol w="7191720"/>
                <a:gridCol w="765000"/>
                <a:gridCol w="917640"/>
              </a:tblGrid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обученных основам здорового образа жизн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медицинских работников, обученных методике профилактики заболеваний и укрепления здоровья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ациентов обученных в “школах”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том числе: школе для береме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с сердечной недостаточность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на хроническом диализ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х школа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роведенных массовых мероприят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участвующих в мероприят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школ для родителей, дети которых больны хроническими заболевани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родителей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родители (законные представители) которых прошли обучение в «школах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80880" y="19051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ДИАГНОСТИЧЕСКИХ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52280" y="1371600"/>
            <a:ext cx="8839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данного раздела заполняют в медицинских организациях, имеющих соответствующие диагностические службы. Включаются сведения об исследованиях, проведенны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делениях (кабинетах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анализах и исследованиях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ых в других организац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м, обслуживаемым данной организацие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стические отделения данной организации оказывают помощь не только своим пациентам, но и пациентам, направленным другими организациями, в сведения о работе диагностического отделения включ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ой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зависимо от того, каким пациентам была оказана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1860480" y="390600"/>
            <a:ext cx="526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 5100 «Рентгенодиагностические исследования (без профилактических исследований)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Таблица 9" descr=""/>
          <p:cNvPicPr/>
          <p:nvPr/>
        </p:nvPicPr>
        <p:blipFill>
          <a:blip r:embed="rId1"/>
          <a:stretch/>
        </p:blipFill>
        <p:spPr>
          <a:xfrm>
            <a:off x="365040" y="1359000"/>
            <a:ext cx="8534520" cy="5303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53"/>
          <p:cNvSpPr/>
          <p:nvPr/>
        </p:nvSpPr>
        <p:spPr>
          <a:xfrm>
            <a:off x="3668760" y="2503440"/>
            <a:ext cx="5195880" cy="1270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рентгенологические диагностические исследования за исключением: профилактических (таб. 5114), интервенционных (таб. 5111) и компьютерно-томографических исследований (таб. 511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3"/>
          <p:cNvSpPr/>
          <p:nvPr/>
        </p:nvSpPr>
        <p:spPr>
          <a:xfrm>
            <a:off x="3683160" y="3860640"/>
            <a:ext cx="5181480" cy="5335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должна быть равна сумме строк 2+3+4+5+6+7+8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53"/>
          <p:cNvSpPr/>
          <p:nvPr/>
        </p:nvSpPr>
        <p:spPr>
          <a:xfrm>
            <a:off x="3683160" y="4500720"/>
            <a:ext cx="525780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больше суммы граф 11+12 за счет исследований, выполненных пациентам, получавшим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2280" y="1371600"/>
            <a:ext cx="8839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0 указываются исследования с контрастированием без учета ангиографий (ангиографии указываются в таблице 5111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5 «черепа и челюстно-лицевой области» также включаются исследования ЛОР-органов (гортань, околоносовые пазухи и внутреннее ухо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 «прочих органов и систем» указываются исследования брюшной полости и забрюшинного пространства (кроме желудочно-кишечного тракта), мягких тканей, женской половой сферы, а также рентгенодиагностические исследования головного и спинного мозга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исследования, выполненные совместно с врачами клинических специальностей (травматологами-ортопедами, урологами, гинекологами и т.д.), показываются в таблице 5111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5200" y="461880"/>
            <a:ext cx="7883280" cy="7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Компьютерная томограф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1-14 графы с 3 по 5 включаются сведения о выполненных компьютерно-томографических исследованиях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Таблица 3" descr=""/>
          <p:cNvPicPr/>
          <p:nvPr/>
        </p:nvPicPr>
        <p:blipFill>
          <a:blip r:embed="rId1"/>
          <a:stretch/>
        </p:blipFill>
        <p:spPr>
          <a:xfrm>
            <a:off x="1042920" y="1468440"/>
            <a:ext cx="70581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5960" y="628200"/>
            <a:ext cx="840096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граф 4 «без внутривенного контрастирования» и 5 «с внутривенным контрастированием» равна графе 3 «всего исследований» по всем строкам кроме 1 и 14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«всего исследований» равна сумме строк со 2 по 14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4 «ангиография иных сосудов» графы 4 и 5 не заполняю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 «исследований всего» разность между графой 3 «Всего» и суммой граф 4 «без внутривенного контрастирования» и 5 «с внутривенным контрастированием» указывает на значение по графе 3 строки 14 «ангиография иных сосудов».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9720" y="716040"/>
            <a:ext cx="8286840" cy="15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4 Рентгенологические профилактические (скрининговые) обследования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профилактических исследований молочных желез (строка 2) равна количеству исследований, выполненных на пленочных аппаратах и цифровых аппаратах (строки 2.1 и 2.2). Графа 3 больше суммы граф 4 и 5 за счет лиц трудоспособного возраста</a:t>
            </a:r>
            <a:br>
              <a:rPr sz="1600"/>
            </a:b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Таблица 7" descr=""/>
          <p:cNvPicPr/>
          <p:nvPr/>
        </p:nvPicPr>
        <p:blipFill>
          <a:blip r:embed="rId1"/>
          <a:stretch/>
        </p:blipFill>
        <p:spPr>
          <a:xfrm>
            <a:off x="762120" y="2365200"/>
            <a:ext cx="78325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5 Ультразвуковые исследовани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ведения об ультразвуковых исследованиях, проведенных пациент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Таблица 3" descr=""/>
          <p:cNvPicPr/>
          <p:nvPr/>
        </p:nvPicPr>
        <p:blipFill>
          <a:blip r:embed="rId1"/>
          <a:stretch/>
        </p:blipFill>
        <p:spPr>
          <a:xfrm>
            <a:off x="853920" y="1566720"/>
            <a:ext cx="74361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703440" y="430200"/>
            <a:ext cx="8054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МЕНЕНИЯ, ВНОСИМЫЕ В ФОРМУ ФЕДЕРАЛЬНОГО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ТАТИСТИЧЕСКОГО   НАБЛЮДЕНИЯ № 3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able" descr=""/>
          <p:cNvPicPr/>
          <p:nvPr/>
        </p:nvPicPr>
        <p:blipFill>
          <a:blip r:embed="rId1"/>
          <a:stretch/>
        </p:blipFill>
        <p:spPr>
          <a:xfrm>
            <a:off x="792000" y="1434960"/>
            <a:ext cx="75600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07720" y="628200"/>
            <a:ext cx="7886520" cy="15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4 «УЗИ органов брюшной полости, включая гепатобилиарную систему, селезенку, мезентериальные лимфоузлы» входят: исследования гепатобилиарной системы (печени, желчного пузыря, поджелудочной железы), селезенки, мезентериальных лимфоузл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6 и 7 по строкам 20-22 не заполняются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2300400"/>
          <a:ext cx="8291520" cy="3125520"/>
        </p:xfrm>
        <a:graphic>
          <a:graphicData uri="http://schemas.openxmlformats.org/drawingml/2006/table">
            <a:tbl>
              <a:tblPr/>
              <a:tblGrid>
                <a:gridCol w="3643200"/>
                <a:gridCol w="330480"/>
                <a:gridCol w="812520"/>
                <a:gridCol w="851040"/>
                <a:gridCol w="876240"/>
                <a:gridCol w="876240"/>
                <a:gridCol w="901800"/>
              </a:tblGrid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мягких ткан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поверхностных лимфоузл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головного мозг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 - эхоэнцефалограф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йросонография детям до 1 год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гла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органов грудной клетки (кроме сердца) - вилочковая железа, легкие, плевральная полость, внутригрудные лимфоузл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наружных половых орган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ндосонографические исслед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льтразвуковая денситометр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траоперационные исслед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исследования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1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общего числа исследований (стр.1) выполнено  - новорожденным и детям до 2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с внутривенным контрастированием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ЗИ с эластографи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222120" y="426960"/>
          <a:ext cx="8783640" cy="6431040"/>
        </p:xfrm>
        <a:graphic>
          <a:graphicData uri="http://schemas.openxmlformats.org/drawingml/2006/table">
            <a:tbl>
              <a:tblPr/>
              <a:tblGrid>
                <a:gridCol w="3498840"/>
                <a:gridCol w="495360"/>
                <a:gridCol w="709560"/>
                <a:gridCol w="1278000"/>
                <a:gridCol w="566640"/>
                <a:gridCol w="781200"/>
                <a:gridCol w="145404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управляемые поворотные столы-штативы с функцией рентгеноскопи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3 рабочих места включая поворотные столы-штативы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2 рабочих мест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1 рабочее мест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шасси автомоби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ночные флюор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шасси автомоби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тны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е рентгенотелевизионные установки типа С-дуг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урологически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мографически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функцией томосинте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тальные аппараты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ицельные (радиовизи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605"/>
          <p:cNvSpPr/>
          <p:nvPr/>
        </p:nvSpPr>
        <p:spPr>
          <a:xfrm>
            <a:off x="228600" y="4140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3"/>
          <p:cNvSpPr/>
          <p:nvPr/>
        </p:nvSpPr>
        <p:spPr>
          <a:xfrm>
            <a:off x="4146480" y="3022560"/>
            <a:ext cx="4724640" cy="3808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5, 6, 7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3"/>
          <p:cNvSpPr/>
          <p:nvPr/>
        </p:nvSpPr>
        <p:spPr>
          <a:xfrm>
            <a:off x="4216320" y="3656160"/>
            <a:ext cx="4724640" cy="4572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4 должна быть больше строки 4.1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3"/>
          <p:cNvSpPr/>
          <p:nvPr/>
        </p:nvSpPr>
        <p:spPr>
          <a:xfrm>
            <a:off x="4281480" y="4319640"/>
            <a:ext cx="4724280" cy="4572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больше строки 5.1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28600" y="838080"/>
          <a:ext cx="8686800" cy="5273640"/>
        </p:xfrm>
        <a:graphic>
          <a:graphicData uri="http://schemas.openxmlformats.org/drawingml/2006/table">
            <a:tbl>
              <a:tblPr/>
              <a:tblGrid>
                <a:gridCol w="3119400"/>
                <a:gridCol w="503280"/>
                <a:gridCol w="982800"/>
                <a:gridCol w="1538280"/>
                <a:gridCol w="503280"/>
                <a:gridCol w="865080"/>
                <a:gridCol w="117468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орамные томографы (ортопантом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тальные том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иографические аппараты стационарн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гут быть в АПУ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шаг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односрез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многосрезовые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 ч.: менее 16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40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сре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и более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еоденситометры рентгеновск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Прямоугольник 3"/>
          <p:cNvSpPr/>
          <p:nvPr/>
        </p:nvSpPr>
        <p:spPr>
          <a:xfrm>
            <a:off x="4643280" y="4292640"/>
            <a:ext cx="3529080" cy="936720"/>
          </a:xfrm>
          <a:prstGeom prst="rect">
            <a:avLst/>
          </a:prstGeom>
          <a:solidFill>
            <a:srgbClr val="dfedf2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ока 13=  сумме строк 13.1+13.2+13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228600" y="838080"/>
          <a:ext cx="8686800" cy="5430960"/>
        </p:xfrm>
        <a:graphic>
          <a:graphicData uri="http://schemas.openxmlformats.org/drawingml/2006/table">
            <a:tbl>
              <a:tblPr/>
              <a:tblGrid>
                <a:gridCol w="3048120"/>
                <a:gridCol w="647640"/>
                <a:gridCol w="863640"/>
                <a:gridCol w="1368360"/>
                <a:gridCol w="576360"/>
                <a:gridCol w="792000"/>
                <a:gridCol w="139068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вские аппараты всего (без компьютерных томографов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 томографы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нее 1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костей и суставов    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3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очные автоматы и каме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УЗИ, 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ртативн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оплерограф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эластографи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хоэнцефалограф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28600" y="762120"/>
          <a:ext cx="8807400" cy="5324400"/>
        </p:xfrm>
        <a:graphic>
          <a:graphicData uri="http://schemas.openxmlformats.org/drawingml/2006/table">
            <a:tbl>
              <a:tblPr/>
              <a:tblGrid>
                <a:gridCol w="3479760"/>
                <a:gridCol w="503280"/>
                <a:gridCol w="639720"/>
                <a:gridCol w="1241640"/>
                <a:gridCol w="583920"/>
                <a:gridCol w="803520"/>
                <a:gridCol w="155556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для радионуклидной диагностики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ланарные диагностические гамма-каме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547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фотонные эмиссионные компьютерные томографы (ОФЭКТ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ОФЭКТ/К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ронно-эмиссионные томографы (ПЭТ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ПЭТ/К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циклотроном для синтеза ультракороткоживущих РФ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ПЭТ/МР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циклотроном для синтеза ультракороткоживущих РФ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троны для синтеза ультракороткоживущих РФП (без ПЭТ установки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b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аппаратов, подключенных к сети Интернет для передачи данн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ческая информационная сеть (RIS)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подключенных к системе получения, архивирования, хранения и поискацифровых изображений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C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8520" y="577800"/>
          <a:ext cx="8939160" cy="6008760"/>
        </p:xfrm>
        <a:graphic>
          <a:graphicData uri="http://schemas.openxmlformats.org/drawingml/2006/table">
            <a:tbl>
              <a:tblPr/>
              <a:tblGrid>
                <a:gridCol w="3938760"/>
                <a:gridCol w="433440"/>
                <a:gridCol w="576000"/>
                <a:gridCol w="1224000"/>
                <a:gridCol w="647640"/>
                <a:gridCol w="792360"/>
                <a:gridCol w="1326960"/>
              </a:tblGrid>
              <a:tr h="2134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терапевтические аппараты, всего: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зкофокусные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глубокой рентген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мма-терапевтические аппараты для дистанционной лучевой 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е ускорители электронов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конвенциальной лучевой 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нопластинчатого коллиматор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конформной радио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многопластинчатым коллиматоро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возможностью контроля укладки пациента по рентгеновским изображения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контроля укладки пациента по изображениям, полученным из терапевтического пучк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лучевой терапии с модуляцией интенсивност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ротационного облучения с модуляцией интенсивности пучка излучения    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синхронизации лучевой терапии с дыханием пациент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проведения стереотаксической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облучения энергиям 10+ МэВ и электронами                   (высокоэнергетические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и комплекты оборудования для проведения контактной радио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нутриполостной ради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290520" indent="42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с высо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микроисточниками с низ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онн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сосудист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стандартные специализированные аппараты для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453"/>
          <p:cNvSpPr/>
          <p:nvPr/>
        </p:nvSpPr>
        <p:spPr>
          <a:xfrm>
            <a:off x="4495680" y="1778040"/>
            <a:ext cx="457200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3"/>
          <p:cNvSpPr/>
          <p:nvPr/>
        </p:nvSpPr>
        <p:spPr>
          <a:xfrm>
            <a:off x="4533840" y="2517840"/>
            <a:ext cx="4564080" cy="4572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 5,  6, 7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53"/>
          <p:cNvSpPr/>
          <p:nvPr/>
        </p:nvSpPr>
        <p:spPr>
          <a:xfrm>
            <a:off x="4533840" y="3084480"/>
            <a:ext cx="449604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1 может быть больше суммы строк 1.1+1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3"/>
          <p:cNvSpPr/>
          <p:nvPr/>
        </p:nvSpPr>
        <p:spPr>
          <a:xfrm>
            <a:off x="4533840" y="3965400"/>
            <a:ext cx="449604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3 = строкам 3.1+3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53"/>
          <p:cNvSpPr/>
          <p:nvPr/>
        </p:nvSpPr>
        <p:spPr>
          <a:xfrm>
            <a:off x="4495680" y="4649760"/>
            <a:ext cx="4496040" cy="48564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4 = строкам 4.1+4.2+4.3+4.4+4.5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53"/>
          <p:cNvSpPr/>
          <p:nvPr/>
        </p:nvSpPr>
        <p:spPr>
          <a:xfrm>
            <a:off x="4586400" y="5533920"/>
            <a:ext cx="449568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5 = строкам 5.1+5.2+5.3+5.4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5"/>
          <p:cNvSpPr/>
          <p:nvPr/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Аппараты и оборудование отделений (кабинетов) лучевой терап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bject 3"/>
          <p:cNvSpPr/>
          <p:nvPr/>
        </p:nvSpPr>
        <p:spPr>
          <a:xfrm>
            <a:off x="68436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5"/>
          <p:cNvSpPr/>
          <p:nvPr/>
        </p:nvSpPr>
        <p:spPr>
          <a:xfrm>
            <a:off x="804960" y="179280"/>
            <a:ext cx="7643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«Магнитно-резонансные томографии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Таблица 7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56520" cy="5078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53"/>
          <p:cNvSpPr/>
          <p:nvPr/>
        </p:nvSpPr>
        <p:spPr>
          <a:xfrm>
            <a:off x="4932360" y="2857680"/>
            <a:ext cx="3862440" cy="15793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больше суммы граф 5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за счет исследований, выполненных пациентам, получавших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3"/>
          <p:cNvSpPr/>
          <p:nvPr/>
        </p:nvSpPr>
        <p:spPr>
          <a:xfrm>
            <a:off x="4932360" y="4700520"/>
            <a:ext cx="3836880" cy="919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должна быть равна сумме строк со 2 по 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B7A7-1BA2-4EB6-BCA7-FAF1D6C9DC6F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0e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1"/>
          <p:cNvSpPr/>
          <p:nvPr/>
        </p:nvSpPr>
        <p:spPr>
          <a:xfrm>
            <a:off x="138240" y="530280"/>
            <a:ext cx="188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125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15800" y="1030320"/>
          <a:ext cx="8728200" cy="5727600"/>
        </p:xfrm>
        <a:graphic>
          <a:graphicData uri="http://schemas.openxmlformats.org/drawingml/2006/table">
            <a:tbl>
              <a:tblPr/>
              <a:tblGrid>
                <a:gridCol w="2238480"/>
                <a:gridCol w="372960"/>
                <a:gridCol w="500040"/>
                <a:gridCol w="1084320"/>
                <a:gridCol w="662040"/>
                <a:gridCol w="662040"/>
                <a:gridCol w="739800"/>
                <a:gridCol w="739800"/>
                <a:gridCol w="904680"/>
                <a:gridCol w="824040"/>
              </a:tblGrid>
              <a:tr h="42012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зофагогастро-дуоде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н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тосигмо-ид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-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-капсульных исследо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лечебные манипуляци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 ДС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под анестези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доброкачественны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й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екцией в подслизистом сло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инородных те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онная дилат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тир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ка кровотечени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экстренным показания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клипс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453"/>
          <p:cNvSpPr/>
          <p:nvPr/>
        </p:nvSpPr>
        <p:spPr>
          <a:xfrm>
            <a:off x="3205080" y="2637000"/>
            <a:ext cx="5410440" cy="576000"/>
          </a:xfrm>
          <a:prstGeom prst="rect">
            <a:avLst/>
          </a:prstGeom>
          <a:solidFill>
            <a:srgbClr val="d0e5eb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или равна сумме строк 9 и 10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53"/>
          <p:cNvSpPr/>
          <p:nvPr/>
        </p:nvSpPr>
        <p:spPr>
          <a:xfrm>
            <a:off x="3581280" y="3505320"/>
            <a:ext cx="3654720" cy="141444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фе 10 (прочие) можно отнести: лапароскопии, цистоскопии, ларингоскопии, уретроскопии, гистероскопи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ая прямоугольная выноска 10"/>
          <p:cNvSpPr/>
          <p:nvPr/>
        </p:nvSpPr>
        <p:spPr>
          <a:xfrm>
            <a:off x="3657600" y="5257800"/>
            <a:ext cx="1828800" cy="1447920"/>
          </a:xfrm>
          <a:prstGeom prst="wedgeRoundRectCallout">
            <a:avLst>
              <a:gd name="adj1" fmla="val 133439"/>
              <a:gd name="adj2" fmla="val 23620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DD0-0707-427C-B7FA-782D58C3F935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4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ппараты и оборудование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324000" y="549360"/>
            <a:ext cx="15840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519480" indent="-51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512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828720"/>
          <a:ext cx="8567640" cy="5540400"/>
        </p:xfrm>
        <a:graphic>
          <a:graphicData uri="http://schemas.openxmlformats.org/drawingml/2006/table">
            <a:tbl>
              <a:tblPr/>
              <a:tblGrid>
                <a:gridCol w="2935080"/>
                <a:gridCol w="525600"/>
                <a:gridCol w="781200"/>
                <a:gridCol w="1036440"/>
                <a:gridCol w="897120"/>
                <a:gridCol w="796680"/>
                <a:gridCol w="798480"/>
                <a:gridCol w="797040"/>
              </a:tblGrid>
              <a:tr h="280800"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до 3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от 4 до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свыше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верх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идеогаст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оде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ниж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видеоколо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моид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осветител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тубус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а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афы специализированные для сушки и хранения эндоскоп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453"/>
          <p:cNvSpPr/>
          <p:nvPr/>
        </p:nvSpPr>
        <p:spPr>
          <a:xfrm>
            <a:off x="3792600" y="3060720"/>
            <a:ext cx="48258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равна сумме граф 6+7+8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3"/>
          <p:cNvSpPr/>
          <p:nvPr/>
        </p:nvSpPr>
        <p:spPr>
          <a:xfrm>
            <a:off x="4013280" y="3727440"/>
            <a:ext cx="43830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4 и 5 (каждая отдельно) меньше или равны графе 3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3"/>
          <p:cNvSpPr/>
          <p:nvPr/>
        </p:nvSpPr>
        <p:spPr>
          <a:xfrm>
            <a:off x="4238640" y="4422600"/>
            <a:ext cx="408636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больше или равна сумме строк 1.1+1.2+1.3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3"/>
          <p:cNvSpPr/>
          <p:nvPr/>
        </p:nvSpPr>
        <p:spPr>
          <a:xfrm>
            <a:off x="4211640" y="5070600"/>
            <a:ext cx="4086360" cy="56808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больше или равна сумме строк 2.1+2.2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53"/>
          <p:cNvSpPr/>
          <p:nvPr/>
        </p:nvSpPr>
        <p:spPr>
          <a:xfrm>
            <a:off x="4889520" y="6039000"/>
            <a:ext cx="4254480" cy="75240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. 5125  графы со 4 по 10 должны быть согласованы с данными по аппарат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53"/>
          <p:cNvSpPr/>
          <p:nvPr/>
        </p:nvSpPr>
        <p:spPr>
          <a:xfrm>
            <a:off x="101520" y="6259680"/>
            <a:ext cx="4415040" cy="76032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ая прямоугольная выноска 15"/>
          <p:cNvSpPr/>
          <p:nvPr/>
        </p:nvSpPr>
        <p:spPr>
          <a:xfrm>
            <a:off x="7383600" y="1182600"/>
            <a:ext cx="1828800" cy="1447920"/>
          </a:xfrm>
          <a:prstGeom prst="wedgeRoundRectCallout">
            <a:avLst>
              <a:gd name="adj1" fmla="val -168226"/>
              <a:gd name="adj2" fmla="val 27056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000" y="512280"/>
            <a:ext cx="1752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05"/>
          <p:cNvSpPr/>
          <p:nvPr/>
        </p:nvSpPr>
        <p:spPr>
          <a:xfrm>
            <a:off x="24300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4. Деятельность кабинетов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152280" y="4267080"/>
            <a:ext cx="8839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  на основании сведений, указанных в журнале регистрации исследований, выполненных в отделении (кабинете) функциональной диагностики (ф. 157/у-93 приказ МЗ России от 30.11.93 № 28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следовании одного пациента одномоментно (при одном обращении) несколькими различными методами функциональной диагностики с выдачей отдельных врачебных заключений по каждому методу каждое исследование регистрируется под новым порядковым номером с заполнением всех граф журнала и включается в соответствующие таблицы отчет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1066680"/>
          <a:ext cx="8763120" cy="3144960"/>
        </p:xfrm>
        <a:graphic>
          <a:graphicData uri="http://schemas.openxmlformats.org/drawingml/2006/table">
            <a:tbl>
              <a:tblPr/>
              <a:tblGrid>
                <a:gridCol w="3505320"/>
                <a:gridCol w="761760"/>
                <a:gridCol w="1295640"/>
                <a:gridCol w="1752480"/>
                <a:gridCol w="1447920"/>
              </a:tblGrid>
              <a:tr h="182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ликлинике, амбулато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дневном стациона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обследованных лиц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1): де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4): детя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ам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(из стр.04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рдечно-сосудист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рвн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ы внешнего дых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2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ругих сист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453"/>
          <p:cNvSpPr/>
          <p:nvPr/>
        </p:nvSpPr>
        <p:spPr>
          <a:xfrm>
            <a:off x="4572000" y="190512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+5 за счет исследований, выполненных пациентам, получавших медицинскую помощь в стационарных условиях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53"/>
          <p:cNvSpPr/>
          <p:nvPr/>
        </p:nvSpPr>
        <p:spPr>
          <a:xfrm>
            <a:off x="4572000" y="297180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ислу исследований (строка 07) соответствует графа 3 журнала регистрации без перевода в условные единицы, т.е. учету подлежит весь метод исслед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94"/>
          <p:cNvSpPr/>
          <p:nvPr/>
        </p:nvSpPr>
        <p:spPr>
          <a:xfrm>
            <a:off x="2133720" y="3435480"/>
            <a:ext cx="6781680" cy="552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троку 60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по паллиативной медицинской помощи» включаются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98"/>
          <p:cNvSpPr/>
          <p:nvPr/>
        </p:nvSpPr>
        <p:spPr>
          <a:xfrm>
            <a:off x="2019240" y="4064040"/>
            <a:ext cx="6896160" cy="1839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ку 124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25 строк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азании паллиативной медицинской помощи патронажными службами на дому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ещения указываютс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398600" y="4535640"/>
            <a:ext cx="557280" cy="1714320"/>
          </a:xfrm>
          <a:custGeom>
            <a:avLst/>
            <a:gdLst>
              <a:gd name="textAreaLeft" fmla="*/ 27000 w 557280"/>
              <a:gd name="textAreaRight" fmla="*/ 530280 w 557280"/>
              <a:gd name="textAreaTop" fmla="*/ 27000 h 1714320"/>
              <a:gd name="textAreaBottom" fmla="*/ 1687320 h 1714320"/>
            </a:gdLst>
            <a:ahLst/>
            <a:rect l="textAreaLeft" t="textAreaTop" r="textAreaRight" b="textAreaBottom"/>
            <a:pathLst>
              <a:path w="21600" h="66418">
                <a:moveTo>
                  <a:pt x="3600" y="0"/>
                </a:moveTo>
                <a:arcTo wR="3600" hR="3600" stAng="16200000" swAng="-5400000"/>
                <a:lnTo>
                  <a:pt x="0" y="62818"/>
                </a:lnTo>
                <a:arcTo wR="3600" hR="3600" stAng="10800000" swAng="-5400000"/>
                <a:lnTo>
                  <a:pt x="18000" y="66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4"/>
          <p:cNvSpPr/>
          <p:nvPr/>
        </p:nvSpPr>
        <p:spPr>
          <a:xfrm>
            <a:off x="2019240" y="5973840"/>
            <a:ext cx="6896160" cy="552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троки 124 и 125: Приказ Минздрава России №345н и Минтруда и соцзащиты России №372н от 31.05.20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Скругленная прямоугольная выноска 12"/>
          <p:cNvSpPr/>
          <p:nvPr/>
        </p:nvSpPr>
        <p:spPr>
          <a:xfrm>
            <a:off x="6388200" y="1147680"/>
            <a:ext cx="2493720" cy="3318120"/>
          </a:xfrm>
          <a:prstGeom prst="wedgeRoundRectCallout">
            <a:avLst>
              <a:gd name="adj1" fmla="val -265435"/>
              <a:gd name="adj2" fmla="val 4732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522360"/>
            <a:ext cx="23223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05"/>
          <p:cNvSpPr/>
          <p:nvPr/>
        </p:nvSpPr>
        <p:spPr>
          <a:xfrm>
            <a:off x="1579680" y="231840"/>
            <a:ext cx="59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5. Методы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4600" y="990720"/>
          <a:ext cx="8229600" cy="4408200"/>
        </p:xfrm>
        <a:graphic>
          <a:graphicData uri="http://schemas.openxmlformats.org/drawingml/2006/table">
            <a:tbl>
              <a:tblPr/>
              <a:tblGrid>
                <a:gridCol w="5045040"/>
                <a:gridCol w="1050840"/>
                <a:gridCol w="2133720"/>
              </a:tblGrid>
              <a:tr h="218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истем организм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Г (из стр.07 т. 5401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с компьютерным анализом дан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ЭКГ в ДДК  (из п. 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есс-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ПЭС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олтеровское мониторирование (ХМ) 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М А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карди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центральной гемодинам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методом реограф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перифирического кровообращ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реоваз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Другие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ердечно-сосудистой систем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я моторики органов желудочно-кишечного трак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запирательного аппарата прямой киш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е методы исследова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 flipH="1">
            <a:off x="-720" y="5189400"/>
            <a:ext cx="4932360" cy="168768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нные совпадаю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7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+4+5+6+7+8+9+11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0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10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32+33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ая прямоугольная выноска 10"/>
          <p:cNvSpPr/>
          <p:nvPr/>
        </p:nvSpPr>
        <p:spPr>
          <a:xfrm>
            <a:off x="6372360" y="1117440"/>
            <a:ext cx="2608200" cy="3819600"/>
          </a:xfrm>
          <a:prstGeom prst="wedgeRoundRectCallout">
            <a:avLst>
              <a:gd name="adj1" fmla="val -255703"/>
              <a:gd name="adj2" fmla="val 78773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строки, в которых есть расшифровк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РУГИЕ методы исследований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о строкам 7, 9 и 10 таблицы 5401 количество  исследований должно строго совпадать данными из таблицы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H="1">
            <a:off x="5076720" y="5589720"/>
            <a:ext cx="3903840" cy="103644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 расхожд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4, 16, 17, 1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52480" y="1187280"/>
            <a:ext cx="8050320" cy="19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24 Деятельность дистанционно-диагностических кабинет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у таблицу заполняют медицинские организации,  кто дает расшифровку электрокардиологических исследован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т. 5402 по строке 3 графы 3 данные медицинских организаций, передающих исслед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511280" y="3565440"/>
          <a:ext cx="6121440" cy="1235160"/>
        </p:xfrm>
        <a:graphic>
          <a:graphicData uri="http://schemas.openxmlformats.org/drawingml/2006/table">
            <a:tbl>
              <a:tblPr/>
              <a:tblGrid>
                <a:gridCol w="4711680"/>
                <a:gridCol w="393840"/>
                <a:gridCol w="1015920"/>
              </a:tblGrid>
              <a:tr h="922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дистанционно-диагностических кабине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роведенных ЭКГ-исследован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98080" y="457200"/>
            <a:ext cx="20955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05"/>
          <p:cNvSpPr/>
          <p:nvPr/>
        </p:nvSpPr>
        <p:spPr>
          <a:xfrm>
            <a:off x="30492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6. Оснащение аппаратурой и оборудование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49280" y="806400"/>
          <a:ext cx="8305920" cy="6051600"/>
        </p:xfrm>
        <a:graphic>
          <a:graphicData uri="http://schemas.openxmlformats.org/drawingml/2006/table">
            <a:tbl>
              <a:tblPr/>
              <a:tblGrid>
                <a:gridCol w="4762440"/>
                <a:gridCol w="646200"/>
                <a:gridCol w="1452600"/>
                <a:gridCol w="1444680"/>
              </a:tblGrid>
              <a:tr h="336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аппаратов и оборудова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единиц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отделениях анестезиологии-реаним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урное оснащение (указать к-во): электрокардиограф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ы для дозированной физической нагруз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елоэргомет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 для ИВ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неинвазивной вентиля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для наркоз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глубины анестез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пациен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льтигазмони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брилля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ультразвуковой навиг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прицевые помп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узионные насос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единиц аппарату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эксплуатации до 3-х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AutoShape 1"/>
          <p:cNvSpPr/>
          <p:nvPr/>
        </p:nvSpPr>
        <p:spPr>
          <a:xfrm>
            <a:off x="5867280" y="4648320"/>
            <a:ext cx="2895840" cy="1719000"/>
          </a:xfrm>
          <a:prstGeom prst="wedgeRoundRectCallout">
            <a:avLst>
              <a:gd name="adj1" fmla="val -45504"/>
              <a:gd name="adj2" fmla="val -1681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ется аппаратурное оснащение из числа единиц оборудования, принадлежащих медицинской организации на 31 декабря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ая прямоугольная выноска 1"/>
          <p:cNvSpPr/>
          <p:nvPr/>
        </p:nvSpPr>
        <p:spPr>
          <a:xfrm>
            <a:off x="3429000" y="3732120"/>
            <a:ext cx="3124080" cy="763560"/>
          </a:xfrm>
          <a:prstGeom prst="wedgeRoundRectCallout">
            <a:avLst>
              <a:gd name="adj1" fmla="val 72912"/>
              <a:gd name="adj2" fmla="val -137662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е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23000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ина Наталья Михай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- стат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т. 8(3842) 680502, доб. 4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ый адрес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stat@kuzdra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38320" y="631800"/>
            <a:ext cx="67053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98"/>
          <p:cNvSpPr/>
          <p:nvPr/>
        </p:nvSpPr>
        <p:spPr>
          <a:xfrm>
            <a:off x="380880" y="1301760"/>
            <a:ext cx="8382240" cy="5403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здрава РФ от 31.05.2019 №372н «Об утверждении положения об организации оказания паллиативной медицинской помощи, включая порядок взаимодействия медицинских организаций, организаций социального обслуживания и общественных объединений, иных некоммерческих организаций, осуществляющих свою деятельность в сфере охраны»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ллиативную медицинскую помощь оказываются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льдшерами,  при условии возложения на них функций лечащего врача и иными медицинскими работниками со средним медицинским образованием фельдшерских здравпунктов, фельдшерско-акушерских пунктов, врачебных амбулаторий, иных медицинских организаций (их структурных подразделений), оказывающих первичную доврачебную медико-санитарн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-терапевтами, врачами терапевтами-участковыми, врачами-педиатрами, врачами-педиатрами участковыми, врачами общей практики (семейными врачами), врачами-специалистами медицинских организаций, оказывающих первичную медико-санитарную помощь, специализированную медицинск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 по паллиативной медицинской помощ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694"/>
          <p:cNvSpPr/>
          <p:nvPr/>
        </p:nvSpPr>
        <p:spPr>
          <a:xfrm>
            <a:off x="3282840" y="4611600"/>
            <a:ext cx="5632560" cy="5526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умма строк 124 и 125 может быть больше строки 60 за счет иных специалис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: круговая 1"/>
          <p:cNvSpPr/>
          <p:nvPr/>
        </p:nvSpPr>
        <p:spPr>
          <a:xfrm rot="5400000">
            <a:off x="2019240" y="3765600"/>
            <a:ext cx="642960" cy="627120"/>
          </a:xfrm>
          <a:custGeom>
            <a:avLst/>
            <a:gdLst/>
            <a:ahLst/>
            <a:rect l="l" t="t" r="r" b="b"/>
            <a:pathLst>
              <a:path w="642937" h="627062">
                <a:moveTo>
                  <a:pt x="39191" y="313531"/>
                </a:moveTo>
                <a:cubicBezTo>
                  <a:pt x="39191" y="176624"/>
                  <a:pt x="143048" y="60673"/>
                  <a:pt x="282572" y="41808"/>
                </a:cubicBezTo>
                <a:cubicBezTo>
                  <a:pt x="420435" y="23168"/>
                  <a:pt x="551700" y="104978"/>
                  <a:pt x="591785" y="234523"/>
                </a:cubicBezTo>
                <a:lnTo>
                  <a:pt x="628805" y="234523"/>
                </a:lnTo>
                <a:lnTo>
                  <a:pt x="564554" y="313531"/>
                </a:lnTo>
                <a:lnTo>
                  <a:pt x="472040" y="234523"/>
                </a:lnTo>
                <a:lnTo>
                  <a:pt x="508056" y="234523"/>
                </a:lnTo>
                <a:cubicBezTo>
                  <a:pt x="469638" y="150720"/>
                  <a:pt x="375950" y="103665"/>
                  <a:pt x="282427" y="121200"/>
                </a:cubicBezTo>
                <a:cubicBezTo>
                  <a:pt x="186678" y="139153"/>
                  <a:pt x="117575" y="219774"/>
                  <a:pt x="117575" y="313531"/>
                </a:cubicBezTo>
                <a:lnTo>
                  <a:pt x="39191" y="313531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: круговая 2"/>
          <p:cNvSpPr/>
          <p:nvPr/>
        </p:nvSpPr>
        <p:spPr>
          <a:xfrm rot="5400000">
            <a:off x="1979640" y="3990960"/>
            <a:ext cx="1379520" cy="1074960"/>
          </a:xfrm>
          <a:custGeom>
            <a:avLst/>
            <a:gdLst/>
            <a:ahLst/>
            <a:rect l="l" t="t" r="r" b="b"/>
            <a:pathLst>
              <a:path w="1379538" h="1074737">
                <a:moveTo>
                  <a:pt x="67171" y="537369"/>
                </a:moveTo>
                <a:cubicBezTo>
                  <a:pt x="67171" y="297671"/>
                  <a:pt x="305923" y="96341"/>
                  <a:pt x="621393" y="70016"/>
                </a:cubicBezTo>
                <a:cubicBezTo>
                  <a:pt x="900297" y="46743"/>
                  <a:pt x="1165350" y="167244"/>
                  <a:pt x="1268646" y="364278"/>
                </a:cubicBezTo>
                <a:lnTo>
                  <a:pt x="1325705" y="364277"/>
                </a:lnTo>
                <a:lnTo>
                  <a:pt x="1245196" y="537368"/>
                </a:lnTo>
                <a:lnTo>
                  <a:pt x="1057020" y="364277"/>
                </a:lnTo>
                <a:lnTo>
                  <a:pt x="1108187" y="364277"/>
                </a:lnTo>
                <a:cubicBezTo>
                  <a:pt x="1007593" y="249219"/>
                  <a:pt x="817046" y="186427"/>
                  <a:pt x="623657" y="204606"/>
                </a:cubicBezTo>
                <a:cubicBezTo>
                  <a:pt x="381797" y="227342"/>
                  <a:pt x="201513" y="369454"/>
                  <a:pt x="201513" y="537368"/>
                </a:cubicBezTo>
                <a:lnTo>
                  <a:pt x="67171" y="537369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320" y="1066680"/>
          <a:ext cx="8839080" cy="3095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697"/>
          <p:cNvSpPr/>
          <p:nvPr/>
        </p:nvSpPr>
        <p:spPr>
          <a:xfrm>
            <a:off x="7365600" y="457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0"/>
          <p:cNvSpPr/>
          <p:nvPr/>
        </p:nvSpPr>
        <p:spPr>
          <a:xfrm>
            <a:off x="1577880" y="3222720"/>
            <a:ext cx="7337520" cy="1554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(взрослые всего) должна быть больш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– гр. 7 (взрослые с профилактической целью)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о есть, число посещений в поликлинику взрослых всего должно быть больше числа посещени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зрослых в поликлинику с профилактическими целям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1"/>
          <p:cNvSpPr/>
          <p:nvPr/>
        </p:nvSpPr>
        <p:spPr>
          <a:xfrm>
            <a:off x="1577880" y="4994280"/>
            <a:ext cx="7337520" cy="146556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. 9 – гр. 11 (всего с профилактической целью) должна быть больш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. 12 – гр. 13 (дети с профилактической целью) по всем строка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о есть, число посещений на дому с профилактическими целями всего должно быть больше числа посещений детей на дому с профилактическими целями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0600" y="231480"/>
            <a:ext cx="67053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725480" y="960480"/>
            <a:ext cx="670572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marL="745560" indent="-74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т посещений, связанных 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vid-1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390600" y="1522440"/>
            <a:ext cx="852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целей статистического учета, в случаях, связанных с COVID-19 заполняется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лон пациента, получающего медицинскую помощь в амбулаторных условиях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алее – ТАЛОН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223920" y="2538360"/>
            <a:ext cx="8529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ные формулировки нозологических компонентов диагнозов, связанных с COVID-19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COVID-19, положительный результат теста на вирус     U07.1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OVID-1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07.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464a72"/>
                </a:solidFill>
                <a:latin typeface="Times New Roman"/>
              </a:rPr>
              <a:t>по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COVID-19, вирус не идентифицирован                            U07.2     </a:t>
            </a:r>
            <a:r>
              <a:rPr b="1" lang="ru-RU" sz="1800" spc="-1" strike="noStrike">
                <a:solidFill>
                  <a:srgbClr val="464a72"/>
                </a:solidFill>
                <a:latin typeface="Times New Roman"/>
              </a:rPr>
              <a:t>заболевания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Подозрение на COVID-19                                                   U07.2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Подозрение на COVID-19, тест не проведен                    U07.2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Подозрение на COVID-19, исключенное отрицательны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ом теста на вирус                                                     Z03.8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Наблюдение при подозрении на COVID-19                      Z03.8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Носительство возбудителя COVID-19                               Z22.8   </a:t>
            </a:r>
            <a:r>
              <a:rPr b="1" lang="ru-RU" sz="1800" spc="-1" strike="noStrike">
                <a:solidFill>
                  <a:srgbClr val="732341"/>
                </a:solidFill>
                <a:latin typeface="Times New Roman"/>
              </a:rPr>
              <a:t>с профилактиче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Контакт с больным COVID-19                                           Z20.8       </a:t>
            </a:r>
            <a:r>
              <a:rPr b="1" lang="ru-RU" sz="1800" spc="-1" strike="noStrike">
                <a:solidFill>
                  <a:srgbClr val="732341"/>
                </a:solidFill>
                <a:latin typeface="Times New Roman"/>
              </a:rPr>
              <a:t>ской целью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Скрининговое обследование с целью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я COVID-19                                                              Z11.5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. Изоляция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29.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5681520" y="3108240"/>
            <a:ext cx="2843280" cy="14274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5681520" y="4730760"/>
            <a:ext cx="2843280" cy="2054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73234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Головина Наталья Михайловна</cp:lastModifiedBy>
  <cp:lastPrinted>2020-12-08T08:50:46Z</cp:lastPrinted>
  <dcterms:modified xsi:type="dcterms:W3CDTF">2021-12-13T07:04:49Z</dcterms:modified>
  <cp:revision>1378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