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8B7-E8D4-4225-9A41-1524E47673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7E6-7D48-41D8-9D74-D07FF09A179E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7A9B-E3C3-4662-96FA-B4DDD25754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FD7-2D4C-434E-B5CF-B096124CA7C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0836-9675-46CD-9E31-84105093D82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5A15-A873-400B-A7AD-5F03116B1E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6631-9D98-40FD-BC74-F6B766453CD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A6D-525B-40FB-81E3-38DFCC91545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FE2-A698-4A08-A08C-5B72B96BF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62F3-6027-4608-847F-5DA0F439630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EBE4-43F5-43F3-BC8D-618792B563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D3A-C16C-4F9C-AD73-7F9931A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A07-9E3C-4C8B-94D4-434AE4AF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D92-AFB2-4788-A923-DF7126A2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669-A83F-44A4-B6B1-9DC5B5BB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4E7-4807-462F-8506-D1E591D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F20-A500-4DBD-BC6B-36006B61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DA0-8F67-4019-81AB-BC2267E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C2D-13F5-4A27-A79D-206BFFA5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92E-582E-4057-BA3A-49E7CC72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858-4DFF-4DEA-A4BD-987A1D57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F6F-8D56-41E1-A104-7F17760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C3F-6F3E-4D8E-A055-1F445B5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DF9-45A8-4697-9FD8-60A43BBFC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719360" y="290520"/>
            <a:ext cx="93628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01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8537400" y="5440320"/>
            <a:ext cx="2905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446200" y="1440000"/>
            <a:ext cx="824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a@kuzdrav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вская Марина Анатолье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-статис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.т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3842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502 доб.40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6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57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7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68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79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Раевская Марина Анатольевна</cp:lastModifiedBy>
  <cp:lastPrinted>2018-12-10T14:36:03Z</cp:lastPrinted>
  <dcterms:modified xsi:type="dcterms:W3CDTF">2022-11-29T02:10:13Z</dcterms:modified>
  <cp:revision>133</cp:revision>
  <dc:subject/>
  <dc:title>Презентация PowerPoint</dc:title>
</cp:coreProperties>
</file>