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  <p:sldId id="289" r:id="rId76"/>
    <p:sldId id="290" r:id="rId77"/>
    <p:sldId id="291" r:id="rId78"/>
    <p:sldId id="292" r:id="rId79"/>
    <p:sldId id="293" r:id="rId80"/>
    <p:sldId id="294" r:id="rId81"/>
    <p:sldId id="295" r:id="rId82"/>
    <p:sldId id="296" r:id="rId83"/>
    <p:sldId id="297" r:id="rId84"/>
    <p:sldId id="298" r:id="rId85"/>
    <p:sldId id="299" r:id="rId86"/>
    <p:sldId id="300" r:id="rId87"/>
    <p:sldId id="301" r:id="rId88"/>
    <p:sldId id="302" r:id="rId89"/>
    <p:sldId id="303" r:id="rId90"/>
    <p:sldId id="304" r:id="rId91"/>
    <p:sldId id="305" r:id="rId92"/>
    <p:sldId id="306" r:id="rId93"/>
    <p:sldId id="307" r:id="rId94"/>
    <p:sldId id="308" r:id="rId95"/>
    <p:sldId id="309" r:id="rId96"/>
    <p:sldId id="310" r:id="rId97"/>
    <p:sldId id="311" r:id="rId98"/>
    <p:sldId id="312" r:id="rId99"/>
    <p:sldId id="313" r:id="rId100"/>
    <p:sldId id="314" r:id="rId101"/>
    <p:sldId id="315" r:id="rId102"/>
    <p:sldId id="316" r:id="rId103"/>
    <p:sldId id="317" r:id="rId104"/>
    <p:sldId id="318" r:id="rId105"/>
    <p:sldId id="319" r:id="rId106"/>
    <p:sldId id="320" r:id="rId107"/>
    <p:sldId id="321" r:id="rId108"/>
    <p:sldId id="322" r:id="rId109"/>
    <p:sldId id="323" r:id="rId110"/>
    <p:sldId id="324" r:id="rId111"/>
    <p:sldId id="325" r:id="rId112"/>
    <p:sldId id="326" r:id="rId113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slide" Target="slides/slide34.xml"/><Relationship Id="rId77" Type="http://schemas.openxmlformats.org/officeDocument/2006/relationships/slide" Target="slides/slide35.xml"/><Relationship Id="rId78" Type="http://schemas.openxmlformats.org/officeDocument/2006/relationships/slide" Target="slides/slide36.xml"/><Relationship Id="rId79" Type="http://schemas.openxmlformats.org/officeDocument/2006/relationships/slide" Target="slides/slide37.xml"/><Relationship Id="rId80" Type="http://schemas.openxmlformats.org/officeDocument/2006/relationships/slide" Target="slides/slide38.xml"/><Relationship Id="rId81" Type="http://schemas.openxmlformats.org/officeDocument/2006/relationships/slide" Target="slides/slide39.xml"/><Relationship Id="rId82" Type="http://schemas.openxmlformats.org/officeDocument/2006/relationships/slide" Target="slides/slide40.xml"/><Relationship Id="rId83" Type="http://schemas.openxmlformats.org/officeDocument/2006/relationships/slide" Target="slides/slide41.xml"/><Relationship Id="rId84" Type="http://schemas.openxmlformats.org/officeDocument/2006/relationships/slide" Target="slides/slide42.xml"/><Relationship Id="rId85" Type="http://schemas.openxmlformats.org/officeDocument/2006/relationships/slide" Target="slides/slide43.xml"/><Relationship Id="rId86" Type="http://schemas.openxmlformats.org/officeDocument/2006/relationships/slide" Target="slides/slide44.xml"/><Relationship Id="rId87" Type="http://schemas.openxmlformats.org/officeDocument/2006/relationships/slide" Target="slides/slide45.xml"/><Relationship Id="rId88" Type="http://schemas.openxmlformats.org/officeDocument/2006/relationships/slide" Target="slides/slide46.xml"/><Relationship Id="rId89" Type="http://schemas.openxmlformats.org/officeDocument/2006/relationships/slide" Target="slides/slide47.xml"/><Relationship Id="rId90" Type="http://schemas.openxmlformats.org/officeDocument/2006/relationships/slide" Target="slides/slide48.xml"/><Relationship Id="rId91" Type="http://schemas.openxmlformats.org/officeDocument/2006/relationships/slide" Target="slides/slide49.xml"/><Relationship Id="rId92" Type="http://schemas.openxmlformats.org/officeDocument/2006/relationships/slide" Target="slides/slide50.xml"/><Relationship Id="rId93" Type="http://schemas.openxmlformats.org/officeDocument/2006/relationships/slide" Target="slides/slide51.xml"/><Relationship Id="rId94" Type="http://schemas.openxmlformats.org/officeDocument/2006/relationships/slide" Target="slides/slide52.xml"/><Relationship Id="rId95" Type="http://schemas.openxmlformats.org/officeDocument/2006/relationships/slide" Target="slides/slide53.xml"/><Relationship Id="rId96" Type="http://schemas.openxmlformats.org/officeDocument/2006/relationships/slide" Target="slides/slide54.xml"/><Relationship Id="rId97" Type="http://schemas.openxmlformats.org/officeDocument/2006/relationships/slide" Target="slides/slide55.xml"/><Relationship Id="rId98" Type="http://schemas.openxmlformats.org/officeDocument/2006/relationships/slide" Target="slides/slide56.xml"/><Relationship Id="rId99" Type="http://schemas.openxmlformats.org/officeDocument/2006/relationships/slide" Target="slides/slide57.xml"/><Relationship Id="rId100" Type="http://schemas.openxmlformats.org/officeDocument/2006/relationships/slide" Target="slides/slide58.xml"/><Relationship Id="rId101" Type="http://schemas.openxmlformats.org/officeDocument/2006/relationships/slide" Target="slides/slide59.xml"/><Relationship Id="rId102" Type="http://schemas.openxmlformats.org/officeDocument/2006/relationships/slide" Target="slides/slide60.xml"/><Relationship Id="rId103" Type="http://schemas.openxmlformats.org/officeDocument/2006/relationships/slide" Target="slides/slide61.xml"/><Relationship Id="rId104" Type="http://schemas.openxmlformats.org/officeDocument/2006/relationships/slide" Target="slides/slide62.xml"/><Relationship Id="rId105" Type="http://schemas.openxmlformats.org/officeDocument/2006/relationships/slide" Target="slides/slide63.xml"/><Relationship Id="rId106" Type="http://schemas.openxmlformats.org/officeDocument/2006/relationships/slide" Target="slides/slide64.xml"/><Relationship Id="rId107" Type="http://schemas.openxmlformats.org/officeDocument/2006/relationships/slide" Target="slides/slide65.xml"/><Relationship Id="rId108" Type="http://schemas.openxmlformats.org/officeDocument/2006/relationships/slide" Target="slides/slide66.xml"/><Relationship Id="rId109" Type="http://schemas.openxmlformats.org/officeDocument/2006/relationships/slide" Target="slides/slide67.xml"/><Relationship Id="rId110" Type="http://schemas.openxmlformats.org/officeDocument/2006/relationships/slide" Target="slides/slide68.xml"/><Relationship Id="rId111" Type="http://schemas.openxmlformats.org/officeDocument/2006/relationships/slide" Target="slides/slide69.xml"/><Relationship Id="rId112" Type="http://schemas.openxmlformats.org/officeDocument/2006/relationships/slide" Target="slides/slide70.xml"/><Relationship Id="rId113" Type="http://schemas.openxmlformats.org/officeDocument/2006/relationships/slide" Target="slides/slide7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5A1-DAB2-4469-86D0-3C5BE91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753-2E57-4A02-B83D-DBFA400D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75BD4-8655-40CF-A48F-934C300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AD05A-C954-47E5-A204-CF26618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B28E0-8A6F-43FE-A542-F59BD12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1CE2-9EDF-4BED-A947-774326C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48484-E169-4804-99CC-61BE472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95081-9638-48EA-BC8C-6CB9831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548B0-CBC4-4AB2-9D76-9EC9E91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A839D-B776-4AFE-8632-CA4D119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93C3E-3295-48C2-9F85-021B17EE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9CFE8-1D23-4242-BE0A-F24E3A7D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7F-D278-471D-8E31-B9F5C801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C7EE5-D6B7-4A9D-ADC6-26E786AD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267EA-C8B5-415B-A4CB-F4BD7FB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E9FFC-F160-44D9-81AD-435464C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891A4-F8AB-4FA5-8F24-BD05E1C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8F9F-19A4-4ABE-8C5C-7A8379C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FF94F-5F67-46C9-A1BB-167059C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891D9-657E-4DED-9FF4-6CE33FA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8E4A-E00E-4507-A7C9-C7E9856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108EE-D79E-4AD8-8E66-1A4A4C9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7B8E7-8D68-4605-B1D7-0F9ACDBF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930-5242-4131-8B85-F6C3453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5ABB9-0498-46BE-9A22-F551C502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97AF1-A26C-4DAA-BEB1-DE805A37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6E0D-9FCD-41C9-89D8-4D948E9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D591-07BB-4DFF-86AB-F013CE4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AFF71-AA09-4E49-B3DE-589C18E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6D507-C5D2-482B-A538-E0ECCF8B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A851-9120-4E98-B4E0-5CDBFC5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257F4-9DD9-4065-863E-897B0877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74EB-69B1-4454-A34D-CA4B129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334F-D925-46A4-AAFB-BA133D7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38B-5509-4A61-9FBF-70D6A6F5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7250-1E44-4122-B6D5-A4E34AAC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09DA-35EB-42BF-9679-93136DE3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5B5F1-5A5E-4C88-8F5B-551ED837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9CEB6-FB3A-4AAB-AF98-AEE0A458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5A08C-F0DD-4BAB-AD93-D791AA82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96B5C-F2F1-46D8-BAD4-FC2A5079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68BD9-EB31-4F4C-BFB7-33909EC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C3400-E29D-4549-B78C-040594A7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D5BA-E57F-45BE-9A23-A77A10F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BD88B-9EBD-4F20-A093-3A70596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2868-38CA-4CE4-ABF1-BCE1CA21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8DEE8-3BBF-4C3B-A5C7-522537A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28CA-B103-414C-8025-482D526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28CA9-627D-4822-BB56-88ACD15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4643-61AC-4DF3-9881-993BF092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2EEDD-AEF3-491B-A3B9-7F40B23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B0A37-E1C0-4A63-9EB0-64748DB5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A0A0D-AA35-4710-ADDC-4D512A9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43328-8805-48A5-96F8-EF043D25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2DEA5-C602-41AD-A627-DA01AFD8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AFA95-877E-4429-A2A1-EDF9421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1928-820A-4985-AA58-F61723E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D67C6-30D2-40EC-880D-E21CD2E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35A80-171A-42E1-9E29-B18BD80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7A567-F35F-4BA1-BEDD-1CD2965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6796F-D0F8-4A0C-BDF7-48D93E36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EC816-C47C-48E3-9253-0279B8E1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ED6DD-17F4-449E-9E1A-7FB86971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6B455-C468-4D8A-AE19-9B1F46AB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3D20F-F525-41CB-BDCF-04B5B241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63AF0-AFFF-4014-A6F4-4EBEBD44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23672-AA25-419C-8D6D-B3FE157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B56C-EDE5-4864-808B-2D58B198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2568E-1B9E-48E0-8F3E-630EF184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988E4-DC0C-4A37-ADA8-EC82B3A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C516A-A7C3-4C8C-8029-CC77121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1639F-FC22-4EC4-A297-AED6405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87A21-3162-43CF-963D-AB752FEF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16644-AA0E-4FB1-93C7-AB0EF387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F25A2-6A43-4311-B375-5E4B334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FA193-93B3-4DCA-9BFE-B15763D3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E8F9E-E1CA-4B2E-A8EA-C20432BE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11139-AFE6-430B-AF4F-7BD7E230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8C0-FDD2-4AC5-BC77-6C866CAC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AE04F-3220-4412-B592-D2646422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3DE7A-71DA-428D-BECB-727BA0F8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EACC3-CE81-41BE-8648-7C4867C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82122-002F-4FC4-8F38-5AF3B05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28D15-7CB0-4978-A741-B2C30170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5FDD6-0944-4E25-9DB8-AFD32A9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009F4-8A89-46C1-8179-A5F8374C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6B309-E6B8-4C2E-899A-1F1AB8D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7EF81-1A95-4B95-BDBD-32AB16E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EAB0F-AD10-4C0C-82AB-8DB34A73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120D-88AA-464B-A4AE-A8AFD384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A0A92-3EB9-4CC8-B397-DE8E6979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12A98-71E7-4902-8868-A64BD43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6A642-DC1F-4327-99FE-9DC6299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CF629-6BC9-4439-A096-47A84A26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31EC6-E9C4-4E56-9ED7-1F8E9C0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CB453-0C39-467A-AD68-90D2CF1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2226D-6BA6-4BA2-A39B-A5BAFF73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6BA30-3D32-4E1F-BC39-54232DB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010AA-6819-43B8-8BFD-0A167B1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0204E-B22D-4472-986C-B7BA24D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A536-54D8-427C-A35D-46A156B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23637-2D1D-4FF1-8A75-2D3E33A6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74D3E-CF3D-4114-B779-F5062F48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63146-0B87-4C0A-9421-2BC3E298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671D6-24AD-4749-88AF-9434F9C1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CC0CD-F261-4805-B9A2-5A19315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FE643-6B4D-4F3D-9A0F-1CB574F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575CE-E199-40F6-B2FA-A300B62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9B602-7DC5-40FD-B176-72F93C06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87F7A-7EF6-4E9B-9B73-B60C1106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24409-BD4C-4C68-B856-CB6C7E1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95B-E450-442F-87DA-8B35F57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A8E3-34B5-44F7-8866-2A4396C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30F49-1C73-403A-93FB-CF06405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4D4C4-43AE-4985-AF90-F1E49FB4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5F42F-7BA4-4251-9CBE-6249F42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E541D-E90B-4857-BEF7-E9AA5B1B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A0F1F-3F65-4CD3-B8E0-29FB2665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43274-D87A-4317-B422-E486F0C8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BFEDF-084C-461C-AC58-686DAA8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6B809-7B3F-478F-890D-8F53965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08DED-FA5D-4904-9495-98095FF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4DF77F-7450-40B9-A487-16ECC7F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28D-756C-4868-81BB-B9AC741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316D2-4281-427E-B132-6045790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49D17-9BD5-4758-AF0C-21BABAD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4DA12-7909-4B5E-B91A-CBD3DC5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82DD9-17AD-4DB3-BE1F-DC06909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F151B-F8E0-4856-932E-60B5C65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D0A5B-8318-4CEA-84DA-1A4FCB5B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139C3-A7AF-4691-BB9F-AB51DD1E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BE9E1-4006-4786-B1B3-F788217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AF511-4AAE-4BD8-B9A7-CA59EDF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E37B7-8F30-42C6-9ED4-2275FA5D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30B2-DE28-4ABC-A76D-B6201375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E349C-CBAA-414F-A97D-C31760BC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92C8BB-6BB4-4044-892B-18F8BE0B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39E94A-86AA-40D0-9BE8-47B71A1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92804-0066-44A9-B6E3-A147730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F7B0B-A300-4E0C-9065-7C6465D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D7A61-E522-4CD5-85A0-A36BC32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9434D-7DDA-407E-AB68-E3F2762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CF68B-2D5F-4D0E-B818-FCA82FE0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A4C4A-45F9-45DB-B714-91A76CE0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AA1FA-C096-40EB-9DDC-2AFFFFE0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30D-27E6-49C3-9588-431AC25D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269A9-436D-4651-8724-974F4AC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60CFA-16FD-4A4F-A62C-B7922D2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A53B6-3128-40DE-BE23-DED06BB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33B79-7ACB-478E-A68B-68D6B79E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727B6-9E5E-4D8A-B670-A0F58EAB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FA3DE8-E664-4345-98CB-6026B57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47661-0605-4A73-B934-48DD5B6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E6FF2-D686-493F-8323-EB94B1A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28F64-4D58-43F9-B44C-EACB3013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B8F09-7B41-48B5-85EF-8F12BCB5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092-E81B-47B6-98AC-EAACE5C0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7380B-9E60-46E2-9C5F-E62D49E4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C2D45-61A5-4208-8652-8EEEE97D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93BE9-1E0C-4282-8A82-718F3104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0ED2A-5F8E-4146-8A29-E330965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CDAA4-843C-404E-8D44-31FF395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6057F-4F36-4A04-BABA-9DDDD09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8AC64-6261-42A5-A1A0-47069A3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90D446-8139-4387-B766-AC0346F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88348-3C56-4EC3-8AF3-62DF51B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354FB3-4F00-4FDA-9D4E-9594B4C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0452-5D11-4560-8274-B88A77CC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1B2CB-9604-4279-9574-4CA9550B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09325-9BA5-4F7C-9A8D-AAC7CE37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CE9B9-F944-438A-9644-427A8024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7F122-FE52-411A-B139-3058E203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F65AD-4E6D-4CD2-B2B1-9C84B7B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C41D5-FD75-426C-ADCD-B74EC591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D9553-1150-4918-92E5-FD8F92A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4F59B-A7F2-4348-B952-4F8F731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35B1F-CB5B-449C-BF16-AC2CFFDA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553119-B6AF-401E-A4C4-9D06836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64DF-77C3-401D-91A4-56132CE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82F224-DDE6-4C82-8BB1-37F1EE01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9014B8-8DC9-4791-A942-534C4E3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E1348-EB72-41B0-93D4-C5C50C6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09B36-412B-4A0D-95FA-C3A57FDC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6AF12-3A9F-44B5-87FF-838816E3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77201-8894-44D9-906B-6267192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1BABC-6974-4883-9FC9-F4415DF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009DC1-EC71-48E5-AD75-C24D6651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09C713-DA37-4442-9047-7450753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69867-41D2-4B9B-A469-FE8544A9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0CC5-6B48-420A-B18C-6223AB2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D78A2-8846-4417-90B7-46C6998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076BE7-5C46-450A-9A34-294D326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A16FF-3D44-4C09-A25D-6343CBA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064347-5076-4B20-A031-A5A57BD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1AE8D-4C75-4628-860F-1E210E5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51E07-80AE-43FD-B1D5-AD90E5C2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A4204-DCF3-4DE9-85D1-E9492980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CBCF0-E32B-4CBE-B337-0B52E5D8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D1D172-9EEC-4993-A85A-A5247D30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886B40-A0FF-4DE7-8A85-96992BB5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1889-9075-41D5-A490-4AC3A1A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847E5-F69A-4910-AD2B-F4109C6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B6AF3-2014-4B79-B177-6134EB4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568DC-5116-4D14-90E9-73F2D41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FC80C-66A4-4072-88CC-3F6F1ADF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C4CAE5-1F4A-41A1-AFFE-EE6EFE9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E3A82E-87B7-437B-9978-D675EBF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26CE08-8AA5-49C6-818D-DCB1BD71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86C0DF-4700-4493-BBB3-E3F20915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41D2ED-EA1F-4313-913D-1150D0C9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91C6CA-7CE6-440A-B71A-77113CD4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D63C-B7A1-4242-AB8C-53D28CA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3688BB-6CA9-400F-999B-E16E1C8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6F82E-5333-44DC-AB6F-B9D7F52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A45A81-A9D6-4AE3-868D-0DCACE3B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330584-E4F4-4CF2-BD26-06A81B6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7FAF6C-23E0-41D4-A13B-F4966591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D7D888-E45B-49D6-8F02-F3B4014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EA0D18-3C62-4491-99E0-54F4ABE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FCC6D-C709-4CC7-9D83-6491CE6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5864D-192F-4E0B-9071-4833F4E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102DE6-88F0-414B-804D-AD56F710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273-4CB5-4E97-932E-561AB8EB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185B-30C5-467D-B05B-32DD08D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B2BC38-5968-4F3C-A086-930C1B55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C995C2-968F-45F8-8C56-2613693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77D4AC-0C32-4544-BCD4-873DC2C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9A1705-EE8F-485B-8489-541D43D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44C3D-8176-4B31-8398-666BC83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1ED8A-25A6-4D0F-8179-E237DEC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43A4CB-5CD9-4E3D-818B-5F7C51A5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3054FD-CBC8-47FE-99EF-8D3D431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067B02-3162-450E-A43F-9495A51C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803090-B082-4284-8885-295E6B8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3074-8F15-437B-88CE-DA5382F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DCE5E6-8F80-49E7-8173-ED1370C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6B2808-6027-49B0-9901-63A9CABC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816B7D-6905-438E-822F-84BAFCAB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5F5FDF-5795-4D6B-9B58-FF7F46A2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BFF28B-2090-4E09-BE9F-DEEC06C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BB01F4-9CD8-4254-A1D7-FD5B068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DDC2D-71EA-4CB2-BA53-98206C97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5276B-7AC3-4686-88E9-A2AD568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AA65AB-F672-4149-A1A1-8F55FE7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C7C6D9-DFBE-48AB-AE04-E18131D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4862-1819-4926-8D30-6C5E78F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1C823E-FAE0-49DB-8F85-0D2DA74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AF7F36-2A87-4685-9649-61A90D3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065C3F-1A57-4DE7-A5AF-1F6FF339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900452-CDB2-4A66-934B-3583E927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7375DB-D57E-4E45-B026-544B16E5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B5EDA5-B164-453A-9E75-284B588C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A7ECDC-8043-4D24-9973-0A861D8D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1CFF8D-9166-43A3-B586-D8E5563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0B463C-C436-4AC8-99AD-B241ACC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03903F-0080-4655-B472-4083FE9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398D-4E0C-40F3-98B8-19A3FD3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A0F756-27DC-4075-B342-1ABA21FE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BF1347-E680-44A2-B45C-6E8CF61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95730D-A892-479B-8B16-94F5EC5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BDF8C9-0069-4CC1-83DF-E13227D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522CA7-5866-4986-9BB2-4E1DAAA3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48D96A-D032-499F-AD56-572B4120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EBE129-97F4-49AB-804B-EB0B6CF7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2FA532-B8A0-432A-B5B1-14E1756C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7913B6-365B-440C-9441-F7F43EC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34A913-2BB9-4E00-BB7D-F560B62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7B4D-F226-4891-93C6-C75C011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04B564-A5CA-4773-A419-F3B452D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681EA9-B520-460C-86B7-411D5FC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88D0C5-F60E-4B77-9828-C6D94438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5CD1B6-5BA7-4CDE-A78B-F0CEDEC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9AE21-420A-44B7-8019-7549F5E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EB571F-F3E9-4A73-85EB-2267F97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1B8C50-2EAB-4FB0-8F1F-A4B6A3F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0CFE4F-2FEF-4CBA-9313-98723155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20C567-A68D-43F6-B924-1E024C33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6CD93-5DAA-478C-A403-EC006DFF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560E-FC47-4083-AF95-2B43F8B3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1559A7-14C7-415C-ADA0-AB4618C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43C04A-720B-43DE-BDB7-1D50B9A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8189E6-5E92-4A5E-8EB9-B0C0705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F1983C-3539-4FE5-B8F0-DABDB32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9353B3-6116-47C6-8D24-B0385376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34F58F-F800-4F38-8E8F-84BCF03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BC6E28-1478-4A25-A97F-BF0E6A8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084C65-6FD6-4EF6-BD50-E84659B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57DBF8-E269-4453-8F41-7E301420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76A06B-A084-47A7-B7E9-EA0EE3FF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17E0-B771-432F-8746-8DFB80E4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13D9BD-F159-4D83-9DEE-6271BD1C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97E6E1-A7FA-4B0C-ADFD-042BDE57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21A436-84B7-4537-9C80-8925FC7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ABF3D4-629B-4DE1-8051-F0AE2E1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7B359C-BF10-4074-BD18-F48A097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42D8FD-296C-4C78-A57C-CE73E0E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5650C6-DDCA-402F-8067-3BC2EE6F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88880B-6977-442D-8C2D-742BF1B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AAD9C1-205D-43F9-86CB-47D9EE0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82D53-ED4C-4438-85D3-FADE613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CC18-B356-4907-B613-3267AD77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AB44EF-9A2F-4F2E-80D2-294C910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8EDDA2-390A-4BC5-9D7F-98D00B78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A6D60E-CE69-488C-9F65-0FEC5BF7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E6DF70-EECB-4A5E-83AC-A37EC607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FD185C-689E-46FB-8B5D-D0D9D232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46C31D-04DC-4346-9832-89D1977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BA4D72-8C6C-49D1-9709-E85B743A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DDE945-2114-4B88-A899-E0A2BF5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B3A4AA-CBB6-43DD-A7B6-6312DE6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DDAF77-D2BF-4ED7-9478-EE0F0FAD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D7CC-64C8-4BD3-9204-878B04F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C10A33-0B90-4965-A135-59226D7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AB09D1-A3CD-4ACC-915F-079B679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5BF309-4DC3-4F93-B659-A85CA0B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ED4481-253C-4C52-85E4-6468C9B7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33E2FE-07C0-4D0F-BF5C-329F86C9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A764C5-0BFF-4396-AF11-DDA93F8A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55471A-A2AF-441B-994B-71AF6C9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13C63B-C811-42C5-B1CD-9BAAB57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7745AA-0F3D-4968-B730-DAF6CE19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1945A6-29C8-43CE-A93F-B1A302E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D7D8-5BC3-4118-9C33-2AEB84C3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1F6A52-1947-4BF0-A52D-2FAAE63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58BB84-42F8-4E8A-B5EA-FA654CA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99A186-63D4-4956-9253-7CF66F5A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36F503-3316-4525-9635-0EEC904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39F325-360F-474B-A986-54FECB8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903501-A074-414E-ABA5-7140B657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008D1B-CA33-40BA-A06E-ED0CC248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E7DB19-97F5-425E-923E-C29C3211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E99609-E014-409D-8155-D752867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BBD24E-A486-4B3A-9A70-332C026A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966-D064-439F-84D0-EEC6C6A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2C5-F3D1-4873-89F1-5366502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FEBADC-F2DD-4F69-AA3B-3AB19E5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CDD4B5-16F8-43EA-B6AD-CC3BA8E4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96D0B7-7470-46BE-ABC5-321CCF24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5B0ED0-A750-42EB-A4B1-82DFC03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B094B2-6CF5-45D2-B99A-84C6F9A4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8944AD-F0F0-4DDD-92B1-9D4185A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9A9863-69DC-4009-895D-4DCB506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C45F11-B9E3-4913-8341-93678F1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D84BA3-EDBD-4127-8511-092A8754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D728D9-16F7-4CE1-969F-7AA9130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1D7E-F86D-4670-AC2F-876E16E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93079C-720B-45A1-97B9-5CE0B94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939F8C-B11D-4A7F-9981-9728FEB6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D66881-9C75-4B0E-9FDE-6424C00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C4C3D2-8DCD-4FA1-A60C-C25026E9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C55D67-4A68-49BF-AF47-0451028A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6B668C-55AF-4662-8E2C-543B4DE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BF3C54-B236-49A0-B912-32DFBBD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A8311A-F3FF-401A-A7FE-7453D87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54BCAF-4C39-4981-B4CB-9D37E0FE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08AA95-5027-49F5-8719-3CC06410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DA3C-1F8E-4059-8163-9015A3E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D2BEAA-74C5-4446-9B10-45D31A40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68A682-1960-4223-AE7C-F4397674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A7BAC6-0E83-483F-8D8A-B3DC021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8E1EEE-E421-4CB0-A32A-D2A021C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905AF0-3D98-46AF-9C76-71F85243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14E288-1DB1-4261-83DA-96F3DBB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C98393-6F8E-44D9-8FC5-47DE929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4D12D2-2B49-4BEA-97A9-0217CCE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EE2B8E-9564-4584-B99B-C2841E6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BFA6B3-5112-4854-B1E0-0B46615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2E30-0351-4420-B6A6-3FB6437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DAE899-6002-46FA-8D5D-96609A1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EB002E-8B27-40CE-8E3D-55AC1F1F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F2DC76-C436-4970-B86C-6AFE23AD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2223F4-2195-418A-9443-29F7007E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9E932D-4FF6-4964-B0D4-6D405D30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F12A8A-4ED1-4BE1-8ECA-106F0C3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96EFFF-D739-4DE8-A1D2-114FCFD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F20D33-121B-4ED9-B573-B7FF406C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0591B2-E6C2-4818-9A32-AA12FE3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36F86A-2FB3-42FB-888A-6BD687A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A2C8B-A68D-4BFA-8FF4-6C1010A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7D9435-F707-44F4-A82D-7194EDF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0B40EC-EA13-4B08-8197-26DD9CF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A32ECA6-4616-404A-B893-C7877B76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5CACAE-0C79-49BF-8E15-81329875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85486D-E865-43DF-ADE1-ECA1AE7F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7E2CF1-D51A-448C-BC17-C047557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0F13AA-754D-4B5B-ABF2-9D789E9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ED574E-1D5C-4CB0-BF53-AC83BE3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3EC5AE-C269-42B6-9FBD-463F7E4F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FC69B7-177C-4970-88BA-98DEDBA3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39A1-347F-42A4-B711-AC3BA9C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111A9C-FBAD-4EF0-93D0-50838CE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AD056C-7E7B-45E8-B107-B7A6785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624681-5ABF-46BE-9F7F-CC58169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DBBB00-0607-4AF8-B467-625E27E1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000430-512D-4A8C-9B26-5BA5393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EA6758-45D2-4B58-AC11-C0D39E05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FC37D2-A614-4452-B57E-B899BC5F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648424-43EB-4642-AFAC-5A237D59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4FFDC2-4D28-45D4-99CC-09F1EE6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EC573C-4F3D-46A4-B12A-3144FA4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5E5C-92B1-4E4C-9E58-F5FC5FA7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95A9A8-1004-4BB5-ABF3-3D3BBAB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371E45-7020-4735-AC6E-7D4135B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4905E9-B692-4701-9493-E948FA5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085661-C0BD-417E-8762-44874F92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24E43E-5665-4A95-87E0-EE26A84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01CFE1-3356-42DB-9524-92548BB6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42CFBB-072B-45DB-9DD0-F997381B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2F1144-CADC-4DD3-B7D4-F683922D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F140DFE-1781-44BA-86F7-B3B32AA9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886F5C-14E2-4D1B-B42F-22A00EEC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09EB-5835-4829-BAA0-8A974DCA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6D0FB7-E8F9-4BA4-8CD3-450BD576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0662D5-D9DA-4663-A1CA-8A9EAAAD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E3A6E5-824F-43AF-A252-551FB932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C48101-42B9-4C23-895E-B8923B3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CD27CD-E328-4E1A-86FE-DA990C7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6F0420-341E-4BAC-8426-2267E17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438A30-829F-4EC9-9F0E-A542FFD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A8FAA1-51F3-40F9-911B-E4FFBDF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51DA28-736F-4CCB-ADAF-CB5DCE46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A4687C-A040-4D72-B2DA-FA5FF468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0AACB-85F2-4583-BAE2-15E1008C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D2A260-FF8F-4845-A5AE-19B0B44B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DDF458-C819-4BB4-A7B2-42C83F45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E5A709-0FAC-417C-9358-AC117B0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C984AD-9391-4632-A13A-F9D0DE1F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C572D5-E50D-48DE-8E85-11E7809A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B11F9A-7C2B-49B1-8A04-DDC7FED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40DCF5-C4EB-4305-AC65-DCDA52B5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4CA439-6EEC-400A-953D-5E298D0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A430AE-6C3D-4C0B-AC0A-99AECD9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CBCA4E-894A-470E-ACC4-85F50CC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FCA4-538A-4710-B119-D2558494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2C83F1-2982-4415-B86B-8A5A4ABA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C89BF1-D36A-455F-8D7F-613BACE4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1C64609-DC94-45B8-9AF2-14A385F9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E8E-925C-4DF8-9CF7-6DA623E0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13C1-C201-4EEF-BC0A-82D656A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6149-FCC6-43FB-8CC0-B9F9AC15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C9E3-FD1F-41CF-B147-8494722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84A1-7FF8-47E4-A7DC-2F21026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7892-C19B-4B06-A43C-5A5D03B3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21EF-E889-4D9B-B389-18D6362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6824-FDE4-42E0-9162-56B89A8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554A-9705-4924-B604-E70FB8D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6614-9A75-40CA-BCEC-5FFC926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2825-C182-4533-975C-2AD06749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E06-D375-48B4-9847-D0BEE60E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C0DE-63D1-4C68-9402-445666EF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9BF9-9E51-4758-B94B-2FB971C9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8AA3-4BF3-482B-BB32-23C9600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2DC1-EBF0-41E8-A068-5482B456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EE07-3636-4585-8D57-6A48505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A7E24-FA09-4622-A1C3-D4A986D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BB2A-06A5-496A-A6BE-63124D4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8775-10D7-46FC-B57D-1B446A5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8ECB-F1B6-4D31-82C8-9749E9A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DEC5-1241-452C-AA89-49180FF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7D0-3933-4D30-BC94-85FA2F4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FE7C-0400-4C4A-A729-200EEEB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7C40-8363-4C4C-A707-8779F287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7571-0AA1-4A4B-B7A5-C51D58A4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10C5A-562F-468C-A4E5-2C56EB76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B9FD-DAE8-4BDD-A0D3-486220A3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4A99F-747B-4566-949C-8155EDDC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7CFB-C8F7-4CB8-8BDE-1A5DD22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D96C-9B09-4120-8A1D-8C348A1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DBC0-DD44-488D-A35F-4996CFA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159D-8195-473E-87AD-996545D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DA5-A8EB-464B-9E9C-E2F7A81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D044-927B-4FEB-9DE6-78C2E04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1A2F-C0C1-40C6-8212-1B0FB2A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B725-33CA-4807-B17C-E7D1E5A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E03B-3168-4DB1-A68F-15BFD5C5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1308-A3F0-4B0F-ADD3-3741A80F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079BA-464E-411E-A7AF-EE91BCF4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7959-0520-4CD0-A4B9-19446D53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CC481-BFA8-4BC4-A465-C980942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8BA5B-EC43-42DC-9DD3-EC34541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353A-8E72-42A7-8995-681A2FFF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2E2-0375-4F87-B089-8E3C8A6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023E1-4C35-4FA1-B79E-23E4EE43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0660-085C-4C61-9F6E-3DE1DBA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BFDF-1E0D-44E5-B58B-46C5C1E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D837E-9375-4A48-8F73-6FAB6B8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C5AE-48F6-4756-B541-BCD22F1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5F655-ECA3-45F3-B52D-5F45438B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BD3A-0FBB-4B48-9504-1C4D7D37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76E1A-27B8-4E2E-8F1D-BF0B73D4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D4A29-0638-408F-A05F-F2DAF98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6A396-470A-425B-87E2-424D94D9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96E88-C9AB-41DC-9067-224F15EEF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92D60-3C3E-4769-BA94-785C07880C0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A2028-9301-4545-97B5-725F5ACD1A4D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423C3-EB02-4561-8149-0B8FEABD926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A19EC-C35A-4FA9-8DDF-E0582566312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41314-7942-4006-98DE-268F66C5598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CBEDB-7834-42A8-BEE6-82D56A769DA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7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8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B156E-CBAF-49CB-850B-D230AC76C14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B9EA3-0A62-404C-8B36-22087FB230C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FA5E1-80B0-4984-9CCC-4AC44FDD75F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3D515-826D-41C8-AB1E-C9FDD3BE16C0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D45-BAC5-4F54-9480-48D5630FE906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850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1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AA16F-C24C-46B4-98D2-3165C64FA81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B1C93-2374-424A-8EE1-E1738361D30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19322-FAA5-4538-81A4-A361EE04E661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81531-6DE9-4A20-943E-E59C981D11D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C55D0-E911-4A99-9FE6-7E9EABFC728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57F83-0658-4C50-BA6D-6BC32FC5743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FEB53-C232-4CF5-8D32-DB6EBE14F26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7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AD6E-4073-4771-A6BB-6B4FDB710D1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AD010-BE37-4FBE-AE6E-F4C9E6B13A4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4AEA-2A03-4675-9EF3-2F0E4C7B056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28D-6242-4324-9CC4-A8F4DD03906B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9DDDC-9F37-4DC7-ADA1-C7581EC8ADA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1326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7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015CA-AACD-469F-BC05-166017F1315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2DF22-449A-4192-83DA-78402E3693E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7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9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55467-809B-4A1A-BB31-E31F4916C13A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C537E-791D-4DB4-A83E-949CF1BCFA5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1F7DC-F6D4-4ABD-8A6E-1EAE057EA40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59378-03DA-4EF5-87B0-0F7118898EA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9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10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11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0563A-49C1-4AA5-B134-02475860DC0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8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1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1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1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EB93E-3481-4C49-954A-4C5E0C15881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 type="dt" idx="115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 type="ftr" idx="116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 type="sldNum" idx="117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765B0-9CAB-4F23-A561-BB633900EAE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422A-4F40-4455-AB00-7F3A9D70CE42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D0715-873E-4EF5-8E7F-E637525BA5F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DE1E7-9DF7-41F7-A8BC-99FAF316464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178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F6742-5885-4469-A39E-D4942EEB8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26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B6B71-96A6-4DD1-8904-C728BC972D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7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8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49100-2D62-4931-BAAC-1E6701410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32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40489-5CB6-4FE5-8D3D-19A88161A5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374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4549B-E5BD-48A0-A617-D21B0346657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Заголовок 1" descr=""/>
          <p:cNvPicPr/>
          <p:nvPr/>
        </p:nvPicPr>
        <p:blipFill>
          <a:blip r:embed="rId1"/>
          <a:stretch/>
        </p:blipFill>
        <p:spPr>
          <a:xfrm>
            <a:off x="1414440" y="506520"/>
            <a:ext cx="10406160" cy="401616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 txBox="1"/>
          <p:nvPr/>
        </p:nvSpPr>
        <p:spPr>
          <a:xfrm>
            <a:off x="1828800" y="4889160"/>
            <a:ext cx="9847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algn="ctr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ч-статистик отдела мед. статистики и анализа ГАУЗ «КОМИАЦ им. Р.М. Зелькович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закова Наталья Владислав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. поч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v@kuzdra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ел. 68-05-02, доб.408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8" name=""/>
          <p:cNvGraphicFramePr/>
          <p:nvPr/>
        </p:nvGraphicFramePr>
        <p:xfrm>
          <a:off x="1558800" y="841320"/>
          <a:ext cx="10328400" cy="4543560"/>
        </p:xfrm>
        <a:graphic>
          <a:graphicData uri="http://schemas.openxmlformats.org/drawingml/2006/table">
            <a:tbl>
              <a:tblPr/>
              <a:tblGrid>
                <a:gridCol w="2533680"/>
                <a:gridCol w="957240"/>
                <a:gridCol w="1219320"/>
                <a:gridCol w="1338120"/>
                <a:gridCol w="1063800"/>
                <a:gridCol w="1387440"/>
                <a:gridCol w="896760"/>
                <a:gridCol w="9320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.-мед. вскры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.-мед. вскры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44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61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амидные и др. двигательные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-нь Паркинс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экстрапирамидные двиг.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16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819" name="Прямоугольник 2"/>
          <p:cNvSpPr/>
          <p:nvPr/>
        </p:nvSpPr>
        <p:spPr>
          <a:xfrm>
            <a:off x="4514760" y="3189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Заголовок 1"/>
          <p:cNvSpPr/>
          <p:nvPr/>
        </p:nvSpPr>
        <p:spPr>
          <a:xfrm>
            <a:off x="2449440" y="216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2. 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1419120" y="800280"/>
          <a:ext cx="10433160" cy="5163840"/>
        </p:xfrm>
        <a:graphic>
          <a:graphicData uri="http://schemas.openxmlformats.org/drawingml/2006/table">
            <a:tbl>
              <a:tblPr/>
              <a:tblGrid>
                <a:gridCol w="2521080"/>
                <a:gridCol w="655560"/>
                <a:gridCol w="855720"/>
                <a:gridCol w="809640"/>
                <a:gridCol w="890640"/>
                <a:gridCol w="925560"/>
                <a:gridCol w="820440"/>
                <a:gridCol w="727200"/>
                <a:gridCol w="738360"/>
                <a:gridCol w="679320"/>
                <a:gridCol w="809640"/>
              </a:tblGrid>
              <a:tr h="27864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.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л. по экстр.показ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циент, доставл. СМП (из гр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патологоанатом. вск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.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-медиц. вс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.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3 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 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 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534 6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 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убарахн . 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 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. и вн.череп.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 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 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 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 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17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 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64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ц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 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 Ц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 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 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764 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 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2" name=""/>
          <p:cNvGraphicFramePr/>
          <p:nvPr/>
        </p:nvGraphicFramePr>
        <p:xfrm>
          <a:off x="1395360" y="809640"/>
          <a:ext cx="10574280" cy="5103720"/>
        </p:xfrm>
        <a:graphic>
          <a:graphicData uri="http://schemas.openxmlformats.org/drawingml/2006/table">
            <a:tbl>
              <a:tblPr/>
              <a:tblGrid>
                <a:gridCol w="2075040"/>
                <a:gridCol w="587160"/>
                <a:gridCol w="760680"/>
                <a:gridCol w="973080"/>
                <a:gridCol w="1031760"/>
                <a:gridCol w="903240"/>
                <a:gridCol w="655560"/>
                <a:gridCol w="892440"/>
                <a:gridCol w="901440"/>
                <a:gridCol w="938160"/>
                <a:gridCol w="855720"/>
              </a:tblGrid>
              <a:tr h="31896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3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. койко-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патологоанатом. вск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. 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ебно-медиц. вс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ений 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148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. по экстр.показ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циентов, доста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П (из гр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 3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6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 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76 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убарахн . 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 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 и вн.череп.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 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4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2 8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ц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Ц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 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86 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23" name="Прямоугольник 2"/>
          <p:cNvSpPr/>
          <p:nvPr/>
        </p:nvSpPr>
        <p:spPr>
          <a:xfrm>
            <a:off x="4921200" y="22068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3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4" name=""/>
          <p:cNvGraphicFramePr/>
          <p:nvPr/>
        </p:nvGraphicFramePr>
        <p:xfrm>
          <a:off x="1922400" y="1160640"/>
          <a:ext cx="9753840" cy="3821040"/>
        </p:xfrm>
        <a:graphic>
          <a:graphicData uri="http://schemas.openxmlformats.org/drawingml/2006/table">
            <a:tbl>
              <a:tblPr/>
              <a:tblGrid>
                <a:gridCol w="2274840"/>
                <a:gridCol w="901800"/>
                <a:gridCol w="1219320"/>
                <a:gridCol w="1419120"/>
                <a:gridCol w="1152360"/>
                <a:gridCol w="1392480"/>
                <a:gridCol w="1393920"/>
              </a:tblGrid>
              <a:tr h="342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выписанными койко-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26)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к/день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43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4592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фекционный энтерит и ко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62064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олезнь К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9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енный ко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825" name="Прямоугольник 3"/>
          <p:cNvSpPr/>
          <p:nvPr/>
        </p:nvSpPr>
        <p:spPr>
          <a:xfrm>
            <a:off x="4714560" y="4953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4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6" name=""/>
          <p:cNvGraphicFramePr/>
          <p:nvPr/>
        </p:nvGraphicFramePr>
        <p:xfrm>
          <a:off x="1441440" y="973080"/>
          <a:ext cx="10480680" cy="4908600"/>
        </p:xfrm>
        <a:graphic>
          <a:graphicData uri="http://schemas.openxmlformats.org/drawingml/2006/table">
            <a:tbl>
              <a:tblPr/>
              <a:tblGrid>
                <a:gridCol w="1500120"/>
                <a:gridCol w="525600"/>
                <a:gridCol w="1085760"/>
                <a:gridCol w="1025640"/>
                <a:gridCol w="739800"/>
                <a:gridCol w="1042920"/>
                <a:gridCol w="949320"/>
                <a:gridCol w="750960"/>
                <a:gridCol w="1042920"/>
                <a:gridCol w="985680"/>
                <a:gridCol w="831960"/>
              </a:tblGrid>
              <a:tr h="6843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/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/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8408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.и др. двиг.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048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-нь Паркинс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890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экстрапир. и двигат. нару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</a:tr>
            </a:tbl>
          </a:graphicData>
        </a:graphic>
      </p:graphicFrame>
      <p:sp>
        <p:nvSpPr>
          <p:cNvPr id="1827" name="Прямоугольник 3"/>
          <p:cNvSpPr/>
          <p:nvPr/>
        </p:nvSpPr>
        <p:spPr>
          <a:xfrm>
            <a:off x="4862160" y="2667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5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528560" y="239760"/>
            <a:ext cx="100184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1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1636560" y="1523880"/>
            <a:ext cx="100188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выписанных пациентов направлено в организации медицинской реабилитац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________ 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атор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________ 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ть сведения в таблице с переведенными пациентами в другие медицинские организации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484280" y="151920"/>
            <a:ext cx="10018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2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из общего числа умерших, умерло новорожденны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1838160" y="1819440"/>
            <a:ext cx="990792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- показываются все умершие в стационаре новорожденные в первые 168 часов после рождения независимо от того в каком отделении наступила смер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- показываются дети, умершие в первые 24 часа после поступления в стационар в возрасте 0-24 часа после рождения в акушерских, гинекологических и других отделениях, а также поступившие и умершие в отделениях реанимации или отделениях недоношенных, т.е. во всех отделениях, независимо от того, откуда дети переведены или поступили, или ниоткуда не поступали, так как родились там же, где умерл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- заполняется из строки 2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- показываются дети в возрасте до 1 года, умершие в первые 24 часа после поступления,  без учета новорожденных в возрасте 0-24 часа, умерших в первые сут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- заполняется из строки 4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Заголовок 1" descr=""/>
          <p:cNvPicPr/>
          <p:nvPr/>
        </p:nvPicPr>
        <p:blipFill>
          <a:blip r:embed="rId1"/>
          <a:stretch/>
        </p:blipFill>
        <p:spPr>
          <a:xfrm>
            <a:off x="1481040" y="103320"/>
            <a:ext cx="10022040" cy="1371600"/>
          </a:xfrm>
          <a:prstGeom prst="rect">
            <a:avLst/>
          </a:prstGeom>
          <a:ln w="0">
            <a:noFill/>
          </a:ln>
        </p:spPr>
      </p:pic>
      <p:pic>
        <p:nvPicPr>
          <p:cNvPr id="1833" name="Объект 2" descr=""/>
          <p:cNvPicPr/>
          <p:nvPr/>
        </p:nvPicPr>
        <p:blipFill>
          <a:blip r:embed="rId2"/>
          <a:stretch/>
        </p:blipFill>
        <p:spPr>
          <a:xfrm>
            <a:off x="1347840" y="1474920"/>
            <a:ext cx="10294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517400" y="329760"/>
            <a:ext cx="100184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7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з общего числа отказов в госпитализации)</a:t>
            </a:r>
            <a:r>
              <a:rPr b="1" lang="ru-RU" sz="2500" spc="-1" strike="noStrike">
                <a:solidFill>
                  <a:srgbClr val="191b0e"/>
                </a:solidFill>
                <a:latin typeface="Corbel"/>
                <a:ea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1778040" y="1307880"/>
            <a:ext cx="9499680" cy="53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азы в госпитал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сутствие показаний к госпитализ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Медицинская помощь оказана амбулатор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аправлен в другой стационар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каз пациента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четкая ориентация (информированность) пациента врачом, направившим на госпитализацию («вас там посмотрят и отпустят»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семейным обстоятельствам (надежда на выздоровление в домашних условиях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боязнь госпитализации (боязнь возможного инфицирования, желание получить только разъяснения и т.п.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908000" y="339840"/>
            <a:ext cx="963936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8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амещение жизненно важных функций(искусственная вентиляция легких, экстракорпоральные методы лечения, экстракорпоральная мембранная оксигенация и др.)в отделениях анестезиологии и реани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37" name="Объект 3" descr=""/>
          <p:cNvPicPr/>
          <p:nvPr/>
        </p:nvPicPr>
        <p:blipFill>
          <a:blip r:embed="rId1"/>
          <a:stretch/>
        </p:blipFill>
        <p:spPr>
          <a:xfrm>
            <a:off x="2432160" y="2352600"/>
            <a:ext cx="8150040" cy="3000600"/>
          </a:xfrm>
          <a:prstGeom prst="rect">
            <a:avLst/>
          </a:prstGeom>
          <a:ln w="0">
            <a:noFill/>
          </a:ln>
        </p:spPr>
      </p:pic>
      <p:sp>
        <p:nvSpPr>
          <p:cNvPr id="1838" name="Прямоугольник 4"/>
          <p:cNvSpPr/>
          <p:nvPr/>
        </p:nvSpPr>
        <p:spPr>
          <a:xfrm>
            <a:off x="2441520" y="5211720"/>
            <a:ext cx="81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ри распределении замещения жизненно важных функций организма в отделениях реанимации по суткам пациент должен показываться один раз по строке по времени замещения,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если замещение длится до 30 суток, то отмечается только в этой строке и т.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1693800" y="2324160"/>
            <a:ext cx="9599760" cy="35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№14 «Сведения о деятельности подразделений медицинской организации, оказывающих медицинскую помощь в стационарных условиях», составляется всеми медицинскими организациями - юридическими лицами, оказывающими медицинскую помощь в стационарных условиях (Приказ Минздрава России от 6 августа 2013г. №529н « Об утверждении номенклатуры медицинских организаций», зарегистрирован Минюстом России 13 сентября 2013г. №29950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650600" y="407880"/>
            <a:ext cx="9534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9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1528560" y="1606680"/>
            <a:ext cx="10018440" cy="29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900 показывать только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вматические переломы, которые должны быть учтены только после проведения денситометрии и исключения диагноза «остеопороза с патологическим переломом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«эндопротезирование» показывается из строки 2 «получили медицинскую помощь в форме хирургического вмешательства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484280" y="248760"/>
            <a:ext cx="100188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форму (добавлена таблица 2910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1650960" y="792000"/>
          <a:ext cx="10209240" cy="5222880"/>
        </p:xfrm>
        <a:graphic>
          <a:graphicData uri="http://schemas.openxmlformats.org/drawingml/2006/table">
            <a:tbl>
              <a:tblPr/>
              <a:tblGrid>
                <a:gridCol w="1540080"/>
                <a:gridCol w="569880"/>
                <a:gridCol w="465120"/>
                <a:gridCol w="493560"/>
                <a:gridCol w="484200"/>
                <a:gridCol w="466920"/>
                <a:gridCol w="474480"/>
                <a:gridCol w="503280"/>
                <a:gridCol w="493560"/>
                <a:gridCol w="466920"/>
                <a:gridCol w="522360"/>
                <a:gridCol w="465120"/>
                <a:gridCol w="484200"/>
                <a:gridCol w="504720"/>
                <a:gridCol w="466560"/>
                <a:gridCol w="563760"/>
                <a:gridCol w="565200"/>
                <a:gridCol w="679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писано пациентов (из табл. 2000 гр.4 и гр.22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484280" y="283680"/>
            <a:ext cx="100188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форму (добавлена таблица 2910) продол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1484280" y="835200"/>
          <a:ext cx="10437840" cy="5068800"/>
        </p:xfrm>
        <a:graphic>
          <a:graphicData uri="http://schemas.openxmlformats.org/drawingml/2006/table">
            <a:tbl>
              <a:tblPr/>
              <a:tblGrid>
                <a:gridCol w="1747800"/>
                <a:gridCol w="655560"/>
                <a:gridCol w="524160"/>
                <a:gridCol w="461880"/>
                <a:gridCol w="461880"/>
                <a:gridCol w="390600"/>
                <a:gridCol w="496800"/>
                <a:gridCol w="506520"/>
                <a:gridCol w="541440"/>
                <a:gridCol w="496800"/>
                <a:gridCol w="531720"/>
                <a:gridCol w="523800"/>
                <a:gridCol w="435240"/>
                <a:gridCol w="434880"/>
                <a:gridCol w="523800"/>
                <a:gridCol w="444600"/>
                <a:gridCol w="541080"/>
                <a:gridCol w="71928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мерло пациентов (из табл. 2000 гр.8 и гр.28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695240" y="479160"/>
            <a:ext cx="94424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3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остав новорожденных с заболеваниями, поступивших в возрасте 0-6 дней жизни, и исходы их лечения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2050560" y="1766520"/>
            <a:ext cx="9542520" cy="416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70000"/>
              </a:lnSpc>
              <a:spcBef>
                <a:spcPts val="1001"/>
              </a:spcBef>
              <a:spcAft>
                <a:spcPts val="2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только теми медицинскими организациями, в которые поступили новорожденные указанного возраст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других медицинских организаций и в данной организации есть койки для выхаживания недоношенных и патологии новорожденных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таблиц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ведения о больных и заболевших детях (плодах), оставленных в палатах новорожденных мед. организаций (отделений) родовспом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550880" y="157320"/>
            <a:ext cx="10017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)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2049120" y="1508040"/>
            <a:ext cx="9410760" cy="50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Если одному и тому же пациенту произведено несколько операций, то он будет показан в таблице столько раз, сколько операций ему произведено, независимо от того, одномоментно или в разные сроки были произведены эти оп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перация, произведенная в несколько этапов, в случае если пациент не выписывался из стационара в промежутки между этапами операции, учитывается как одна опер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на сосудах  (строка 8) и операции на нервной системе (строка 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c5a82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ка 8 «Операции на сосудах» равна сумме строки 8.1. «Операции на артериях» и строки 8.2. «Операции на венах» по всем графам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атериалы в ходе операции по внематочной беременности должны в 100% направляться на морфологическое исследова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058840" y="168120"/>
            <a:ext cx="9290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 (Хирургическая работа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ение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1828800" y="976320"/>
            <a:ext cx="10182240" cy="55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графе «умерло оперированных в стационаре» указывается число умерших оперированных пациентов, независимо от того, что послужило причиной смерти: заболевание, по поводу которого была произведена операция, осложнение при или после операции или другие заболе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Например.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лучаи, когда пациент, оперированный по поводу катаракты,   аппендицита, грыжи и т. д., умер от инфаркта миокарда, инсульта и т. д.,  развившихся после оп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ерьезной и радикальной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рафе 28 необходимо указывать число направленных материалов на морфологическое исследование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</a:rPr>
              <a:t>по числу операций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е забывайте заполнять графу 28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расшифровк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чих» операц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вошедших в предлагаемый  переч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Прямоугольник 1"/>
          <p:cNvSpPr/>
          <p:nvPr/>
        </p:nvSpPr>
        <p:spPr>
          <a:xfrm>
            <a:off x="2192400" y="1522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1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тарше трудоспособного возраста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Прямоугольник 2"/>
          <p:cNvSpPr/>
          <p:nvPr/>
        </p:nvSpPr>
        <p:spPr>
          <a:xfrm>
            <a:off x="1589040" y="2251080"/>
            <a:ext cx="9917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к заполнению т.4001 точно такие же, как и к заполнению т.400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ледует забывать, что сведения в т.4001 следуют из т.4000 и необходимо принимать во внимание заложенные для этого контро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110 (виды анестез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1623960" y="1294920"/>
            <a:ext cx="10136160" cy="37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ую анестезию в данную таблицу не включа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 равна сумме строк с 1 по 9 включитель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умерло пациентов» указываются данные только по умершим от проводимой анестез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484280" y="16344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1484280" y="1312560"/>
            <a:ext cx="10018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пересадке тканей (роговицы, свободного кожного лоскута и т.д.)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нося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к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484280" y="93240"/>
            <a:ext cx="100188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"/>
          <p:cNvSpPr txBox="1"/>
          <p:nvPr/>
        </p:nvSpPr>
        <p:spPr>
          <a:xfrm>
            <a:off x="1484280" y="1558440"/>
            <a:ext cx="10136160" cy="47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т. 4201 по числу проведенных трансплантаций должны соответствовать данным из формы №63 «Сведения о донорстве органов и тканей и трансплантации в медицинских организациях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МЗ РФ от 8 июня 2016 г. № 355н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«прочие органы» вносится информация о пересадке трахеи, верхней конечности и ее фрагментов, нижней конечности и ее фрагмент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едоставить расшифровку строки 9 – трансплантация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рочих орган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9 необходимо указывать число направленных материалов на морфологическое исследование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о числу трансплантаций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 txBox="1"/>
          <p:nvPr/>
        </p:nvSpPr>
        <p:spPr>
          <a:xfrm>
            <a:off x="1527120" y="851040"/>
            <a:ext cx="9725040" cy="57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 числе койко-дней, проведенных пациентами в круглосуточном стационаре, о числе и составе пациентов, исходах их лечения и об объеме хирургической помощи (экстренной и планово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е отражаются  сведения о числе операций, независимо от профиля, вида, метода проведения, выполненных пациентам, выбывшим из стационара, либо умерши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роведенных в стационаре операций выделяется число операций, при которых наблюдались осложн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осложнением «основного заболевания», они в Форму не включаютс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484280" y="257040"/>
            <a:ext cx="1001880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таблицу 420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60" name=""/>
          <p:cNvGraphicFramePr/>
          <p:nvPr/>
        </p:nvGraphicFramePr>
        <p:xfrm>
          <a:off x="2050920" y="1096920"/>
          <a:ext cx="9604440" cy="4913280"/>
        </p:xfrm>
        <a:graphic>
          <a:graphicData uri="http://schemas.openxmlformats.org/drawingml/2006/table">
            <a:tbl>
              <a:tblPr/>
              <a:tblGrid>
                <a:gridCol w="3638520"/>
                <a:gridCol w="844560"/>
                <a:gridCol w="1873440"/>
                <a:gridCol w="833400"/>
                <a:gridCol w="612720"/>
                <a:gridCol w="1801800"/>
              </a:tblGrid>
              <a:tr h="14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 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 аутологич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логен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484280" y="46836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2" name=""/>
          <p:cNvSpPr txBox="1"/>
          <p:nvPr/>
        </p:nvSpPr>
        <p:spPr>
          <a:xfrm>
            <a:off x="1514160" y="1758960"/>
            <a:ext cx="10325160" cy="48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0 равна сумме строк (2.0+3.0+……. + 21.0) по всем графа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0 больше суммы строк (2.1+2.2+……. + 2.8) по всем графа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е условие контроля распространяется на строк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, 4.0, 5.0, 6.0, 7.0, 8.0, 9.0, 10.0, 11.0, 12.0, 13.0, 14.0, 15.0, 18.0, 20.0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3 равна сумме строк (10.3.1+10.3.2+10.3.3+ 10.3.4) по всем графа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строки 3.2 "Злокачественные новообразования сетчатки" с   кодом С69.2 уже входят в стр. 3.1"Злокачественные новообразования " с кодом С00-С97, поэтому злокачественные новообразования сетчатк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ы быть указаны в строке 3.2, а также входить в состав  строки 3.1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739880" y="431280"/>
            <a:ext cx="9468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, 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1510920" y="1460160"/>
            <a:ext cx="9893160" cy="45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ШЕМИЧЕСКИЕ БОЛЕЗНИ СЕРДЦ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рафам 4-12, 13-21, 22-33 должна быть равна сумме строк: 10.4.1 + 10.4.2 + 10.4.3 +10.4.4 +10.4.5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4.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28-33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ЕБРОВАСКУЛЯРНЫЕ БОЛЕЗ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4-7, 13-16, 22-27 должна быть строго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8-12, 17-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69 </a:t>
            </a: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198520" y="190440"/>
            <a:ext cx="91965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 (Таблица 2000 – ДЕТИ*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6" name="Прямоугольник 5"/>
          <p:cNvSpPr/>
          <p:nvPr/>
        </p:nvSpPr>
        <p:spPr>
          <a:xfrm>
            <a:off x="2320920" y="6451560"/>
            <a:ext cx="89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*Эти диагнозы не могут быть причиной болезни детей в возраст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о 1 г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67" name=""/>
          <p:cNvGraphicFramePr/>
          <p:nvPr/>
        </p:nvGraphicFramePr>
        <p:xfrm>
          <a:off x="2198520" y="957240"/>
          <a:ext cx="9196560" cy="5486400"/>
        </p:xfrm>
        <a:graphic>
          <a:graphicData uri="http://schemas.openxmlformats.org/drawingml/2006/table">
            <a:tbl>
              <a:tblPr/>
              <a:tblGrid>
                <a:gridCol w="4519800"/>
                <a:gridCol w="1474920"/>
                <a:gridCol w="1449360"/>
                <a:gridCol w="1752480"/>
              </a:tblGrid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КБ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 неуточненный, эмфизем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 легочная болезн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484280" y="165240"/>
            <a:ext cx="10018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1483920" y="1574280"/>
            <a:ext cx="10199880" cy="453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И УХА И СОСЦЕВИДНОГО ОТРОСТ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И 9.2.1, 9.3., 9.3.1, 9.3.2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равны «0» по графам 8-12,17-21,28-33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ОЖДЕННЫЕ АНОМАЛИИ ГЛАЗ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8.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 28-33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ДРОМ ДАУН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8.9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 28-33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ПТОМЫ И ПРИЗНАК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9.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всем граф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704600" y="279360"/>
            <a:ext cx="95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1968120" y="1193400"/>
            <a:ext cx="919476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Количество умерших новорожденных, указанных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. 2200 «Из общего числа умерших (стр.1)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новорожденных в первые 168 часов жизни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превышать число, указанное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«дети от 0-17 лет», гр. </a:t>
            </a:r>
            <a:r>
              <a:rPr b="1" lang="en-US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33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«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в возрасте до 1 года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2" name="Прямоугольник 3"/>
          <p:cNvGrpSpPr/>
          <p:nvPr/>
        </p:nvGrpSpPr>
        <p:grpSpPr>
          <a:xfrm>
            <a:off x="1768320" y="3382920"/>
            <a:ext cx="9545760" cy="2511360"/>
            <a:chOff x="1768320" y="3382920"/>
            <a:chExt cx="9545760" cy="2511360"/>
          </a:xfrm>
        </p:grpSpPr>
        <p:pic>
          <p:nvPicPr>
            <p:cNvPr id="187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68320" y="3382920"/>
              <a:ext cx="95457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"/>
            <p:cNvSpPr/>
            <p:nvPr/>
          </p:nvSpPr>
          <p:spPr>
            <a:xfrm>
              <a:off x="1968480" y="3505320"/>
              <a:ext cx="91947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 общего числа умерших (стр.1)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новорожденных в первые 168 часов жизни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: в возрасте 0 - 24 часа после рождения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недоношенных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1 года (без умерших в первые 24 часа после рождения)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от пневмонии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5" name="Line 9"/>
          <p:cNvSpPr/>
          <p:nvPr/>
        </p:nvSpPr>
        <p:spPr>
          <a:xfrm>
            <a:off x="3143160" y="2108160"/>
            <a:ext cx="1908360" cy="199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84280" y="36828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1777680" y="1549440"/>
            <a:ext cx="9372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ших беременных, рожениц и родильниц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казанных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в табл. 2400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, чем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8" name="Скругленный прямоугольник 3"/>
          <p:cNvGrpSpPr/>
          <p:nvPr/>
        </p:nvGrpSpPr>
        <p:grpSpPr>
          <a:xfrm>
            <a:off x="1798560" y="3170160"/>
            <a:ext cx="9472680" cy="2859120"/>
            <a:chOff x="1798560" y="3170160"/>
            <a:chExt cx="9472680" cy="2859120"/>
          </a:xfrm>
        </p:grpSpPr>
        <p:pic>
          <p:nvPicPr>
            <p:cNvPr id="187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98560" y="3170160"/>
              <a:ext cx="947268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0" name=""/>
            <p:cNvSpPr/>
            <p:nvPr/>
          </p:nvSpPr>
          <p:spPr>
            <a:xfrm>
              <a:off x="2044800" y="3403440"/>
              <a:ext cx="89787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2400)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Умерло беременных, рожениц и родильниц (при сроке беременности 22 недель и более) 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умерло от заболеваний, осложнивших беременность и роды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81" name="Line 9"/>
          <p:cNvSpPr/>
          <p:nvPr/>
        </p:nvSpPr>
        <p:spPr>
          <a:xfrm>
            <a:off x="5459400" y="2266920"/>
            <a:ext cx="1500120" cy="232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484280" y="177840"/>
            <a:ext cx="1001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1752120" y="1308240"/>
            <a:ext cx="951228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 (таб. 2000, стр. 10.4.2 + стр. 10.4.3)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(стр. 10.4.2 + стр. 10.4.3) в первые 24 часа после поступления в стационар (таб. 2300, гр.5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4" name="Скругленный прямоугольник 3"/>
          <p:cNvGrpSpPr/>
          <p:nvPr/>
        </p:nvGrpSpPr>
        <p:grpSpPr>
          <a:xfrm>
            <a:off x="1785960" y="2517840"/>
            <a:ext cx="9472680" cy="4084560"/>
            <a:chOff x="1785960" y="2517840"/>
            <a:chExt cx="9472680" cy="4084560"/>
          </a:xfrm>
        </p:grpSpPr>
        <p:pic>
          <p:nvPicPr>
            <p:cNvPr id="188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2517840"/>
              <a:ext cx="947268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6" name=""/>
            <p:cNvSpPr/>
            <p:nvPr/>
          </p:nvSpPr>
          <p:spPr>
            <a:xfrm>
              <a:off x="2092320" y="2816280"/>
              <a:ext cx="8858160" cy="34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3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_ ;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общего числа умерших умерло пациентов с инфарктом миокарда (стр. 10.4.2+10.4.3) в первые 24 часа после поступления в стационар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 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________ .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87" name="Line 9"/>
          <p:cNvSpPr/>
          <p:nvPr/>
        </p:nvSpPr>
        <p:spPr>
          <a:xfrm>
            <a:off x="2592360" y="2147760"/>
            <a:ext cx="541440" cy="295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93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1904760" y="1510920"/>
            <a:ext cx="92199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обходимо проводить сверку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умерших в первые 24 часа после поступления в стационар»: «детей (0-17 лет вкл.)»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и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в возрасте от 18 до 65 лет»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 таблицей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2000, гр. «умерло»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90" name="Прямоугольник 3"/>
          <p:cNvGrpSpPr/>
          <p:nvPr/>
        </p:nvGrpSpPr>
        <p:grpSpPr>
          <a:xfrm>
            <a:off x="1706400" y="3230640"/>
            <a:ext cx="9620280" cy="2219400"/>
            <a:chOff x="1706400" y="3230640"/>
            <a:chExt cx="9620280" cy="2219400"/>
          </a:xfrm>
        </p:grpSpPr>
        <p:pic>
          <p:nvPicPr>
            <p:cNvPr id="189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06400" y="3230640"/>
              <a:ext cx="962028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>
              <a:off x="1905120" y="3378240"/>
              <a:ext cx="9219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етей в возрасте 0-17 лет включительно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циентов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возрасте от 18 до 65 лет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__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93" name="Line 9"/>
          <p:cNvSpPr/>
          <p:nvPr/>
        </p:nvSpPr>
        <p:spPr>
          <a:xfrm>
            <a:off x="4916520" y="2533680"/>
            <a:ext cx="3641760" cy="178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4" name="Line 9"/>
          <p:cNvSpPr/>
          <p:nvPr/>
        </p:nvSpPr>
        <p:spPr>
          <a:xfrm flipH="1">
            <a:off x="2820960" y="2671920"/>
            <a:ext cx="1271520" cy="165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714680" y="558360"/>
            <a:ext cx="95248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1714680" y="1371240"/>
            <a:ext cx="942336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таб. 2000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с острыми цереброваскулярными болезнями  (стр. 10.7.1-10.7.4) 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первые 24 часа после поступления в стационар в возрасте от 18 до 65 лет с острыми цереброваскулярными болезнями (стр. 10.7.1-10.7.4), указанных в  таб. 2500, гр.3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97" name="Скругленный прямоугольник 4"/>
          <p:cNvGrpSpPr/>
          <p:nvPr/>
        </p:nvGrpSpPr>
        <p:grpSpPr>
          <a:xfrm>
            <a:off x="2090880" y="3584520"/>
            <a:ext cx="8772480" cy="2719440"/>
            <a:chOff x="2090880" y="3584520"/>
            <a:chExt cx="8772480" cy="2719440"/>
          </a:xfrm>
        </p:grpSpPr>
        <p:pic>
          <p:nvPicPr>
            <p:cNvPr id="189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90880" y="3584520"/>
              <a:ext cx="87724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9" name=""/>
            <p:cNvSpPr/>
            <p:nvPr/>
          </p:nvSpPr>
          <p:spPr>
            <a:xfrm>
              <a:off x="2332080" y="3813120"/>
              <a:ext cx="828972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(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детей в возрасте 0-17 лет включительно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1900" name="Прямая со стрелкой 5"/>
          <p:cNvCxnSpPr/>
          <p:nvPr/>
        </p:nvCxnSpPr>
        <p:spPr>
          <a:xfrm>
            <a:off x="2743200" y="3165120"/>
            <a:ext cx="835920" cy="2615400"/>
          </a:xfrm>
          <a:prstGeom prst="straightConnector1">
            <a:avLst/>
          </a:prstGeom>
          <a:ln cap="sq" w="12600">
            <a:solidFill>
              <a:srgbClr val="d64a3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СТОЧНИКОМ ИНФОРМАЦИИ ПРИ СОСТАВЛЕНИИ ФОРМЫ ЯВЛЯЮТС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1484280" y="1701360"/>
            <a:ext cx="10018800" cy="44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66/у «Статистическая карта выбывшего из медицинской организации, оказывающей медицинскую помощь в стационарных условиях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16/у «Сводная ведомость учета движения пациентов и коечного фонда медицинской организации, оказывающей медицинскую помощь в стационарных условиях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01 «Журнал учета приема пациентов и отказов в оказании медицинской помощи в стационарных условиях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06/у «Медицинское свидетельство о смерти» и форма 106-2/у «Медицинское свидетельство о перинатальной смерти»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15.04.2021 №352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765440" y="291960"/>
            <a:ext cx="9601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1765080" y="1181160"/>
            <a:ext cx="909324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2680" indent="-3826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умма числа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мерших взрослых в возрасте до 65 лет от инфаркта миокарда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стр. 10.4.2 +10.4.3)  в первые 24 часа после поступления в стационар (таб. 2300, гр. 6) и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ациентов с острыми ЦВБ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из табл. 2000 стр. 10.7.1-10.7.4) также умерших в первые 24 часа после поступления в стационар в возрасте от 18 до 65 лет (таб. 2500, гр.3),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а умерших в первые 24 часа после поступления в стационар в возрасте от 18 до 65 лет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, указанного в таб. 2500, гр. 2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82680" indent="-382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3" name="Стрелка вниз 3"/>
          <p:cNvSpPr/>
          <p:nvPr/>
        </p:nvSpPr>
        <p:spPr>
          <a:xfrm>
            <a:off x="5446800" y="4444920"/>
            <a:ext cx="1728720" cy="165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c8c8"/>
          </a:solidFill>
          <a:ln w="34920">
            <a:solidFill>
              <a:srgbClr val="656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484280" y="343080"/>
            <a:ext cx="100188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б. 2300, гр. 7 + таб. 2500, гр.3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ли =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. 2500, гр.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905" name="Скругленный прямоугольник 3"/>
          <p:cNvGrpSpPr/>
          <p:nvPr/>
        </p:nvGrpSpPr>
        <p:grpSpPr>
          <a:xfrm>
            <a:off x="1359000" y="957240"/>
            <a:ext cx="10064520" cy="3895920"/>
            <a:chOff x="1359000" y="957240"/>
            <a:chExt cx="10064520" cy="3895920"/>
          </a:xfrm>
        </p:grpSpPr>
        <p:pic>
          <p:nvPicPr>
            <p:cNvPr id="190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59000" y="957240"/>
              <a:ext cx="10064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7" name=""/>
            <p:cNvSpPr/>
            <p:nvPr/>
          </p:nvSpPr>
          <p:spPr>
            <a:xfrm>
              <a:off x="1660680" y="1243080"/>
              <a:ext cx="946296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в первые 2 часа 3 ________из них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омболтитическая терапия с последующим стентированием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пациентов с инфарктом миокарда (стр. 10.4.2+10.4.3) в первые 24 часа после поступления в стационар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8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________ </a:t>
              </a: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908" name="Скругленный прямоугольник 4"/>
          <p:cNvGrpSpPr/>
          <p:nvPr/>
        </p:nvGrpSpPr>
        <p:grpSpPr>
          <a:xfrm>
            <a:off x="2530440" y="4834080"/>
            <a:ext cx="8893080" cy="2206440"/>
            <a:chOff x="2530440" y="4834080"/>
            <a:chExt cx="8893080" cy="2206440"/>
          </a:xfrm>
        </p:grpSpPr>
        <p:pic>
          <p:nvPicPr>
            <p:cNvPr id="1909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30440" y="4834080"/>
              <a:ext cx="88930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0" name=""/>
            <p:cNvSpPr/>
            <p:nvPr/>
          </p:nvSpPr>
          <p:spPr>
            <a:xfrm>
              <a:off x="2747880" y="5035680"/>
              <a:ext cx="845820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детей в возрасте 0-17 лет включительно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2 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с острыми цереброваскулярными болезнями  (стр. 10.7.1-10.7.4)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11" name="Line 9"/>
          <p:cNvSpPr/>
          <p:nvPr/>
        </p:nvSpPr>
        <p:spPr>
          <a:xfrm>
            <a:off x="4178160" y="879480"/>
            <a:ext cx="4737240" cy="237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2" name="Line 9"/>
          <p:cNvSpPr/>
          <p:nvPr/>
        </p:nvSpPr>
        <p:spPr>
          <a:xfrm>
            <a:off x="6391440" y="879480"/>
            <a:ext cx="644400" cy="572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3" name="Line 9"/>
          <p:cNvSpPr/>
          <p:nvPr/>
        </p:nvSpPr>
        <p:spPr>
          <a:xfrm>
            <a:off x="8915400" y="879480"/>
            <a:ext cx="1015920" cy="4873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994040" y="418680"/>
            <a:ext cx="916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1841400" y="1180800"/>
            <a:ext cx="93218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пераций, указанных в таб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превышать число операций в таб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, гр.3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идам (на органе зрения, на ухе, на желудке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6" name=""/>
          <p:cNvGraphicFramePr/>
          <p:nvPr/>
        </p:nvGraphicFramePr>
        <p:xfrm>
          <a:off x="2374920" y="2863800"/>
          <a:ext cx="8253360" cy="3686400"/>
        </p:xfrm>
        <a:graphic>
          <a:graphicData uri="http://schemas.openxmlformats.org/drawingml/2006/table">
            <a:tbl>
              <a:tblPr/>
              <a:tblGrid>
                <a:gridCol w="5295960"/>
                <a:gridCol w="990360"/>
                <a:gridCol w="863640"/>
                <a:gridCol w="11034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ргане зрения (из стр. 4 табл. 4000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……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хе (стр.5.1 табл. 4000) - слухоулучш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кохлеарная импла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желудке по поводу язвенной болезни (стр.9.1 табл..4000) – органосохраня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7" name="Прямоугольник 4"/>
          <p:cNvSpPr/>
          <p:nvPr/>
        </p:nvSpPr>
        <p:spPr>
          <a:xfrm>
            <a:off x="2227680" y="234324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Таблица 4200 «Из общего числа операций  (единиц)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918" name="Прямая со стрелкой 5"/>
          <p:cNvCxnSpPr/>
          <p:nvPr/>
        </p:nvCxnSpPr>
        <p:spPr>
          <a:xfrm flipH="1">
            <a:off x="7124040" y="1821960"/>
            <a:ext cx="1662840" cy="1404360"/>
          </a:xfrm>
          <a:prstGeom prst="straightConnector1">
            <a:avLst/>
          </a:prstGeom>
          <a:ln cap="sq" w="9360">
            <a:solidFill>
              <a:srgbClr val="c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484280" y="256680"/>
            <a:ext cx="1001880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0" name="Содержимое 2"/>
          <p:cNvSpPr/>
          <p:nvPr/>
        </p:nvSpPr>
        <p:spPr>
          <a:xfrm>
            <a:off x="2535120" y="855720"/>
            <a:ext cx="8209080" cy="4572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числу</a:t>
            </a:r>
            <a:r>
              <a:rPr b="1" lang="en-US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ыписанных, умерших всег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1" name="Объект 8" descr=""/>
          <p:cNvPicPr/>
          <p:nvPr/>
        </p:nvPicPr>
        <p:blipFill>
          <a:blip r:embed="rId1"/>
          <a:stretch/>
        </p:blipFill>
        <p:spPr>
          <a:xfrm>
            <a:off x="1771560" y="2325600"/>
            <a:ext cx="9736200" cy="3768840"/>
          </a:xfrm>
          <a:prstGeom prst="rect">
            <a:avLst/>
          </a:prstGeom>
          <a:ln w="0">
            <a:noFill/>
          </a:ln>
        </p:spPr>
      </p:pic>
      <p:sp>
        <p:nvSpPr>
          <p:cNvPr id="1922" name="Прямоугольник 9"/>
          <p:cNvSpPr/>
          <p:nvPr/>
        </p:nvSpPr>
        <p:spPr>
          <a:xfrm>
            <a:off x="2138400" y="1411200"/>
            <a:ext cx="90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выбывших пациентов (выписанные+умершие) в форме №14 должно быть меньше числа выбывших из формы №30 за счет переводных пациент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3" name=""/>
          <p:cNvGraphicFramePr/>
          <p:nvPr/>
        </p:nvGraphicFramePr>
        <p:xfrm>
          <a:off x="2238480" y="1089000"/>
          <a:ext cx="8173800" cy="335160"/>
        </p:xfrm>
        <a:graphic>
          <a:graphicData uri="http://schemas.openxmlformats.org/drawingml/2006/table">
            <a:tbl>
              <a:tblPr/>
              <a:tblGrid>
                <a:gridCol w="4232160"/>
                <a:gridCol w="574560"/>
                <a:gridCol w="3367080"/>
              </a:tblGrid>
              <a:tr h="3351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4" name=""/>
          <p:cNvGraphicFramePr/>
          <p:nvPr/>
        </p:nvGraphicFramePr>
        <p:xfrm>
          <a:off x="2203560" y="1832040"/>
          <a:ext cx="8208720" cy="2365200"/>
        </p:xfrm>
        <a:graphic>
          <a:graphicData uri="http://schemas.openxmlformats.org/drawingml/2006/table">
            <a:tbl>
              <a:tblPr/>
              <a:tblGrid>
                <a:gridCol w="4295520"/>
                <a:gridCol w="538200"/>
                <a:gridCol w="3375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сего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зрослые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Дети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Старше трудоспособ.: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5" name="Прямоугольник 3"/>
          <p:cNvSpPr/>
          <p:nvPr/>
        </p:nvSpPr>
        <p:spPr>
          <a:xfrm>
            <a:off x="3095640" y="2588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6" name="Rectangle 37"/>
          <p:cNvSpPr/>
          <p:nvPr/>
        </p:nvSpPr>
        <p:spPr>
          <a:xfrm>
            <a:off x="2695680" y="4197240"/>
            <a:ext cx="714060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2203560" y="5113440"/>
          <a:ext cx="8208720" cy="1363680"/>
        </p:xfrm>
        <a:graphic>
          <a:graphicData uri="http://schemas.openxmlformats.org/drawingml/2006/table">
            <a:tbl>
              <a:tblPr/>
              <a:tblGrid>
                <a:gridCol w="4219560"/>
                <a:gridCol w="538200"/>
                <a:gridCol w="3450960"/>
              </a:tblGrid>
              <a:tr h="13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5503 гр. 3,  стр.4  - гр. 9, стр.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крыто новорожденных умерших в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е 0-6 суток (168 ч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8" name="Rectangle 50"/>
          <p:cNvSpPr/>
          <p:nvPr/>
        </p:nvSpPr>
        <p:spPr>
          <a:xfrm>
            <a:off x="2695680" y="1442880"/>
            <a:ext cx="71406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ато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2"/>
          <p:cNvSpPr/>
          <p:nvPr/>
        </p:nvSpPr>
        <p:spPr>
          <a:xfrm>
            <a:off x="2427120" y="4906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0" name=""/>
          <p:cNvGraphicFramePr/>
          <p:nvPr/>
        </p:nvGraphicFramePr>
        <p:xfrm>
          <a:off x="2279520" y="1235160"/>
          <a:ext cx="8367840" cy="365040"/>
        </p:xfrm>
        <a:graphic>
          <a:graphicData uri="http://schemas.openxmlformats.org/drawingml/2006/table">
            <a:tbl>
              <a:tblPr/>
              <a:tblGrid>
                <a:gridCol w="3486240"/>
                <a:gridCol w="620640"/>
                <a:gridCol w="426096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1" name="Rectangle 23"/>
          <p:cNvSpPr/>
          <p:nvPr/>
        </p:nvSpPr>
        <p:spPr>
          <a:xfrm>
            <a:off x="2351160" y="1700280"/>
            <a:ext cx="8367480" cy="7038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2" name=""/>
          <p:cNvGraphicFramePr/>
          <p:nvPr/>
        </p:nvGraphicFramePr>
        <p:xfrm>
          <a:off x="2279520" y="2508120"/>
          <a:ext cx="8439120" cy="2957760"/>
        </p:xfrm>
        <a:graphic>
          <a:graphicData uri="http://schemas.openxmlformats.org/drawingml/2006/table">
            <a:tbl>
              <a:tblPr/>
              <a:tblGrid>
                <a:gridCol w="3562560"/>
                <a:gridCol w="609480"/>
                <a:gridCol w="4267080"/>
              </a:tblGrid>
              <a:tr h="296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00 гр. 1, (умерло  новорожденных в первые 168 часов жиз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50 стр. 1, гр.6 «умерло новорожденных в возрасте 0-6 дней жизни» + т. 2260 стр. 1, гр.8 «умерло новорожденных в возрасте 0-6 дней жизн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3" name="Rectangle 43"/>
          <p:cNvSpPr/>
          <p:nvPr/>
        </p:nvSpPr>
        <p:spPr>
          <a:xfrm>
            <a:off x="2427120" y="56624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4" name="AutoShape 71"/>
          <p:cNvSpPr/>
          <p:nvPr/>
        </p:nvSpPr>
        <p:spPr>
          <a:xfrm>
            <a:off x="5938920" y="3816360"/>
            <a:ext cx="485640" cy="1087560"/>
          </a:xfrm>
          <a:prstGeom prst="downArrow">
            <a:avLst>
              <a:gd name="adj1" fmla="val 50000"/>
              <a:gd name="adj2" fmla="val 61450"/>
            </a:avLst>
          </a:prstGeom>
          <a:solidFill>
            <a:srgbClr val="8c8d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2"/>
          <p:cNvSpPr/>
          <p:nvPr/>
        </p:nvSpPr>
        <p:spPr>
          <a:xfrm>
            <a:off x="21351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6" name=""/>
          <p:cNvGraphicFramePr/>
          <p:nvPr/>
        </p:nvGraphicFramePr>
        <p:xfrm>
          <a:off x="2006640" y="692280"/>
          <a:ext cx="8750160" cy="36504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7" name="Rectangle 13"/>
          <p:cNvSpPr/>
          <p:nvPr/>
        </p:nvSpPr>
        <p:spPr>
          <a:xfrm>
            <a:off x="3648240" y="3284640"/>
            <a:ext cx="59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8" name=""/>
          <p:cNvGraphicFramePr/>
          <p:nvPr/>
        </p:nvGraphicFramePr>
        <p:xfrm>
          <a:off x="2006640" y="1511280"/>
          <a:ext cx="8750160" cy="318780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гр. 3 (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-O07)</a:t>
                      </a:r>
                      <a:r>
                        <a:rPr b="0" lang="ru-RU" sz="1800" spc="-1" strike="noStrike">
                          <a:solidFill>
                            <a:srgbClr val="77a2bb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 12 нед.)+ т. 2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 12 нед. до 22 нед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«аборт» гр. 19 (умерло оперированных в стациона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3000 гр.4, стр.1 (умерло от беременности с  абортивным исход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4000 гр.11, стр.1 «Число операций, при которых наблюдались осложн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105 +2105 «Осложнения, вызванные абор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9" name="Rectangle 36"/>
          <p:cNvSpPr/>
          <p:nvPr/>
        </p:nvSpPr>
        <p:spPr>
          <a:xfrm>
            <a:off x="2006640" y="48434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оводится контроль по количеству выполненных акушерских операций в форме №14 т.4000 с вкладышем к форме №32. Должно быть равно (кесарево в зависимости от срока беременности)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0" name="Rectangle 47"/>
          <p:cNvSpPr/>
          <p:nvPr/>
        </p:nvSpPr>
        <p:spPr>
          <a:xfrm>
            <a:off x="2006640" y="1052640"/>
            <a:ext cx="8750160" cy="36828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выполненных абортов, осложнений и смертей вызванных аборт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Прямоугольник 1"/>
          <p:cNvSpPr/>
          <p:nvPr/>
        </p:nvSpPr>
        <p:spPr>
          <a:xfrm>
            <a:off x="1749600" y="1724040"/>
            <a:ext cx="9462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которые аспекты кодирования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Прямоугольник 1"/>
          <p:cNvSpPr/>
          <p:nvPr/>
        </p:nvSpPr>
        <p:spPr>
          <a:xfrm>
            <a:off x="2014560" y="1109520"/>
            <a:ext cx="909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ошибка </a:t>
            </a:r>
            <a:r>
              <a:rPr b="1" lang="ru-RU" sz="22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при кодировании летальных исходов – в качестве первоначальной причины смерти используют непосредственную причину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3" name="Прямоугольник 2"/>
          <p:cNvSpPr/>
          <p:nvPr/>
        </p:nvSpPr>
        <p:spPr>
          <a:xfrm>
            <a:off x="2014560" y="2701800"/>
            <a:ext cx="9020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начальной причиной смерти</a:t>
            </a: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являютс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болезнь или травма, вызвавшая цепь событий, непосредственно приведших к смерт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стоятельства несчастного случая или акта насилия, которые вызвали смертельную травм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Заголовок 1"/>
          <p:cNvSpPr/>
          <p:nvPr/>
        </p:nvSpPr>
        <p:spPr>
          <a:xfrm>
            <a:off x="1778040" y="257040"/>
            <a:ext cx="1001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5" name="Объект 2"/>
          <p:cNvSpPr/>
          <p:nvPr/>
        </p:nvSpPr>
        <p:spPr>
          <a:xfrm>
            <a:off x="1671480" y="1055520"/>
            <a:ext cx="100188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псис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является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ложнением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 и не может быть первоначальной причиной смерти в стационаре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дких случая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птогенног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дируется как самостоятельная нозологическая форма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617480" y="235080"/>
            <a:ext cx="988524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1617480" y="1236240"/>
            <a:ext cx="1001844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ключаются сведен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выписанных пациентах изо всех стационаров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ставленных по экстренным показаниям, в том числе СМП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веденных койко-дня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мерших во всех стационара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анную таблицу не включаются сведения!!!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исле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ойко-днях умерших и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Заголовок 1"/>
          <p:cNvSpPr/>
          <p:nvPr/>
        </p:nvSpPr>
        <p:spPr>
          <a:xfrm>
            <a:off x="1484280" y="222120"/>
            <a:ext cx="1001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7" name="Объект 2"/>
          <p:cNvSpPr/>
          <p:nvPr/>
        </p:nvSpPr>
        <p:spPr>
          <a:xfrm>
            <a:off x="1589040" y="1106640"/>
            <a:ext cx="1024416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 – данные рубрики не используются для кодирования причины смерти, если известно первоначальное соматическое состоя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 F01(сосудистая деменция)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огд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именяться в качестве                      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й причины при упоминании о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нерализованном и неуточненном атеросклерозе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70.1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м атеросклерозе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67.2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484280" y="221760"/>
            <a:ext cx="100188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емии, ожи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1652400" y="1127160"/>
            <a:ext cx="10018440" cy="49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емия не может быть первоначальной причиной летального исхода и рассматривается осложнением при налич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Хронических болезней, классифицированных в других рубриках (сопровождающихся развитием вторичных анемий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образован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х состояний, которые могут привести к анем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рение (Е66, строка 5.11) – не используется для кодирования причины смерти, допускается использовать рубрику Е68 – последствия избыточности пита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Заголовок 1"/>
          <p:cNvSpPr/>
          <p:nvPr/>
        </p:nvSpPr>
        <p:spPr>
          <a:xfrm>
            <a:off x="1484280" y="406440"/>
            <a:ext cx="10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ПРЕДОСТАВИТЬ ПОДТВЕРЖДЕНИЯ НА СЛЕДУЮЩИЕ СЛУЧАИ СМЕРТ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1" name="Объект 2"/>
          <p:cNvSpPr/>
          <p:nvPr/>
        </p:nvSpPr>
        <p:spPr>
          <a:xfrm>
            <a:off x="1484280" y="1312920"/>
            <a:ext cx="1042056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0080" indent="-280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 (А40-41, строка 2.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6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нарушения, вовлекающие иммунный механизм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80-D8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Е66, строка 5.1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9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респираторные  инфекции верхних дыхательных путей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0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 и дуоденит (К29, строка 12.2) – для взрослых 18 лет и старш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е поражения соединительной ткани (М30-М35, строка 14.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аждый случай летального исхода при этих состояниях должен быть подтвержден документами (копией медицинского свидетельства о смерти,  копией протокола патолого-анатомического исследования) при сдаче годового отчета с указанием кода по МКБ-10 о первоначальной причине смер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анные документы необходимо прислать по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pNet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адрес 42(Кем) КОМИАЦ СТА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Прямоугольник 2"/>
          <p:cNvSpPr/>
          <p:nvPr/>
        </p:nvSpPr>
        <p:spPr>
          <a:xfrm>
            <a:off x="1722600" y="182520"/>
            <a:ext cx="96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3" name="Прямоугольник 4"/>
          <p:cNvSpPr/>
          <p:nvPr/>
        </p:nvSpPr>
        <p:spPr>
          <a:xfrm>
            <a:off x="1909800" y="717480"/>
            <a:ext cx="990612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ого инфаркта миокарда следует помнить, что не все случаи инфарктов миокарда выбираются первоначальной причиной смерти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2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а из статистики смертности, вместо нее используют рубрику острого инфаркта миокарда-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тром или повторном инфаркте миокарда в случае отсутствия других заболеваний первоначальной причиной смерти следует считать острый инфаркт миокарда (код I21) в промежуток времени до 28 дней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 повторного инфаркта миокарда, возникших в промежуток времени до 28 дней или в пределах эпизода оказания медицинской помощи, даже если эпизод закончился позже 28 дней, первоначальной причиной смерти следует считать острый инфаркт миокарда (код I21) 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Прямоугольник 2"/>
          <p:cNvSpPr/>
          <p:nvPr/>
        </p:nvSpPr>
        <p:spPr>
          <a:xfrm>
            <a:off x="2770200" y="28728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5" name="Прямоугольник 4"/>
          <p:cNvSpPr/>
          <p:nvPr/>
        </p:nvSpPr>
        <p:spPr>
          <a:xfrm>
            <a:off x="1946160" y="1017720"/>
            <a:ext cx="957744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ли повторного инфаркта миокарда с тяжелыми системными заболеваниями соединительной ткани (код М30-М36) первоначальной причиной смерти следует считать эти тяжелый заболевания, а острый инфаркт их осложнение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I23 и I24.0 в качестве первоначальной причины смерти также не применяются, необходимо использовать код I21 (МКБ-10, т. 2, стр. 61)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больного, поступившего с диагнозом Стенокардия (Нестабильная стенокардия) используется код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5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Хроническая ишемическая болезнь сердца - строка 10.4.5, графа 8 (17)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733400" y="190080"/>
            <a:ext cx="10018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24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1582560" y="1879200"/>
            <a:ext cx="100188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формы ишемических болезней сердца могут являться первоначальной причиной смерти только в случаях обострения, присоединения нарушений ритма, тромбоэмболических и других осложнений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логическая последовательность обязательно указывается в медицинском свидетельстве о смер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запись хронической формы ишемической болезни сердца одной строкой без указания логической последовательности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состояния как сердечная, сердечно-сосудистая, дыхательная недостаточность не должны включаться в медицинское свидетельство о  смерти, так как они являются элементом механизма смерти и встречаются у всех умерших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Схема 1" descr=""/>
          <p:cNvPicPr/>
          <p:nvPr/>
        </p:nvPicPr>
        <p:blipFill>
          <a:blip r:embed="rId1"/>
          <a:stretch/>
        </p:blipFill>
        <p:spPr>
          <a:xfrm>
            <a:off x="2017800" y="353880"/>
            <a:ext cx="9289800" cy="6070680"/>
          </a:xfrm>
          <a:prstGeom prst="rect">
            <a:avLst/>
          </a:prstGeom>
          <a:ln w="0">
            <a:noFill/>
          </a:ln>
        </p:spPr>
      </p:pic>
      <p:pic>
        <p:nvPicPr>
          <p:cNvPr id="1959" name="Рисунок 2" descr=""/>
          <p:cNvPicPr/>
          <p:nvPr/>
        </p:nvPicPr>
        <p:blipFill>
          <a:blip r:embed="rId2"/>
          <a:stretch/>
        </p:blipFill>
        <p:spPr>
          <a:xfrm>
            <a:off x="8772480" y="3081240"/>
            <a:ext cx="11462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рямоугольник 2"/>
          <p:cNvSpPr/>
          <p:nvPr/>
        </p:nvSpPr>
        <p:spPr>
          <a:xfrm>
            <a:off x="2548080" y="15876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1" name="Прямоугольник 4"/>
          <p:cNvSpPr/>
          <p:nvPr/>
        </p:nvSpPr>
        <p:spPr>
          <a:xfrm>
            <a:off x="1762200" y="527040"/>
            <a:ext cx="1016928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(рубрика I69) использую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для регистрации летальных исход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существую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чение года и более с момента возникновения острой формы заболева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эпизода оказания медицинской помощи, если диагноз эпизода или госпитализации установлен до 30 дней от начала заболевания, то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одно из состояний в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пизод начался позже 30 дней, то регистрируют 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состояни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следств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Прямоугольник 2"/>
          <p:cNvSpPr/>
          <p:nvPr/>
        </p:nvSpPr>
        <p:spPr>
          <a:xfrm>
            <a:off x="2805120" y="31104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3" name="Прямоугольник 5"/>
          <p:cNvSpPr/>
          <p:nvPr/>
        </p:nvSpPr>
        <p:spPr>
          <a:xfrm>
            <a:off x="1687680" y="1160640"/>
            <a:ext cx="98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0-I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следствия 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Схема 1" descr=""/>
          <p:cNvPicPr/>
          <p:nvPr/>
        </p:nvPicPr>
        <p:blipFill>
          <a:blip r:embed="rId1"/>
          <a:stretch/>
        </p:blipFill>
        <p:spPr>
          <a:xfrm>
            <a:off x="2146320" y="212760"/>
            <a:ext cx="93996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484280" y="281160"/>
            <a:ext cx="10018800" cy="12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1823760" y="1652400"/>
            <a:ext cx="9793080" cy="49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смерти пациента, оставленного для стационарного лечения в приемном отделении, следует рассматривать как смерть в стационар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858680" y="231480"/>
            <a:ext cx="978372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6 (18.08.202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1623960" y="1252080"/>
            <a:ext cx="10018800" cy="50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1 – Коронавирусная инфекция COVID-19, вирус идентифицирован (подтвержден лабораторным тестированием независимо от тяжести клинических признаков или симптомов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2 – Коронавирусная инфекция COVID-19, вирус не идентифицирован (COVID-19 диагностируется клинически или эпидемиологически, но лабораторные исследования неубедительны или недоступны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03.8 – Наблюдение при подозрении на коронавирусную инфекцию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2.8 – Носительство возбудител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0.8 – Контакт с больным коронавирусной инфекцие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11.5 – Скрининговое обследование с целью выявлени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4.2 – Коронавирусная инфекция не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3.8 – Коронавирусная инфекция 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9.0 – Изоляц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8.9 – В личном анамнез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– Состояние посл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9 – Мультисистемный воспалительный синдром, связанный с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1.9 – Необходимость иммунизации против COVID-19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Z25.8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2.9 – Вакцина против COVID-19, вызвавшая неблагоприятную реакцию (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59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484280" y="204840"/>
            <a:ext cx="10018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Выбывшие из стационара после проведения медицинской реабилитации после </a:t>
            </a:r>
            <a:r>
              <a:rPr b="1" lang="en-US" sz="28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COVID-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1484280" y="1722240"/>
            <a:ext cx="10018800" cy="40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кодировании выбывших из стационара после проведения медицинской реабилитации после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меняется код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остояние после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ой строки для данного кода в статистической форме №14, таблице 2000 нет, а в строку 21 «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 помещать данные случаи не рекомендуется. Поэтому в данном случае необходимо пользоваться строкой 22 «Факторы, влияющие на состояние здоровья населения и обращения в мед. организации» с кодом реабилитации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50.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либо руководствоваться основной клинической картиной, отражающей состояния пациента, например ,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84-84.1 (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очной фиброз) и др. В данном случае код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т не основны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882440" y="310680"/>
            <a:ext cx="96202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6 (18.08.202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1484280" y="1490760"/>
            <a:ext cx="10018800" cy="43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сложнениях вакцинации против COVID-19 используют двойное кодирование: основное состояние и его код из XIX класса МКБ-10, а формулировка и код внешней причины – из XXII класса (МКБ-10: U12.9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филактический шок, связанный с                                     введением вакцины против COVID-19, (код МКБ-10: T88.6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шняя причина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кцина против COVID-19, вызвавшая неблагоприятную реакцию (код МКБ-10: U12.9)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778040" y="150480"/>
            <a:ext cx="10018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ерсия 2 (02.07.202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1484280" y="1712880"/>
            <a:ext cx="100188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формлении медицинского свидетельства о смерти важно следовать рекомендациям ВОЗ и положениям МКБ-10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едицинских свидетельствах о смерти рекомендуется указывать логическую последовательность патологических процессов, приведших к смерти от COVID-19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случаи смерти, связанные с COVID-19, подразделяются на две групп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– случаи, когда COVID-19 выбирают в качестве первоначальной причины смерти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– случаи, когда COVID-19 выбирают в качестве прочего важного состояния, способствовавшег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724040" y="293400"/>
            <a:ext cx="100188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ерсия 2 (02.07.202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1635120" y="1838160"/>
            <a:ext cx="10018800" cy="33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равилу МКБ-10 при сочетании COVID-19 и злокачественного новообразования, первоначальной причиной смерти выбирают COVID-19, а хроническое заболевание (рак) записывают в части II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ые хронические заболевания при сочетании с COVID-19 с осложнениями, выбираются в качестве прочих важных состояний, способствовавших смерти, и записываются в части II медицинского свидетельства 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714320" y="266400"/>
            <a:ext cx="10018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1495080" y="1060560"/>
            <a:ext cx="4924440" cy="44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, вирус идентифицирован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усная пневмония, вызванная SARS-CoV-2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респираторный дистресс синдром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ойная 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7" name="Прямоугольник 3"/>
          <p:cNvSpPr/>
          <p:nvPr/>
        </p:nvSpPr>
        <p:spPr>
          <a:xfrm>
            <a:off x="6462720" y="1820880"/>
            <a:ext cx="54626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ый респираторный дистресс синдром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80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Вирусная пневмония, вызванная SARS-CoV2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, вирус идентифицирован  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 c застойной сердечной недостаточностью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5.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8" name="Прямоугольник 4"/>
          <p:cNvSpPr/>
          <p:nvPr/>
        </p:nvSpPr>
        <p:spPr>
          <a:xfrm>
            <a:off x="6735960" y="113832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736640" y="221760"/>
            <a:ext cx="10018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1568160" y="1856880"/>
            <a:ext cx="4755960" cy="34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онавирусная инфекция COVID-19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1" name="Прямоугольник 3"/>
          <p:cNvSpPr/>
          <p:nvPr/>
        </p:nvSpPr>
        <p:spPr>
          <a:xfrm>
            <a:off x="6551640" y="1984320"/>
            <a:ext cx="52038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41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8.9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2.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2" name="Прямоугольник 4"/>
          <p:cNvSpPr/>
          <p:nvPr/>
        </p:nvSpPr>
        <p:spPr>
          <a:xfrm>
            <a:off x="1568520" y="1054080"/>
            <a:ext cx="48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3" name="Прямоугольник 5"/>
          <p:cNvSpPr/>
          <p:nvPr/>
        </p:nvSpPr>
        <p:spPr>
          <a:xfrm>
            <a:off x="6757920" y="1054080"/>
            <a:ext cx="45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768320" y="259920"/>
            <a:ext cx="100188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1407960" y="2017440"/>
            <a:ext cx="51120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вирусная пневмония, 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окачественное новообразование средней трети тела желудка, cT3N0M0 IIб стадия (тубулярная аденокарцинома G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6" name="Прямоугольник 3"/>
          <p:cNvSpPr/>
          <p:nvPr/>
        </p:nvSpPr>
        <p:spPr>
          <a:xfrm>
            <a:off x="6600960" y="2017800"/>
            <a:ext cx="52513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 из вен малого таза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 вирусная пневмония,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к тела желудка IIб стад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16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7" name="Прямоугольник 4"/>
          <p:cNvSpPr/>
          <p:nvPr/>
        </p:nvSpPr>
        <p:spPr>
          <a:xfrm>
            <a:off x="1491480" y="12924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8" name="Прямоугольник 5"/>
          <p:cNvSpPr/>
          <p:nvPr/>
        </p:nvSpPr>
        <p:spPr>
          <a:xfrm>
            <a:off x="7015320" y="12924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766520" y="168120"/>
            <a:ext cx="98074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4)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инфаркта миокарда на фоне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осложнениями</a:t>
            </a: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1325520" y="1766520"/>
            <a:ext cx="5199120" cy="37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новое заболевание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олисегментарная вирусна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к легки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1" name="Прямоугольник 5"/>
          <p:cNvSpPr/>
          <p:nvPr/>
        </p:nvSpPr>
        <p:spPr>
          <a:xfrm>
            <a:off x="6616800" y="1762200"/>
            <a:ext cx="524016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яя полисегментарная вирусна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 11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2" name="Прямоугольник 6"/>
          <p:cNvSpPr/>
          <p:nvPr/>
        </p:nvSpPr>
        <p:spPr>
          <a:xfrm>
            <a:off x="1533600" y="119844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3" name="Прямоугольник 7"/>
          <p:cNvSpPr/>
          <p:nvPr/>
        </p:nvSpPr>
        <p:spPr>
          <a:xfrm>
            <a:off x="6681960" y="12286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4" name="Прямоугольник 8"/>
          <p:cNvSpPr/>
          <p:nvPr/>
        </p:nvSpPr>
        <p:spPr>
          <a:xfrm>
            <a:off x="1766880" y="5527800"/>
            <a:ext cx="98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случаях, когда острый инфаркт миокарда развился до возникновения COVID-19, и имеются осложнения COVID-19 (пневмония и др.), при летальном исходе, первоначальной причиной смерти выбирают COVID-19, а острый инфаркт миокарда записывают в части II свидетельств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741320" y="261720"/>
            <a:ext cx="100188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1601640" y="1106640"/>
            <a:ext cx="10298160" cy="46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сочетании установленного диагноза COVID-19 с некоторыми острыми состояниями, в качестве первоначальной причины следует выбирать острые состоя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и отравле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ледует обратить внимание, что при травмах и отравлениях в Российской Федерации используется двойное кодирование и учитываются обе причины смерти как первоначальные: например, травматическое субдуральное кровоизлияние (характер травмы) и дорожный несчастный случай (внешняя причина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хирургическая патолог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COVID-19 может сочетаться с острой хирургической патологией, требующей экстренного оперативного вмешательства (язвенное кровотечение, прободная язва желудка, острый аппендицит и др.). Данные состояния должны выбираться в качестве первоначальной причины смерти, а COVID-19 записывают в части II свидетель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043000" y="-360"/>
            <a:ext cx="91886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1838160" y="2538360"/>
            <a:ext cx="9887040" cy="36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включает в себя сумму строк со 2 по 21 включительн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7 «Отдельные состояния, возникающие в перинатальном периоде» коды по МКБ-10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0-Р04 по графам с 4 по 21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5-Р96 по графам с 22 по 33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Р00-Р04 характеризуют состояния матери, оказавшие влияние на новорожденного или плод, и не применяются у дете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лода или новорожденного кодируют рубриками Р05-Р96 (Перинатальные состояния) ил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6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аномалии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 у взрослых заполняется в том случае, если основное заболевание новорожденного (в возрасте 0-6 дней) или первоначальна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смерти новорожденного или плода кодируются рубриками Р00-Р04. В остальных случаях заполняется строка 17 у дет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484280" y="293760"/>
            <a:ext cx="100188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 (пример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348920" y="2230560"/>
            <a:ext cx="4948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язва желудка с кровотечени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удочное кровотечени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постгеморрагическая анем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9" name="Прямоугольник 3"/>
          <p:cNvSpPr/>
          <p:nvPr/>
        </p:nvSpPr>
        <p:spPr>
          <a:xfrm>
            <a:off x="6215040" y="2362320"/>
            <a:ext cx="57164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ая постгеморрагическая анемия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Желудочное кровотечени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92.2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Острая язва желудка с кровотечением К 25.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COVID-19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0" name="Прямоугольник 4"/>
          <p:cNvSpPr/>
          <p:nvPr/>
        </p:nvSpPr>
        <p:spPr>
          <a:xfrm>
            <a:off x="1500120" y="14130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1" name="Прямоугольник 5"/>
          <p:cNvSpPr/>
          <p:nvPr/>
        </p:nvSpPr>
        <p:spPr>
          <a:xfrm>
            <a:off x="6597720" y="14302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2"/>
          <p:cNvSpPr/>
          <p:nvPr/>
        </p:nvSpPr>
        <p:spPr>
          <a:xfrm>
            <a:off x="2565360" y="3094200"/>
            <a:ext cx="8710560" cy="78552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БЛАГОДАРЮ ЗА ВНИМАНИЕ !!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Прямоугольник 1"/>
          <p:cNvSpPr/>
          <p:nvPr/>
        </p:nvSpPr>
        <p:spPr>
          <a:xfrm>
            <a:off x="1817640" y="339840"/>
            <a:ext cx="98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5" name="Прямоугольник 2"/>
          <p:cNvSpPr/>
          <p:nvPr/>
        </p:nvSpPr>
        <p:spPr>
          <a:xfrm>
            <a:off x="1712880" y="1139760"/>
            <a:ext cx="1010448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заболеваний по каждой строке в таблице между графами, а также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«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х»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леваний по каждому классу болезней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ывается некорректное число проведенных выписанными пациентами койко-дней. Средний койко-день не может быть менее 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757160" y="185400"/>
            <a:ext cx="98996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1890720" y="1066320"/>
            <a:ext cx="9561600" cy="513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ть внимание на строку 15.10 «расстройства менструаций» у лиц старше трудоспособного возраста. Таких пациентов в этой возрастной группе должны быть единиц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афы 4,13,22 «выписано, всего» не должны включаться умершие пациенты и пациенты переведенные в другие стационары, также как и в графы 7,16,26 «проведено выписанными койко-дней» не должны показываться койко-дни умерших пациентов и переведенных в другие стационар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деле В. Дети (в возрасте 0-17 лет включительно) ошибки связаны с графами 25 (выписано детей до 1 года) и 27 (проведено койко-дней в возрасте до 1 года). 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е внимание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не могут быть строго одинаковыми числа по выписанным детям до 1 года и проведенным ими койко-дн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5:34:41Z</dcterms:created>
  <dc:creator>Пользователь</dc:creator>
  <dc:description/>
  <dc:language>en-US</dc:language>
  <cp:lastModifiedBy>Карзакова Наталья Владиславовна</cp:lastModifiedBy>
  <cp:lastPrinted>2019-11-12T07:25:06Z</cp:lastPrinted>
  <dcterms:modified xsi:type="dcterms:W3CDTF">2022-12-01T02:05:45Z</dcterms:modified>
  <cp:revision>549</cp:revision>
  <dc:subject/>
  <dc:title>СВЕДЕНИЯ О ДЕЯТЕЛЬНОСТИ  ПОДРАЗДЕЛЕНИЙ МЕДИЦИНСКОЙ ОРГАНИЗАЦИИ, ОКАЗЫВАЮЩИХ МЕДИЦИНСКУЮ ПОМОЩЬ В СТАЦИОНАРНЫХ УСЛОВИЯХ за 2016 год Форма №14</dc:title>
</cp:coreProperties>
</file>