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4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</p:sldMasterIdLst>
  <p:sldIdLst>
    <p:sldId id="256" r:id="rId43"/>
    <p:sldId id="257" r:id="rId44"/>
    <p:sldId id="258" r:id="rId45"/>
    <p:sldId id="259" r:id="rId46"/>
    <p:sldId id="260" r:id="rId47"/>
    <p:sldId id="261" r:id="rId48"/>
    <p:sldId id="262" r:id="rId49"/>
    <p:sldId id="263" r:id="rId50"/>
    <p:sldId id="264" r:id="rId51"/>
    <p:sldId id="265" r:id="rId52"/>
    <p:sldId id="266" r:id="rId53"/>
    <p:sldId id="267" r:id="rId54"/>
    <p:sldId id="268" r:id="rId55"/>
    <p:sldId id="269" r:id="rId56"/>
    <p:sldId id="270" r:id="rId57"/>
    <p:sldId id="271" r:id="rId58"/>
    <p:sldId id="272" r:id="rId59"/>
    <p:sldId id="273" r:id="rId60"/>
    <p:sldId id="274" r:id="rId61"/>
    <p:sldId id="275" r:id="rId62"/>
    <p:sldId id="276" r:id="rId63"/>
    <p:sldId id="277" r:id="rId64"/>
    <p:sldId id="278" r:id="rId65"/>
    <p:sldId id="279" r:id="rId66"/>
    <p:sldId id="280" r:id="rId67"/>
    <p:sldId id="281" r:id="rId68"/>
    <p:sldId id="282" r:id="rId69"/>
    <p:sldId id="283" r:id="rId70"/>
    <p:sldId id="284" r:id="rId71"/>
    <p:sldId id="285" r:id="rId72"/>
    <p:sldId id="286" r:id="rId73"/>
    <p:sldId id="287" r:id="rId74"/>
    <p:sldId id="288" r:id="rId75"/>
    <p:sldId id="289" r:id="rId76"/>
    <p:sldId id="290" r:id="rId77"/>
    <p:sldId id="291" r:id="rId78"/>
    <p:sldId id="292" r:id="rId79"/>
    <p:sldId id="293" r:id="rId80"/>
    <p:sldId id="294" r:id="rId81"/>
    <p:sldId id="295" r:id="rId82"/>
    <p:sldId id="296" r:id="rId83"/>
    <p:sldId id="297" r:id="rId84"/>
    <p:sldId id="298" r:id="rId85"/>
    <p:sldId id="299" r:id="rId86"/>
    <p:sldId id="300" r:id="rId87"/>
    <p:sldId id="301" r:id="rId88"/>
    <p:sldId id="302" r:id="rId89"/>
    <p:sldId id="303" r:id="rId90"/>
    <p:sldId id="304" r:id="rId91"/>
    <p:sldId id="305" r:id="rId92"/>
    <p:sldId id="306" r:id="rId93"/>
    <p:sldId id="307" r:id="rId94"/>
    <p:sldId id="308" r:id="rId95"/>
    <p:sldId id="309" r:id="rId96"/>
    <p:sldId id="310" r:id="rId97"/>
    <p:sldId id="311" r:id="rId98"/>
    <p:sldId id="312" r:id="rId99"/>
    <p:sldId id="313" r:id="rId100"/>
    <p:sldId id="314" r:id="rId101"/>
    <p:sldId id="315" r:id="rId102"/>
    <p:sldId id="316" r:id="rId103"/>
    <p:sldId id="317" r:id="rId104"/>
    <p:sldId id="318" r:id="rId105"/>
    <p:sldId id="319" r:id="rId106"/>
    <p:sldId id="320" r:id="rId107"/>
    <p:sldId id="321" r:id="rId108"/>
  </p:sldIdLst>
  <p:sldSz cx="12193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" Target="slides/slide1.xml"/><Relationship Id="rId44" Type="http://schemas.openxmlformats.org/officeDocument/2006/relationships/slide" Target="slides/slide2.xml"/><Relationship Id="rId45" Type="http://schemas.openxmlformats.org/officeDocument/2006/relationships/slide" Target="slides/slide3.xml"/><Relationship Id="rId46" Type="http://schemas.openxmlformats.org/officeDocument/2006/relationships/slide" Target="slides/slide4.xml"/><Relationship Id="rId47" Type="http://schemas.openxmlformats.org/officeDocument/2006/relationships/slide" Target="slides/slide5.xml"/><Relationship Id="rId48" Type="http://schemas.openxmlformats.org/officeDocument/2006/relationships/slide" Target="slides/slide6.xml"/><Relationship Id="rId49" Type="http://schemas.openxmlformats.org/officeDocument/2006/relationships/slide" Target="slides/slide7.xml"/><Relationship Id="rId50" Type="http://schemas.openxmlformats.org/officeDocument/2006/relationships/slide" Target="slides/slide8.xml"/><Relationship Id="rId51" Type="http://schemas.openxmlformats.org/officeDocument/2006/relationships/slide" Target="slides/slide9.xml"/><Relationship Id="rId52" Type="http://schemas.openxmlformats.org/officeDocument/2006/relationships/slide" Target="slides/slide10.xml"/><Relationship Id="rId53" Type="http://schemas.openxmlformats.org/officeDocument/2006/relationships/slide" Target="slides/slide11.xml"/><Relationship Id="rId54" Type="http://schemas.openxmlformats.org/officeDocument/2006/relationships/slide" Target="slides/slide12.xml"/><Relationship Id="rId55" Type="http://schemas.openxmlformats.org/officeDocument/2006/relationships/slide" Target="slides/slide13.xml"/><Relationship Id="rId56" Type="http://schemas.openxmlformats.org/officeDocument/2006/relationships/slide" Target="slides/slide14.xml"/><Relationship Id="rId57" Type="http://schemas.openxmlformats.org/officeDocument/2006/relationships/slide" Target="slides/slide15.xml"/><Relationship Id="rId58" Type="http://schemas.openxmlformats.org/officeDocument/2006/relationships/slide" Target="slides/slide16.xml"/><Relationship Id="rId59" Type="http://schemas.openxmlformats.org/officeDocument/2006/relationships/slide" Target="slides/slide17.xml"/><Relationship Id="rId60" Type="http://schemas.openxmlformats.org/officeDocument/2006/relationships/slide" Target="slides/slide18.xml"/><Relationship Id="rId61" Type="http://schemas.openxmlformats.org/officeDocument/2006/relationships/slide" Target="slides/slide19.xml"/><Relationship Id="rId62" Type="http://schemas.openxmlformats.org/officeDocument/2006/relationships/slide" Target="slides/slide20.xml"/><Relationship Id="rId63" Type="http://schemas.openxmlformats.org/officeDocument/2006/relationships/slide" Target="slides/slide21.xml"/><Relationship Id="rId64" Type="http://schemas.openxmlformats.org/officeDocument/2006/relationships/slide" Target="slides/slide22.xml"/><Relationship Id="rId65" Type="http://schemas.openxmlformats.org/officeDocument/2006/relationships/slide" Target="slides/slide23.xml"/><Relationship Id="rId66" Type="http://schemas.openxmlformats.org/officeDocument/2006/relationships/slide" Target="slides/slide24.xml"/><Relationship Id="rId67" Type="http://schemas.openxmlformats.org/officeDocument/2006/relationships/slide" Target="slides/slide25.xml"/><Relationship Id="rId68" Type="http://schemas.openxmlformats.org/officeDocument/2006/relationships/slide" Target="slides/slide26.xml"/><Relationship Id="rId69" Type="http://schemas.openxmlformats.org/officeDocument/2006/relationships/slide" Target="slides/slide27.xml"/><Relationship Id="rId70" Type="http://schemas.openxmlformats.org/officeDocument/2006/relationships/slide" Target="slides/slide28.xml"/><Relationship Id="rId71" Type="http://schemas.openxmlformats.org/officeDocument/2006/relationships/slide" Target="slides/slide29.xml"/><Relationship Id="rId72" Type="http://schemas.openxmlformats.org/officeDocument/2006/relationships/slide" Target="slides/slide30.xml"/><Relationship Id="rId73" Type="http://schemas.openxmlformats.org/officeDocument/2006/relationships/slide" Target="slides/slide31.xml"/><Relationship Id="rId74" Type="http://schemas.openxmlformats.org/officeDocument/2006/relationships/slide" Target="slides/slide32.xml"/><Relationship Id="rId75" Type="http://schemas.openxmlformats.org/officeDocument/2006/relationships/slide" Target="slides/slide33.xml"/><Relationship Id="rId76" Type="http://schemas.openxmlformats.org/officeDocument/2006/relationships/slide" Target="slides/slide34.xml"/><Relationship Id="rId77" Type="http://schemas.openxmlformats.org/officeDocument/2006/relationships/slide" Target="slides/slide35.xml"/><Relationship Id="rId78" Type="http://schemas.openxmlformats.org/officeDocument/2006/relationships/slide" Target="slides/slide36.xml"/><Relationship Id="rId79" Type="http://schemas.openxmlformats.org/officeDocument/2006/relationships/slide" Target="slides/slide37.xml"/><Relationship Id="rId80" Type="http://schemas.openxmlformats.org/officeDocument/2006/relationships/slide" Target="slides/slide38.xml"/><Relationship Id="rId81" Type="http://schemas.openxmlformats.org/officeDocument/2006/relationships/slide" Target="slides/slide39.xml"/><Relationship Id="rId82" Type="http://schemas.openxmlformats.org/officeDocument/2006/relationships/slide" Target="slides/slide40.xml"/><Relationship Id="rId83" Type="http://schemas.openxmlformats.org/officeDocument/2006/relationships/slide" Target="slides/slide41.xml"/><Relationship Id="rId84" Type="http://schemas.openxmlformats.org/officeDocument/2006/relationships/slide" Target="slides/slide42.xml"/><Relationship Id="rId85" Type="http://schemas.openxmlformats.org/officeDocument/2006/relationships/slide" Target="slides/slide43.xml"/><Relationship Id="rId86" Type="http://schemas.openxmlformats.org/officeDocument/2006/relationships/slide" Target="slides/slide44.xml"/><Relationship Id="rId87" Type="http://schemas.openxmlformats.org/officeDocument/2006/relationships/slide" Target="slides/slide45.xml"/><Relationship Id="rId88" Type="http://schemas.openxmlformats.org/officeDocument/2006/relationships/slide" Target="slides/slide46.xml"/><Relationship Id="rId89" Type="http://schemas.openxmlformats.org/officeDocument/2006/relationships/slide" Target="slides/slide47.xml"/><Relationship Id="rId90" Type="http://schemas.openxmlformats.org/officeDocument/2006/relationships/slide" Target="slides/slide48.xml"/><Relationship Id="rId91" Type="http://schemas.openxmlformats.org/officeDocument/2006/relationships/slide" Target="slides/slide49.xml"/><Relationship Id="rId92" Type="http://schemas.openxmlformats.org/officeDocument/2006/relationships/slide" Target="slides/slide50.xml"/><Relationship Id="rId93" Type="http://schemas.openxmlformats.org/officeDocument/2006/relationships/slide" Target="slides/slide51.xml"/><Relationship Id="rId94" Type="http://schemas.openxmlformats.org/officeDocument/2006/relationships/slide" Target="slides/slide52.xml"/><Relationship Id="rId95" Type="http://schemas.openxmlformats.org/officeDocument/2006/relationships/slide" Target="slides/slide53.xml"/><Relationship Id="rId96" Type="http://schemas.openxmlformats.org/officeDocument/2006/relationships/slide" Target="slides/slide54.xml"/><Relationship Id="rId97" Type="http://schemas.openxmlformats.org/officeDocument/2006/relationships/slide" Target="slides/slide55.xml"/><Relationship Id="rId98" Type="http://schemas.openxmlformats.org/officeDocument/2006/relationships/slide" Target="slides/slide56.xml"/><Relationship Id="rId99" Type="http://schemas.openxmlformats.org/officeDocument/2006/relationships/slide" Target="slides/slide57.xml"/><Relationship Id="rId100" Type="http://schemas.openxmlformats.org/officeDocument/2006/relationships/slide" Target="slides/slide58.xml"/><Relationship Id="rId101" Type="http://schemas.openxmlformats.org/officeDocument/2006/relationships/slide" Target="slides/slide59.xml"/><Relationship Id="rId102" Type="http://schemas.openxmlformats.org/officeDocument/2006/relationships/slide" Target="slides/slide60.xml"/><Relationship Id="rId103" Type="http://schemas.openxmlformats.org/officeDocument/2006/relationships/slide" Target="slides/slide61.xml"/><Relationship Id="rId104" Type="http://schemas.openxmlformats.org/officeDocument/2006/relationships/slide" Target="slides/slide62.xml"/><Relationship Id="rId105" Type="http://schemas.openxmlformats.org/officeDocument/2006/relationships/slide" Target="slides/slide63.xml"/><Relationship Id="rId106" Type="http://schemas.openxmlformats.org/officeDocument/2006/relationships/slide" Target="slides/slide64.xml"/><Relationship Id="rId107" Type="http://schemas.openxmlformats.org/officeDocument/2006/relationships/slide" Target="slides/slide65.xml"/><Relationship Id="rId108" Type="http://schemas.openxmlformats.org/officeDocument/2006/relationships/slide" Target="slides/slide66.xml"/><Relationship Id="rId10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49C1-953A-4922-A87B-FFD524648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CCD7-5D28-4C93-8261-BAA83D18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420F99-C670-4AAD-B40C-9C486B9D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17704-3975-4702-A379-DB6BC450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60FB1-F691-42ED-8A56-D95C5604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9FF4C4-5D91-4B07-96ED-2E1CC2BE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B6A94-239B-40CC-A269-CA083B59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5EB80-DB49-4DB2-8F65-4F579F12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252B77-DD87-4647-AA3E-3285BF8E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3E430-B0DA-4462-8494-46D09ABEB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F8A54-C5E4-4D2D-A299-9042AB175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94077-6276-4698-A472-6C6228BF7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F524-01C1-41DF-97D1-CB24AD753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BDB7D9-79AE-4A4B-B746-EA5F9976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978EB-2E6F-417F-A515-03565F85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252AF-C892-41F2-A8D0-A471BF78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6D8D31-ED2A-4EC2-80AA-A3114764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E744E-2372-41D4-A8A5-AD3DAD76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642DF6-9649-4227-9F3C-E81CCF34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0A6CE-10BC-4149-91B1-66A73477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380F55-4672-41E5-9A24-161DA034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30157-8694-4C1E-BF36-FC1F86FD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8DD9C7-807E-4E04-9A18-3687D33C6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4076-FDED-4176-8ACE-DCC72D418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76BBF-B1B7-4BA0-BCA0-58DFED50D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4026F-C336-4BA4-8029-137BA0BB6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E869B-1ADC-46E5-AFE8-5B7B5A5D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5C273-A434-408B-B35C-F696B700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0A8F2-0E09-45EF-8529-49ACA059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47E65-0648-4FF9-B9C2-3D475C66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1CBB4-D052-4596-8232-06355EB0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DBB71-E808-4FBF-A0FE-A8F57A96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2000B-9F0A-4B7A-97AE-8717088D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48E48-3B34-4D11-8421-4EF5C476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06A8-3978-410F-932F-5F090E8B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55C11-7E94-4903-996C-C37A2221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88848-BBBF-41C2-A4AE-E544EBC13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614F8-2FED-4F7F-A439-CA201A944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9406D2-485C-49FE-9B5D-209D53DD1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459555-2DCD-4DD0-B5EA-121CC55C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02561D-0ED2-499A-8C70-1023EA31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54C17-D74E-402A-BF12-F0FAB8E8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2A734C-7577-48A7-978B-C4954D86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0E8868-9F8B-4D82-86F7-98815D05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E12285-F6C7-40C3-B8C6-08D6ECA2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72FE-9D19-43F4-999A-C229664D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A9E053-2AAF-43D8-AB61-67EF7B8A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E51A1B-6ADB-437F-BADE-6B090743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257255-F5E5-4F23-B615-8E6FCCF4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6E57A9-29B3-4F89-A845-559C792B9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A589C-A3C7-415D-84FD-AF599A2EF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566F25-5A2E-4D51-8108-8E9F0C89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8FAE5A-3510-4197-BB6D-17E38AF5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7F88D2-31CB-4EDB-86A0-07B30BDE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C3A838-0448-491C-991A-0AEB3AC4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8C1F1C-581C-4FCC-A9CC-556389C4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96CE-520A-4ED3-B949-1F3973CF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0448D7-693D-42A0-9D5D-53A7B4DA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8337BA-4EC8-45D8-8103-FB1B2FE9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A11EB1-0761-42B1-99BC-F8D22028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F0AA3C-2DAC-4C25-8944-9751B082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3B7CB5-D7B9-424D-A1DD-EB43E550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0E91C6-17D2-4671-82D7-7EC764689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3C1DF6-0811-4BE8-BB86-361041313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028234-0D19-4147-BB9B-D02045F9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FA67E2-36F1-448D-A502-D4E37C00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C3B878-2B29-4EF7-A41C-8D408D85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3E66-736F-4DCF-A888-B11BF280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D4C27E-50FE-456E-BD93-31F92899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451EFE-528B-4C94-816C-120EA8C8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B5FC2F-CB64-43AC-837B-BBDBDC7D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18A743-38E7-4DCD-991F-3B8F0311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C66CD3-D2F5-4241-96B9-424E440F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3E85C6-FEB3-4C8F-9F3F-AB52B8CE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DDF4AA-82A3-4976-9873-CA5A9E3F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22FFF0-5076-4CCC-95FD-3328FE9C9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894FA8-FED3-4F97-8E27-AF85ECE2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F24048-2ABE-4229-8E8C-E08573418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1616-74B7-4572-94EF-85E4AEF2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13F845-BD2B-4FC7-B79A-04CA43E2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9BE9BC-8BFB-4C85-A55E-AEFC3EC5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782E1D-ABB3-4AD9-A318-788107CB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A1C1B3-9C0D-4CB8-BBBB-4DD76D91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BC3DD7-F06C-4924-BC03-642D1456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FBD4B3-050D-4759-99EE-824D5E88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E24178-C7E7-4333-804F-C83F17CF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D4BB46-074C-48ED-940F-4EB22A57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91B624-1515-4B31-97FF-7C2DBCAD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41CA33-92C6-4646-AFB6-F810025A4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7A69-9BE8-40B9-8F82-54754E0B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08BC91-563E-461C-BEF4-E3B786054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B13FE2-8469-4456-BACA-1EF30D0F0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430648-BD7F-4DDE-B4EB-6C72BD8D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CF272F-AF9C-4FF2-96CA-630EB5C0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9E1AA6-DE7D-44F9-A4BF-4D98BF4F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FD5FFB-CE16-4B31-8595-C2221529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A7FAF8-9EDF-47C9-9538-9A159285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2D4AA1-C803-4880-A3E2-6B84B856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FADCCA-A3D8-4C64-9CB6-5E80AE89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179FD6-9409-4FD0-A4CF-A842EE35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CEBB-2EFC-4EDC-B7E0-56379835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AF45F0-3B9A-435D-95A9-EA16BA3C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805D3F-C57D-43AF-8D54-4B8D8181E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D4A92A-0A50-45A8-B8D7-9EF7A6380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D708A4-C923-4D4F-8A23-9CC24E584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38BF3B-0991-45D7-A8C4-324B25E9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62D7D8-89D1-4DB4-B25B-B1EE116F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C33AFC-3CC7-4133-8E6E-7C4AA3CD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9C1A4D-09E9-4050-A156-743B684C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DE3CF8-5CEB-4A7C-9561-26486D09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0C9A86-C0CE-4B7B-9365-EC7FD201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B8DD-3855-4A36-8138-ED347088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1CAE-0B48-4B1B-8A5B-1BB6958F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46C303-8CF1-46EB-9528-3760CC64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111B21-256D-4B8F-AC90-DF7D291F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3ADE1C-3A19-4924-A011-6252CF44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0B3BC7-194D-4C83-BCED-53ACBB203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E8D18B-5F60-4E32-B344-52F0C8E05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D137DF-FEB1-436E-A985-2237B2A7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7E258B-480B-483E-9D64-760CB082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D453EF-9E56-4DEA-BA86-0B95BC80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448C70-6FB7-4508-BED6-D8924BBF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13686B-E7CB-4F4B-BD91-BAA81A9F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93EC-9CBD-4269-8C57-872332FB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68DB2B-24F8-446A-847E-B156F63C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6F57E9-8D5F-448C-9DE3-3AF09F21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DD937F-A2D9-40E7-91E6-D5391C45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5A5293-9DC9-43C5-BAFE-8D1EDE05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1BB1BC-311E-4F9F-B95F-9FED17AF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A6814A-EEB8-4B4B-9FB0-7CE7F0BCE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4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5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5CCCCF-72B5-48E6-8E28-40B6AB283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A8F692-F515-4A01-994B-CEE7A58A3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C01B1E-9615-4660-AD5C-86158CFD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0765B5-280B-40CA-96E3-6B12AFB0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A5F3-30E0-4972-9E72-7D3B187F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115A0E-CF2D-4418-A190-3B14F5B4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C2363D-350D-4A77-B296-79F4F0D5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19C2F2-0BA2-45E4-992C-9CBA2F4D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E67E7B-0E46-4FE3-80E9-BE60C7CA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E3E329-2F5E-4437-88DF-BBB5C5BD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C0338D-875D-4207-83D6-277A0FD3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D23FE1-1EED-4409-8F96-E2582E50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44ACC7-1ACD-4B46-BFC2-BDEEAC78B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C5F18D-B632-4437-9E72-8AB38B9E5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7ACF8F-1553-47C5-B980-42C0A5191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7566-CCF5-46FA-8DCE-1F567CBCE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42823A-CEA3-4A48-A986-70B438FD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9E2C6D-F272-43FC-ABC9-CC69141D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B052C0-C135-4A0F-8BBE-FA7A3914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D0179A-B409-48E6-9BDA-72088F56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AA2E79-6566-4370-9887-22568324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0A1E80-0D7C-4D19-9259-5931C3B4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3DA306-9225-443C-90D4-91E7A847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0B0D3C-FC8F-4A5B-BBC6-566B7214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A358F3-86F4-4C6E-8C8F-3454A842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53C072-A7EA-42F3-9D17-B0EAD4E4E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11E5-675C-4AF4-BE50-597722D05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1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2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7B5190-6C36-42BA-A742-CC6F28940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07857D-C93C-46B6-B59A-BBA0FE519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0238A9-A11E-470B-BE2C-C36E2A8F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60627D-44B0-4316-812D-05243FB3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7255C8-3AE0-4F9B-9752-06EE01BF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D05DFC-310D-4008-961E-3D5E4CE3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B9164D-B6D4-44FB-A60B-36E2B52C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D1A9B8-C42B-41E7-B572-7182DA3B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7412C1-0C75-42EB-8D4E-FA5A2662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8EB356-2A3A-4DE7-AA3E-B2509C8A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FFD95-0E7B-461F-B8D2-514CD8995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E247EC-7D91-439B-845D-94998886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40EF7B-2AFC-4F07-97C8-42ABDA715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4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5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DDEA38-D309-4259-BB6A-4F373C90D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FE3493-0561-49FA-85CB-B76C73B85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64E415-F6A2-438E-B79A-869A5E9F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4337DE-6209-46C1-9166-2B08A40E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7B98ED-3202-4C0E-B405-2FA6A5ED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C4747E-EEEB-4885-A44A-34DC10FB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264040-DC2D-416D-ACE2-0FF08958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05AECB-C3B1-4FDB-A0F1-0EAD1160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ECA0C-8EE6-446D-B1EA-8DFFDD22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F10CF8-FBB3-47F8-AB02-78883599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0FE369-13AF-447E-90F1-59CA62A7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D0E247-391C-4761-8B2B-63FFF194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4B3EEE-606C-4E49-A438-6BD212CC4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1C0F05-4850-4793-86D6-87648376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2576A5-73CE-4027-9467-7CDD73710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A438F5-174C-4C06-83EC-D31D740D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A3407C-273A-4373-9AA6-35237564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AC61EF-7765-428E-9ECA-919E650B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42C8FF-B5C5-4BD4-8105-D1D41FEB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6BA03-E2DA-49CC-B62A-7B6A30C8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18D18D-CE5B-4015-8253-B61F02B9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9CF0A8-E031-4D84-A780-B5DE97F7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BF1172-DCB7-48CE-8D8A-52BBFA7D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E43F8A-583E-42CD-8CF2-C312FEFE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FB9AB2-CF18-4808-B851-8D974B13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E96768-24C2-48E1-9384-318F5EB46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7414BF-E0FB-4679-B375-5CFEBD424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4EE293-550A-4D24-98C7-88AAE0110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42CC56-C57A-463D-B348-89C1FA1B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D0BCB8-D229-4081-8A55-3A994E81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05DFF-ADB8-49EB-8448-A49661FB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745D6C-94EE-41B6-8E51-40D18C46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25A26BC-F056-456B-99D0-0E6DDB62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5E15ED-1023-4977-AA84-D216F252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425F34-981E-4255-9B3F-58F17686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DCF7D4-30D0-4143-A5D7-1922AE2E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F4E35E-A224-4ABA-A002-5959E1B1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4D71DB-7254-46CD-89A7-87B0C745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DFFCCD-0A8B-428A-A3A2-482D210D2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4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1E42E3-1C60-4A06-9266-59B1CBC57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B51A309-2523-4139-97DD-A2E1534B0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24819-A18E-4D8F-ACA3-41D37391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A5B7F54-0DCD-4D9D-9C5C-DE77386B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D49938C-C7DE-4800-9AED-2F30DBF1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38D852-C698-4BF2-B520-17D24A17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7F78F23-AF4B-40E6-BF74-33A8BC11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864DBF9-10C8-4EA7-B404-6FA68441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BF70F6-7E5B-4C6C-8743-61978463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CE991C-B349-4655-85B3-ABA74D66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5B089F-622A-4645-A2E0-DFAA5CD0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2188AB-34A7-42E3-9BBD-4FEA068D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B6A5620-D9D4-4D5D-B4A3-0880208B6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F2F6-B05E-4ECD-9047-79D2EB54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4F097-63B0-49A9-84CD-BD90A80A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AEF1D3F-421A-43DF-AA94-52FDADEA4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BB9AC45-2C86-4998-91AC-8E5C07B72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E507A4-F1E5-41BF-81C3-2C8E0373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EE5EE0-2526-4F98-9378-08939398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B5B114A-83DB-4607-A311-0375B73B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537E84-6C06-4271-AEA5-F6626F1E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944DD73-C063-485C-995A-456F5E2B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030828D-6319-48A1-A518-E541F104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E153412-6A55-47FC-9BEE-F719FAFB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8CCCB9-9D2A-4C49-BDD5-BAAA6D8E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7953E-2CD7-402A-AB5A-50251E34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460B0F-44D4-4732-8873-F15B649E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11D493-43FB-4E7B-9F8F-2556E6C55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0520E8D-BE65-4661-B4D4-599FD687E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64B3ABB-4E08-4D1E-865A-BD511D5D7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A65391F-60EB-414F-9BB5-3FF1549B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52651D8-6339-4C30-BCA3-21670C70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7808EDE-67E1-4499-920C-C6DB0A3D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937CD49-2927-4F69-BC2C-29D762E8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8C4961-BFDA-4195-B540-A8CA5904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09D47F0-2057-4A05-B780-77B0C50C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DD0CE-2FCC-440C-8AEC-FAC9A639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930866-9EEF-498D-8891-3AA4FE0B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47F1C11-BBD9-49F1-B133-BD1C2D38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B227F0-C0EA-4970-9532-D2AB8FA7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F5DC19C-6B57-4844-804D-91723EB65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3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4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99F41A-07A7-4D1B-9E96-188D65CF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47A4EE0-23BB-40DD-929D-1249E98D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1BD6444-4CC2-46BE-A97F-FA2F1636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DEA186-3171-4357-9A1E-7AFD1B53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A7E61E7-D4C2-4AC1-845E-2C7D55FE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75D7B90-22FB-4CED-B685-FFB54795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A55BD-8731-4D34-B7D5-3E49315A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F61D869-54CB-4276-A210-8943B212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D031945-12C2-498D-8B04-3201A93B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ED001AF-6E35-4331-B70B-B1C9DCCC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38BA408-C432-44FF-8C67-FEABA594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209F82E-4BF3-4373-8AA5-6481F54B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382F4B3-E039-45F3-A7D3-889FFFA13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7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8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B7C2A9-725C-4F9F-805B-F5A2F4D6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B39BA51-4A27-4E1A-8D30-15A696F15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867A7D9-F131-4E2B-B004-8EAE72BA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B198261-4D09-4AB4-BF59-6D5AE63A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4998A-5313-404B-9B0B-B49D7F19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FC6271B-660E-4DFF-8332-DE2F84F5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8B3FC22-4809-43DD-A4F8-DB0E2487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3BD79C0-D499-4692-93D5-D78EF234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3032443-1E7F-4B18-A4E6-F7071B70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795BB75-C316-4D0E-986E-6DB5ABD9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D6BDAD4-9B79-417B-858A-77E3CB72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0F7DE08-4B57-4F29-AAB0-B22EF80C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E5C7F00-6FB1-4C93-89F4-6839EC100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0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1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4C2EACF-1628-4C74-8060-64E128773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049DA47-8AC1-4107-866B-9FA81DA2D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810E1-6A57-4B13-B2F0-329CA73EB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08D207F-6CEC-4A2F-A5A3-068307E7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1CA8773-E058-4968-9B46-77D33045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8CF7261-59B9-4662-974A-FB4B2C5D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13BE59F-E8C8-444C-8539-EFA6BD87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5E1D410-5413-49CF-96EC-1A5ADD66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2F855AE-4C51-4C5C-950E-D34DD96C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1C34282-0A7E-4E04-86E4-30624D56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245C103-DB57-48AA-B444-647993F1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4291B14-CEF2-400F-B682-9FE66191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A4B6BCF-7395-4D0E-A602-F233BC650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1461B-E2CC-4733-B60B-988CD7269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35EC1CF-4FCB-46D2-B022-539E91016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F8B7088-343E-40B9-AC4F-BAC58A160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6FC6DFF-0ECF-4F45-BEA3-126A52EC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AE38D3C-3AD4-4183-92D1-045CFAEA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7760006-6436-4EDA-94C2-BF98AA30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00F6A53-ADFC-481A-865C-57263E10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5469C28-5E6F-432C-B3D3-F373CF86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A3DCBD7-99F6-4D6F-8C8F-011D1BC7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405BA22-EFCC-430B-8D6A-1CD5977D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BF8D494-11FD-4FB4-9CBD-2C25AA49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4941A-48D7-4DCE-8D41-A74D16324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EC55542-CBC8-4841-A9F5-4B8581D6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A8F7A6D-FD8E-4A7F-A6F0-85A3C8978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B52ED71-75FA-4328-824D-E4A7ED07E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0F398F9-CF15-4AC9-8BF6-8004B9D1F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8C19B02-C303-4682-8515-A34B69DA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0AB3BA5-7038-4FE5-9A3B-5CA3D013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EC78E96-B168-433E-A931-13039B42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263AEBB-D010-4A9E-AA42-39A2CC9E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F2029C2-DC97-44C4-8E19-7DC6D86F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AADECC6-DAF2-4046-9DCF-189F8D92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FF73E-806B-4192-9969-B08DD9A1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19BE62C-6070-4FA8-8A22-38FA1AD1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F9C7BEC-871D-4576-91A1-370E5B77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64CA56A-5715-4609-8444-C1F78F85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F18B58F-4DC1-4934-B3CB-032DDBA3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0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1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F358C0E-3C3D-4433-B3E7-58CC20624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6FD9682-64A8-4F2F-B3C9-FDE1299A3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137E71E-F21B-41CC-8573-E5942225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09EAAD2-B9FF-4FD3-95B4-82E957F6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9CF3AC5-A453-4B80-9844-850617EC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8F6643C-ABDC-4D77-9B9F-E7A0BA0F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C481D-38C0-4913-A21E-AD0A0152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2A0A788-1A0D-4562-A0D5-1B209491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584959F-642C-477D-91DA-797A1F02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AA731D4-8FD9-4C8B-9001-12ED4B12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947BEB2-4487-4A28-B25F-A2C802DD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5B3936C-1AD6-4B81-A1A4-348E4C84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5FB3733-8A13-42A0-84C3-6FF64E65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3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4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6E32D62-3456-4BDF-9A07-378235794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A634B2E-8DB0-4CD3-8D53-C6B464462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58CF263-84C0-4CA8-BC02-C8194391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F42DEF8-EC73-4296-8C44-BE146AFC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686B-364D-4700-9885-4C76A09E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C1E96-460C-42F4-97F5-3A1C1F85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9B705C1-569A-4321-B453-00F3577E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3268BEC-DCA0-42F7-9AC8-758CCC96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FF9683D-7172-4758-B615-AB3827A5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A268CDA-1F97-43AA-9FC1-DD2D995A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DFED1E3-A3A0-4A0B-AA6D-5A4EB753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D103BEA-C83A-4DE0-AA65-14368255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F574277-BC9F-4AF3-B5DE-33A67FD3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CCB1830-B69F-445A-8C73-DD83030AF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6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7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69BD27A-4F79-4AEB-A560-130E37EB6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09F45E9-C2EC-4773-8045-2C14A0227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1A56A-5B8F-45DF-B8AA-298CD2D6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E5E0A7E-C5DD-4F18-8213-DCEB5276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6BC082F-F9D1-4D2A-BC81-44B0EF82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AC25968-39EF-4170-B73A-8C9C1A0D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AF5E57C-56D8-4A06-BB68-0EC2F200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D1866C0-973D-4646-B2FB-3239AD97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430703A-33F6-4F32-A9D3-BEF03837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EC57C90-D08F-45B0-A44C-C81D5938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D22CB62-73EF-46EA-8C50-7F4A7E3B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983E5F4-A63C-4D38-B527-40E663AF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09B95B9-E291-4E52-96B3-EFE779368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8977C-944F-47F1-9653-FBD01077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8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9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0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91EFF59-2F42-484C-85C9-A530E08B2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DBC958B-E5BD-42B9-867F-DF984D746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CE05857-6980-4688-BAA3-02D6AA23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DDF1943-B182-4BB3-A5F0-BBDD199D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72D00F0-0146-4791-AAD3-C77D16FE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69EEC0F-BBE7-4542-958E-40E69552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CCBB929-8720-4EE7-AC3B-249C7583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A40B97E-FF25-4258-A023-B860E134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457D179-2829-4147-A83A-27C44DF8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DA07EE7-42DF-4EF2-B296-D1E497BA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68095-76B7-4F05-899C-5409F340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418EDB8-FE9D-4A03-9EA3-F4BBB93E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A1766EB-6B03-467D-A882-B71610022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79E7C59-BA4C-473F-9C7B-95072A6E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F39B7CB-7D09-487E-B4EC-CA3B12484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C03B6B0-B508-43C4-9198-9E7D9A3A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3AB3425-504C-41C0-BED8-4546D9E9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574C705-9716-44EA-9EE3-8C6A7427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5D76F73-1EED-40BC-AF6C-2F5DA8F3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9146386-E14F-47CF-AB1B-A272D516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916F3BB-2A9F-4E52-B17C-49F5A893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F445F-8E8C-4CA0-AA72-2AA16F8D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AC1331C-DF96-4ED7-A758-40126BAD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9267583-99B5-4E8B-BFEE-B4A3B9B8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A8637ED-51D2-4ECF-9DFF-88260347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9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F5CC926-F27C-4264-BD08-35F6F55A9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4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5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6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FBCBC52-AE5C-4F28-958A-773F821B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471349C-D860-4124-9DE5-B4B61C5ED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CDBA475-FE22-4BBF-A9A0-8FD3C1D3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5686EDD-B2BF-43BF-929D-9944D67D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81C7865-8115-4F98-B565-1DF7D31C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79EE425-9E53-46F7-A716-13D55D49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96C53-B84A-4CF6-AD9D-811A5A60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43C77E7-0A58-41F9-A01E-E6814A41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96831B4-DEA6-47D3-B30D-4306E80E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73E4C39-8BB6-4CED-9580-5E1F2AD9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3440F35-6C6D-4273-81EF-295E8574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F8E87CD-AB61-448F-8C03-2D439ADC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3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5D8F14A-A5DD-44F7-ACAB-27AEDD375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9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0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9EFD7BE-549A-45F5-B44D-2D6A62C18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379A482-793C-4C3D-A2B5-D7A4DAF45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2FB1696-35FC-4F17-AD56-E1225500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FA89199-98BE-4061-9A69-A7E1CA1F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B4CC9-11E9-4D8D-9576-02163A36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B42B13D-7384-4C57-8506-972EE5D7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5B4E6CC-D3E4-430A-8AA4-ECCCAAFF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6AD0532-B74C-471C-B16C-A6F3D711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1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499D58B-61E7-44D2-BAEC-64EA16BD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F5D6D14-3D21-4111-BED9-A7114B0A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194C3EE-0E0D-4EC3-9EDF-AB661ED2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811C9E3-3F47-4D30-A4AD-F75E836D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7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C70D9F0-A259-4A38-975E-3959B20E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2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3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4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852AFD8-CCA1-44B5-8E80-4F4DE5980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3ECD434-36A6-4E3A-B84E-68DA330F4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98004-747D-4D2D-A1ED-8D73461D2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4DD0BF7-BABB-41F5-AC76-7B0394C8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3A640CE-BCB6-4129-A864-76FE138C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A6BA690-4E88-43C5-9E98-67A9FB62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A5875D8-99BF-40B3-A9AF-C12245F0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FD6876F-4BB8-44D3-94DE-1982DF6E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F5F6CB6-C9DE-4A6F-9BD3-2155D9A2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D47BCE9-0F96-455D-BBF4-1C255CA4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F369FBD-E275-4677-A19B-AD1AF876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58DB77A-A5A0-4F5B-B1DB-A9FE8AD9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0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22D88D6-5224-435C-9B76-5D71DC913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C608D-6F4A-4E08-B1D5-8E9DCF0BE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6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7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437AACC-2F01-4FD7-9A37-1A5E2EC2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64AB325-DB68-46F1-8156-150DD9237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5DF3039-6B7B-4955-B273-23721D3A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8C20FE8-D60B-4FB8-9D93-3AAB7ABC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E9DB3C3-0070-4885-ABD3-6E043D1B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C8AD0E4-040A-42E0-8F43-AC4BF33F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63A0047-8F5C-4DC5-85A4-3970A617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3049B7C-43B6-4AB2-8D99-4A487159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E336A0C-2012-41AD-8050-297D7CD4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89B6585-1E1F-4012-85A1-298C2A99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09CAE-5BC5-4A4C-B85F-9924E92E9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04BB698-B492-40DC-BCED-F3D26D36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3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0D067E2-3597-4265-AB57-53CA3D3E1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8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9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0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1E942F4-1459-4C6B-B984-09AE93648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22EC-7785-41E9-880D-C8BB73C7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4A042-EA90-457B-9C09-ABA5048B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E4EAB-EE52-4E26-BD03-B30A3597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FEE68-12B2-4BB7-8A8E-4C4BBC00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A1D4A-3676-4DAA-AE4C-E8B781D9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19999-C6AA-4C17-9C11-8240B003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11FD9-3A51-420B-A30B-F8D8BD7B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86D42-98BB-4341-8D4C-CC8E577B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30009-B632-4B9E-84E9-61E76CA0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5F345-A5A6-47B3-9A7C-BF408BC2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5F9D9-DDE8-4727-B643-CD5A0CDCD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5985-7A24-40DE-9FFE-2B62BC47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87581-4672-4520-BE05-B8070FFB6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6D70E-9866-4BC4-BB75-0F60BB3A1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E3072-ADCC-4907-A96E-2AA659C2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BA261-7B60-4A0A-A2E5-1FF57B9C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DC5DF-3835-4BDE-BB71-45ECE56F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0F3FD-B1BC-4FFD-A347-6624A21E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2AAAD-99E0-4429-BCBD-19CF07EE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1080F-7ECA-4D71-89E4-3ECD5B9D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FAFC7-4E80-4F51-BE56-20B95938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4BE5C-A538-4DE6-B30D-68553AAD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04D9-8AF7-4D8C-A8CE-BD5E99BA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8C829-CDA8-4702-A78C-450364F5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25118-E437-4E2C-ACA5-C06347046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500AA-2AD0-4074-AD1B-E829BD457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34339-4FEC-49DA-9734-B2E298F75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52D91-C20C-47DE-895A-512312FA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F282D-C0B9-4352-8A4B-B5ADB33E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DD65E-1E9E-4BC8-AD81-1223E828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DE62A-A268-4841-BEF0-F591C863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C7534-7000-46BC-A6F6-AE8473E5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F2334-B04F-4BEA-AADE-9A712AF6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728A-7468-4F9D-9974-D60EA224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54B46-764A-4AA8-9FFA-01F70517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A2D59-BA2F-46E2-AEC8-D7424EB8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D2476-77B6-42AE-9DB4-22ABEAB8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5A4BC-C896-4313-BF07-2502CB423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D5BAA-3031-4546-9B76-A4EFCD324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EB718-569F-4055-B25F-ED089CFED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0595A-E1A3-421D-9DF7-9F9B0037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C6CE9-B640-4914-8B28-1655ABC6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4E9E3-9C97-431B-9C70-A2F4400D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C1319-E1B6-4802-BBEF-1AB12EBF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538E-9EE1-4012-9F75-0A23AB58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CB476-A35D-4D93-BC06-042BC77F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688C2-13D9-493B-B537-B515E1B9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7403F-00E6-4F22-8C52-AF9DB189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9D80F-2BD3-4EF8-B816-A6E71B04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0B117-5512-4CC4-9819-7EE99053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761F1-62D0-4AB7-8FD4-825931C0F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A06C7-003E-4F68-AD8B-CAB055193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2CAA0-B163-4596-96A8-A19EA746D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D1E23-1549-4B26-A4FB-3C5AC8E9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014D1-4054-4336-9389-267BEF6E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6B0266-237A-46F5-8B26-58746D18BF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8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9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0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84D3F3-A952-43C8-94E6-FF4020BECC79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b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reeform 6"/>
          <p:cNvSpPr/>
          <p:nvPr/>
        </p:nvSpPr>
        <p:spPr>
          <a:xfrm>
            <a:off x="8151840" y="1685880"/>
            <a:ext cx="327672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Freeform 7"/>
          <p:cNvSpPr/>
          <p:nvPr/>
        </p:nvSpPr>
        <p:spPr>
          <a:xfrm>
            <a:off x="8151840" y="1685880"/>
            <a:ext cx="327672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efede3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>
            <a:off x="738000" y="6453360"/>
            <a:ext cx="1623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efede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efede3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>
            <a:off x="9829440" y="6453360"/>
            <a:ext cx="15987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efede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23E2D0-18E9-47B2-B310-05B77015103E}" type="slidenum">
              <a:rPr b="0" lang="ru-RU" sz="1000" spc="-1" strike="noStrike">
                <a:solidFill>
                  <a:srgbClr val="efede3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4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5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6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B04865-7F44-4AE5-B02E-4064EC7615A4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37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38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39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0D3DD8-57A8-403E-8844-30654344DB1F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0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dt" idx="40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ftr" idx="41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sldNum" idx="42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8DB9E1-132E-42B7-99FE-DD4201A96792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3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43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ftr" idx="44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sldNum" idx="45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0B6099-D9C0-49DD-B470-DB7703292D43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6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7" name="Rectangle 10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46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47"/>
          </p:nvPr>
        </p:nvSpPr>
        <p:spPr>
          <a:xfrm>
            <a:off x="2204640" y="6453360"/>
            <a:ext cx="237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48"/>
          </p:nvPr>
        </p:nvSpPr>
        <p:spPr>
          <a:xfrm>
            <a:off x="988236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461CB6-772F-49C1-A6A6-681E5A142E3A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0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1" name="Rectangle 10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dt" idx="49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ftr" idx="50"/>
          </p:nvPr>
        </p:nvSpPr>
        <p:spPr>
          <a:xfrm>
            <a:off x="2204640" y="6453360"/>
            <a:ext cx="237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sldNum" idx="51"/>
          </p:nvPr>
        </p:nvSpPr>
        <p:spPr>
          <a:xfrm>
            <a:off x="988236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69D0C9-CD20-49F9-9B12-1FE3FE80A52D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4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dt" idx="52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 type="ftr" idx="53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 type="sldNum" idx="54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1E78C5-0F87-49B9-89FD-D0DA1B87B0A3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7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5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6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7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5D2FC4-8E08-4B18-AA1B-AD3EFE3A6CA7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91b0e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91b0e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6A3E-720B-4FBA-9D40-20E5F169BC6E}" type="slidenum">
              <a:rPr b="0" lang="ru-RU" sz="1000" spc="-1" strike="noStrike">
                <a:solidFill>
                  <a:srgbClr val="191b0e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9" name="Group 7"/>
          <p:cNvGrpSpPr/>
          <p:nvPr/>
        </p:nvGrpSpPr>
        <p:grpSpPr>
          <a:xfrm>
            <a:off x="754200" y="744120"/>
            <a:ext cx="10674360" cy="5350320"/>
            <a:chOff x="754200" y="744120"/>
            <a:chExt cx="10674360" cy="5350320"/>
          </a:xfrm>
        </p:grpSpPr>
        <p:sp>
          <p:nvSpPr>
            <p:cNvPr id="850" name="Freeform 6"/>
            <p:cNvSpPr/>
            <p:nvPr/>
          </p:nvSpPr>
          <p:spPr>
            <a:xfrm>
              <a:off x="8153640" y="1685520"/>
              <a:ext cx="3274920" cy="4408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8761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9357"/>
                  </a:lnTo>
                  <a:lnTo>
                    <a:pt x="8761" y="9357"/>
                  </a:lnTo>
                  <a:lnTo>
                    <a:pt x="8761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851" name="Freeform 6"/>
            <p:cNvSpPr/>
            <p:nvPr/>
          </p:nvSpPr>
          <p:spPr>
            <a:xfrm flipH="1" flipV="1">
              <a:off x="753840" y="743760"/>
              <a:ext cx="3275280" cy="4408920"/>
            </a:xfrm>
            <a:custGeom>
              <a:avLst/>
              <a:gdLst/>
              <a:ahLst/>
              <a:rect l="l" t="t" r="r" b="b"/>
              <a:pathLst>
                <a:path w="10001" h="10000">
                  <a:moveTo>
                    <a:pt x="8762" y="0"/>
                  </a:moveTo>
                  <a:lnTo>
                    <a:pt x="10001" y="0"/>
                  </a:lnTo>
                  <a:lnTo>
                    <a:pt x="10001" y="10000"/>
                  </a:lnTo>
                  <a:lnTo>
                    <a:pt x="1" y="10000"/>
                  </a:lnTo>
                  <a:cubicBezTo>
                    <a:pt x="-2" y="9766"/>
                    <a:pt x="4" y="9586"/>
                    <a:pt x="1" y="9352"/>
                  </a:cubicBezTo>
                  <a:lnTo>
                    <a:pt x="8762" y="9346"/>
                  </a:lnTo>
                  <a:lnTo>
                    <a:pt x="8762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dt" idx="58"/>
          </p:nvPr>
        </p:nvSpPr>
        <p:spPr>
          <a:xfrm>
            <a:off x="754200" y="6453360"/>
            <a:ext cx="1606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 type="ftr" idx="59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 type="sldNum" idx="60"/>
          </p:nvPr>
        </p:nvSpPr>
        <p:spPr>
          <a:xfrm>
            <a:off x="9829440" y="6453360"/>
            <a:ext cx="15987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3F3AFD-FD19-4526-9764-1D6BA23DE666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4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 type="dt" idx="61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 type="ftr" idx="62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 type="sldNum" idx="63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E1E5CE-6DE5-4339-8554-FA08312381A4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b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Freeform 6"/>
          <p:cNvSpPr/>
          <p:nvPr/>
        </p:nvSpPr>
        <p:spPr>
          <a:xfrm>
            <a:off x="8151840" y="1685880"/>
            <a:ext cx="327672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7" name="Freeform 7"/>
          <p:cNvSpPr/>
          <p:nvPr/>
        </p:nvSpPr>
        <p:spPr>
          <a:xfrm>
            <a:off x="8151840" y="1685880"/>
            <a:ext cx="327672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efede3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 type="dt" idx="64"/>
          </p:nvPr>
        </p:nvSpPr>
        <p:spPr>
          <a:xfrm>
            <a:off x="738000" y="6453360"/>
            <a:ext cx="1623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efede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efede3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 type="ftr" idx="65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 type="sldNum" idx="66"/>
          </p:nvPr>
        </p:nvSpPr>
        <p:spPr>
          <a:xfrm>
            <a:off x="9829440" y="6453360"/>
            <a:ext cx="15987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efede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234750-DA96-4524-AEEE-15B4014B34ED}" type="slidenum">
              <a:rPr b="0" lang="ru-RU" sz="1000" spc="-1" strike="noStrike">
                <a:solidFill>
                  <a:srgbClr val="efede3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0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7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8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9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34ABFC-657E-404E-95A9-6E69A8949720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3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 type="dt" idx="70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 type="ftr" idx="71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 type="sldNum" idx="72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B369F2-88CD-4F01-B9B5-9607D1229939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6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dt" idx="73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ftr" idx="74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sldNum" idx="75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2D97FF-DFCC-468B-ADA9-63C435490ECB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9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6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77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78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CAFE54-5376-42B5-868C-490DC16BA60F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2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3" name="Rectangle 10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 type="dt" idx="79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 type="ftr" idx="80"/>
          </p:nvPr>
        </p:nvSpPr>
        <p:spPr>
          <a:xfrm>
            <a:off x="2204640" y="6453360"/>
            <a:ext cx="237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 type="sldNum" idx="81"/>
          </p:nvPr>
        </p:nvSpPr>
        <p:spPr>
          <a:xfrm>
            <a:off x="988236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BFA951-309A-48D8-9EF5-95950E1A72AE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6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7" name="Rectangle 10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 type="dt" idx="82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 type="ftr" idx="83"/>
          </p:nvPr>
        </p:nvSpPr>
        <p:spPr>
          <a:xfrm>
            <a:off x="2204640" y="6453360"/>
            <a:ext cx="237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 type="sldNum" idx="84"/>
          </p:nvPr>
        </p:nvSpPr>
        <p:spPr>
          <a:xfrm>
            <a:off x="988236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CB531C-DAB8-452D-9636-9E51343FA268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0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 type="dt" idx="85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 type="ftr" idx="86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 type="sldNum" idx="87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C15F0C-9972-4EF0-BDF0-36F63DAD7413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91b0e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91b0e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1764-B513-4376-9BC6-6EA93FA360C5}" type="slidenum">
              <a:rPr b="0" lang="ru-RU" sz="1000" spc="-1" strike="noStrike">
                <a:solidFill>
                  <a:srgbClr val="191b0e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3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8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9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90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E8E83C-8916-45DF-8636-2FAA6679637C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5" name="Group 7"/>
          <p:cNvGrpSpPr/>
          <p:nvPr/>
        </p:nvGrpSpPr>
        <p:grpSpPr>
          <a:xfrm>
            <a:off x="754200" y="744120"/>
            <a:ext cx="10674360" cy="5350320"/>
            <a:chOff x="754200" y="744120"/>
            <a:chExt cx="10674360" cy="5350320"/>
          </a:xfrm>
        </p:grpSpPr>
        <p:sp>
          <p:nvSpPr>
            <p:cNvPr id="1326" name="Freeform 6"/>
            <p:cNvSpPr/>
            <p:nvPr/>
          </p:nvSpPr>
          <p:spPr>
            <a:xfrm>
              <a:off x="8153640" y="1685520"/>
              <a:ext cx="3274920" cy="4408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8761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9357"/>
                  </a:lnTo>
                  <a:lnTo>
                    <a:pt x="8761" y="9357"/>
                  </a:lnTo>
                  <a:lnTo>
                    <a:pt x="8761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327" name="Freeform 6"/>
            <p:cNvSpPr/>
            <p:nvPr/>
          </p:nvSpPr>
          <p:spPr>
            <a:xfrm flipH="1" flipV="1">
              <a:off x="753840" y="743760"/>
              <a:ext cx="3275280" cy="4408920"/>
            </a:xfrm>
            <a:custGeom>
              <a:avLst/>
              <a:gdLst/>
              <a:ahLst/>
              <a:rect l="l" t="t" r="r" b="b"/>
              <a:pathLst>
                <a:path w="10001" h="10000">
                  <a:moveTo>
                    <a:pt x="8762" y="0"/>
                  </a:moveTo>
                  <a:lnTo>
                    <a:pt x="10001" y="0"/>
                  </a:lnTo>
                  <a:lnTo>
                    <a:pt x="10001" y="10000"/>
                  </a:lnTo>
                  <a:lnTo>
                    <a:pt x="1" y="10000"/>
                  </a:lnTo>
                  <a:cubicBezTo>
                    <a:pt x="-2" y="9766"/>
                    <a:pt x="4" y="9586"/>
                    <a:pt x="1" y="9352"/>
                  </a:cubicBezTo>
                  <a:lnTo>
                    <a:pt x="8762" y="9346"/>
                  </a:lnTo>
                  <a:lnTo>
                    <a:pt x="8762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91"/>
          </p:nvPr>
        </p:nvSpPr>
        <p:spPr>
          <a:xfrm>
            <a:off x="754200" y="6453360"/>
            <a:ext cx="1606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92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3"/>
          </p:nvPr>
        </p:nvSpPr>
        <p:spPr>
          <a:xfrm>
            <a:off x="9829440" y="6453360"/>
            <a:ext cx="15987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531BD9-6509-4CC9-A06B-1630D5318F7C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0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 type="dt" idx="94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 type="ftr" idx="95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 type="sldNum" idx="96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7844FE-0E3A-4338-9E36-07AF490ABA1C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b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Freeform 6"/>
          <p:cNvSpPr/>
          <p:nvPr/>
        </p:nvSpPr>
        <p:spPr>
          <a:xfrm>
            <a:off x="8151840" y="1685880"/>
            <a:ext cx="327672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3" name="Freeform 7"/>
          <p:cNvSpPr/>
          <p:nvPr/>
        </p:nvSpPr>
        <p:spPr>
          <a:xfrm>
            <a:off x="8151840" y="1685880"/>
            <a:ext cx="327672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efede3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 type="dt" idx="97"/>
          </p:nvPr>
        </p:nvSpPr>
        <p:spPr>
          <a:xfrm>
            <a:off x="738000" y="6453360"/>
            <a:ext cx="1623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efede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efede3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 type="ftr" idx="98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 type="sldNum" idx="99"/>
          </p:nvPr>
        </p:nvSpPr>
        <p:spPr>
          <a:xfrm>
            <a:off x="9829440" y="6453360"/>
            <a:ext cx="15987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efede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E1DD07-A0C7-4047-8D12-79E8AD767FEE}" type="slidenum">
              <a:rPr b="0" lang="ru-RU" sz="1000" spc="-1" strike="noStrike">
                <a:solidFill>
                  <a:srgbClr val="efede3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6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 type="dt" idx="100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 type="ftr" idx="101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 type="sldNum" idx="102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2B3160-3032-4DF3-AEF8-10A7FFF487B1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9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 type="dt" idx="103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 type="ftr" idx="104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 type="sldNum" idx="105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588748-0D10-4DAD-8DD2-85AC759AE457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2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 type="dt" idx="106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 type="ftr" idx="107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7" name="PlaceHolder 5"/>
          <p:cNvSpPr>
            <a:spLocks noGrp="1"/>
          </p:cNvSpPr>
          <p:nvPr>
            <p:ph type="sldNum" idx="108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023BC2-A4A4-4B0E-BC75-29601D83D6E6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5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dt" idx="109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 type="ftr" idx="110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 type="sldNum" idx="111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4ED4E2-0649-4600-91A0-E1EAE451FBA1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8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9" name="Rectangle 10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 type="dt" idx="112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 type="ftr" idx="113"/>
          </p:nvPr>
        </p:nvSpPr>
        <p:spPr>
          <a:xfrm>
            <a:off x="2204640" y="6453360"/>
            <a:ext cx="237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4" name="PlaceHolder 5"/>
          <p:cNvSpPr>
            <a:spLocks noGrp="1"/>
          </p:cNvSpPr>
          <p:nvPr>
            <p:ph type="sldNum" idx="114"/>
          </p:nvPr>
        </p:nvSpPr>
        <p:spPr>
          <a:xfrm>
            <a:off x="988236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A99FBB-71FF-4BF8-879C-075A2F8CC606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2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3" name="Rectangle 10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 type="dt" idx="115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 type="ftr" idx="116"/>
          </p:nvPr>
        </p:nvSpPr>
        <p:spPr>
          <a:xfrm>
            <a:off x="2204640" y="6453360"/>
            <a:ext cx="237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 type="sldNum" idx="117"/>
          </p:nvPr>
        </p:nvSpPr>
        <p:spPr>
          <a:xfrm>
            <a:off x="988236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05F8FB-B523-4E11-A0F5-7310FCDC1A9F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91b0e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91b0e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D072-CF93-495D-A631-11F349294FE4}" type="slidenum">
              <a:rPr b="0" lang="ru-RU" sz="1000" spc="-1" strike="noStrike">
                <a:solidFill>
                  <a:srgbClr val="191b0e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6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 type="dt" idx="118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 type="ftr" idx="119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 type="sldNum" idx="120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AA0B44-35BA-47B4-88ED-6ECA1118FA84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9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 type="dt" idx="121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PlaceHolder 4"/>
          <p:cNvSpPr>
            <a:spLocks noGrp="1"/>
          </p:cNvSpPr>
          <p:nvPr>
            <p:ph type="ftr" idx="122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4" name="PlaceHolder 5"/>
          <p:cNvSpPr>
            <a:spLocks noGrp="1"/>
          </p:cNvSpPr>
          <p:nvPr>
            <p:ph type="sldNum" idx="123"/>
          </p:nvPr>
        </p:nvSpPr>
        <p:spPr>
          <a:xfrm>
            <a:off x="947268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AF44DD-8BF2-4BDD-BB1F-03BCE2796424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18"/>
          <p:cNvGrpSpPr/>
          <p:nvPr/>
        </p:nvGrpSpPr>
        <p:grpSpPr>
          <a:xfrm>
            <a:off x="546120" y="-4680"/>
            <a:ext cx="5014800" cy="6862680"/>
            <a:chOff x="546120" y="-4680"/>
            <a:chExt cx="5014800" cy="6862680"/>
          </a:xfrm>
        </p:grpSpPr>
        <p:sp>
          <p:nvSpPr>
            <p:cNvPr id="178" name="Freeform 6"/>
            <p:cNvSpPr/>
            <p:nvPr/>
          </p:nvSpPr>
          <p:spPr>
            <a:xfrm>
              <a:off x="984240" y="-4680"/>
              <a:ext cx="1063440" cy="2782800"/>
            </a:xfrm>
            <a:custGeom>
              <a:avLst/>
              <a:gdLst/>
              <a:ahLst/>
              <a:rect l="l" t="t" r="r" b="b"/>
              <a:pathLst>
                <a:path w="670" h="1753">
                  <a:moveTo>
                    <a:pt x="0" y="1696"/>
                  </a:moveTo>
                  <a:lnTo>
                    <a:pt x="225" y="1753"/>
                  </a:lnTo>
                  <a:lnTo>
                    <a:pt x="670" y="0"/>
                  </a:lnTo>
                  <a:lnTo>
                    <a:pt x="430" y="0"/>
                  </a:lnTo>
                  <a:lnTo>
                    <a:pt x="0" y="1696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79" name="Freeform 7"/>
            <p:cNvSpPr/>
            <p:nvPr/>
          </p:nvSpPr>
          <p:spPr>
            <a:xfrm>
              <a:off x="546120" y="-4680"/>
              <a:ext cx="1035000" cy="2673360"/>
            </a:xfrm>
            <a:custGeom>
              <a:avLst/>
              <a:gdLst/>
              <a:ahLst/>
              <a:rect l="l" t="t" r="r" b="b"/>
              <a:pathLst>
                <a:path w="652" h="1684">
                  <a:moveTo>
                    <a:pt x="225" y="1684"/>
                  </a:moveTo>
                  <a:lnTo>
                    <a:pt x="652" y="0"/>
                  </a:lnTo>
                  <a:lnTo>
                    <a:pt x="411" y="0"/>
                  </a:lnTo>
                  <a:lnTo>
                    <a:pt x="0" y="1627"/>
                  </a:lnTo>
                  <a:lnTo>
                    <a:pt x="219" y="1681"/>
                  </a:lnTo>
                  <a:lnTo>
                    <a:pt x="225" y="1684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80" name="Freeform 9"/>
            <p:cNvSpPr/>
            <p:nvPr/>
          </p:nvSpPr>
          <p:spPr>
            <a:xfrm>
              <a:off x="546120" y="2583000"/>
              <a:ext cx="2693880" cy="4275000"/>
            </a:xfrm>
            <a:custGeom>
              <a:avLst/>
              <a:gdLst/>
              <a:ahLst/>
              <a:rect l="l" t="t" r="r" b="b"/>
              <a:pathLst>
                <a:path w="1697" h="2693">
                  <a:moveTo>
                    <a:pt x="0" y="0"/>
                  </a:moveTo>
                  <a:lnTo>
                    <a:pt x="1622" y="2693"/>
                  </a:lnTo>
                  <a:lnTo>
                    <a:pt x="1697" y="26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81" name="Freeform 10"/>
            <p:cNvSpPr/>
            <p:nvPr/>
          </p:nvSpPr>
          <p:spPr>
            <a:xfrm>
              <a:off x="988920" y="2692440"/>
              <a:ext cx="3332160" cy="4165560"/>
            </a:xfrm>
            <a:custGeom>
              <a:avLst/>
              <a:gdLst/>
              <a:ahLst/>
              <a:rect l="l" t="t" r="r" b="b"/>
              <a:pathLst>
                <a:path w="2099" h="2624">
                  <a:moveTo>
                    <a:pt x="2099" y="2624"/>
                  </a:moveTo>
                  <a:lnTo>
                    <a:pt x="0" y="0"/>
                  </a:lnTo>
                  <a:lnTo>
                    <a:pt x="2021" y="2624"/>
                  </a:lnTo>
                  <a:lnTo>
                    <a:pt x="2099" y="2624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82" name="Freeform 11"/>
            <p:cNvSpPr/>
            <p:nvPr/>
          </p:nvSpPr>
          <p:spPr>
            <a:xfrm>
              <a:off x="984240" y="2687760"/>
              <a:ext cx="4576680" cy="4170240"/>
            </a:xfrm>
            <a:custGeom>
              <a:avLst/>
              <a:gdLst/>
              <a:ahLst/>
              <a:rect l="l" t="t" r="r" b="b"/>
              <a:pathLst>
                <a:path w="2883" h="2627">
                  <a:moveTo>
                    <a:pt x="0" y="0"/>
                  </a:moveTo>
                  <a:lnTo>
                    <a:pt x="3" y="3"/>
                  </a:lnTo>
                  <a:lnTo>
                    <a:pt x="2102" y="2627"/>
                  </a:lnTo>
                  <a:lnTo>
                    <a:pt x="2883" y="2627"/>
                  </a:lnTo>
                  <a:lnTo>
                    <a:pt x="225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83" name="Freeform 12"/>
            <p:cNvSpPr/>
            <p:nvPr/>
          </p:nvSpPr>
          <p:spPr>
            <a:xfrm>
              <a:off x="546120" y="2577960"/>
              <a:ext cx="3584520" cy="4280040"/>
            </a:xfrm>
            <a:custGeom>
              <a:avLst/>
              <a:gdLst/>
              <a:ahLst/>
              <a:rect l="l" t="t" r="r" b="b"/>
              <a:pathLst>
                <a:path w="2258" h="2696">
                  <a:moveTo>
                    <a:pt x="2258" y="2696"/>
                  </a:moveTo>
                  <a:lnTo>
                    <a:pt x="264" y="111"/>
                  </a:lnTo>
                  <a:lnTo>
                    <a:pt x="228" y="60"/>
                  </a:lnTo>
                  <a:lnTo>
                    <a:pt x="225" y="57"/>
                  </a:lnTo>
                  <a:lnTo>
                    <a:pt x="0" y="0"/>
                  </a:lnTo>
                  <a:lnTo>
                    <a:pt x="0" y="3"/>
                  </a:lnTo>
                  <a:lnTo>
                    <a:pt x="1697" y="2696"/>
                  </a:lnTo>
                  <a:lnTo>
                    <a:pt x="2258" y="269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332320" y="5882760"/>
            <a:ext cx="43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6EF992-DAB1-4448-BA04-A022C8C7E7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226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27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28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29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30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31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10952280" y="586692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544930-B4CA-4919-A8E9-7B03396F21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274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75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76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77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78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79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80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2A4603-F81C-4FC7-8B41-4D99DAE750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324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25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26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27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28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29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330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2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3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4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BDD6D9-49CD-4730-9561-EAFA1B5866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Group 7"/>
          <p:cNvGrpSpPr/>
          <p:nvPr/>
        </p:nvGrpSpPr>
        <p:grpSpPr>
          <a:xfrm>
            <a:off x="754200" y="744120"/>
            <a:ext cx="10674360" cy="5350320"/>
            <a:chOff x="754200" y="744120"/>
            <a:chExt cx="10674360" cy="5350320"/>
          </a:xfrm>
        </p:grpSpPr>
        <p:sp>
          <p:nvSpPr>
            <p:cNvPr id="374" name="Freeform 6"/>
            <p:cNvSpPr/>
            <p:nvPr/>
          </p:nvSpPr>
          <p:spPr>
            <a:xfrm>
              <a:off x="8153640" y="1685520"/>
              <a:ext cx="3274920" cy="4408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8761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9357"/>
                  </a:lnTo>
                  <a:lnTo>
                    <a:pt x="8761" y="9357"/>
                  </a:lnTo>
                  <a:lnTo>
                    <a:pt x="8761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75" name="Freeform 6"/>
            <p:cNvSpPr/>
            <p:nvPr/>
          </p:nvSpPr>
          <p:spPr>
            <a:xfrm flipH="1" flipV="1">
              <a:off x="753840" y="743760"/>
              <a:ext cx="3275280" cy="4408920"/>
            </a:xfrm>
            <a:custGeom>
              <a:avLst/>
              <a:gdLst/>
              <a:ahLst/>
              <a:rect l="l" t="t" r="r" b="b"/>
              <a:pathLst>
                <a:path w="10001" h="10000">
                  <a:moveTo>
                    <a:pt x="8762" y="0"/>
                  </a:moveTo>
                  <a:lnTo>
                    <a:pt x="10001" y="0"/>
                  </a:lnTo>
                  <a:lnTo>
                    <a:pt x="10001" y="10000"/>
                  </a:lnTo>
                  <a:lnTo>
                    <a:pt x="1" y="10000"/>
                  </a:lnTo>
                  <a:cubicBezTo>
                    <a:pt x="-2" y="9766"/>
                    <a:pt x="4" y="9586"/>
                    <a:pt x="1" y="9352"/>
                  </a:cubicBezTo>
                  <a:lnTo>
                    <a:pt x="8762" y="9346"/>
                  </a:lnTo>
                  <a:lnTo>
                    <a:pt x="8762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754200" y="6453360"/>
            <a:ext cx="1606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9829440" y="6453360"/>
            <a:ext cx="15987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C7D4D2-0764-427A-BBAE-570A6FCF9516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1" name="Заголовок 1" descr=""/>
          <p:cNvPicPr/>
          <p:nvPr/>
        </p:nvPicPr>
        <p:blipFill>
          <a:blip r:embed="rId1"/>
          <a:stretch/>
        </p:blipFill>
        <p:spPr>
          <a:xfrm>
            <a:off x="1414440" y="506520"/>
            <a:ext cx="10406160" cy="4016160"/>
          </a:xfrm>
          <a:prstGeom prst="rect">
            <a:avLst/>
          </a:prstGeom>
          <a:ln w="0">
            <a:noFill/>
          </a:ln>
        </p:spPr>
      </p:pic>
      <p:sp>
        <p:nvSpPr>
          <p:cNvPr id="1802" name=""/>
          <p:cNvSpPr txBox="1"/>
          <p:nvPr/>
        </p:nvSpPr>
        <p:spPr>
          <a:xfrm>
            <a:off x="1828800" y="4889160"/>
            <a:ext cx="9847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9000"/>
          </a:bodyPr>
          <a:p>
            <a:pPr algn="ctr">
              <a:lnSpc>
                <a:spcPct val="80000"/>
              </a:lnSpc>
              <a:spcBef>
                <a:spcPts val="1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рач-статистик отдела мед. статистики и анализа ГАУЗ КОМИАЦ им. Р.М. Зелькович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рзакова Наталья Владиславовн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. почт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nv@kuzdrav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тел. 68-05-02, доб.4083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Прямоугольник 1"/>
          <p:cNvSpPr/>
          <p:nvPr/>
        </p:nvSpPr>
        <p:spPr>
          <a:xfrm>
            <a:off x="1817640" y="339840"/>
            <a:ext cx="986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СНОВНЫЕ ЗАМЕЧАНИЯ ПРИ ЗАПОЛНЕНИИ ТАБЛИЦЫ 2000!!!</a:t>
            </a:r>
            <a:r>
              <a:rPr b="1" lang="ru-RU" sz="24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0" name="Прямоугольник 2"/>
          <p:cNvSpPr/>
          <p:nvPr/>
        </p:nvSpPr>
        <p:spPr>
          <a:xfrm>
            <a:off x="1712880" y="1139760"/>
            <a:ext cx="10104480" cy="31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проводится контроль числа заболеваний по каждой строке в таблице между графами, а также между разделами А. Взрослые (18 лет и более) и Б. Взрослые старше трудоспособного возраста по всем строкам и графам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проводится контроль числа «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чих» 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болеваний по каждому классу болезней между разделами А. Взрослые (18 лет и более) и Б. Взрослые старше трудоспособного возраста по всем строкам и графам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казывается некорректное число проведенных выписанными пациентами койко-дней. Средний койко-день не может быть менее 1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1757160" y="185400"/>
            <a:ext cx="989964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СНОВНЫЕ ЗАМЕЧАНИЯ ПРИ ЗАПОЛНЕНИИ ТАБЛИЦЫ 2000!!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2" name=""/>
          <p:cNvSpPr txBox="1"/>
          <p:nvPr/>
        </p:nvSpPr>
        <p:spPr>
          <a:xfrm>
            <a:off x="1890720" y="1066320"/>
            <a:ext cx="9561600" cy="513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9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Обратить внимание на строку 15.10 «расстройства менструаций» у лиц старше трудоспособного возраста. 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ких пациентов в этой возрастной группе должно быть небольшое количество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 графы 4,13,22 «выписано, всего» 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должны включаться умершие пациенты и пациенты переведенные в другие стационары, также как и в графы 7,16,26 «проведено выписанными койко-дней» не должны показываться койко-дни умерших пациентов и переведенных в другие стационар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buClr>
                <a:srgbClr val="c00000"/>
              </a:buClr>
              <a:buSzPct val="12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азделе В. Дети (в возрасте 0-17 лет включительно) ошибки связаны с графами 25 (выписано детей до 1 года) и 27 (проведено койко-дней в возрасте до 1 года). </a:t>
            </a:r>
            <a:r>
              <a:rPr b="1" lang="ru-RU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Обратите внимание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что не могут быть одинаковыми числа по выписанным детям до 1 года и проведенным ими койко-дням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1528560" y="239760"/>
            <a:ext cx="1001844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№210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4" name=""/>
          <p:cNvSpPr txBox="1"/>
          <p:nvPr/>
        </p:nvSpPr>
        <p:spPr>
          <a:xfrm>
            <a:off x="1636560" y="1523880"/>
            <a:ext cx="10018800" cy="37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выписанных пациентов направлено в организации медицинской реабилитации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________ 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анатории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________ 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путать сведения в таблице с переведенными пациентами в другие медицинские организации!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1484280" y="151920"/>
            <a:ext cx="100188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2200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из общего числа умерших, умерло новорожденных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6" name=""/>
          <p:cNvSpPr txBox="1"/>
          <p:nvPr/>
        </p:nvSpPr>
        <p:spPr>
          <a:xfrm>
            <a:off x="1838160" y="1819440"/>
            <a:ext cx="9907920" cy="444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marL="257040" indent="-25704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- показываются все умершие в стационаре новорожденные в первые 168 часов после рождения независимо от того в каком отделении наступила смерть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57040" indent="-25704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2 - показываются дети, умершие в первые 24 часа после поступления в стационар в возрасте 0-24 часа после рождения в акушерских, гинекологических и других отделениях, а также поступившие и умершие в отделениях реанимации или отделениях недоношенных, т.е. во всех отделениях, независимо от того, откуда дети переведены или поступили, или ниоткуда не поступали, так как родились там же, где умерл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57040" indent="-25704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3 - заполняется из строки 2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57040" indent="-25704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4 - показываются дети в возрасте до 1 года, умершие в первые 24 часа после поступления,  без учета новорожденных в возрасте 0-24 часа, умерших в первые сутк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57040" indent="-25704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5 - заполняется из строки 4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57040" indent="-25704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1484280" y="468360"/>
            <a:ext cx="100188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2300 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поступило пациентов с инфарктом миокарда)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8" name=""/>
          <p:cNvSpPr txBox="1"/>
          <p:nvPr/>
        </p:nvSpPr>
        <p:spPr>
          <a:xfrm>
            <a:off x="1484280" y="1582560"/>
            <a:ext cx="10018800" cy="397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4 «проведена тромболитическая терапия» показываются все случаи тромболизиса, выполненного пациентам с инфарктом миокарда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шей медицинской организацией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госпитальном этапе с учетом и тех пациентов, которые в дальнейшем были направлены на стентирование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ромболизисы, проводимые на догоспитальном этапе, в данной строке не показывать.      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5 «стентирование» и строка 6 «тромболитическая терапия с последующим стентированием»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олняются только региональными сосудистыми центрам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1517400" y="329760"/>
            <a:ext cx="10018440" cy="97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2700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из общего числа отказов в госпитализации)</a:t>
            </a:r>
            <a:r>
              <a:rPr b="1" lang="ru-RU" sz="2500" spc="-1" strike="noStrike">
                <a:solidFill>
                  <a:srgbClr val="191b0e"/>
                </a:solidFill>
                <a:latin typeface="Corbel"/>
                <a:ea typeface="Times New Roman"/>
              </a:rPr>
              <a:t>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0" name=""/>
          <p:cNvSpPr txBox="1"/>
          <p:nvPr/>
        </p:nvSpPr>
        <p:spPr>
          <a:xfrm>
            <a:off x="1778040" y="1307880"/>
            <a:ext cx="9499680" cy="53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тказы в госпитализац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Отсутствие показаний к госпитализаци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Медицинская помощь оказана амбулаторно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Направлен в другой стационар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Отказ пациента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нечеткая ориентация (информированность) пациента врачом, направившим на госпитализацию («вас там посмотрят и отпустят»)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по семейным обстоятельствам (надежда на выздоровление в домашних условиях)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боязнь госпитализации (боязнь возможного инфицирования, желание получить только разъяснения и т.п.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1908000" y="339840"/>
            <a:ext cx="9639360" cy="19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2800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замещение жизненно важных функций (искусственная вентиляция легких, экстракорпоральные методы лечения, экстракорпоральная мембранная оксигенация и др.) в отделениях анестезиологии и реанимац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832" name=""/>
          <p:cNvGraphicFramePr/>
          <p:nvPr/>
        </p:nvGraphicFramePr>
        <p:xfrm>
          <a:off x="2441520" y="2422440"/>
          <a:ext cx="8580600" cy="2789280"/>
        </p:xfrm>
        <a:graphic>
          <a:graphicData uri="http://schemas.openxmlformats.org/drawingml/2006/table">
            <a:tbl>
              <a:tblPr/>
              <a:tblGrid>
                <a:gridCol w="6343560"/>
                <a:gridCol w="905040"/>
                <a:gridCol w="1332000"/>
              </a:tblGrid>
              <a:tr h="1379520">
                <a:tc>
                  <a:txBody>
                    <a:bodyPr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щение жизненно важных функций (искусственная вентиляция лёгких, экстракорпоральные методы лечения, экстракорпоральная мембранная оксигенация, контрпульсация, прессорная поддержка и др.)  в отделениях анестезиологии и реани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9144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282240">
                <a:tc>
                  <a:txBody>
                    <a:bodyPr lIns="18288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 су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18288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282240">
                <a:tc>
                  <a:txBody>
                    <a:bodyPr lIns="18288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 су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18288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282240">
                <a:tc>
                  <a:txBody>
                    <a:bodyPr lIns="18288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суток и бол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18288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282240">
                <a:tc>
                  <a:txBody>
                    <a:bodyPr lIns="27432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- в течение 1 ча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27432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282240">
                <a:tc>
                  <a:txBody>
                    <a:bodyPr lIns="73152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1 су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73152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</a:tr>
            </a:tbl>
          </a:graphicData>
        </a:graphic>
      </p:graphicFrame>
      <p:sp>
        <p:nvSpPr>
          <p:cNvPr id="1833" name="Прямоугольник 4"/>
          <p:cNvSpPr/>
          <p:nvPr/>
        </p:nvSpPr>
        <p:spPr>
          <a:xfrm>
            <a:off x="2436840" y="5315040"/>
            <a:ext cx="85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Times New Roman"/>
                <a:ea typeface="Calibri"/>
              </a:rPr>
              <a:t>При распределении замещения жизненно важных функций организма в отделениях реанимации по суткам, пациент должен показываться один раз в строке по времени замещения, если замещение длится 30 суток и более, то отмечается только в этой строке и т.д. Такое же распределение и по умершим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769760" y="158760"/>
            <a:ext cx="95346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№290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1769760" y="1188720"/>
            <a:ext cx="9883800" cy="483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44892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!!!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у необходимо включить все случаи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атологических переломов</a:t>
            </a: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ксимального отдела бедренной кости у пациентов старше трудоспособного возраста, из числа выписанных пациентов старше трудоспособного возраста (т.2000, строка 20.0, графа 13) с кодами по МКБ-10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.0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.1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.2, полученных при низкоэнергетической травме (переломы, возникшие вследствие незначительного воздействия на кость или спонтанно). Травмы с вышеперечисленными кодами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.0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.1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.2), полученные в результате ДТП или падения с высоты более человеческого роста в данную таблицу не включать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44892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44892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3 «эндопротезирование» показывается из строки 2 «получили медицинскую помощь в форме хирургического вмешательства»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1493640" y="178920"/>
            <a:ext cx="1001844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291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837" name=""/>
          <p:cNvGraphicFramePr/>
          <p:nvPr/>
        </p:nvGraphicFramePr>
        <p:xfrm>
          <a:off x="1668600" y="915840"/>
          <a:ext cx="10209240" cy="5222880"/>
        </p:xfrm>
        <a:graphic>
          <a:graphicData uri="http://schemas.openxmlformats.org/drawingml/2006/table">
            <a:tbl>
              <a:tblPr/>
              <a:tblGrid>
                <a:gridCol w="1539720"/>
                <a:gridCol w="569880"/>
                <a:gridCol w="465120"/>
                <a:gridCol w="493920"/>
                <a:gridCol w="484200"/>
                <a:gridCol w="466560"/>
                <a:gridCol w="474840"/>
                <a:gridCol w="502920"/>
                <a:gridCol w="493920"/>
                <a:gridCol w="466560"/>
                <a:gridCol w="522360"/>
                <a:gridCol w="465120"/>
                <a:gridCol w="484200"/>
                <a:gridCol w="504720"/>
                <a:gridCol w="466920"/>
                <a:gridCol w="563400"/>
                <a:gridCol w="565200"/>
                <a:gridCol w="679680"/>
              </a:tblGrid>
              <a:tr h="25920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о МКБ-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 gridSpan="16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 (из табл. 2000 гр.4 и гр.22) в возраст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-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-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-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-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-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-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-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-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-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-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 и старш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</a:tr>
              <a:tr h="42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арный диабет (из стр. 5.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10-Е11, Е13-Е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</a:tr>
              <a:tr h="928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, характеризующиеся повышенным кровяным давлением (из стр. 10.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10-I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</a:tr>
              <a:tr h="59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ническая ишемическая болезнь сердца (стр.  10.4.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</a:tr>
              <a:tr h="59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хит хронический и неуточненный, эмфизема (стр.11.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40-J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</a:tr>
              <a:tr h="761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ая хроническая обструктивная легочная болезнь (стр.11.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</a:tr>
              <a:tr h="42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хоэктатическая болезнь (стр.11.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</a:tr>
              <a:tr h="42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ма; астматический статус (стр. 11.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45, J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1693800" y="105840"/>
            <a:ext cx="100188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2910 продолжени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839" name=""/>
          <p:cNvGraphicFramePr/>
          <p:nvPr/>
        </p:nvGraphicFramePr>
        <p:xfrm>
          <a:off x="1484280" y="657360"/>
          <a:ext cx="10437840" cy="5068800"/>
        </p:xfrm>
        <a:graphic>
          <a:graphicData uri="http://schemas.openxmlformats.org/drawingml/2006/table">
            <a:tbl>
              <a:tblPr/>
              <a:tblGrid>
                <a:gridCol w="1747800"/>
                <a:gridCol w="655560"/>
                <a:gridCol w="524160"/>
                <a:gridCol w="461880"/>
                <a:gridCol w="461880"/>
                <a:gridCol w="390600"/>
                <a:gridCol w="496800"/>
                <a:gridCol w="506520"/>
                <a:gridCol w="541440"/>
                <a:gridCol w="496800"/>
                <a:gridCol w="531720"/>
                <a:gridCol w="523800"/>
                <a:gridCol w="435240"/>
                <a:gridCol w="434880"/>
                <a:gridCol w="523800"/>
                <a:gridCol w="444600"/>
                <a:gridCol w="541080"/>
                <a:gridCol w="719280"/>
              </a:tblGrid>
              <a:tr h="25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о МКБ-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 gridSpan="16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ациентов (из табл. 2000 гр.8 и гр.28) в возраст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-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-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-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-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-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-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-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-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-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-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 и старш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</a:tr>
              <a:tr h="42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арный диабет (из стр. 5.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10-Е11, Е13-Е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</a:tr>
              <a:tr h="761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, характеризующиеся повышенным кровяным давлением (из стр. 10.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10-I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</a:tr>
              <a:tr h="59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ническая ишемическая болезнь сердца (стр.  10.4.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</a:tr>
              <a:tr h="59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хит хронический и неуточненный, эмфизема (стр.11.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40-J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</a:tr>
              <a:tr h="59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ая хроническая обструктивная легочная болезнь (стр.11.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</a:tr>
              <a:tr h="42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хоэктатическая болезнь (стр.11.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</a:tr>
              <a:tr h="42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ма; астматический статус (стр. 11.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45, J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40" name="Прямоугольник 1"/>
          <p:cNvSpPr/>
          <p:nvPr/>
        </p:nvSpPr>
        <p:spPr>
          <a:xfrm>
            <a:off x="2157480" y="5784840"/>
            <a:ext cx="976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Обратите внимание!!! что в программе Медстат, выписанные и умершие пациенты заполняются в одной таблице. (только в печатном варианте таблица выходит в виде отдельных таблиц по выписанным и умершим)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ЫДЕРЖКА ИЗ УКАЗАНИЯ ПО ЗАПОЛНЕНИЮ ФОРМЫ ФЕДЕРАЛЬНОГО СТАТИСТИЧЕСКОГО НАБЛЮДЕ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4" name=""/>
          <p:cNvSpPr txBox="1"/>
          <p:nvPr/>
        </p:nvSpPr>
        <p:spPr>
          <a:xfrm>
            <a:off x="1693800" y="2324160"/>
            <a:ext cx="9599760" cy="358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федерального статистического наблюдения №14 «Сведения о деятельности подразделений медицинской организации, оказывающих медицинскую помощь в стационарных условиях», составляется всеми медицинскими организациями - юридическими лицами, оказывающими медицинскую помощь в стационарных условиях (Приказ Минздрава России от 6 августа 2013г. №529н « Об утверждении номенклатуры медицинских организаций», зарегистрирован Минюстом России 13 сентября 2013г. №29950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1695240" y="479160"/>
            <a:ext cx="944244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3000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Состав новорожденных с заболеваниями, поступивших в возрасте 0-6 дней жизни, и исходы их лечения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2" name=""/>
          <p:cNvSpPr txBox="1"/>
          <p:nvPr/>
        </p:nvSpPr>
        <p:spPr>
          <a:xfrm>
            <a:off x="2050560" y="1766520"/>
            <a:ext cx="9542520" cy="416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just">
              <a:lnSpc>
                <a:spcPct val="70000"/>
              </a:lnSpc>
              <a:spcBef>
                <a:spcPts val="1001"/>
              </a:spcBef>
              <a:spcAft>
                <a:spcPts val="201"/>
              </a:spcAft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6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заполняется только теми медицинскими организациями, в которые поступили новорожденные указанного возраста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 других медицинских организаций и в данной организации есть койки для выхаживания недоношенных и патологии новорожденных!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В таблицу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включаются </a:t>
            </a:r>
            <a:r>
              <a:rPr b="1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сведения о больных и заболевших детях (плодах), оставленных в палатах новорожденных мед. организаций (отделений) родовспоможени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550880" y="157320"/>
            <a:ext cx="100173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4000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Хирургическая работа организации)</a:t>
            </a:r>
            <a:br>
              <a:rPr sz="2400"/>
            </a:b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4" name=""/>
          <p:cNvSpPr txBox="1"/>
          <p:nvPr/>
        </p:nvSpPr>
        <p:spPr>
          <a:xfrm>
            <a:off x="2049120" y="1508040"/>
            <a:ext cx="9410760" cy="506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277200" indent="-277200" algn="just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Если одному и тому же пациенту произведено несколько операций, то он будет показан в таблице столько раз, сколько операций ему произведено, независимо от того, одномоментно или в разные сроки были произведены эти операци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 algn="just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Операция, произведенная в несколько этапов, в случае если пациент не выписывался из стационара в промежутки между этапами операции, учитывается как одна операция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 algn="just">
              <a:lnSpc>
                <a:spcPct val="90000"/>
              </a:lnSpc>
              <a:spcBef>
                <a:spcPts val="550"/>
              </a:spcBef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Операции на сосудах  (строка 8) и операции на нервной системе (строка 2)  не должны дублироваться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Если данные операции подходят как для строки 8, так и для строки 2, следует  отметить их только в одной строке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0c5a82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Times New Roman"/>
                <a:ea typeface="Calibri"/>
              </a:rPr>
              <a:t>Строка 8 «Операции на сосудах» равна сумме строки 8.1. «Операции на артериях» и строки 8.2. «Операции на венах» по всем графам!!!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 algn="just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материалы в ходе операции по внематочной беременности должны в 100% направляться на морфологическое исследование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 algn="just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2058840" y="168120"/>
            <a:ext cx="929016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4000 (Хирургическая работа организации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должение)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6" name=""/>
          <p:cNvSpPr txBox="1"/>
          <p:nvPr/>
        </p:nvSpPr>
        <p:spPr>
          <a:xfrm>
            <a:off x="1828800" y="976320"/>
            <a:ext cx="10182240" cy="55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algn="just">
              <a:lnSpc>
                <a:spcPct val="100000"/>
              </a:lnSpc>
              <a:spcBef>
                <a:spcPts val="575"/>
              </a:spcBef>
              <a:spcAft>
                <a:spcPts val="6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В графе «умерло оперированных в стационаре» указывается число умерших оперированных пациентов, независимо от того, что послужило причиной смерти: заболевание, по поводу которого была произведена операция, осложнение при или после операции или другие заболевани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spcAft>
                <a:spcPts val="6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200" spc="-1" strike="noStrike">
                <a:solidFill>
                  <a:srgbClr val="0c5a82"/>
                </a:solidFill>
                <a:latin typeface="Times New Roman"/>
                <a:ea typeface="Times New Roman"/>
              </a:rPr>
              <a:t>Например. </a:t>
            </a:r>
            <a:r>
              <a:rPr b="1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Случаи, когда пациент, оперированный по поводу катаракты,   аппендицита, грыжи и т. д., умер от инфаркта миокарда, инсульта и т. д.,  развившихся после операци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В случае смерти пациента, перенесшего несколько операций, как умершего его следуют показывать лишь по одной операции (наиболее серьезной и радикальной)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графе 28 необходимо указывать число направленных материалов на морфологическое исследование </a:t>
            </a:r>
            <a:r>
              <a:rPr b="1" lang="ru-RU" sz="2200" spc="-1" strike="noStrike" u="sng">
                <a:solidFill>
                  <a:srgbClr val="a50021"/>
                </a:solidFill>
                <a:uFillTx/>
                <a:latin typeface="Times New Roman"/>
              </a:rPr>
              <a:t>по числу операций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З РФ от 24 марта 2016 г. № 179Н) </a:t>
            </a:r>
            <a:r>
              <a:rPr b="1" i="1" lang="ru-RU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Не забывайте заполнять графу 28!!!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ить расшифровку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рочих» операций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 вошедших в предлагаемый  перечень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Прямоугольник 1"/>
          <p:cNvSpPr/>
          <p:nvPr/>
        </p:nvSpPr>
        <p:spPr>
          <a:xfrm>
            <a:off x="2192400" y="152280"/>
            <a:ext cx="855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4001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Хирургическая работа организац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старше трудоспособного возраста)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8" name="Прямоугольник 2"/>
          <p:cNvSpPr/>
          <p:nvPr/>
        </p:nvSpPr>
        <p:spPr>
          <a:xfrm>
            <a:off x="1589040" y="2251080"/>
            <a:ext cx="99172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7000"/>
              </a:lnSpc>
              <a:spcAft>
                <a:spcPts val="799"/>
              </a:spcAft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ебования к заполнению т.4001 точно такие же, как и к заполнению т.4000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just">
              <a:lnSpc>
                <a:spcPct val="107000"/>
              </a:lnSpc>
              <a:spcAft>
                <a:spcPts val="799"/>
              </a:spcAft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следует забывать, что сведения в т.4001 следуют из т.4000 и необходимо принимать во внимание заложенные для этого контроли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4110 (виды анестезий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0" name=""/>
          <p:cNvSpPr txBox="1"/>
          <p:nvPr/>
        </p:nvSpPr>
        <p:spPr>
          <a:xfrm>
            <a:off x="1623960" y="1294920"/>
            <a:ext cx="10136160" cy="372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ную анестезию в данную таблицу не включать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0 равна сумме строк с 1 по 9 включительно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«умерло пациентов» указываются данные только по умершим от проводимой анестези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1484280" y="163440"/>
            <a:ext cx="10018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4201 (проведено трансплантаций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2" name=""/>
          <p:cNvSpPr txBox="1"/>
          <p:nvPr/>
        </p:nvSpPr>
        <p:spPr>
          <a:xfrm>
            <a:off x="1484280" y="1312560"/>
            <a:ext cx="10018800" cy="470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just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у вносится информация о пересадке органов, а из тканей – только о костном мозге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пересадке тканей (роговицы, свободного кожного лоскута и т.д.)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вносятся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у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показываются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нструктивно-пластические операции с использованием аутотрансплантатов органов или тканей человека, а также с использованием медицинских изделий, полученных из органов или тканей человек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братить внимание, что строка 1 равна сумме строк 2-9 по всем графам. Строка 10 не суммируетс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1484280" y="93240"/>
            <a:ext cx="10018800" cy="11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4201 (проведено трансплантаций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4" name=""/>
          <p:cNvSpPr txBox="1"/>
          <p:nvPr/>
        </p:nvSpPr>
        <p:spPr>
          <a:xfrm>
            <a:off x="1484280" y="1558440"/>
            <a:ext cx="10136160" cy="47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в т. 4201 по числу проведенных трансплантаций должны соответствовать данным из формы №63 «Сведения о донорстве органов и тканей и трансплантации в медицинских организациях»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каз МЗ РФ от 8 июня 2016 г. № 355н)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у «прочие органы» вносится информация о пересадке трахеи, верхней конечности и ее фрагментов, нижней конечности и ее фрагментов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едоставить расшифровку строки 9 – трансплантация </a:t>
            </a:r>
            <a:r>
              <a:rPr b="1" lang="ru-RU" sz="22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прочих органов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9 необходимо указывать число направленных материалов на морфологическое исследование </a:t>
            </a:r>
            <a:r>
              <a:rPr b="1" lang="ru-RU" sz="22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по числу трансплантаций 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З РФ от 24 марта 2016 г. № 179Н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1739880" y="431280"/>
            <a:ext cx="94680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КОТОРЫЕ УСЛОВИЯ КОНТРОЛЯ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Таблица 2000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6" name=""/>
          <p:cNvSpPr txBox="1"/>
          <p:nvPr/>
        </p:nvSpPr>
        <p:spPr>
          <a:xfrm>
            <a:off x="1510920" y="1460160"/>
            <a:ext cx="9893160" cy="458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just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ШЕМИЧЕСКИЕ БОЛЕЗНИ СЕРДЦ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: СТРОКА 10.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графам 4-12, 13-21, 22-33 должна быть равна сумме строк: 10.4.1 + 10.4.2 + 10.4.3 +10.4.4 +10.4.5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0.4.1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а быть равна «0» по графам 8-12,17-21,28-33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РЕБРОВАСКУЛЯРНЫЕ БОЛЕЗН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: СТРОКА 10.7 </a:t>
            </a:r>
            <a:r>
              <a:rPr b="0" lang="ru-RU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по графам 4-7, 13-16, 22-27 должна быть строго равна сумме строк: 10.7.1 + 10.7.2 + 10.7.3 + 10.7.4 + 10.7.5 + 10.7.6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: СТРОКА 10.7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графам 8-12, 17-21, 28-33 может быть больше суммы строк: 10.7.1 + 10.7.2 + 10.7.3 + 10.7.4 + 10.7.5 + 10.7.6 за счет рубрики </a:t>
            </a:r>
            <a:r>
              <a:rPr b="0" lang="en-US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69 </a:t>
            </a:r>
            <a:r>
              <a:rPr b="0" lang="ru-RU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«Последствия цереброваскулярных болезней»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2198520" y="190440"/>
            <a:ext cx="919656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КОТОРЫЕ УСЛОВИЯ КОНТРОЛЯ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продолжение) (Таблица 2000 – ДЕТИ*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8" name="Прямоугольник 5"/>
          <p:cNvSpPr/>
          <p:nvPr/>
        </p:nvSpPr>
        <p:spPr>
          <a:xfrm>
            <a:off x="2320920" y="6451560"/>
            <a:ext cx="898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*Эти диагнозы не могут быть причиной болезни детей в возрасте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до 1 год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859" name=""/>
          <p:cNvGraphicFramePr/>
          <p:nvPr/>
        </p:nvGraphicFramePr>
        <p:xfrm>
          <a:off x="2198520" y="957240"/>
          <a:ext cx="9196560" cy="5486400"/>
        </p:xfrm>
        <a:graphic>
          <a:graphicData uri="http://schemas.openxmlformats.org/drawingml/2006/table">
            <a:tbl>
              <a:tblPr/>
              <a:tblGrid>
                <a:gridCol w="4519800"/>
                <a:gridCol w="1474920"/>
                <a:gridCol w="1449360"/>
                <a:gridCol w="1752480"/>
              </a:tblGrid>
              <a:tr h="808920">
                <a:tc>
                  <a:txBody>
                    <a:bodyPr lIns="90000" rIns="90000" anchor="ctr">
                      <a:noAutofit/>
                    </a:bodyPr>
                    <a:p>
                      <a:pPr marL="345960" indent="-34596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д по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КБ-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возрасте до 1 го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</a:tr>
              <a:tr h="808920">
                <a:tc>
                  <a:txBody>
                    <a:bodyPr lIns="90000" rIns="90000" anchor="ctr">
                      <a:noAutofit/>
                    </a:bodyPr>
                    <a:p>
                      <a:pPr marL="345960" indent="-34596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хит хронический и  неуточненный, эмфизем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40-J4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</a:tr>
              <a:tr h="808920">
                <a:tc>
                  <a:txBody>
                    <a:bodyPr lIns="90000" rIns="90000" anchor="ctr">
                      <a:noAutofit/>
                    </a:bodyPr>
                    <a:p>
                      <a:pPr marL="345960" indent="-34596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ая хроническая обструктивная  легочная болезнь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4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450360">
                <a:tc>
                  <a:txBody>
                    <a:bodyPr lIns="90000" rIns="90000" anchor="ctr">
                      <a:noAutofit/>
                    </a:bodyPr>
                    <a:p>
                      <a:pPr marL="345960" indent="-34596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хоэктатическая болез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4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</a:tr>
              <a:tr h="450360">
                <a:tc>
                  <a:txBody>
                    <a:bodyPr lIns="90000" rIns="90000" anchor="ctr">
                      <a:noAutofit/>
                    </a:bodyPr>
                    <a:p>
                      <a:pPr marL="345960" indent="-34596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функция яичник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2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450360">
                <a:tc>
                  <a:txBody>
                    <a:bodyPr lIns="90000" rIns="90000" anchor="ctr">
                      <a:noAutofit/>
                    </a:bodyPr>
                    <a:p>
                      <a:pPr marL="345960" indent="-34596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функция яиче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2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</a:tr>
              <a:tr h="450360">
                <a:tc>
                  <a:txBody>
                    <a:bodyPr lIns="90000" rIns="90000" anchor="ctr">
                      <a:noAutofit/>
                    </a:bodyPr>
                    <a:p>
                      <a:pPr marL="345960" indent="-34596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ройства менструаци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91-N9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450360">
                <a:tc>
                  <a:txBody>
                    <a:bodyPr lIns="90000" rIns="90000" anchor="ctr">
                      <a:noAutofit/>
                    </a:bodyPr>
                    <a:p>
                      <a:pPr marL="345960" indent="-34596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ое бесплод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6ee"/>
                    </a:solidFill>
                  </a:tcPr>
                </a:tc>
              </a:tr>
              <a:tr h="808920">
                <a:tc>
                  <a:txBody>
                    <a:bodyPr lIns="90000" rIns="90000" anchor="ctr">
                      <a:noAutofit/>
                    </a:bodyPr>
                    <a:p>
                      <a:pPr marL="345960" indent="-345960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5960" indent="-345960"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1704600" y="279360"/>
            <a:ext cx="9575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УТРИФОРМЕННЫЙ КОНТРОЛ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1" name=""/>
          <p:cNvSpPr txBox="1"/>
          <p:nvPr/>
        </p:nvSpPr>
        <p:spPr>
          <a:xfrm>
            <a:off x="1968120" y="1193400"/>
            <a:ext cx="9194760" cy="231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Количество умерших новорожденных, указанных в </a:t>
            </a:r>
            <a:r>
              <a:rPr b="1" lang="ru-RU" sz="22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таб. 2200 «Из общего числа умерших (стр.1) </a:t>
            </a:r>
            <a:r>
              <a:rPr b="1" lang="ru-RU" sz="2200" spc="-1" strike="noStrike" u="sng">
                <a:solidFill>
                  <a:srgbClr val="7d5013"/>
                </a:solidFill>
                <a:uFillTx/>
                <a:latin typeface="Times New Roman"/>
                <a:ea typeface="Times New Roman"/>
              </a:rPr>
              <a:t>умерло новорожденных в первые 168 часов жизни</a:t>
            </a:r>
            <a:r>
              <a:rPr b="0" lang="ru-RU" sz="22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»</a:t>
            </a:r>
            <a:r>
              <a:rPr b="0" lang="ru-RU" sz="2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не должно превышать число, указанное в </a:t>
            </a:r>
            <a:r>
              <a:rPr b="1" lang="ru-RU" sz="22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табл. 2000 «дети от 0-17 лет», гр. </a:t>
            </a:r>
            <a:r>
              <a:rPr b="1" lang="en-US" sz="22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33</a:t>
            </a:r>
            <a:r>
              <a:rPr b="1" lang="ru-RU" sz="22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 «</a:t>
            </a:r>
            <a:r>
              <a:rPr b="1" lang="ru-RU" sz="2200" spc="-1" strike="noStrike" u="sng">
                <a:solidFill>
                  <a:srgbClr val="7d5013"/>
                </a:solidFill>
                <a:uFillTx/>
                <a:latin typeface="Times New Roman"/>
                <a:ea typeface="Times New Roman"/>
              </a:rPr>
              <a:t>Умерло в возрасте до 1 года</a:t>
            </a:r>
            <a:r>
              <a:rPr b="0" lang="ru-RU" sz="22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»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862" name="Прямоугольник 3"/>
          <p:cNvGrpSpPr/>
          <p:nvPr/>
        </p:nvGrpSpPr>
        <p:grpSpPr>
          <a:xfrm>
            <a:off x="1768320" y="3382920"/>
            <a:ext cx="9545760" cy="2511360"/>
            <a:chOff x="1768320" y="3382920"/>
            <a:chExt cx="9545760" cy="2511360"/>
          </a:xfrm>
        </p:grpSpPr>
        <p:pic>
          <p:nvPicPr>
            <p:cNvPr id="1863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768320" y="3382920"/>
              <a:ext cx="9545760" cy="25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4" name=""/>
            <p:cNvSpPr/>
            <p:nvPr/>
          </p:nvSpPr>
          <p:spPr>
            <a:xfrm>
              <a:off x="1968480" y="3505320"/>
              <a:ext cx="9194760" cy="21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200)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Из общего числа умерших (стр.1) </a:t>
              </a:r>
              <a:r>
                <a:rPr b="0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умерло новорожденных в первые 168 часов жизни </a:t>
              </a:r>
              <a:r>
                <a:rPr b="1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1 _______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мерло в первые 24 часа после поступления в стационар: в возрасте 0 - 24 часа после рождения </a:t>
              </a:r>
              <a:endParaRPr b="0" lang="en-US" sz="2200" spc="-1" strike="noStrike">
                <a:solidFill>
                  <a:srgbClr val="000000"/>
                </a:solidFill>
                <a:latin typeface="Corbe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________ ,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них недоношенных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 _______ ,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 1 года (без умерших в первые 24 часа после рождения)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 ______ ,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том числе от пневмонии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 ________ .</a:t>
              </a:r>
              <a:endParaRPr b="0" lang="en-US" sz="22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865" name="Line 9"/>
          <p:cNvSpPr/>
          <p:nvPr/>
        </p:nvSpPr>
        <p:spPr>
          <a:xfrm>
            <a:off x="3143160" y="2108160"/>
            <a:ext cx="1908360" cy="1994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"/>
          <p:cNvSpPr txBox="1"/>
          <p:nvPr/>
        </p:nvSpPr>
        <p:spPr>
          <a:xfrm>
            <a:off x="1527120" y="851040"/>
            <a:ext cx="9725040" cy="572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чет включаются сведения о числе койко-дней, проведенных пациентами в круглосуточном стационаре, о числе и составе пациентов, исходах их лечения и об объеме хирургической помощи (экстренной и плановой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чете отражаются  сведения о числе операций, независимо от профиля, вида, метода проведения, выполненных пациентам, выбывшим из стационара, либо умершим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проведенных в стационаре операций выделяется число операций, при которых наблюдались осложнени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ставлении Формы для отнесения заболеваний к той или иной нозологической форме или классу заболеваний, следует руководствоваться 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заключительным клиническим диагнозом, а в случае смерти – первоначальной причиной смерти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у включаются только те заболевания, которые выставлены в качестве «основного заболевания». Если состояния, указанные в строках 10.6.5, 10.6.6 и 10.6.7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ердно-желудочковая (атриовентрикулярная) блока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удочковая тахикардия, фибрилляция и трепетание предсерди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ются осложнением «основного заболевания», они в Форму не включаются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1484280" y="368280"/>
            <a:ext cx="100188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УТРИФОРМЕННЫЙ КОНТРОЛЬ (продолжени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7" name=""/>
          <p:cNvSpPr txBox="1"/>
          <p:nvPr/>
        </p:nvSpPr>
        <p:spPr>
          <a:xfrm>
            <a:off x="1777680" y="1549440"/>
            <a:ext cx="93726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2200" spc="-1" strike="noStrike" u="sng">
                <a:solidFill>
                  <a:srgbClr val="7d5013"/>
                </a:solidFill>
                <a:uFillTx/>
                <a:latin typeface="Times New Roman"/>
                <a:ea typeface="Times New Roman"/>
              </a:rPr>
              <a:t>умерших беременных, рожениц и родильниц</a:t>
            </a:r>
            <a:r>
              <a:rPr b="1" lang="ru-RU" sz="22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,</a:t>
            </a:r>
            <a:r>
              <a:rPr b="0" lang="ru-RU" sz="22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указанных </a:t>
            </a:r>
            <a:r>
              <a:rPr b="1" lang="ru-RU" sz="2200" spc="-1" strike="noStrike" u="sng">
                <a:solidFill>
                  <a:srgbClr val="7d5013"/>
                </a:solidFill>
                <a:uFillTx/>
                <a:latin typeface="Times New Roman"/>
                <a:ea typeface="Times New Roman"/>
              </a:rPr>
              <a:t>в табл. 2400 </a:t>
            </a:r>
            <a:r>
              <a:rPr b="0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не должно быть больше, чем в </a:t>
            </a:r>
            <a:r>
              <a:rPr b="1" lang="ru-RU" sz="22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табл. 2000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868" name="Скругленный прямоугольник 3"/>
          <p:cNvGrpSpPr/>
          <p:nvPr/>
        </p:nvGrpSpPr>
        <p:grpSpPr>
          <a:xfrm>
            <a:off x="1798560" y="3170160"/>
            <a:ext cx="9472680" cy="2859120"/>
            <a:chOff x="1798560" y="3170160"/>
            <a:chExt cx="9472680" cy="2859120"/>
          </a:xfrm>
        </p:grpSpPr>
        <p:pic>
          <p:nvPicPr>
            <p:cNvPr id="1869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798560" y="3170160"/>
              <a:ext cx="9472680" cy="28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0" name=""/>
            <p:cNvSpPr/>
            <p:nvPr/>
          </p:nvSpPr>
          <p:spPr>
            <a:xfrm>
              <a:off x="2044800" y="3403440"/>
              <a:ext cx="8978760" cy="23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(2400)</a:t>
              </a:r>
              <a:r>
                <a:rPr b="0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Умерло беременных, рожениц и родильниц (при сроке беременности 22 недель и более)  </a:t>
              </a:r>
              <a:r>
                <a:rPr b="1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1 __________ , </a:t>
              </a:r>
              <a:r>
                <a:rPr b="0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из них умерло от заболеваний, осложнивших беременность и роды </a:t>
              </a:r>
              <a:r>
                <a:rPr b="1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2 ________ .</a:t>
              </a:r>
              <a:endParaRPr b="0" lang="en-US" sz="22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871" name="Line 9"/>
          <p:cNvSpPr/>
          <p:nvPr/>
        </p:nvSpPr>
        <p:spPr>
          <a:xfrm>
            <a:off x="5459400" y="2266920"/>
            <a:ext cx="1500120" cy="2322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1484280" y="177840"/>
            <a:ext cx="10018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УТРИФОРМЕННЫЙ КОНТРОЛЬ (продолжени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3" name=""/>
          <p:cNvSpPr txBox="1"/>
          <p:nvPr/>
        </p:nvSpPr>
        <p:spPr>
          <a:xfrm>
            <a:off x="1752120" y="1308240"/>
            <a:ext cx="9512280" cy="14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22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умерших от инфаркта миокарда  (таб. 2000, стр. 10.4.2 + стр. 10.4.3)</a:t>
            </a:r>
            <a:r>
              <a:rPr b="1" lang="ru-RU" sz="2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не должно быть меньше числа </a:t>
            </a:r>
            <a:r>
              <a:rPr b="1" lang="ru-RU" sz="22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умерших от инфаркта миокарда (стр. 10.4.2 + стр. 10.4.3) в первые 24 часа после поступления в стационар (таб. 2300, гр.5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874" name="Скругленный прямоугольник 3"/>
          <p:cNvGrpSpPr/>
          <p:nvPr/>
        </p:nvGrpSpPr>
        <p:grpSpPr>
          <a:xfrm>
            <a:off x="1785960" y="2517840"/>
            <a:ext cx="9472680" cy="4084560"/>
            <a:chOff x="1785960" y="2517840"/>
            <a:chExt cx="9472680" cy="4084560"/>
          </a:xfrm>
        </p:grpSpPr>
        <p:pic>
          <p:nvPicPr>
            <p:cNvPr id="1875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785960" y="2517840"/>
              <a:ext cx="9472680" cy="40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6" name=""/>
            <p:cNvSpPr/>
            <p:nvPr/>
          </p:nvSpPr>
          <p:spPr>
            <a:xfrm>
              <a:off x="2092320" y="2816280"/>
              <a:ext cx="8858160" cy="34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2300)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Поступило пациентов с инфарктом миокарда в стационар в первые сутки от начала заболевания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_______ ,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том числе в первые 12 часов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_______ ,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них проведена тромболитическая терапия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 ______ ,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ентирование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 _______ ; </a:t>
              </a:r>
              <a:r>
                <a:rPr b="0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из общего числа умерших умерло пациентов с инфарктом миокарда (стр. 10.4.2+10.4.3) в первые 24 часа после поступления в стационар</a:t>
              </a:r>
              <a:endParaRPr b="0" lang="en-US" sz="2200" spc="-1" strike="noStrike">
                <a:solidFill>
                  <a:srgbClr val="000000"/>
                </a:solidFill>
                <a:latin typeface="Corbe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5 ______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,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том числе в возрасте до 65 лет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6 _______ ,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числа умерших в первые в 24 часа поступления в стационар пациентов с инфарктом миокарда проведена тромболитическая терапия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 ________ ,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ентирование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 ________ . </a:t>
              </a:r>
              <a:endParaRPr b="0" lang="en-US" sz="22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877" name="Line 9"/>
          <p:cNvSpPr/>
          <p:nvPr/>
        </p:nvSpPr>
        <p:spPr>
          <a:xfrm>
            <a:off x="2592360" y="2147760"/>
            <a:ext cx="541440" cy="2957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93218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УТРИФОРМЕННЫЙ КОНТРОЛЬ (продолжени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9" name=""/>
          <p:cNvSpPr txBox="1"/>
          <p:nvPr/>
        </p:nvSpPr>
        <p:spPr>
          <a:xfrm>
            <a:off x="1904760" y="1510920"/>
            <a:ext cx="9219960" cy="17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Необходимо проводить сверку числа </a:t>
            </a:r>
            <a:r>
              <a:rPr b="1" lang="ru-RU" sz="22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«умерших в первые 24 часа после поступления в стационар»: «детей (0-17 лет вкл.)» </a:t>
            </a:r>
            <a:r>
              <a:rPr b="0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и пациентов </a:t>
            </a:r>
            <a:r>
              <a:rPr b="1" lang="ru-RU" sz="22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«в возрасте от 18 до 65 лет»</a:t>
            </a:r>
            <a:r>
              <a:rPr b="0" lang="ru-RU" sz="22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с таблицей </a:t>
            </a:r>
            <a:r>
              <a:rPr b="1" lang="ru-RU" sz="22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2000, гр. «умерло»</a:t>
            </a:r>
            <a:r>
              <a:rPr b="0" lang="ru-RU" sz="22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880" name="Прямоугольник 3"/>
          <p:cNvGrpSpPr/>
          <p:nvPr/>
        </p:nvGrpSpPr>
        <p:grpSpPr>
          <a:xfrm>
            <a:off x="1706400" y="3230640"/>
            <a:ext cx="9620280" cy="2219400"/>
            <a:chOff x="1706400" y="3230640"/>
            <a:chExt cx="9620280" cy="2219400"/>
          </a:xfrm>
        </p:grpSpPr>
        <p:pic>
          <p:nvPicPr>
            <p:cNvPr id="1881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706400" y="3230640"/>
              <a:ext cx="9620280" cy="22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2" name=""/>
            <p:cNvSpPr/>
            <p:nvPr/>
          </p:nvSpPr>
          <p:spPr>
            <a:xfrm>
              <a:off x="1905120" y="3378240"/>
              <a:ext cx="92199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2500)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общего числа умерших (стр.1) умерло в первые 24 часа после поступления в стационар: </a:t>
              </a:r>
              <a:r>
                <a:rPr b="0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детей в возрасте 0-17 лет включительно </a:t>
              </a:r>
              <a:r>
                <a:rPr b="1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1 _________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ациентов </a:t>
              </a:r>
              <a:r>
                <a:rPr b="0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в возрасте от 18 до 65 лет </a:t>
              </a:r>
              <a:r>
                <a:rPr b="1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2 _______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,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них пациентов с острыми цереброваскулярными болезнями  (стр. 10.7.1-10.7.4)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 _________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883" name="Line 9"/>
          <p:cNvSpPr/>
          <p:nvPr/>
        </p:nvSpPr>
        <p:spPr>
          <a:xfrm>
            <a:off x="4916520" y="2533680"/>
            <a:ext cx="3641760" cy="1789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4" name="Line 9"/>
          <p:cNvSpPr/>
          <p:nvPr/>
        </p:nvSpPr>
        <p:spPr>
          <a:xfrm flipH="1">
            <a:off x="2820960" y="2671920"/>
            <a:ext cx="1271520" cy="165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1714680" y="558360"/>
            <a:ext cx="952488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УТРИФОРМЕННЫЙ КОНТРОЛЬ (продолжени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6" name=""/>
          <p:cNvSpPr txBox="1"/>
          <p:nvPr/>
        </p:nvSpPr>
        <p:spPr>
          <a:xfrm>
            <a:off x="1714680" y="1371240"/>
            <a:ext cx="9423360" cy="255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22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умерших</a:t>
            </a:r>
            <a:r>
              <a:rPr b="0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пациентов </a:t>
            </a:r>
            <a:r>
              <a:rPr b="1" lang="ru-RU" sz="22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в таб. 2000</a:t>
            </a:r>
            <a:r>
              <a:rPr b="0" lang="ru-RU" sz="22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с острыми цереброваскулярными болезнями  (стр. 10.7.1-10.7.4)  </a:t>
            </a:r>
            <a:r>
              <a:rPr b="0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не должно быть меньше числа </a:t>
            </a:r>
            <a:r>
              <a:rPr b="1" lang="ru-RU" sz="22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умерших</a:t>
            </a:r>
            <a:r>
              <a:rPr b="0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пациентов </a:t>
            </a:r>
            <a:r>
              <a:rPr b="1" lang="ru-RU" sz="22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в первые 24 часа после поступления в стационар в возрасте от 18 до 65 лет с острыми цереброваскулярными болезнями (стр. 10.7.1-10.7.4), указанных в  таб. 2500, гр.3</a:t>
            </a:r>
            <a:r>
              <a:rPr b="0" lang="ru-RU" sz="2200" spc="-1" strike="noStrike">
                <a:solidFill>
                  <a:srgbClr val="7d5013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887" name="Скругленный прямоугольник 4"/>
          <p:cNvGrpSpPr/>
          <p:nvPr/>
        </p:nvGrpSpPr>
        <p:grpSpPr>
          <a:xfrm>
            <a:off x="2090880" y="3584520"/>
            <a:ext cx="8772480" cy="2719440"/>
            <a:chOff x="2090880" y="3584520"/>
            <a:chExt cx="8772480" cy="2719440"/>
          </a:xfrm>
        </p:grpSpPr>
        <p:pic>
          <p:nvPicPr>
            <p:cNvPr id="1888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2090880" y="3584520"/>
              <a:ext cx="8772480" cy="27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9" name=""/>
            <p:cNvSpPr/>
            <p:nvPr/>
          </p:nvSpPr>
          <p:spPr>
            <a:xfrm>
              <a:off x="2332080" y="3813120"/>
              <a:ext cx="8289720" cy="22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rbel"/>
                </a:rPr>
                <a:t>(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500)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общего числа умерших (стр.1) умерло в первые 24 часа после поступления в стационар: детей в возрасте 0-17 лет включительно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_________, </a:t>
              </a:r>
              <a:r>
                <a:rPr b="0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ациентов в возрасте от 18 до 65 лет </a:t>
              </a:r>
              <a:r>
                <a:rPr b="1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2 _______ , </a:t>
              </a:r>
              <a:r>
                <a:rPr b="0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из них пациентов с острыми цереброваскулярными болезнями  (стр. 10.7.1-10.7.4) </a:t>
              </a:r>
              <a:endParaRPr b="0" lang="en-US" sz="2200" spc="-1" strike="noStrike">
                <a:solidFill>
                  <a:srgbClr val="000000"/>
                </a:solidFill>
                <a:latin typeface="Corbe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3 _________ .</a:t>
              </a:r>
              <a:endParaRPr b="0" lang="en-US" sz="22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cxnSp>
        <p:nvCxnSpPr>
          <p:cNvPr id="1890" name="Прямая со стрелкой 5"/>
          <p:cNvCxnSpPr/>
          <p:nvPr/>
        </p:nvCxnSpPr>
        <p:spPr>
          <a:xfrm>
            <a:off x="2743200" y="3165120"/>
            <a:ext cx="835920" cy="2615400"/>
          </a:xfrm>
          <a:prstGeom prst="straightConnector1">
            <a:avLst/>
          </a:prstGeom>
          <a:ln cap="sq" w="12600">
            <a:solidFill>
              <a:srgbClr val="d64a3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1765440" y="291960"/>
            <a:ext cx="96012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УТРИФОРМЕННЫЙ КОНТРОЛЬ (продолжени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2" name=""/>
          <p:cNvSpPr txBox="1"/>
          <p:nvPr/>
        </p:nvSpPr>
        <p:spPr>
          <a:xfrm>
            <a:off x="1765080" y="1181160"/>
            <a:ext cx="9093240" cy="355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82680" indent="-382680" algn="just">
              <a:lnSpc>
                <a:spcPct val="9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Сумма числа </a:t>
            </a:r>
            <a:r>
              <a:rPr b="1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умерших взрослых в возрасте до 65 лет от инфаркта миокарда</a:t>
            </a:r>
            <a:r>
              <a:rPr b="0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(стр. 10.4.2 +10.4.3)  в первые 24 часа после поступления в стационар (таб. 2300, гр. 6) и </a:t>
            </a:r>
            <a:r>
              <a:rPr b="1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пациентов с острыми ЦВБ</a:t>
            </a:r>
            <a:r>
              <a:rPr b="0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(из табл. 2000 стр. 10.7.1-10.7.4) также умерших в первые 24 часа после поступления в стационар в возрасте от 18 до 65 лет (таб. 2500, гр.3), </a:t>
            </a:r>
            <a:r>
              <a:rPr b="1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не должно быть больше</a:t>
            </a:r>
            <a:r>
              <a:rPr b="0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исла умерших в первые 24 часа после поступления в стационар в возрасте от 18 до 65 лет</a:t>
            </a:r>
            <a:r>
              <a:rPr b="0" lang="ru-RU" sz="22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, указанного в таб. 2500, гр. 2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82680" indent="-3826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3" name="Стрелка вниз 3"/>
          <p:cNvSpPr/>
          <p:nvPr/>
        </p:nvSpPr>
        <p:spPr>
          <a:xfrm>
            <a:off x="5446800" y="4444920"/>
            <a:ext cx="1728720" cy="165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8c8c8"/>
          </a:solidFill>
          <a:ln w="34920">
            <a:solidFill>
              <a:srgbClr val="656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1484280" y="343080"/>
            <a:ext cx="10018800" cy="72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Таб. 2300, гр. 7 + таб. 2500, гр.3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&lt;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или =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таб. 2500, гр. 2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895" name="Скругленный прямоугольник 3"/>
          <p:cNvGrpSpPr/>
          <p:nvPr/>
        </p:nvGrpSpPr>
        <p:grpSpPr>
          <a:xfrm>
            <a:off x="1359000" y="957240"/>
            <a:ext cx="10064520" cy="3895920"/>
            <a:chOff x="1359000" y="957240"/>
            <a:chExt cx="10064520" cy="3895920"/>
          </a:xfrm>
        </p:grpSpPr>
        <p:pic>
          <p:nvPicPr>
            <p:cNvPr id="1896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359000" y="957240"/>
              <a:ext cx="10064520" cy="38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7" name=""/>
            <p:cNvSpPr/>
            <p:nvPr/>
          </p:nvSpPr>
          <p:spPr>
            <a:xfrm>
              <a:off x="1660680" y="1243080"/>
              <a:ext cx="9462960" cy="32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300)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Поступило пациентов с инфарктом миокарда в стационар в первые сутки от начала заболевания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_______ ,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том числе в первые 12 часов </a:t>
              </a:r>
              <a:endParaRPr b="0" lang="en-US" sz="2200" spc="-1" strike="noStrike">
                <a:solidFill>
                  <a:srgbClr val="000000"/>
                </a:solidFill>
                <a:latin typeface="Corbe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_______ ,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них в первые 2 часа 3 ________из них проведена тромболитическая терапия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 ______ ,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ентирование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 _______ ,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ромболтитическая терапия с последующим стентированием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________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общего числа умерших </a:t>
              </a:r>
              <a:r>
                <a:rPr b="0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умерло пациентов с инфарктом миокарда (стр. 10.4.2+10.4.3) в первые 24 часа после поступления в стационар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______ , </a:t>
              </a:r>
              <a:r>
                <a:rPr b="0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в том числе в возрасте до 65 лет</a:t>
              </a:r>
              <a:r>
                <a:rPr b="1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8_______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числа умерших в первые в 24 часа поступления в стационар пациентов с инфарктом миокарда проведена тромболитическая терапия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 ________ ,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ентирование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 ________ </a:t>
              </a:r>
              <a:r>
                <a:rPr b="1" lang="ru-RU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. </a:t>
              </a:r>
              <a:endParaRPr b="0" lang="en-US" sz="22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1898" name="Скругленный прямоугольник 4"/>
          <p:cNvGrpSpPr/>
          <p:nvPr/>
        </p:nvGrpSpPr>
        <p:grpSpPr>
          <a:xfrm>
            <a:off x="2530440" y="4834080"/>
            <a:ext cx="8893080" cy="2206440"/>
            <a:chOff x="2530440" y="4834080"/>
            <a:chExt cx="8893080" cy="2206440"/>
          </a:xfrm>
        </p:grpSpPr>
        <p:pic>
          <p:nvPicPr>
            <p:cNvPr id="1899" name="Скругленный 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2530440" y="4834080"/>
              <a:ext cx="8893080" cy="220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0" name=""/>
            <p:cNvSpPr/>
            <p:nvPr/>
          </p:nvSpPr>
          <p:spPr>
            <a:xfrm>
              <a:off x="2747880" y="5035680"/>
              <a:ext cx="8458200" cy="17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500)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общего числа умерших (стр.1) </a:t>
              </a:r>
              <a:r>
                <a:rPr b="0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умерло в первые 24 часа после поступления в стационар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детей в возрасте 0-17 лет включительно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_________, </a:t>
              </a:r>
              <a:r>
                <a:rPr b="1" lang="ru-RU" sz="2200" spc="-1" strike="noStrike">
                  <a:solidFill>
                    <a:srgbClr val="003300"/>
                  </a:solidFill>
                  <a:latin typeface="Times New Roman"/>
                  <a:ea typeface="Times New Roman"/>
                </a:rPr>
                <a:t>пациентов в возрасте от 18 до 65 лет </a:t>
              </a:r>
              <a:endParaRPr b="0" lang="en-US" sz="2200" spc="-1" strike="noStrike">
                <a:solidFill>
                  <a:srgbClr val="000000"/>
                </a:solidFill>
                <a:latin typeface="Corbe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3300"/>
                  </a:solidFill>
                  <a:latin typeface="Times New Roman"/>
                  <a:ea typeface="Times New Roman"/>
                </a:rPr>
                <a:t>2 _______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них </a:t>
              </a:r>
              <a:r>
                <a:rPr b="0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ациентов с острыми цереброваскулярными болезнями  (стр. 10.7.1-10.7.4) </a:t>
              </a:r>
              <a:r>
                <a:rPr b="1" lang="ru-RU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3 _________ .</a:t>
              </a:r>
              <a:endParaRPr b="0" lang="en-US" sz="22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901" name="Line 9"/>
          <p:cNvSpPr/>
          <p:nvPr/>
        </p:nvSpPr>
        <p:spPr>
          <a:xfrm>
            <a:off x="4178160" y="879480"/>
            <a:ext cx="4737240" cy="2371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2" name="Line 9"/>
          <p:cNvSpPr/>
          <p:nvPr/>
        </p:nvSpPr>
        <p:spPr>
          <a:xfrm>
            <a:off x="6391440" y="879480"/>
            <a:ext cx="644400" cy="572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3" name="Line 9"/>
          <p:cNvSpPr/>
          <p:nvPr/>
        </p:nvSpPr>
        <p:spPr>
          <a:xfrm>
            <a:off x="8915400" y="879480"/>
            <a:ext cx="1015920" cy="4873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1994040" y="418680"/>
            <a:ext cx="9169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УТРИФОРМЕННЫЙ КОНТРОЛЬ (продолжени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5" name=""/>
          <p:cNvSpPr txBox="1"/>
          <p:nvPr/>
        </p:nvSpPr>
        <p:spPr>
          <a:xfrm>
            <a:off x="1841400" y="1180800"/>
            <a:ext cx="93218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операций, указанных в таб.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00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лжно превышать число операций в таб.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, гр.3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видам (на органе зрения, на ухе, на желудке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906" name=""/>
          <p:cNvGraphicFramePr/>
          <p:nvPr/>
        </p:nvGraphicFramePr>
        <p:xfrm>
          <a:off x="2374920" y="2863800"/>
          <a:ext cx="8253360" cy="3686400"/>
        </p:xfrm>
        <a:graphic>
          <a:graphicData uri="http://schemas.openxmlformats.org/drawingml/2006/table">
            <a:tbl>
              <a:tblPr/>
              <a:tblGrid>
                <a:gridCol w="5295960"/>
                <a:gridCol w="990360"/>
                <a:gridCol w="863640"/>
                <a:gridCol w="11034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у де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органе зрения (из стр. 4 табл. 4000)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………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ухе (стр.5.1 табл. 4000) - слухоулучшающ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 кохлеарная имплант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.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желудке по поводу язвенной болезни (стр.9.1 табл..4000) – органосохраняющ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7" name="Прямоугольник 4"/>
          <p:cNvSpPr/>
          <p:nvPr/>
        </p:nvSpPr>
        <p:spPr>
          <a:xfrm>
            <a:off x="2227680" y="2343240"/>
            <a:ext cx="63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Таблица 4200 «Из общего числа операций  (единиц)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1908" name="Прямая со стрелкой 5"/>
          <p:cNvCxnSpPr/>
          <p:nvPr/>
        </p:nvCxnSpPr>
        <p:spPr>
          <a:xfrm flipH="1">
            <a:off x="7124040" y="1821960"/>
            <a:ext cx="1662840" cy="1404360"/>
          </a:xfrm>
          <a:prstGeom prst="straightConnector1">
            <a:avLst/>
          </a:prstGeom>
          <a:ln cap="sq" w="9360">
            <a:solidFill>
              <a:srgbClr val="c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1484280" y="256680"/>
            <a:ext cx="10018800" cy="48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ru-RU" sz="26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0" name="Содержимое 2"/>
          <p:cNvSpPr/>
          <p:nvPr/>
        </p:nvSpPr>
        <p:spPr>
          <a:xfrm>
            <a:off x="2535120" y="855720"/>
            <a:ext cx="8209080" cy="457200"/>
          </a:xfrm>
          <a:prstGeom prst="rect">
            <a:avLst/>
          </a:prstGeom>
          <a:solidFill>
            <a:srgbClr val="adc7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4440" indent="-51444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По числу</a:t>
            </a:r>
            <a:r>
              <a:rPr b="1" lang="en-US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выписанных, умерших всего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911" name="Объект 8" descr=""/>
          <p:cNvPicPr/>
          <p:nvPr/>
        </p:nvPicPr>
        <p:blipFill>
          <a:blip r:embed="rId1"/>
          <a:stretch/>
        </p:blipFill>
        <p:spPr>
          <a:xfrm>
            <a:off x="1967040" y="2916360"/>
            <a:ext cx="9540720" cy="3473280"/>
          </a:xfrm>
          <a:prstGeom prst="rect">
            <a:avLst/>
          </a:prstGeom>
          <a:ln w="0">
            <a:noFill/>
          </a:ln>
        </p:spPr>
      </p:pic>
      <p:sp>
        <p:nvSpPr>
          <p:cNvPr id="1912" name="Прямоугольник 9"/>
          <p:cNvSpPr/>
          <p:nvPr/>
        </p:nvSpPr>
        <p:spPr>
          <a:xfrm>
            <a:off x="1771560" y="1411200"/>
            <a:ext cx="9731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сло выбывших пациентов (выписанные+умершие) в форме №14 должно быть меньше числа выбывших из формы №30 за счет переводных пациенто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исло умерших пациентов в форме №14 должно быть равно числу умерших пациентов в форме №30 !!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3" name=""/>
          <p:cNvGraphicFramePr/>
          <p:nvPr/>
        </p:nvGraphicFramePr>
        <p:xfrm>
          <a:off x="2238480" y="1089000"/>
          <a:ext cx="8173800" cy="335160"/>
        </p:xfrm>
        <a:graphic>
          <a:graphicData uri="http://schemas.openxmlformats.org/drawingml/2006/table">
            <a:tbl>
              <a:tblPr/>
              <a:tblGrid>
                <a:gridCol w="4232160"/>
                <a:gridCol w="574560"/>
                <a:gridCol w="3367080"/>
              </a:tblGrid>
              <a:tr h="33516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Arial"/>
                        </a:rPr>
                        <a:t>Форма  № 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5760" marR="95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Arial"/>
                        </a:rPr>
                        <a:t>Форма  № 3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5760" marR="95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14" name=""/>
          <p:cNvGraphicFramePr/>
          <p:nvPr/>
        </p:nvGraphicFramePr>
        <p:xfrm>
          <a:off x="2203560" y="1832040"/>
          <a:ext cx="8208720" cy="2365200"/>
        </p:xfrm>
        <a:graphic>
          <a:graphicData uri="http://schemas.openxmlformats.org/drawingml/2006/table">
            <a:tbl>
              <a:tblPr/>
              <a:tblGrid>
                <a:gridCol w="4295520"/>
                <a:gridCol w="538200"/>
                <a:gridCol w="3375000"/>
              </a:tblGrid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Arial"/>
                        </a:rPr>
                        <a:t>Всего: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2000 «Взрослые» стр.1, гр. 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+ т. 2000 «Дети от 0-17 лет»  стр. 1, гр. 29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5503 гр. 3, стр. 1.1 - гр. 9, стр. 1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Arial"/>
                        </a:rPr>
                        <a:t>Взрослые: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2000 «Взрослые» стр.1, гр. 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5503 гр. 3, (стр. 1.1 - стр.1.1.1)  - гр. 9, (стр. 1.1 – стр. 1.1.1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Arial"/>
                        </a:rPr>
                        <a:t>Дети: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2000  стр. 1, гр. 2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5503 гр. 3, стр.1.1.1  - гр. 9,  стр. 1.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Times New Roman"/>
                          <a:ea typeface="Arial"/>
                        </a:rPr>
                        <a:t>Старше трудоспособ.: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2000 стр. 1, гр.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5503 гр. 3, стр.1.1.3 - гр. 9,  стр. 1.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5" name="Прямоугольник 3"/>
          <p:cNvSpPr/>
          <p:nvPr/>
        </p:nvSpPr>
        <p:spPr>
          <a:xfrm>
            <a:off x="3095640" y="25884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МЕЖФОРМЕННЫЙ КОНТРОЛЬ (продолжение)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6" name="Rectangle 37"/>
          <p:cNvSpPr/>
          <p:nvPr/>
        </p:nvSpPr>
        <p:spPr>
          <a:xfrm>
            <a:off x="2695680" y="4197240"/>
            <a:ext cx="7140600" cy="916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 количеству умерших новорожденных в первые 168 часов жизни в стационаре и вскрытиям новорожденных умерших в первые 0-6 суток жизн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917" name=""/>
          <p:cNvGraphicFramePr/>
          <p:nvPr/>
        </p:nvGraphicFramePr>
        <p:xfrm>
          <a:off x="2203560" y="5113440"/>
          <a:ext cx="8208720" cy="1363680"/>
        </p:xfrm>
        <a:graphic>
          <a:graphicData uri="http://schemas.openxmlformats.org/drawingml/2006/table">
            <a:tbl>
              <a:tblPr/>
              <a:tblGrid>
                <a:gridCol w="4219560"/>
                <a:gridCol w="538200"/>
                <a:gridCol w="3450960"/>
              </a:tblGrid>
              <a:tr h="136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 2200 гр. 1 «умерло новорожденных в первые 168 ч. жизн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быть больше, так как не всегда дети вскрываются (например, по религиозным взглядам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 5503 гр. 3,  стр.4  - гр. 9, стр.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скрыто новорожденных умерших в </a:t>
                      </a: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ервые 0-6 суток (168 ч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8" name="Rectangle 50"/>
          <p:cNvSpPr/>
          <p:nvPr/>
        </p:nvSpPr>
        <p:spPr>
          <a:xfrm>
            <a:off x="2695680" y="1442880"/>
            <a:ext cx="714060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 патологоанатомическим вскрытиям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Rectangle 2"/>
          <p:cNvSpPr/>
          <p:nvPr/>
        </p:nvSpPr>
        <p:spPr>
          <a:xfrm>
            <a:off x="2427120" y="490680"/>
            <a:ext cx="82296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МЕЖФОРМЕННЫЙ КОНТРОЛЬ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920" name=""/>
          <p:cNvGraphicFramePr/>
          <p:nvPr/>
        </p:nvGraphicFramePr>
        <p:xfrm>
          <a:off x="2279520" y="1235160"/>
          <a:ext cx="8367840" cy="365040"/>
        </p:xfrm>
        <a:graphic>
          <a:graphicData uri="http://schemas.openxmlformats.org/drawingml/2006/table">
            <a:tbl>
              <a:tblPr/>
              <a:tblGrid>
                <a:gridCol w="3486240"/>
                <a:gridCol w="620640"/>
                <a:gridCol w="4260960"/>
              </a:tblGrid>
              <a:tr h="36504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Arial"/>
                        </a:rPr>
                        <a:t>Форма  № 1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Arial"/>
                        </a:rPr>
                        <a:t>Форма  № 3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1" name="Rectangle 23"/>
          <p:cNvSpPr/>
          <p:nvPr/>
        </p:nvSpPr>
        <p:spPr>
          <a:xfrm>
            <a:off x="2351160" y="1700280"/>
            <a:ext cx="8367480" cy="703800"/>
          </a:xfrm>
          <a:prstGeom prst="rect">
            <a:avLst/>
          </a:prstGeom>
          <a:solidFill>
            <a:srgbClr val="adc7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о количеству умерших новорожденных в первые 168 часов жизни в стационар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922" name=""/>
          <p:cNvGraphicFramePr/>
          <p:nvPr/>
        </p:nvGraphicFramePr>
        <p:xfrm>
          <a:off x="2279520" y="2508120"/>
          <a:ext cx="8439120" cy="2957760"/>
        </p:xfrm>
        <a:graphic>
          <a:graphicData uri="http://schemas.openxmlformats.org/drawingml/2006/table">
            <a:tbl>
              <a:tblPr/>
              <a:tblGrid>
                <a:gridCol w="3562560"/>
                <a:gridCol w="609480"/>
                <a:gridCol w="4267080"/>
              </a:tblGrid>
              <a:tr h="2962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2200 гр. 1, (умерло  новорожденных в первые 168 часов жизн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Arial"/>
                        </a:rPr>
                        <a:t>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2250 стр. 1, гр.6 «умерло новорожденных в возрасте 0-6 дней жизни» + т. 2260 стр. 1, гр.8 «умерло новорожденных в возрасте 0-6 дней жизн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учитываются только новорожденные, умершие  в родильных отделениях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3" name="Rectangle 43"/>
          <p:cNvSpPr/>
          <p:nvPr/>
        </p:nvSpPr>
        <p:spPr>
          <a:xfrm>
            <a:off x="2427120" y="566244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G Times"/>
                <a:ea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.к. умирают не только в учреждениях родовспоможения, но и в других учреждениях на детских койках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4" name="AutoShape 71"/>
          <p:cNvSpPr/>
          <p:nvPr/>
        </p:nvSpPr>
        <p:spPr>
          <a:xfrm>
            <a:off x="5938920" y="3816360"/>
            <a:ext cx="485640" cy="1087560"/>
          </a:xfrm>
          <a:prstGeom prst="downArrow">
            <a:avLst>
              <a:gd name="adj1" fmla="val 50000"/>
              <a:gd name="adj2" fmla="val 61450"/>
            </a:avLst>
          </a:prstGeom>
          <a:solidFill>
            <a:srgbClr val="8c8d8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c5a82"/>
                </a:solidFill>
                <a:latin typeface="Times New Roman"/>
                <a:ea typeface="Times New Roman"/>
              </a:rPr>
              <a:t>ИСТОЧНИКОМ ИНФОРМАЦИИ ПРИ СОСТАВЛЕНИИ ФОРМЫ ЯВЛЯЮТСЯ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7" name=""/>
          <p:cNvSpPr txBox="1"/>
          <p:nvPr/>
        </p:nvSpPr>
        <p:spPr>
          <a:xfrm>
            <a:off x="1484280" y="1432080"/>
            <a:ext cx="10018800" cy="472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280080" indent="-280080" algn="just">
              <a:lnSpc>
                <a:spcPct val="90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SzPct val="145000"/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форма №066/у «Статистическая карта выбывшего из медицинской организации, оказывающей медицинскую помощь в стационарных условиях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условиях дневного стационар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 algn="just">
              <a:lnSpc>
                <a:spcPct val="90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SzPct val="145000"/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форма №016/у «Сводная ведомость учета движения пациентов и коечного фонда медицинской организации, оказывающей медицинскую помощь в стационарных условиях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условиях дневного стационара</a:t>
            </a:r>
            <a:r>
              <a:rPr b="1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»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 algn="just">
              <a:lnSpc>
                <a:spcPct val="90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SzPct val="145000"/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форма №001/у «Журнал учета приема пациентов и отказов в оказании медицинской помощи в стационарных условиях, в условиях дневного стационара»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 algn="just">
              <a:lnSpc>
                <a:spcPct val="90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SzPct val="145000"/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191b0e"/>
                </a:solidFill>
                <a:latin typeface="Times New Roman"/>
                <a:ea typeface="Times New Roman"/>
              </a:rPr>
              <a:t>Форма 008/у «Журнал учета оперативных вмешательств (операций) в медицинской  организации, оказывающей медицинскую помощ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тационарных условиях, в условиях дневного стационара»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0080" indent="-28008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106/у «Медицинское свидетельство о смерти» и форма 106-2/у «Медицинское свидетельство о перинатальной смерти»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З РФ от 15.04.2021 №352н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Rectangle 2"/>
          <p:cNvSpPr/>
          <p:nvPr/>
        </p:nvSpPr>
        <p:spPr>
          <a:xfrm>
            <a:off x="213516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МЕЖФОРМЕННЫЙ КОНТРОЛЬ (продолжение)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926" name=""/>
          <p:cNvGraphicFramePr/>
          <p:nvPr/>
        </p:nvGraphicFramePr>
        <p:xfrm>
          <a:off x="2006640" y="692280"/>
          <a:ext cx="8750160" cy="365040"/>
        </p:xfrm>
        <a:graphic>
          <a:graphicData uri="http://schemas.openxmlformats.org/drawingml/2006/table">
            <a:tbl>
              <a:tblPr/>
              <a:tblGrid>
                <a:gridCol w="4172040"/>
                <a:gridCol w="571320"/>
                <a:gridCol w="4006800"/>
              </a:tblGrid>
              <a:tr h="36504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Форма  № 1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Форма  № 1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7" name="Rectangle 13"/>
          <p:cNvSpPr/>
          <p:nvPr/>
        </p:nvSpPr>
        <p:spPr>
          <a:xfrm>
            <a:off x="3648240" y="3284640"/>
            <a:ext cx="590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928" name=""/>
          <p:cNvGraphicFramePr/>
          <p:nvPr/>
        </p:nvGraphicFramePr>
        <p:xfrm>
          <a:off x="2006640" y="1511280"/>
          <a:ext cx="8750160" cy="3187800"/>
        </p:xfrm>
        <a:graphic>
          <a:graphicData uri="http://schemas.openxmlformats.org/drawingml/2006/table">
            <a:tbl>
              <a:tblPr/>
              <a:tblGrid>
                <a:gridCol w="4172040"/>
                <a:gridCol w="571320"/>
                <a:gridCol w="4006800"/>
              </a:tblGrid>
              <a:tr h="97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4000 стр. 14.6, гр. 3 (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0-O07)</a:t>
                      </a:r>
                      <a:r>
                        <a:rPr b="0" lang="ru-RU" sz="1800" spc="-1" strike="noStrike">
                          <a:solidFill>
                            <a:srgbClr val="77a2bb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Arial"/>
                        </a:rPr>
                        <a:t>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1000 стр. 1, гр.4 (аборты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 12 нед.)+ т. 2000 стр. 1, гр.4 (аборты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т 12 нед. до 22 нед.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4000 стр. 14.6, «аборт» гр. 19 (умерло оперированных в стационаре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Arial"/>
                        </a:rPr>
                        <a:t>&lt;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3000 гр.4, стр.1 (умерло от беременности с  абортивным исходо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4000 гр.11, стр.1 «Число операций, при которых наблюдались осложнен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Arial"/>
                        </a:rPr>
                        <a:t>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 1105 +2105 «Осложнения, вызванные абор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9" name="Rectangle 36"/>
          <p:cNvSpPr/>
          <p:nvPr/>
        </p:nvSpPr>
        <p:spPr>
          <a:xfrm>
            <a:off x="2006640" y="4843440"/>
            <a:ext cx="87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проводится контроль по количеству выполненных акушерских операций в форме №14 т.4000 с вкладышем к форме №32. Должно быть равно (кесарево в зависимости от срока беременности)!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0" name="Rectangle 47"/>
          <p:cNvSpPr/>
          <p:nvPr/>
        </p:nvSpPr>
        <p:spPr>
          <a:xfrm>
            <a:off x="2006640" y="1052640"/>
            <a:ext cx="8750160" cy="368280"/>
          </a:xfrm>
          <a:prstGeom prst="rect">
            <a:avLst/>
          </a:prstGeom>
          <a:solidFill>
            <a:srgbClr val="adc7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 количеству выполненных абортов, осложнений и смертей вызванных абортом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Прямоугольник 1"/>
          <p:cNvSpPr/>
          <p:nvPr/>
        </p:nvSpPr>
        <p:spPr>
          <a:xfrm>
            <a:off x="1749600" y="1724040"/>
            <a:ext cx="94629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Некоторые аспекты кодирования по МКБ-10 основного заболевания и первоначальной причины смерти пациенто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Прямоугольник 1"/>
          <p:cNvSpPr/>
          <p:nvPr/>
        </p:nvSpPr>
        <p:spPr>
          <a:xfrm>
            <a:off x="2014560" y="1109520"/>
            <a:ext cx="9099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ая ошибка </a:t>
            </a:r>
            <a:r>
              <a:rPr b="1" lang="ru-RU" sz="2200" spc="-1" strike="noStrike">
                <a:solidFill>
                  <a:srgbClr val="0c0472"/>
                </a:solidFill>
                <a:latin typeface="Times New Roman"/>
                <a:ea typeface="Times New Roman"/>
              </a:rPr>
              <a:t>при кодировании летальных исходов – в качестве первоначальной причины смерти используют непосредственную причину смерт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3" name="Прямоугольник 2"/>
          <p:cNvSpPr/>
          <p:nvPr/>
        </p:nvSpPr>
        <p:spPr>
          <a:xfrm>
            <a:off x="2014560" y="2701800"/>
            <a:ext cx="90201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воначальной причиной смерти</a:t>
            </a:r>
            <a:r>
              <a:rPr b="1" lang="ru-RU" sz="2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являются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c0472"/>
                </a:solidFill>
                <a:latin typeface="Times New Roman"/>
                <a:ea typeface="Times New Roman"/>
              </a:rPr>
              <a:t>болезнь или травма, вызвавшая цепь событий, непосредственно приведших к смерти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обстоятельства несчастного случая или акта насилия, которые вызвали смертельную травму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Заголовок 1"/>
          <p:cNvSpPr/>
          <p:nvPr/>
        </p:nvSpPr>
        <p:spPr>
          <a:xfrm>
            <a:off x="1778040" y="257040"/>
            <a:ext cx="100188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51a42"/>
                </a:solidFill>
                <a:latin typeface="Times New Roman"/>
                <a:ea typeface="Times New Roman"/>
              </a:rPr>
              <a:t>ОСОБЕННОСТИ КОДИРОВАНИЯ ПРИЧИН СМЕРТ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5" name="Объект 2"/>
          <p:cNvSpPr/>
          <p:nvPr/>
        </p:nvSpPr>
        <p:spPr>
          <a:xfrm>
            <a:off x="1671480" y="1055520"/>
            <a:ext cx="100188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псис</a:t>
            </a:r>
            <a:r>
              <a:rPr b="0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является </a:t>
            </a:r>
            <a:r>
              <a:rPr b="1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сложнением</a:t>
            </a:r>
            <a:r>
              <a:rPr b="0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обширных гнойных процессов (одонтогенных, остеогенных, отогенных, тонзиллогенных, риногенных, генитальных, урогенных, раневых и т.д.) и не может быть первоначальной причиной смерти в стационаре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дких случая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гда причину сепсиса установить не удается, он носит название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птогенног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кодируется как самостоятельная нозологическая форма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Необходимо обратить внимание на такое нарушение, когда в акушерско-гинекологической практике сепсис регистрируется не как осложнение аборта, беременности, родов и послеродового периода, а как криптогенное заболевание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Заголовок 1"/>
          <p:cNvSpPr/>
          <p:nvPr/>
        </p:nvSpPr>
        <p:spPr>
          <a:xfrm>
            <a:off x="1484280" y="222120"/>
            <a:ext cx="10018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51a42"/>
                </a:solidFill>
                <a:latin typeface="Times New Roman"/>
                <a:ea typeface="Times New Roman"/>
              </a:rPr>
              <a:t>ОСОБЕННОСТИ КОДИРОВАНИЯ ПРИЧИН СМЕРТ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7" name="Объект 2"/>
          <p:cNvSpPr/>
          <p:nvPr/>
        </p:nvSpPr>
        <p:spPr>
          <a:xfrm>
            <a:off x="1596960" y="915840"/>
            <a:ext cx="10244160" cy="50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277200" indent="-277200" algn="just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ческие расстройства и расстройства поведения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01-F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трока 6.0) – 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данные рубрики не используются для кодирования причины смерти, если известно первоначальное соматическое состояни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брика F01(сосудистая деменция) 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иногд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рименяться в качестве                          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начальной причины при упоминании о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енерализованном и неуточненном атеросклерозе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70.1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ребральном атеросклерозе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67.2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33cc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четании психических расстройств, вызванных употреблением алкоголя, и заболеваний , вызванных употреблением алкоголя в качестве первоначальной причины смерти выбирают заболевания, 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ызванные употреблением алкогол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33cc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четании психических расстройств, вызванных употреблением алкоголя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1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с заболеваниями печени в качестве первоначальной причины смерти 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ыбирают заболевания печен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1458720" y="169920"/>
            <a:ext cx="1001844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емии, ожирени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9" name=""/>
          <p:cNvSpPr txBox="1"/>
          <p:nvPr/>
        </p:nvSpPr>
        <p:spPr>
          <a:xfrm>
            <a:off x="1652400" y="1127160"/>
            <a:ext cx="10018440" cy="494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емия не может быть первоначальной причиной летального исхода и рассматривается осложнением при наличии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Хронических болезней, классифицированных в других рубриках (сопровождающихся развитием вторичных анемий);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SzPct val="14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вообразований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SzPct val="14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угих состояний, которые могут привести к анеми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00206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00206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жирение (Е66, строка 5.11) – не используется для кодирования причины смерти, допускается использовать рубрику Е68 – последствия избыточности питания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1674720" y="236520"/>
            <a:ext cx="100188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олезни кожи и подкожной клетчатк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1" name=""/>
          <p:cNvSpPr txBox="1"/>
          <p:nvPr/>
        </p:nvSpPr>
        <p:spPr>
          <a:xfrm>
            <a:off x="1484280" y="1268280"/>
            <a:ext cx="10018800" cy="47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и кожи и подкожной клетчатки редко выбирают в качестве первоначальной причины смерт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тяжелые инфекции кожи могут являться первоначальной причиной смерти и осложняться сепсисом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тяжелые заболевания кожи, как например,токсический эпидермальный некролиз (синдром Лайелл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51.2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нгренозная пиодермия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88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 могут выбираться первоначальной причины смерт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и кожи могут являться осложнением, например, сахарного диабета.  В этих случаях первоначальной причиной смерти выбирается сахарный диабет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Заголовок 1"/>
          <p:cNvSpPr/>
          <p:nvPr/>
        </p:nvSpPr>
        <p:spPr>
          <a:xfrm>
            <a:off x="1562040" y="233280"/>
            <a:ext cx="10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ОБХОДИМО ПРЕДОСТАВИТЬ ПОДТВЕРЖДЕНИЯ НА СЛЕДУЮЩИЕ СЛУЧАИ СМЕРТИ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3" name="Объект 2"/>
          <p:cNvSpPr/>
          <p:nvPr/>
        </p:nvSpPr>
        <p:spPr>
          <a:xfrm>
            <a:off x="1562040" y="1157400"/>
            <a:ext cx="10420560" cy="51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псис (А40-41, строка 2.4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мии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50-D64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трока 4.1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рение (Е66, строка 5.11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ческие расстройства и расстройства поведения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01-F99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трока 6.0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 algn="just">
              <a:lnSpc>
                <a:spcPct val="100000"/>
              </a:lnSpc>
              <a:buClr>
                <a:srgbClr val="0000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ые респираторные  инфекции верхних дыхательных путей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00-J06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трок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1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 algn="just">
              <a:lnSpc>
                <a:spcPct val="100000"/>
              </a:lnSpc>
              <a:buClr>
                <a:srgbClr val="0000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трит и дуоденит (К29, строка 12.2) – для взрослых 18 лет и старш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 algn="just">
              <a:lnSpc>
                <a:spcPct val="100000"/>
              </a:lnSpc>
              <a:buClr>
                <a:srgbClr val="0000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и кожи и подкожной клетчатки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00-L98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 algn="just">
              <a:lnSpc>
                <a:spcPct val="100000"/>
              </a:lnSpc>
              <a:buClr>
                <a:srgbClr val="0000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случаи смерти женщин (от внематочной беременности, аборта, беременных, рожениц и родильниц) (О00-О99, строка 16.0)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 algn="just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 algn="just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!!!Каждый случай летального исхода при этих состояниях должен быть подтвержден документами (копией медицинского свидетельства о смерти,  копией протокола патолого-анатомического исследования или судебно-медицинского исследования) при сдаче годового отчета с указанием кода по МКБ-10 о первоначальной причине смерт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анные документы необходимо прислать по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ipNet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 адрес 42(Кем) КОМИАЦ СТАТ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 algn="just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Прямоугольник 2"/>
          <p:cNvSpPr/>
          <p:nvPr/>
        </p:nvSpPr>
        <p:spPr>
          <a:xfrm>
            <a:off x="1722600" y="182520"/>
            <a:ext cx="963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дирование ишемических болезней сердца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5" name="Прямоугольник 4"/>
          <p:cNvSpPr/>
          <p:nvPr/>
        </p:nvSpPr>
        <p:spPr>
          <a:xfrm>
            <a:off x="1849320" y="820800"/>
            <a:ext cx="9906120" cy="59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смерти от острого инфаркта миокарда следует помнить, что не все случаи инфарктов миокарда выбираются первоначальной причиной смерти: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убрика </a:t>
            </a:r>
            <a:r>
              <a:rPr b="1" lang="en-US" sz="1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22 </a:t>
            </a:r>
            <a:r>
              <a:rPr b="1" lang="ru-RU" sz="1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ключена из статистики смертности, вместо нее используют рубрику острого инфаркта миокарда- </a:t>
            </a:r>
            <a:r>
              <a:rPr b="1" lang="en-US" sz="1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21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четании </a:t>
            </a:r>
            <a:r>
              <a:rPr b="1" lang="ru-RU" sz="1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трого инфаркта миокарда со злокачественным новообразованием, сахарным диабетом или бронхиальной астмой первоначальной причиной смерти считают эти заболевания, а инфаркт миокарда – их осложнениями (МКБ-10, т. 2, стр. 75),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сочетания должны быть правильно отражены в заключительном посмертном диагнозе, промежуток времени сохраняется – не позднее 28 дней от начала возникновения инфаркта или в пределах эпизода оказания медицинской помощи;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 остром или повторном инфаркте миокарда в случае отсутствия других заболеваний первоначальной причиной смерти следует считать острый инфаркт миокард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д I21) в промежуток времени до 28 дней или в пределах эпизода оказания медицинской помощи;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четании острого и повторного инфаркта миокарда, возникших в промежуток времени до 28 дней или в пределах эпизода оказания медицинской помощи, даже если эпизод закончился позже 28 дней, первоначальной причиной смерти следует считать острый инфаркт миокарда (код I21) 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диагноз </a:t>
            </a:r>
            <a:r>
              <a:rPr b="1" lang="ru-RU" sz="1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фаркта миокарда был установлен после 28 дней от  его возникновения, первоначальной причиной смерти следует считать постинфарктный кардиосклероз, код I25.8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КБ-10, т. 1, ч. 1, стр. 492)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Прямоугольник 2"/>
          <p:cNvSpPr/>
          <p:nvPr/>
        </p:nvSpPr>
        <p:spPr>
          <a:xfrm>
            <a:off x="2770200" y="287280"/>
            <a:ext cx="69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дирование ишемических болезней сердца (продолжение)</a:t>
            </a:r>
            <a:r>
              <a:rPr b="1" lang="ru-RU" sz="1800" spc="-1" strike="noStrike">
                <a:solidFill>
                  <a:srgbClr val="6d2f39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7" name="Прямоугольник 4"/>
          <p:cNvSpPr/>
          <p:nvPr/>
        </p:nvSpPr>
        <p:spPr>
          <a:xfrm>
            <a:off x="1946160" y="1017720"/>
            <a:ext cx="9577440" cy="50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четании </a:t>
            </a:r>
            <a:r>
              <a:rPr b="1" lang="ru-RU" sz="1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трого или повторного инфаркта миокарда с тяжелыми системными заболеваниями соединительной ткани (код М30-М36) первоначальной причиной смерти следует считать эти тяжелый заболевания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острый инфаркт их осложнением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д I25.2 в качестве первоначальной причины смерти не применяется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анное состояние обозначает инфаркт миокарда, перенесенный в прошлом и диагностированный по ЭКГ, в текущий период – бессимптомный. При наличии в первичной медицинской документации записи о перенесенном в прошлом инфаркте миокарда как единичном состоянии и отсутствии диагнозов других заболеваний, первоначальной причиной смерти следует считать постинфарктный кардиосклероз, код I25.8;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ды I23 и I24.0 в качестве первоначальной причины смерти также не применяются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обходимо использовать код I21 (МКБ-10, т. 2, стр. 61);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</a:t>
            </a:r>
            <a:r>
              <a:rPr b="1" lang="ru-RU" sz="1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мерти больного, поступившего с диагнозом Стенокардия (Нестабильная стенокардия) используется код </a:t>
            </a:r>
            <a:r>
              <a:rPr b="1" lang="en-US" sz="1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25</a:t>
            </a:r>
            <a:r>
              <a:rPr b="1" lang="ru-RU" sz="1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–Хроническая ишемическая болезнь сердц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рока 10.4.5, графа 8 (17);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четании инфаркта миокарда (острого или повторного) с болезнями, характеризующимися повышенным кровяным давлением, приоритет при выборе первоначальной причины смерти всегда отдается инфаркту миокарда (МКБ-10, т. 2, стр. 59-61).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1484280" y="311040"/>
            <a:ext cx="1001880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МЕНЕНИЯ В ФОРМЕ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(добавлены новые строки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809" name=""/>
          <p:cNvGraphicFramePr/>
          <p:nvPr/>
        </p:nvGraphicFramePr>
        <p:xfrm>
          <a:off x="1714680" y="1263600"/>
          <a:ext cx="9426240" cy="4662360"/>
        </p:xfrm>
        <a:graphic>
          <a:graphicData uri="http://schemas.openxmlformats.org/drawingml/2006/table">
            <a:tbl>
              <a:tblPr/>
              <a:tblGrid>
                <a:gridCol w="5333760"/>
                <a:gridCol w="1757520"/>
                <a:gridCol w="23349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о МКБ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00-C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 молочной желез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.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 глаза, головного мозга и других отделов центральной нервной сист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.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69-C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зырча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топический дермат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L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1733400" y="190080"/>
            <a:ext cx="100188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дирование ишемических болезней сердца (продолжение)</a:t>
            </a:r>
            <a:r>
              <a:rPr b="1" lang="ru-RU" sz="2400" spc="-1" strike="noStrike">
                <a:solidFill>
                  <a:srgbClr val="6d2f3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9" name=""/>
          <p:cNvSpPr txBox="1"/>
          <p:nvPr/>
        </p:nvSpPr>
        <p:spPr>
          <a:xfrm>
            <a:off x="1552320" y="1554120"/>
            <a:ext cx="1001844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ронические формы ишемических болезней сердца могут являться первоначальной причиной смерти только в случаях обострения, присоединения нарушений ритма, тромбоэмболических и других осложнений.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ая логическая последовательность обязательно указывается в медицинском свидетельстве о смерти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пускается запись хронической формы ишемической болезни сердца одной строкой без указания логической последовательности.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состояния как </a:t>
            </a:r>
            <a:r>
              <a:rPr b="1" lang="ru-RU" sz="1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рдечная, сердечно-сосудистая, дыхательная недостаточность не должны включаться в медицинское свидетельство о  смерти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к как они являются элементом механизма смерти и встречаются у всех умерших.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0" name="Рисунок 2" descr=""/>
          <p:cNvPicPr/>
          <p:nvPr/>
        </p:nvPicPr>
        <p:blipFill>
          <a:blip r:embed="rId1"/>
          <a:stretch/>
        </p:blipFill>
        <p:spPr>
          <a:xfrm>
            <a:off x="8772480" y="3081240"/>
            <a:ext cx="1146240" cy="482760"/>
          </a:xfrm>
          <a:prstGeom prst="rect">
            <a:avLst/>
          </a:prstGeom>
          <a:ln w="0">
            <a:noFill/>
          </a:ln>
        </p:spPr>
      </p:pic>
      <p:pic>
        <p:nvPicPr>
          <p:cNvPr id="1951" name="Схема 4" descr=""/>
          <p:cNvPicPr/>
          <p:nvPr/>
        </p:nvPicPr>
        <p:blipFill>
          <a:blip r:embed="rId2"/>
          <a:stretch/>
        </p:blipFill>
        <p:spPr>
          <a:xfrm>
            <a:off x="1371600" y="433440"/>
            <a:ext cx="9777240" cy="64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Прямоугольник 2"/>
          <p:cNvSpPr/>
          <p:nvPr/>
        </p:nvSpPr>
        <p:spPr>
          <a:xfrm>
            <a:off x="2548080" y="158760"/>
            <a:ext cx="80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дирование цереброваскулярных болезней</a:t>
            </a:r>
            <a:r>
              <a:rPr b="1" lang="ru-RU" sz="1800" spc="-1" strike="noStrike">
                <a:solidFill>
                  <a:srgbClr val="6d2f39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3" name="Прямоугольник 4"/>
          <p:cNvSpPr/>
          <p:nvPr/>
        </p:nvSpPr>
        <p:spPr>
          <a:xfrm>
            <a:off x="1762200" y="527040"/>
            <a:ext cx="10169280" cy="67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ают острые формы цереброваскулярных болезней продолжительностью до 30 дней (приказ  Минздравсоцразвития России от 01.08.2007 № 513) – рубрики I60-I66; хронические формы, классифицированы в рубрике I67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ствия цереброваскулярных болезней (рубрика I69) используются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олько для регистрации летальных исходов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ствия цереброваскулярных болезней существуют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течение года и более с момента возникновения острой формы заболевания,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ют в себя различные состояния, классифицированные в других рубриках (МКБ-10, т. 1, ч. 1, стр. 512)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тистике заболеваемости не следует использовать рубрику последствий (I69), а необходимо указывать конкретные состояния, которые явились следствием острых форм цереброваскулярных болезней, например, энцефалопатия, паралич и т.д. (МКБ-10, т. 2, стр.115-116). При этом минимальный промежуток времени не установлен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еделах эпизода оказания медицинской помощи, если диагноз эпизода или госпитализации установлен до 30 дней от начала заболевания, то регистрируют острые формы цереброваскулярных болезней, независимо от продолжительности эпизода или госпитализации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, в пределах 30 дней закончилась первая госпитализация и началась вторая, то при второй госпитализации регистрируют  хроническую форму, классифицированную в рубрике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67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одно из состояний в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убриках конкретных неврологических расстройств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14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эпизод начался позже 30 дней, то регистрируют  хронические формы, классифицированные в рубрике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67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состояния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рубриках конкретных неврологических расстройств, но не последствия цереброваскулярных болезней (рубрика I69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Прямоугольник 2"/>
          <p:cNvSpPr/>
          <p:nvPr/>
        </p:nvSpPr>
        <p:spPr>
          <a:xfrm>
            <a:off x="2805120" y="311040"/>
            <a:ext cx="73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дирование цереброваскулярных болезней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Times New Roman"/>
                <a:ea typeface="Times New Roman"/>
              </a:rPr>
              <a:t>(Продолжение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5" name="Прямоугольник 5"/>
          <p:cNvSpPr/>
          <p:nvPr/>
        </p:nvSpPr>
        <p:spPr>
          <a:xfrm>
            <a:off x="1687680" y="1160640"/>
            <a:ext cx="9835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смерти от острых форм цереброваскулярных болезней следует помнить, что не все эти случаи кодируются  I60-I64: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сочетании острых форм цереброваскулярных болезней со злокачественным новообразованием, сахарным диабетом или бронхиальной астмой первоначальной причиной смерти считают эти заболевания, а острые формы цереброваскулярных болезней – их осложнениями (МКБ-10, т. 2, стр. 75), данные сочетания должны быть правильно отражены в заключительном посмертном диагнозе, промежуток времени сохраняется – не позднее 30 дней от начала возникновения заболевания или в пределах эпизода оказания медицинской помощи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остальных случаях первоначальной причиной смерти следует считать острые формы цереброваскулярных болезней (коды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60-I64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в промежуток времени до 30 дней или в пределах эпизода оказания медицинской помощи (даже, если он закончился позже);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сли диагноз установлен после 30 дней от возникновения заболевания, первоначальной причиной смерти следует считать хронические формы, классифицированные в рубрике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67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последствия цереброваскулярных болезней (рубрика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69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ды I65 и I66 в качестве первоначальной причины смерти не применяются, необходимо использовать коды I63 (МКБ-10, т. 2, стр. 62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6" name="Схема 2" descr=""/>
          <p:cNvPicPr/>
          <p:nvPr/>
        </p:nvPicPr>
        <p:blipFill>
          <a:blip r:embed="rId1"/>
          <a:stretch/>
        </p:blipFill>
        <p:spPr>
          <a:xfrm>
            <a:off x="1968480" y="536400"/>
            <a:ext cx="9412200" cy="56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1858680" y="231480"/>
            <a:ext cx="9783720" cy="83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ДИРОВАНИЕ КОРОНАВИРУСНОЙ ИНФЕКЦИИ, ВЫЗВАННОЙ COVID-19</a:t>
            </a:r>
            <a:br>
              <a:rPr sz="1800"/>
            </a:br>
            <a:r>
              <a:rPr b="1" lang="ru-RU" sz="1800" spc="-1" strike="noStrike">
                <a:solidFill>
                  <a:srgbClr val="712018"/>
                </a:solidFill>
                <a:latin typeface="Times New Roman"/>
                <a:ea typeface="Times New Roman"/>
              </a:rPr>
              <a:t>(Методические рекомендации «Профилактика, диагностика и лечение новой коронавирусной инфекции (СО</a:t>
            </a:r>
            <a:r>
              <a:rPr b="1" lang="en-US" sz="1800" spc="-1" strike="noStrike">
                <a:solidFill>
                  <a:srgbClr val="712018"/>
                </a:solidFill>
                <a:latin typeface="Times New Roman"/>
                <a:ea typeface="Times New Roman"/>
              </a:rPr>
              <a:t>VID-19</a:t>
            </a:r>
            <a:r>
              <a:rPr b="1" lang="ru-RU" sz="1800" spc="-1" strike="noStrike">
                <a:solidFill>
                  <a:srgbClr val="712018"/>
                </a:solidFill>
                <a:latin typeface="Times New Roman"/>
                <a:ea typeface="Times New Roman"/>
              </a:rPr>
              <a:t>)», версия 18 (23.10.2023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8" name=""/>
          <p:cNvSpPr txBox="1"/>
          <p:nvPr/>
        </p:nvSpPr>
        <p:spPr>
          <a:xfrm>
            <a:off x="1623960" y="1252080"/>
            <a:ext cx="10018800" cy="506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07.1 – Коронавирусная инфекция COVID-19, вирус идентифицирован (подтвержден лабораторным тестированием независимо от тяжести клинических признаков или симптомов)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07.2 – Коронавирусная инфекция COVID-19, вирус не идентифицирован (COVID-19 диагностируется клинически или эпидемиологически, но лабораторные исследования неубедительны или недоступны)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Z03.8 – Наблюдение при подозрении на коронавирусную инфекцию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Z22.8 – Носительство возбудителя коронавирусной инфекции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Z20.8 – Контакт с больным коронавирусной инфекцией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Z11.5 – Скрининговое обследование с целью выявления коронавирусной инфекции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34.2 – Коронавирусная инфекция неуточненная (кроме COVID-19)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33.8 – Коронавирусная инфекция уточненная (кроме COVID-19)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Z29.0 – Изоляция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08.9 – В личном анамнезе COVID-19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09.9 – Состояние после COVID-19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11.9 – Необходимость иммунизации против COVID-19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(Z25.8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12.9 – Вакцина против COVID-19, вызвавшая неблагоприятную реакцию (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Y59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1484280" y="204840"/>
            <a:ext cx="100188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751a42"/>
                </a:solidFill>
                <a:latin typeface="Times New Roman"/>
                <a:ea typeface="Times New Roman"/>
              </a:rPr>
              <a:t>Выбывшие из стационара после проведения медицинской реабилитации после </a:t>
            </a:r>
            <a:r>
              <a:rPr b="1" lang="en-US" sz="2800" spc="-1" strike="noStrike">
                <a:solidFill>
                  <a:srgbClr val="751a42"/>
                </a:solidFill>
                <a:latin typeface="Times New Roman"/>
                <a:ea typeface="Times New Roman"/>
              </a:rPr>
              <a:t>COVID-19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0" name=""/>
          <p:cNvSpPr txBox="1"/>
          <p:nvPr/>
        </p:nvSpPr>
        <p:spPr>
          <a:xfrm>
            <a:off x="1484280" y="1722240"/>
            <a:ext cx="10018800" cy="40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 кодировании выбывших из стационара после проведения медицинской реабилитации после 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VID-19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рименяется код  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09.9 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Состояние после 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VID-19 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ециальной строки для данного кода в статистической форме №14, таблице 2000 нет, а в строку 21 «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VID-19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» помещать данные случаи не рекомендуется. Поэтому в данном случае необходимо пользоваться строкой 22 «Факторы, влияющие на состояние здоровья населения и обращения в мед. организации» с кодом реабилитации 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Z50.9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либо руководствоваться основной клинической картиной, отражающей состояния пациента, например , 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J84-84.1 (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егочной фиброз) и др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данном случае код  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09.9 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удет не основным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882440" y="310680"/>
            <a:ext cx="962028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ДИРОВАНИЕ КОРОНАВИРУСНОЙ ИНФЕКЦИИ, ВЫЗВАННОЙ COVID-19</a:t>
            </a:r>
            <a:br>
              <a:rPr sz="1800"/>
            </a:br>
            <a:r>
              <a:rPr b="1" lang="ru-RU" sz="1800" spc="-1" strike="noStrike">
                <a:solidFill>
                  <a:srgbClr val="712018"/>
                </a:solidFill>
                <a:latin typeface="Times New Roman"/>
                <a:ea typeface="Times New Roman"/>
              </a:rPr>
              <a:t>(Методические рекомендации «Профилактика, диагностика и лечение новой коронавирусной инфекции (СО</a:t>
            </a:r>
            <a:r>
              <a:rPr b="1" lang="en-US" sz="1800" spc="-1" strike="noStrike">
                <a:solidFill>
                  <a:srgbClr val="712018"/>
                </a:solidFill>
                <a:latin typeface="Times New Roman"/>
                <a:ea typeface="Times New Roman"/>
              </a:rPr>
              <a:t>VID-19</a:t>
            </a:r>
            <a:r>
              <a:rPr b="1" lang="ru-RU" sz="1800" spc="-1" strike="noStrike">
                <a:solidFill>
                  <a:srgbClr val="712018"/>
                </a:solidFill>
                <a:latin typeface="Times New Roman"/>
                <a:ea typeface="Times New Roman"/>
              </a:rPr>
              <a:t>)», версия 18 (23.10.2023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1484280" y="1490760"/>
            <a:ext cx="10018800" cy="430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 осложнениях вакцинации против COVID-19 используют двойное кодирование: основное состояние и его код из XIX класса МКБ-10, а формулировка и код внешней причины – из XXII класса (МКБ-10: U12.9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ое заболевание: 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афилактический шок, связанный с                                     введением вакцины против COVID-19, (код МКБ-10: T88.6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ешняя причина: 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кцина против COVID-19, вызвавшая неблагоприятную реакцию (код МКБ-10: U12.9).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1778040" y="150480"/>
            <a:ext cx="10018800" cy="13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учаи, связанные с COVID-19 в статистике смертности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(Методические рекомендации по кодированию и выбору основного состояния в статистике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болеваемости и первоначальной причины в статистике смертности, связанных с COVID-19 в актуальной версии)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4" name=""/>
          <p:cNvSpPr txBox="1"/>
          <p:nvPr/>
        </p:nvSpPr>
        <p:spPr>
          <a:xfrm>
            <a:off x="1484280" y="1712880"/>
            <a:ext cx="10018800" cy="42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 оформлении медицинского свидетельства о смерти важно следовать рекомендациям ВОЗ и положениям МКБ-10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медицинских свидетельствах о смерти рекомендуется указывать логическую последовательность патологических процессов, приведших к смерти от COVID-19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 случаи смерти, связанные с COVID-19, подразделяются на две группы: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 – случаи, когда COVID-19 выбирают в качестве первоначальной причины смерти;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 – случаи, когда COVID-19 выбирают в качестве прочего важного состояния, способствовавшего смерт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1724040" y="293400"/>
            <a:ext cx="1001880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учаи, связанные с COVID-19 в статистике смертности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(Методические рекомендации по кодированию и выбору основного состояния в статистике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болеваемости и первоначальной причины в статистике смертности, связанных с COVID-19 в актуальной версии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6" name=""/>
          <p:cNvSpPr txBox="1"/>
          <p:nvPr/>
        </p:nvSpPr>
        <p:spPr>
          <a:xfrm>
            <a:off x="1635120" y="1838160"/>
            <a:ext cx="10018800" cy="331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правилу МКБ-10 при сочетании COVID-19 и злокачественного новообразования, первоначальной причиной смерти выбирают COVID-19, а хроническое заболевание (рак) записывают в части II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юбые хронические заболевания при сочетании с COVID-19 с осложнениями, выбираются в качестве прочих важных состояний, способствовавших смерти, и записываются в части II медицинского свидетельства о смерт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1539720" y="266760"/>
            <a:ext cx="10018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МЕНЕНИЯ, ВНЕСЕННЫЕ В ФОРМУ (продолжение)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бавлена новая таблица 2801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1" name=""/>
          <p:cNvSpPr txBox="1"/>
          <p:nvPr/>
        </p:nvSpPr>
        <p:spPr>
          <a:xfrm>
            <a:off x="1703160" y="1180800"/>
            <a:ext cx="10018440" cy="501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в том числе, из таблицы 2800) экстракорпоральная мембранная оксигенация: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Times New Roman"/>
                <a:ea typeface="Calibri"/>
              </a:rPr>
              <a:t>При проведении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экстракорпоральной мембранной оксигенации,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  <a:ea typeface="Calibri"/>
              </a:rPr>
              <a:t>по суткам пациент должен показываться один раз в строке по времени замещения (Например: если пациент находится на экстракорпоральной мембранной оксигенации в пределах 1 суток, то отмечается только в этой строке и т.д.) Такое же распределение и по умершим во время проведения 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экстракорпоральной мембранной оксигенации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812" name=""/>
          <p:cNvGraphicFramePr/>
          <p:nvPr/>
        </p:nvGraphicFramePr>
        <p:xfrm>
          <a:off x="2997360" y="1879560"/>
          <a:ext cx="5983200" cy="2468520"/>
        </p:xfrm>
        <a:graphic>
          <a:graphicData uri="http://schemas.openxmlformats.org/drawingml/2006/table">
            <a:tbl>
              <a:tblPr/>
              <a:tblGrid>
                <a:gridCol w="3435120"/>
                <a:gridCol w="879480"/>
                <a:gridCol w="166860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8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8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8000"/>
                      </a:srgbClr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 1 су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8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8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8000"/>
                      </a:srgbClr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 3 су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8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8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8000"/>
                      </a:srgbClr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 суток и бол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8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8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8000"/>
                      </a:srgbClr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умерло: в течение 1 ча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8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8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8000"/>
                      </a:srgbClr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течение 1 су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8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8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efb">
                        <a:alpha val="58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1714320" y="266400"/>
            <a:ext cx="1001844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учаи, когда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VID-19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ыбирают  в качестве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воначальной причины смерти (пример 1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8" name=""/>
          <p:cNvSpPr txBox="1"/>
          <p:nvPr/>
        </p:nvSpPr>
        <p:spPr>
          <a:xfrm>
            <a:off x="1495080" y="1060560"/>
            <a:ext cx="4924440" cy="441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ительный клинический диагноз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ое заболевание: Коронавирусная инфекция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VID-19, вирус идентифицирован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07.1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ложнения: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ирусная пневмония, вызванная SARS-CoV-2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трый респираторный дистресс синдром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ыхательная недостаточность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путствующие заболевания: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тинфарктный кардиосклероз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стойная сердечная недостаточност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9" name="Прямоугольник 3"/>
          <p:cNvSpPr/>
          <p:nvPr/>
        </p:nvSpPr>
        <p:spPr>
          <a:xfrm>
            <a:off x="6462720" y="1820880"/>
            <a:ext cx="546264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Острый респираторный дистресс синдром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J 80.X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Вирусная пневмония, вызванная SARS-CoV2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J 12.8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) Коронавирусная инфекция COVID-19, вирус идентифицирован  U 07.1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I.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тинфарктный кардиосклероз c застойной сердечной недостаточностью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25.8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0" name="Прямоугольник 4"/>
          <p:cNvSpPr/>
          <p:nvPr/>
        </p:nvSpPr>
        <p:spPr>
          <a:xfrm>
            <a:off x="6735960" y="1138320"/>
            <a:ext cx="45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дицинское свидетельство о смерт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736640" y="221760"/>
            <a:ext cx="100188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учаи, когда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VID-19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ыбирают  в качестве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воначальной причины смерти (пример 2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1568160" y="1856880"/>
            <a:ext cx="4755960" cy="346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ое заболевание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ронавирусная инфекция COVID-19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 07.1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ложнения: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вусторонняя пневмония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псис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ыхательная недостаточность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путствующие заболевания: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олезнь, вызванная ВИЧ, с туберкулезом и саркомой Капош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3" name="Прямоугольник 3"/>
          <p:cNvSpPr/>
          <p:nvPr/>
        </p:nvSpPr>
        <p:spPr>
          <a:xfrm>
            <a:off x="6551640" y="1984320"/>
            <a:ext cx="5203800" cy="25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.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псис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 41.9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вусторонняя пневмония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J 18.9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) Коронавирусная инфекция COVID-19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 07.1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I.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олезнь, вызванная ВИЧ, с туберкулезом и саркомой Капоши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22.7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4" name="Прямоугольник 4"/>
          <p:cNvSpPr/>
          <p:nvPr/>
        </p:nvSpPr>
        <p:spPr>
          <a:xfrm>
            <a:off x="1568520" y="1054080"/>
            <a:ext cx="48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ительный клинический диагноз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5" name="Прямоугольник 5"/>
          <p:cNvSpPr/>
          <p:nvPr/>
        </p:nvSpPr>
        <p:spPr>
          <a:xfrm>
            <a:off x="6757920" y="1054080"/>
            <a:ext cx="45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дицинское свидетельство о смерт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1768320" y="259920"/>
            <a:ext cx="100188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учаи, когда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VID-19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ыбирают  в качестве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воначальной причины смерти (пример 3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7" name=""/>
          <p:cNvSpPr txBox="1"/>
          <p:nvPr/>
        </p:nvSpPr>
        <p:spPr>
          <a:xfrm>
            <a:off x="1407960" y="2017440"/>
            <a:ext cx="5112000" cy="37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ое заболевание: Коронавирусная инфекция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VID-19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 07.1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ложнения: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вусторонняя вирусная пневмония, вызванная 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ARS-CoV-2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омбоэмболия легочной артери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ыхательная недостаточност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путствующие заболевания: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локачественное новообразование средней трети тела желудка, cT3N0M0 IIб стадия (тубулярная аденокарцинома G1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8" name="Прямоугольник 3"/>
          <p:cNvSpPr/>
          <p:nvPr/>
        </p:nvSpPr>
        <p:spPr>
          <a:xfrm>
            <a:off x="6600960" y="2017800"/>
            <a:ext cx="5251320" cy="36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омбоэмболия легочной артерии из вен малого таза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.9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9960" indent="-399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вусторонняя  вирусная пневмония,  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9960" indent="-399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званная 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ARS-CoV-2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J 12.8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9960" indent="-399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) Коронавирусная инфекция COVID-19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9960" indent="-399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 07.1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9960" indent="-399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I.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к тела желудка IIб стадия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С 16.2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9" name="Прямоугольник 4"/>
          <p:cNvSpPr/>
          <p:nvPr/>
        </p:nvSpPr>
        <p:spPr>
          <a:xfrm>
            <a:off x="1491480" y="1292400"/>
            <a:ext cx="478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ительный клинический диагноз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0" name="Прямоугольник 5"/>
          <p:cNvSpPr/>
          <p:nvPr/>
        </p:nvSpPr>
        <p:spPr>
          <a:xfrm>
            <a:off x="7015320" y="1292400"/>
            <a:ext cx="45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дицинское свидетельство о смерт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1766520" y="168120"/>
            <a:ext cx="980748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учаи, когда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VID-19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ыбирают  в качестве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воначальной причины смерти (пример 4)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br>
              <a:rPr sz="20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витие инфаркта миокарда на фоне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VID-19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с осложнениями</a:t>
            </a:r>
            <a:br>
              <a:rPr sz="20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2" name=""/>
          <p:cNvSpPr txBox="1"/>
          <p:nvPr/>
        </p:nvSpPr>
        <p:spPr>
          <a:xfrm>
            <a:off x="1325520" y="1766520"/>
            <a:ext cx="5199120" cy="375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ое заболевание: Коронавирусная инфекция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VID-19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 07.1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новое заболевание: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харный диабет 2 типа с почечными осложнениям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ложнения: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вусторонняя полисегментарная вирусная пневмония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ыхательная недостаточность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трый инфаркт миокарда задней стенки левого желудочка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ек легких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3" name="Прямоугольник 5"/>
          <p:cNvSpPr/>
          <p:nvPr/>
        </p:nvSpPr>
        <p:spPr>
          <a:xfrm>
            <a:off x="6616800" y="1762200"/>
            <a:ext cx="5240160" cy="31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.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трый инфаркт миокарда задней стенки левого желудочка 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вустороняя полисегментарная вирусная пневмония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J 12.8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) Коронавирусная инфекция COVID-19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 07.1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I.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харный диабет 2 типа с почечными осложнениями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 11.2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4" name="Прямоугольник 6"/>
          <p:cNvSpPr/>
          <p:nvPr/>
        </p:nvSpPr>
        <p:spPr>
          <a:xfrm>
            <a:off x="1533600" y="1198440"/>
            <a:ext cx="478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ительный клинический диагноз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5" name="Прямоугольник 7"/>
          <p:cNvSpPr/>
          <p:nvPr/>
        </p:nvSpPr>
        <p:spPr>
          <a:xfrm>
            <a:off x="6681960" y="1228680"/>
            <a:ext cx="45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дицинское свидетельство о смерт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6" name="Прямоугольник 8"/>
          <p:cNvSpPr/>
          <p:nvPr/>
        </p:nvSpPr>
        <p:spPr>
          <a:xfrm>
            <a:off x="1766880" y="5527800"/>
            <a:ext cx="9807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 случаях, когда острый инфаркт миокарда развился до возникновения COVID-19, и имеются осложнения COVID-19 (пневмония и др.), при летальном исходе, первоначальной причиной смерти выбирают COVID-19, а острый инфаркт миокарда записывают в части II свидетельств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1741320" y="261720"/>
            <a:ext cx="10018800" cy="80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учаи, когда COVID-19 выбирают в качестве прочего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ажного состояния, способствовавшего смерти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8" name=""/>
          <p:cNvSpPr txBox="1"/>
          <p:nvPr/>
        </p:nvSpPr>
        <p:spPr>
          <a:xfrm>
            <a:off x="1601640" y="1106640"/>
            <a:ext cx="10298160" cy="46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 сочетании установленного диагноза COVID-19 с некоторыми острыми состояниями, в качестве первоначальной причины следует выбирать острые состояния: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SzPct val="14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авмы и отравления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Следует обратить внимание, что при травмах и отравлениях в Российской Федерации используется двойное кодирование и учитываются обе причины смерти как первоначальные: например, травматическое субдуральное кровоизлияние (характер травмы) и дорожный несчастный случай (внешняя причина)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SzPct val="14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трая хирургическая патология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COVID-19 может сочетаться с острой хирургической патологией, требующей экстренного оперативного вмешательства (язвенное кровотечение, прободная язва желудка, острый аппендицит и др.). Данные состояния должны выбираться в качестве первоначальной причины смерти, а COVID-19 записывают в части II свидетельств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1484280" y="293760"/>
            <a:ext cx="1001880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учаи, когда COVID-19 выбирают в качестве прочего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ажного состояния, способствовавшего смерти (пример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0" name=""/>
          <p:cNvSpPr txBox="1"/>
          <p:nvPr/>
        </p:nvSpPr>
        <p:spPr>
          <a:xfrm>
            <a:off x="1348920" y="2230560"/>
            <a:ext cx="494820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ое заболевание: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трая язва желудка с кровотечением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ложнения: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елудочное кровотечение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трая постгеморрагическая анемия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рдечная недостаточност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путствующие заболевания: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VID-19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1" name="Прямоугольник 3"/>
          <p:cNvSpPr/>
          <p:nvPr/>
        </p:nvSpPr>
        <p:spPr>
          <a:xfrm>
            <a:off x="6215040" y="2362320"/>
            <a:ext cx="571644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I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Острая постгеморрагическая анемия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2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X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Желудочное кровотечение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 92.2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) Острая язва желудка с кровотечением К 25.0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I. COVID-19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07.1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2" name="Прямоугольник 4"/>
          <p:cNvSpPr/>
          <p:nvPr/>
        </p:nvSpPr>
        <p:spPr>
          <a:xfrm>
            <a:off x="1500120" y="1413000"/>
            <a:ext cx="478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ительный клинический диагноз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3" name="Прямоугольник 5"/>
          <p:cNvSpPr/>
          <p:nvPr/>
        </p:nvSpPr>
        <p:spPr>
          <a:xfrm>
            <a:off x="6597720" y="1430280"/>
            <a:ext cx="45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дицинское свидетельство о смерт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Rectangle 2"/>
          <p:cNvSpPr/>
          <p:nvPr/>
        </p:nvSpPr>
        <p:spPr>
          <a:xfrm>
            <a:off x="2565360" y="3094200"/>
            <a:ext cx="8710560" cy="785520"/>
          </a:xfrm>
          <a:prstGeom prst="rect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БЛАГОДАРЮ ЗА ВНИМАНИЕ !!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1617480" y="235080"/>
            <a:ext cx="9885240" cy="13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2000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 ПАЦИЕНТОВ В СТАЦИОНАРЕ, СРОКИ И ИСХОДЫ ЛЕЧЕ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4" name=""/>
          <p:cNvSpPr txBox="1"/>
          <p:nvPr/>
        </p:nvSpPr>
        <p:spPr>
          <a:xfrm>
            <a:off x="1617480" y="1236240"/>
            <a:ext cx="10018440" cy="52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у включаются сведения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сех выписанных пациентах изо всех стационаров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доставленных по экстренным показаниям, в том числе СМП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роведенных койко-днях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мерших во всех стационарах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числе вскрытий (патологоанатомических и судебно-медицинских) и числе расхождений диагнозов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данную таблицу не включаются сведения!!!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числе переведенных пациентов в другие стационары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койко-днях умерших и переведенных пациентов в другие стационары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1484280" y="281160"/>
            <a:ext cx="10018800" cy="126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2000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 ПАЦИЕНТОВ В СТАЦИОНАРЕ, СРОКИ И ИСХОДЫ ЛЕЧЕ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6" name=""/>
          <p:cNvSpPr txBox="1"/>
          <p:nvPr/>
        </p:nvSpPr>
        <p:spPr>
          <a:xfrm>
            <a:off x="1823760" y="1652400"/>
            <a:ext cx="9793080" cy="49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исле умерших беременных, а также женщин, умерших в течение 42 дней после окончания беременности независимо от ее продолжительности и локализации от какой-либо причины, связанной с беременностью, отягощенной ею или ее ведением, но не от несчастного случая или случайно возникшей причины, в соответствии с критериями ВОЗ, включаются в строку 16.0 «Беременность, роды и послеродовый период»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 случаях смерти женщин по истечении 42 дней после беременности показываются в форме на общих основаниях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100000"/>
              </a:lnSpc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и смерти пациента, оставленного для стационарного лечения в приемном отделении, следует рассматривать как смерть в стационаре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0070c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2043000" y="-360"/>
            <a:ext cx="918864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2000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 ПАЦИЕНТОВ В СТАЦИОНАРЕ, СРОКИ И ИСХОДЫ ЛЕЧЕ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8" name=""/>
          <p:cNvSpPr txBox="1"/>
          <p:nvPr/>
        </p:nvSpPr>
        <p:spPr>
          <a:xfrm>
            <a:off x="1838160" y="2538360"/>
            <a:ext cx="9887040" cy="36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6000"/>
          </a:bodyPr>
          <a:p>
            <a:pPr marL="217080" indent="-21708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включает в себя сумму строк со 2 по 21 включительно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17080" indent="-21708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е 17 «Отдельные состояния, возникающие в перинатальном периоде» коды по МКБ-10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17080" indent="-21708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00-Р04 по графам с 4 по 21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17080" indent="-21708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05-Р96 по графам с 22 по 33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17080" indent="-21708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брики Р00-Р04 характеризуют состояния матери, оказавшие влияние на новорожденного или плод, и не применяются у детей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17080" indent="-21708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плода или новорожденного кодируют рубриками Р05-Р96 (Перинатальные состояния) или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00-Q96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рожденные аномалии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17080" indent="-21708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7 у взрослых заполняется в том случае, если основное заболевание новорожденного (в возрасте 0-6 дней) или первоначальная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а смерти новорожденного или плода кодируются рубриками Р00-Р04. В остальных случаях заполняется строка 17 у детей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17080" indent="-217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4T05:34:41Z</dcterms:created>
  <dc:creator>Пользователь</dc:creator>
  <dc:description/>
  <dc:language>en-US</dc:language>
  <cp:lastModifiedBy>Карзакова Наталья Владиславовна</cp:lastModifiedBy>
  <cp:lastPrinted>2023-12-11T04:24:47Z</cp:lastPrinted>
  <dcterms:modified xsi:type="dcterms:W3CDTF">2023-12-11T09:39:28Z</dcterms:modified>
  <cp:revision>601</cp:revision>
  <dc:subject/>
  <dc:title>СВЕДЕНИЯ О ДЕЯТЕЛЬНОСТИ  ПОДРАЗДЕЛЕНИЙ МЕДИЦИНСКОЙ ОРГАНИЗАЦИИ, ОКАЗЫВАЮЩИХ МЕДИЦИНСКУЮ ПОМОЩЬ В СТАЦИОНАРНЫХ УСЛОВИЯХ за 2016 год Форма №14</dc:title>
</cp:coreProperties>
</file>