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0AE9-B29B-419B-BA72-17498543CF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BFC9-0419-419B-90F0-3FC35878461A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4E3E-12B7-4471-A830-A213D419E1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B8B4-FCFF-4877-ACCF-89A0B810B83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56B-5527-49D6-A6FA-15BEEE3913C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70E-F459-472F-BB6A-79B5B800E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6BFF-E5A3-4EE4-AE39-04B932C8A3D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3A37-6425-4759-8221-E8F0D1F77AB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F66F-A867-4039-901A-7F20EDE976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075A-F2A7-480E-AB43-89AC0321709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DEB-1997-463E-8A09-AC45FC6E1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257-F2F7-430F-911E-03AB2F84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1F6-69B8-4771-948F-CD3B6A5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B42-13FF-44DA-833A-3B8493CE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E2E-5726-434C-BB3F-F9A762BF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D88-AD75-4533-B5CD-DF487A16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D8C-DE56-4EB2-8405-524AE1F1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95E-90E1-428C-8360-77C33F3C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ADB-A865-4F66-AA14-54A431DE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8BC-96DA-4896-81B5-F2B1D4C1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570-5AD9-4285-9DB1-8E98E45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32E-48F3-40FB-8FBD-3F15102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30F-786E-45E8-8993-994C161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091D-EF1B-402F-A95A-A8F820869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719360" y="290520"/>
            <a:ext cx="93628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01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8537400" y="5440320"/>
            <a:ext cx="2905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446200" y="1440000"/>
            <a:ext cx="824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a@kuzdrav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евская Марина Анатолье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-статист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.т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3842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0502 доб.405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6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57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7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68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79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Раевская Марина Анатольевна</cp:lastModifiedBy>
  <cp:lastPrinted>2018-12-10T14:36:03Z</cp:lastPrinted>
  <dcterms:modified xsi:type="dcterms:W3CDTF">2022-11-29T02:10:13Z</dcterms:modified>
  <cp:revision>133</cp:revision>
  <dc:subject/>
  <dc:title>Презентация PowerPoint</dc:title>
</cp:coreProperties>
</file>