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notesSlides/notesSlide56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_rels/notesSlide6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6.xml.rels" ContentType="application/vnd.openxmlformats-package.relationships+xml"/>
  <Override PartName="/ppt/notesSlides/notesSlide65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1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</p:sldMasterIdLst>
  <p:notesMasterIdLst>
    <p:notesMasterId r:id="rId34"/>
  </p:notesMasterIdLst>
  <p:sldIdLst>
    <p:sldId id="256" r:id="rId35"/>
    <p:sldId id="257" r:id="rId36"/>
    <p:sldId id="258" r:id="rId37"/>
    <p:sldId id="259" r:id="rId38"/>
    <p:sldId id="260" r:id="rId39"/>
    <p:sldId id="261" r:id="rId40"/>
    <p:sldId id="262" r:id="rId41"/>
    <p:sldId id="263" r:id="rId42"/>
    <p:sldId id="264" r:id="rId43"/>
    <p:sldId id="265" r:id="rId44"/>
    <p:sldId id="266" r:id="rId45"/>
    <p:sldId id="267" r:id="rId46"/>
    <p:sldId id="268" r:id="rId47"/>
    <p:sldId id="269" r:id="rId48"/>
    <p:sldId id="270" r:id="rId49"/>
    <p:sldId id="271" r:id="rId50"/>
    <p:sldId id="272" r:id="rId51"/>
    <p:sldId id="273" r:id="rId52"/>
    <p:sldId id="274" r:id="rId53"/>
    <p:sldId id="275" r:id="rId54"/>
    <p:sldId id="276" r:id="rId55"/>
    <p:sldId id="277" r:id="rId56"/>
    <p:sldId id="278" r:id="rId57"/>
    <p:sldId id="279" r:id="rId58"/>
    <p:sldId id="280" r:id="rId59"/>
    <p:sldId id="281" r:id="rId60"/>
    <p:sldId id="282" r:id="rId61"/>
    <p:sldId id="283" r:id="rId62"/>
    <p:sldId id="284" r:id="rId63"/>
    <p:sldId id="285" r:id="rId64"/>
    <p:sldId id="286" r:id="rId65"/>
    <p:sldId id="287" r:id="rId66"/>
    <p:sldId id="288" r:id="rId67"/>
    <p:sldId id="289" r:id="rId68"/>
    <p:sldId id="290" r:id="rId69"/>
    <p:sldId id="291" r:id="rId70"/>
    <p:sldId id="292" r:id="rId71"/>
    <p:sldId id="293" r:id="rId72"/>
    <p:sldId id="294" r:id="rId73"/>
    <p:sldId id="295" r:id="rId74"/>
    <p:sldId id="296" r:id="rId75"/>
    <p:sldId id="297" r:id="rId76"/>
    <p:sldId id="298" r:id="rId77"/>
    <p:sldId id="299" r:id="rId78"/>
    <p:sldId id="300" r:id="rId79"/>
    <p:sldId id="301" r:id="rId80"/>
    <p:sldId id="302" r:id="rId81"/>
    <p:sldId id="303" r:id="rId82"/>
    <p:sldId id="304" r:id="rId83"/>
    <p:sldId id="305" r:id="rId84"/>
    <p:sldId id="306" r:id="rId85"/>
    <p:sldId id="307" r:id="rId86"/>
    <p:sldId id="308" r:id="rId87"/>
    <p:sldId id="309" r:id="rId88"/>
    <p:sldId id="310" r:id="rId89"/>
    <p:sldId id="311" r:id="rId90"/>
    <p:sldId id="312" r:id="rId91"/>
    <p:sldId id="313" r:id="rId92"/>
    <p:sldId id="314" r:id="rId93"/>
    <p:sldId id="315" r:id="rId94"/>
    <p:sldId id="316" r:id="rId95"/>
    <p:sldId id="317" r:id="rId96"/>
    <p:sldId id="318" r:id="rId97"/>
    <p:sldId id="319" r:id="rId98"/>
    <p:sldId id="320" r:id="rId9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notesMaster" Target="notesMasters/notesMaster1.xml"/><Relationship Id="rId35" Type="http://schemas.openxmlformats.org/officeDocument/2006/relationships/slide" Target="slides/slide1.xml"/><Relationship Id="rId36" Type="http://schemas.openxmlformats.org/officeDocument/2006/relationships/slide" Target="slides/slide2.xml"/><Relationship Id="rId37" Type="http://schemas.openxmlformats.org/officeDocument/2006/relationships/slide" Target="slides/slide3.xml"/><Relationship Id="rId38" Type="http://schemas.openxmlformats.org/officeDocument/2006/relationships/slide" Target="slides/slide4.xml"/><Relationship Id="rId39" Type="http://schemas.openxmlformats.org/officeDocument/2006/relationships/slide" Target="slides/slide5.xml"/><Relationship Id="rId40" Type="http://schemas.openxmlformats.org/officeDocument/2006/relationships/slide" Target="slides/slide6.xml"/><Relationship Id="rId41" Type="http://schemas.openxmlformats.org/officeDocument/2006/relationships/slide" Target="slides/slide7.xml"/><Relationship Id="rId42" Type="http://schemas.openxmlformats.org/officeDocument/2006/relationships/slide" Target="slides/slide8.xml"/><Relationship Id="rId43" Type="http://schemas.openxmlformats.org/officeDocument/2006/relationships/slide" Target="slides/slide9.xml"/><Relationship Id="rId44" Type="http://schemas.openxmlformats.org/officeDocument/2006/relationships/slide" Target="slides/slide10.xml"/><Relationship Id="rId45" Type="http://schemas.openxmlformats.org/officeDocument/2006/relationships/slide" Target="slides/slide11.xml"/><Relationship Id="rId46" Type="http://schemas.openxmlformats.org/officeDocument/2006/relationships/slide" Target="slides/slide12.xml"/><Relationship Id="rId47" Type="http://schemas.openxmlformats.org/officeDocument/2006/relationships/slide" Target="slides/slide13.xml"/><Relationship Id="rId48" Type="http://schemas.openxmlformats.org/officeDocument/2006/relationships/slide" Target="slides/slide14.xml"/><Relationship Id="rId49" Type="http://schemas.openxmlformats.org/officeDocument/2006/relationships/slide" Target="slides/slide15.xml"/><Relationship Id="rId50" Type="http://schemas.openxmlformats.org/officeDocument/2006/relationships/slide" Target="slides/slide16.xml"/><Relationship Id="rId51" Type="http://schemas.openxmlformats.org/officeDocument/2006/relationships/slide" Target="slides/slide17.xml"/><Relationship Id="rId52" Type="http://schemas.openxmlformats.org/officeDocument/2006/relationships/slide" Target="slides/slide18.xml"/><Relationship Id="rId53" Type="http://schemas.openxmlformats.org/officeDocument/2006/relationships/slide" Target="slides/slide19.xml"/><Relationship Id="rId54" Type="http://schemas.openxmlformats.org/officeDocument/2006/relationships/slide" Target="slides/slide20.xml"/><Relationship Id="rId55" Type="http://schemas.openxmlformats.org/officeDocument/2006/relationships/slide" Target="slides/slide21.xml"/><Relationship Id="rId56" Type="http://schemas.openxmlformats.org/officeDocument/2006/relationships/slide" Target="slides/slide22.xml"/><Relationship Id="rId57" Type="http://schemas.openxmlformats.org/officeDocument/2006/relationships/slide" Target="slides/slide23.xml"/><Relationship Id="rId58" Type="http://schemas.openxmlformats.org/officeDocument/2006/relationships/slide" Target="slides/slide24.xml"/><Relationship Id="rId59" Type="http://schemas.openxmlformats.org/officeDocument/2006/relationships/slide" Target="slides/slide25.xml"/><Relationship Id="rId60" Type="http://schemas.openxmlformats.org/officeDocument/2006/relationships/slide" Target="slides/slide26.xml"/><Relationship Id="rId61" Type="http://schemas.openxmlformats.org/officeDocument/2006/relationships/slide" Target="slides/slide27.xml"/><Relationship Id="rId62" Type="http://schemas.openxmlformats.org/officeDocument/2006/relationships/slide" Target="slides/slide28.xml"/><Relationship Id="rId63" Type="http://schemas.openxmlformats.org/officeDocument/2006/relationships/slide" Target="slides/slide29.xml"/><Relationship Id="rId64" Type="http://schemas.openxmlformats.org/officeDocument/2006/relationships/slide" Target="slides/slide30.xml"/><Relationship Id="rId65" Type="http://schemas.openxmlformats.org/officeDocument/2006/relationships/slide" Target="slides/slide31.xml"/><Relationship Id="rId66" Type="http://schemas.openxmlformats.org/officeDocument/2006/relationships/slide" Target="slides/slide32.xml"/><Relationship Id="rId67" Type="http://schemas.openxmlformats.org/officeDocument/2006/relationships/slide" Target="slides/slide33.xml"/><Relationship Id="rId68" Type="http://schemas.openxmlformats.org/officeDocument/2006/relationships/slide" Target="slides/slide34.xml"/><Relationship Id="rId69" Type="http://schemas.openxmlformats.org/officeDocument/2006/relationships/slide" Target="slides/slide35.xml"/><Relationship Id="rId70" Type="http://schemas.openxmlformats.org/officeDocument/2006/relationships/slide" Target="slides/slide36.xml"/><Relationship Id="rId71" Type="http://schemas.openxmlformats.org/officeDocument/2006/relationships/slide" Target="slides/slide37.xml"/><Relationship Id="rId72" Type="http://schemas.openxmlformats.org/officeDocument/2006/relationships/slide" Target="slides/slide38.xml"/><Relationship Id="rId73" Type="http://schemas.openxmlformats.org/officeDocument/2006/relationships/slide" Target="slides/slide39.xml"/><Relationship Id="rId74" Type="http://schemas.openxmlformats.org/officeDocument/2006/relationships/slide" Target="slides/slide40.xml"/><Relationship Id="rId75" Type="http://schemas.openxmlformats.org/officeDocument/2006/relationships/slide" Target="slides/slide41.xml"/><Relationship Id="rId76" Type="http://schemas.openxmlformats.org/officeDocument/2006/relationships/slide" Target="slides/slide42.xml"/><Relationship Id="rId77" Type="http://schemas.openxmlformats.org/officeDocument/2006/relationships/slide" Target="slides/slide43.xml"/><Relationship Id="rId78" Type="http://schemas.openxmlformats.org/officeDocument/2006/relationships/slide" Target="slides/slide44.xml"/><Relationship Id="rId79" Type="http://schemas.openxmlformats.org/officeDocument/2006/relationships/slide" Target="slides/slide45.xml"/><Relationship Id="rId80" Type="http://schemas.openxmlformats.org/officeDocument/2006/relationships/slide" Target="slides/slide46.xml"/><Relationship Id="rId81" Type="http://schemas.openxmlformats.org/officeDocument/2006/relationships/slide" Target="slides/slide47.xml"/><Relationship Id="rId82" Type="http://schemas.openxmlformats.org/officeDocument/2006/relationships/slide" Target="slides/slide48.xml"/><Relationship Id="rId83" Type="http://schemas.openxmlformats.org/officeDocument/2006/relationships/slide" Target="slides/slide49.xml"/><Relationship Id="rId84" Type="http://schemas.openxmlformats.org/officeDocument/2006/relationships/slide" Target="slides/slide50.xml"/><Relationship Id="rId85" Type="http://schemas.openxmlformats.org/officeDocument/2006/relationships/slide" Target="slides/slide51.xml"/><Relationship Id="rId86" Type="http://schemas.openxmlformats.org/officeDocument/2006/relationships/slide" Target="slides/slide52.xml"/><Relationship Id="rId87" Type="http://schemas.openxmlformats.org/officeDocument/2006/relationships/slide" Target="slides/slide53.xml"/><Relationship Id="rId88" Type="http://schemas.openxmlformats.org/officeDocument/2006/relationships/slide" Target="slides/slide54.xml"/><Relationship Id="rId89" Type="http://schemas.openxmlformats.org/officeDocument/2006/relationships/slide" Target="slides/slide55.xml"/><Relationship Id="rId90" Type="http://schemas.openxmlformats.org/officeDocument/2006/relationships/slide" Target="slides/slide56.xml"/><Relationship Id="rId91" Type="http://schemas.openxmlformats.org/officeDocument/2006/relationships/slide" Target="slides/slide57.xml"/><Relationship Id="rId92" Type="http://schemas.openxmlformats.org/officeDocument/2006/relationships/slide" Target="slides/slide58.xml"/><Relationship Id="rId93" Type="http://schemas.openxmlformats.org/officeDocument/2006/relationships/slide" Target="slides/slide59.xml"/><Relationship Id="rId94" Type="http://schemas.openxmlformats.org/officeDocument/2006/relationships/slide" Target="slides/slide60.xml"/><Relationship Id="rId95" Type="http://schemas.openxmlformats.org/officeDocument/2006/relationships/slide" Target="slides/slide61.xml"/><Relationship Id="rId96" Type="http://schemas.openxmlformats.org/officeDocument/2006/relationships/slide" Target="slides/slide62.xml"/><Relationship Id="rId97" Type="http://schemas.openxmlformats.org/officeDocument/2006/relationships/slide" Target="slides/slide63.xml"/><Relationship Id="rId98" Type="http://schemas.openxmlformats.org/officeDocument/2006/relationships/slide" Target="slides/slide64.xml"/><Relationship Id="rId99" Type="http://schemas.openxmlformats.org/officeDocument/2006/relationships/slide" Target="slides/slide65.xml"/><Relationship Id="rId10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 type="dt" idx="9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5"/>
          <p:cNvSpPr>
            <a:spLocks noGrp="1"/>
          </p:cNvSpPr>
          <p:nvPr>
            <p:ph type="ftr" idx="9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6"/>
          <p:cNvSpPr>
            <a:spLocks noGrp="1"/>
          </p:cNvSpPr>
          <p:nvPr>
            <p:ph type="sldNum" idx="9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FBF5A-E1E8-4BE1-ACDE-242FF9E13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A1C25-1754-4CEE-9D5E-82DAA1043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8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0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4715E-E2D0-4B83-B9A5-3E6DAC3FA47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8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0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28811-0207-4455-9251-F9806281317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B72D7-F2F4-4780-BFD5-D9083061C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1B50-6B07-416F-AB0A-0722847BD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C3C7-6466-4795-8789-4031B1960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C1E230-5EA5-45F7-AD2F-1EB689D4E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14F2B3-41CD-4ED0-8936-51DF68ED3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1107720" y="628560"/>
            <a:ext cx="79088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5A1EC7-0DA4-4885-BCC4-53F41B70A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68BFE1-5A14-4771-B0E3-2A276C4B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EFDBBD-677C-4E8F-A438-E5E25A67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1517EB-94CF-49AC-B719-ED3BEBBE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899AE5-97B0-4BB2-A56E-AAE252129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C2EF77-52C3-4E47-97FE-3CDEBD1D0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5F50F8-A665-44C2-8495-5AD79B844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8F2465-789E-4C5E-B52E-B2DCB93AF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6AD6-49AD-40B0-B66C-EA7AFB963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187F0C-D053-4B77-AD14-FF78FC16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4B8A1A-59BB-4314-BE68-0A3BF46DF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385B17-AA8C-40CB-AE83-A70C17F1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A4AEF3-F95A-45BD-A709-8FCBCF7EE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1107720" y="628560"/>
            <a:ext cx="79088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E098D9-DEC4-46C7-9034-1E2F8740A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FA97B2-0746-40B2-8FCA-675F44C3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D5D05D-E547-4AD1-9E19-5D96115B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0A1C7B-A21A-4938-AED3-F6EE7843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8B96B8-FE8A-4AB6-9D3D-583E0B38A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E0E0AF-2E8E-4C9F-BD87-815EFC8F9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4F71-C8E3-4134-B8A3-F6C19CDE0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0B446B-4BB7-4181-B2F2-49DB6E94B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60FE7D-7D2C-4D38-A5B2-1A0417D6F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321125-F998-47CF-80AA-89F358589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45D81D-49C3-4255-85B3-E7269BC4C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367C36-F346-447B-84A2-43594BF5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7F17B9-6CFA-49F0-9A34-757F76ACA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1107720" y="628560"/>
            <a:ext cx="79088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0B559E-62C1-489C-84AF-AF7EC035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60A3CA-8E09-42B0-AAED-0906BCC8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6D62E8-2C02-4BD7-9B94-8DFF4F78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3F9F05-C703-4541-B7AB-2E1AF7B6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C878E-D1F4-4CD0-A0B7-45D7DAB05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B9F736-3B49-4F13-BF5B-47812E11C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46C498-EDB6-4FF4-A781-4401665A8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366C91-81E8-4F32-8DC9-5F92EC0C7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3D655A-E0BE-4098-8D64-572D001EA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FAA901-DA8E-48DB-85AE-1C1A0A001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7C34D6-5517-4444-BC7C-87784502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0BE297-3536-4F21-B17F-9AF892A0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2E9FA3-EEF6-41B9-A547-CDA7BCA31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1107720" y="628560"/>
            <a:ext cx="79088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3B3E0D-D0CE-49B0-ABE4-16FB626F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324BD9-14C2-4D50-97BA-00BEEEA2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F1857-F2F4-4F00-A695-B965852E8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96280A-D718-4DFA-8A9C-C86D762F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F7F16F-BF5C-412C-AFC7-4D5C5305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587C15-C065-4544-ADB0-6761CCBB8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2F26F3-3631-4B65-9D59-BCBA8945B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68EA93-8E6B-4950-87CF-310CA3A47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41E948-0B82-4312-BD79-80445F046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838AA4-0BBD-44F9-8CA8-8A592275D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38C06C-9EF4-4BEB-991D-E635D9F30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F0AD61-F512-4A6F-AF3E-4743C230C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F5204D-2D6E-4D8E-B772-8AB8204BB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4DEAE-82FC-4243-9ED1-D9604F178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1107720" y="628560"/>
            <a:ext cx="79088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E7B5BB-7159-457D-BF4C-CF56A90D7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475C7B-0D0F-4FBA-8FBB-D676F0A6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29B6FC-DC1E-45C7-9B2C-4515C7C4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A7A011-59AD-4044-97BC-EB80D505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A97C59-6F3D-4BFC-85A2-7D17F7C24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4C8D05-86BF-4DFC-8CAE-DF362675A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35837E-C5B3-479A-AA9B-C7AC86897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674D4D-2570-4F58-A9DC-55CE53EF1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0224DD-6777-48B4-A906-A0A57917F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85C2CB-253F-434E-8FC8-050612652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66B5F-6E94-4C76-8347-4516B77C5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E9D7B1-3D7B-4F53-A60B-E6326CE29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C80BD6-8D69-4137-B1A5-D96B7AE42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1107720" y="628560"/>
            <a:ext cx="79088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6145FE-05D8-4A9E-B7DC-B8EA41169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3230AE-91B1-4A2F-A340-A4B3ADF0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A97566-6784-49FE-A484-93D2B1D3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3BDE63-B296-42A4-930A-6C57CD99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53FB78-966A-4BA8-993B-76C6BABA1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557BCE-7A69-4BF0-94A4-29A490E88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F9DD18-7570-4417-BCF3-CCF68E285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FC965C-D0F6-40C3-8C4A-C235B23D9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72FFD-DF50-4A25-9626-848827840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F2F16D-31D0-4F60-9CBC-FCAAA7BFB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1C8ECB-8F2F-4432-9895-4C65CF954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855707-B7E8-4D05-8F70-5C8152814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8D45AA-CBB8-4B4F-A645-D1133A885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ubTitle"/>
          </p:nvPr>
        </p:nvSpPr>
        <p:spPr>
          <a:xfrm>
            <a:off x="1107720" y="628560"/>
            <a:ext cx="79088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A640C5-623F-44F4-9183-DF97095AB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57BE13-0344-40D6-A318-8BCE063D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61EB3F-1456-4821-AD69-4924B12F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80EF52-34A0-448D-910B-9B8D6076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7CCFF7-10BB-43CE-A9FE-5F9AB1BCC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FEC2B8-A56F-4823-9807-F3BA0CA73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107720" y="628560"/>
            <a:ext cx="79088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283BF-38D4-4C61-8ADB-543633B36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915C85-CF64-466C-9F13-3A5D276E0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827815-00E1-4C18-8C8D-26AA813F5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141707-741B-4ED1-9F8E-C50D05B74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0A691F-5431-4393-A3FC-8884D235B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0ED37D-06CB-453D-9797-5E47C19BE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AF88F0-0744-41E3-B422-DA1B1F770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ubTitle"/>
          </p:nvPr>
        </p:nvSpPr>
        <p:spPr>
          <a:xfrm>
            <a:off x="1107720" y="628560"/>
            <a:ext cx="79088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021D36-6E63-4C90-9EBA-56F74401E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B9381D-987E-4690-BA75-CE57AF99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C03FE4-2DDB-412C-AE3A-0F413D72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DAD3A7-FEEB-4E94-980F-9FC3CA7F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5461D-8A51-4CE5-9760-021411A7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4B7078-449E-46EE-B214-2C87E0B1A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2208DA-1401-475F-8846-A28C9AD22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BCB2F7-0082-429F-82D1-FDAD463FA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18346A-A2D9-4CAF-BAC7-5FB652711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BB7221-6AE7-46D4-BAE8-283663AA7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D5AE61-F684-4899-918E-F18C8288E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8CAF2A-FFB1-4DE6-A453-0B7B506DC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5230E2-652B-4A56-92EA-40CE009AC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1107720" y="628560"/>
            <a:ext cx="79088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00754B-E6E1-4A9A-A62A-C144043E7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D18F87-73D7-4D3C-9347-C51C1711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9B07-0AF3-431F-9355-6DFD3725A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F09DC-61E5-464B-B5AD-3BDA6A90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A542AE-19C4-4365-BEE3-E9D17255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AE1FED-C0F4-4214-9747-19F14755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644BFD-DF2C-4D78-AC03-A456FF624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FE05D7-2099-402B-B2E4-D4CA750DE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DC79DC-BEE2-429F-8249-56C4FCB55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C77D99-1E9C-4D54-ACA7-FFC0198E1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1CB9CD-29CB-4105-96E8-A632AB499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4D2B9A-C2BF-418E-BCE4-503AB72C7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480C31-C809-4C7D-A674-EFC91209C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6026BD-B0D4-4660-9A10-C46285740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C54A5-0B0B-47A2-8497-4866FEE1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subTitle"/>
          </p:nvPr>
        </p:nvSpPr>
        <p:spPr>
          <a:xfrm>
            <a:off x="1107720" y="628560"/>
            <a:ext cx="79088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D15608-4F1E-4620-A7F2-A3C5F24E4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ADDE82-8AE5-4C35-BF99-8C167C12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BF44E5-A206-4CD2-9120-1E065BC5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2298A2-6137-4710-B38F-92EC98D2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A22219-7E2E-46F0-B8EE-E713CEC3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BACE23-B53E-48C4-9C43-25A0F7B89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979B95-D424-4D52-BA9C-2B0728379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4A5B58-8A38-466F-B9F4-AE2875964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46E3A6-4F92-4F0C-A775-15975DB82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3A4254-FCED-44AE-B640-5D6D6036D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C7CF3-6385-489C-9E58-8EAFA7143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ED3DDD-56D0-4789-897C-D1D09E3F6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F65EE1-39B4-43D4-A372-C4A99F5D8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ubTitle"/>
          </p:nvPr>
        </p:nvSpPr>
        <p:spPr>
          <a:xfrm>
            <a:off x="1107720" y="628560"/>
            <a:ext cx="79088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51C29C-F719-4A03-8560-500B53F5E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D6A451-448C-4212-BE7B-6DF0173B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F0B964-1B36-464F-8D10-92A0FB27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15E49F-AE68-474F-B081-E6937EC4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ED68A7-9F38-42B4-B921-8228C9796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7D6A62-263E-43EF-9AC7-2107A5E14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A3E071-A0B4-4165-BEB7-4AD38D5AC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0B9EA1-1568-42F9-9F7F-1A3A14C82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7D2DB-60BB-40E1-B23B-73682775D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B2FAAA-3AF6-41D9-946E-76881721B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086336-267F-4F1E-8A25-79AFDAA4F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B0A158-4FD2-41DC-B0FE-B6EEC113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E58FEF-0E29-4263-BAC1-D57206D42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subTitle"/>
          </p:nvPr>
        </p:nvSpPr>
        <p:spPr>
          <a:xfrm>
            <a:off x="1107720" y="628560"/>
            <a:ext cx="79088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2A2E54-BA32-4D20-8FA3-8A33D446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FFEC28-ED25-4669-84ED-7BC3D7BF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1BD492-69FC-4C35-B42B-65D81778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EE02F5-E4E0-4A05-8131-FF4271B3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F283B1-8F51-40C4-975C-AEF9E5B3C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217C2C-8C3F-4538-958D-43B1923F3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EEC5F-C5AD-4200-AA2A-B96C558F1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533DCE-E0E1-4892-B6E0-B3FC8078F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CFB1D3-AECD-415B-B152-F0A9DD9FC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6269E2-E6B9-48A7-8607-585C99E91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8B92E8-E9AF-4AA0-B18A-6DE193BF4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C03B0D-CF28-4E5D-8842-26EBCCF54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940D71-C098-4413-AAF7-4454F0F8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subTitle"/>
          </p:nvPr>
        </p:nvSpPr>
        <p:spPr>
          <a:xfrm>
            <a:off x="1107720" y="628560"/>
            <a:ext cx="79088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0E0047-1634-4294-A6CF-A27074E56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FCD977-90A1-422F-9587-248649FD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0CA03B-3A20-41B9-9DAD-EE304104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5AE3FC-C133-41EC-AF75-C00168CA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2D3AD-BD3D-4050-A28C-81622A007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785E45-D0F8-4A1B-AA10-5235C356E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BE382A-414D-43E2-9049-89A68943D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ECEAE1-02B2-40F4-997A-55F22CA82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3AB66C8-BCDF-466E-A2EC-5EC799B24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97CE087-E8E9-48E9-A799-4DC4F1BE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6775AA-999E-4483-B8F9-3ECAA8834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8E9FB9F-D2CE-4DFB-8D14-6383D7BCD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BBB9D02-75BC-4E01-BBF4-69BB7D59A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ubTitle"/>
          </p:nvPr>
        </p:nvSpPr>
        <p:spPr>
          <a:xfrm>
            <a:off x="1107720" y="628560"/>
            <a:ext cx="79088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1273E4D-3C31-4104-9726-03057944D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B697A5-85FE-43BE-8D81-67D08BD7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E7DC6-BBB2-410E-B72B-676AB4770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A02C1B4-03C6-48BE-87C1-9DFB231B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0FED0E1-734E-4740-BC31-5EDAE664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5FA32B5-2558-4A2E-BCC0-2647E957B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32C16AF-2EF4-4E95-ABA4-72AE12CE7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E050F35-900B-4BF6-A36F-9DB2A3E78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9027F5C-61C8-435E-8E89-C7947521B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9ACD3C2-1F77-4F29-AD60-A62F17222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5178AF2-A0C3-4FC1-883D-D36DF3409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DD27226-A17B-40D5-8A56-47B3C6271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BA86704-93F4-40E4-85F2-A42BF4CE6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85149-E609-415A-A110-CB587FEB2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subTitle"/>
          </p:nvPr>
        </p:nvSpPr>
        <p:spPr>
          <a:xfrm>
            <a:off x="1107720" y="628560"/>
            <a:ext cx="79088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FE40DFD-8867-42D0-81A6-DC84A2DC9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3D9456A-28DA-41F1-9767-CE206329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3C8E286-F304-4D9A-8612-78D5B765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69C93CD-8562-4B3F-A714-73C56B1D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5E05256-C7E5-4231-A049-3C45FF8CA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732E355-1EE6-46D4-960B-C71AC2C56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58B008D-C7F5-4257-98C0-9358FE258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6BC46D4-80F8-4E59-9319-D9D11BE1A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7F25D4D-B52E-4036-B609-9E59CC0B9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CF3135A-063D-4972-8BC9-BF58E2D7E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97C5E-0F45-4508-8DC4-A4A7936F7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3AC4102-7025-427F-A867-AF4BF9E6F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B1F68F4-FF51-4DD4-B1FA-8D4E8F7AB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subTitle"/>
          </p:nvPr>
        </p:nvSpPr>
        <p:spPr>
          <a:xfrm>
            <a:off x="1107720" y="628560"/>
            <a:ext cx="79088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409F5A4-A008-45C2-921C-2EE84333C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0E7E022-C76E-4D00-B021-52D7052B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B4C5EDE-06E9-41E7-8403-3C6B28C6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EC4EC5C-0486-4D26-B119-A814698C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CB07182-D564-4DCE-9F94-FBD999759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A9D2811-5466-4DB0-ABA6-20837F645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81D9EFC-4D66-4F5C-9E48-29A98DA0A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068D538-537C-4405-8345-583D096BF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42DFE-9087-403A-9929-C37C582A8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1540493-B917-459B-9E86-287B7A746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B5262A4-C2F0-4B41-87EA-0E4610AB9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ECC5329-8EB7-4554-A2CB-64ECD8918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592521D-43F7-494C-A701-D0144626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subTitle"/>
          </p:nvPr>
        </p:nvSpPr>
        <p:spPr>
          <a:xfrm>
            <a:off x="1107720" y="628560"/>
            <a:ext cx="79088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18DCE29-F0C5-40DF-AAFE-63AD1E486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E759971-4004-453E-B7F4-48DE73B4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FE381BB-C029-4449-9B9C-CF51BA159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CDCDD04-B7A8-4109-9038-356D6941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B42E794-4739-4666-A1D7-47F601AC9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95496F0-BEDB-4A8C-8FD6-5593EBF6F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1D98-BCF7-4D20-B049-79797B3F2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107720" y="628560"/>
            <a:ext cx="79088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968C3-D6D1-43BA-8E45-0B1E2C838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9B03DBB-3B14-42EA-A409-0140DCE21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ED344FE-0A22-4634-8789-C5A937C17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3C6ECEA-9A6D-4723-8A3C-0C5253BDC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F7F2B8A-F30F-468F-8635-BFEBE1FA8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638B417-0B71-4BF5-ACD3-AA77065F2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2A4B6BE-8215-424F-B70B-99A478393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ubTitle"/>
          </p:nvPr>
        </p:nvSpPr>
        <p:spPr>
          <a:xfrm>
            <a:off x="1107720" y="628560"/>
            <a:ext cx="79088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0F1BD5A-8BC9-49BC-A3E8-2CBF92675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54717D3-8E85-49D5-851B-FA1DED7D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B43A31E-4978-4611-B33A-DDD69099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DC93ED0-57F0-4F37-8F16-327FC4BA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80AD1-806B-4FB9-8FB8-D2B4D5A3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03B7540-BC46-4644-B344-D95DC2CC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28D8584-B255-4F67-BABA-405C21A52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37E4225-363C-442A-A24F-97697A240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907E3AA-AF86-4F6E-8056-B98B88458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D38D956-CB17-4C82-9FCD-79BA63CC2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2F83E95-4062-4361-9112-D6836DCD1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8947C4A-976D-454C-AE04-EC42BA522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8C5C775-3561-4205-8DBB-FFD069898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subTitle"/>
          </p:nvPr>
        </p:nvSpPr>
        <p:spPr>
          <a:xfrm>
            <a:off x="1107720" y="628560"/>
            <a:ext cx="79088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3B676F0-002D-40B8-8ACA-5B35BB06A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918EB6B-0D75-4E7F-9C71-85CA4281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7EA0D-98F1-4CA1-AFA1-2CC6D165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898AFFB-5510-4D45-B2EB-2CD83DB8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550E57C-C68F-4774-9AB4-39E9F937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6578CCC-65B8-412C-86A8-4785E08D5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B23B9E1-8BF8-48AF-8E90-3AE290FB8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3D18033-F285-44C4-9767-DD6B9672B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B338C60-3239-4461-8462-6F402664B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FE0F4B7-C426-469F-B473-2BFBB3339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347DE23-44C6-4835-BDBC-8DDC0164F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979F559-1B01-4532-8137-662389DA4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3DCD213-1600-4C70-83DC-71CF4B234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6F438-5894-4B70-9C46-720DE78B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subTitle"/>
          </p:nvPr>
        </p:nvSpPr>
        <p:spPr>
          <a:xfrm>
            <a:off x="1107720" y="628560"/>
            <a:ext cx="79088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9AFA258-76FE-4A72-99D3-98570322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D4AC218-1DAC-4DE6-A966-D763EF7F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E8CCAE4-74AE-48EB-A71E-E6C3FF0C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AC13BD6-F722-4CCA-A304-30A38ED8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F77E759-8E92-48F9-A461-5D0B4A02F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BB34A04-AAA9-4F89-B183-2360541D4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125AEE4-97D7-45D4-AEAA-F45EE04A4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B5913CD-C414-430C-8F3D-DBC646040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DCC27B8-4879-4A7B-BC7A-49E3C4F51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DA42345-CEB8-45F6-A520-7A3026729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E7032-EF58-46FC-B58D-8E185F4D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54367BD-8C8E-4E6E-BA74-733E908C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3101CF9-5632-4107-BE76-69721EAC2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subTitle"/>
          </p:nvPr>
        </p:nvSpPr>
        <p:spPr>
          <a:xfrm>
            <a:off x="1107720" y="628560"/>
            <a:ext cx="79088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627C57E-92EA-4CD5-91A0-C40E28E4E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8123D96-51F8-4D5C-8BFA-BFCAA5C9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0D40B13-CB91-4D9D-9FF3-9ABA18D8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32752CE-4C8C-44D3-9FA4-90F5C903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3F6FD6C-BBB3-4EBD-8289-BBA8CC93F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2AB1AA6-D266-42D9-BB48-33C83BD45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F73E942-7A9D-4A50-9E49-F4120C01C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450B2A0-89F3-43BF-80C9-A884DB2E0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DED78-AF9D-4A0F-B358-520000A80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F2B2217-72ED-4F5A-ABA6-922E37938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D28DEEA-9FEB-4228-AAD9-9F5D8A4A0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124BC34-E01F-4AFD-A8D2-D4D8E04BA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0C495AD-C222-41FF-B8FF-96892814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subTitle"/>
          </p:nvPr>
        </p:nvSpPr>
        <p:spPr>
          <a:xfrm>
            <a:off x="1107720" y="628560"/>
            <a:ext cx="79088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06EAA79-4A46-4A48-BF81-29D9AA28A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C1FA2F9-60E5-4333-BBAE-EF829D63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8779389-20D1-43E4-BD6F-82111C19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D5CAC2C-0179-4A7A-922F-FA2BC809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0DDDDA0-1314-4524-AD8A-EEEA046BA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C7B1060-EC15-45FB-9501-2617C07FE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4DF67-696B-40DE-ACA1-AD2BC48E2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2314B3A-B85D-4204-A1E2-1F7BED396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884B204-CD07-41C2-B09C-252F0349D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E3CFDFA-47A7-43B7-BBD7-7DAAC89A3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7FBDDC0-CFF7-49B9-B287-858FAE39D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F635942-1393-4AEF-99D2-717DF9C40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19A8821-84FC-4DC3-9991-D1E4DD73F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subTitle"/>
          </p:nvPr>
        </p:nvSpPr>
        <p:spPr>
          <a:xfrm>
            <a:off x="1107720" y="628560"/>
            <a:ext cx="79088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12399C6-43EB-4168-B7A7-17226D59F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ED61E66-2AA0-4BE0-9515-73BA43BB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D357F56-F443-49ED-8FBB-90327ADF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2BE9EB5-B3C4-46FB-A6BD-484570F8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ADC75-5E8E-4BF5-9A1F-64E5EEEA7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9E47756-8A63-468B-9AA1-3C75CDFDB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54B5C81-F5BC-45C5-B07B-CB760884D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FD6E32A-C565-47F5-B762-C83E7D55F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42F8E2B-C8CC-4E3D-9434-931782E9B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7D77CCD-5455-40CC-9AA1-FA269C80B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69ECE48-ABE9-4AE6-930D-F150F9D29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2529255-662B-4125-8E1C-CB20F194D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2AA2DB2-ACC4-41A6-88F1-605584C2F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subTitle"/>
          </p:nvPr>
        </p:nvSpPr>
        <p:spPr>
          <a:xfrm>
            <a:off x="1107720" y="628560"/>
            <a:ext cx="79088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20F2D98-E801-42B2-BD64-6E6CAFF3B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CD273FF-81FA-4511-9ADB-137D8291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75341-2D4B-43F4-9B10-4CF26BF9A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8403AC6-4469-4F48-9281-441CE87E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C78535D-526A-4020-97C9-09782745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F09F57C-CEE4-4977-90E8-2C43F9972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5F628C2-D5C1-408E-A7F8-24F499C86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2ED6C43-3A0C-4C21-9ACD-48332FF60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5D161-A599-4AFF-9328-2F9E13B40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33F6-D63A-49CF-B220-7DB878760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3BD67-EF2F-4852-AF07-247587503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C74A6-81D2-415C-B3C2-BA87488E7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1107720" y="628560"/>
            <a:ext cx="79088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4653B-789E-4BC9-AA92-C527ACF24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F4677-991D-4ACF-91CE-D874DF30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E1EAD-A004-4ACF-9186-27B6151A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03BBE-22CC-4A76-8700-64A85A83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02BAF-FF03-46E6-B1BB-1A659AFA6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B1526-F353-47E7-9ABF-D88EDCFD8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FFA3C-1BCE-4C67-A844-EC4972A3B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D45C2-8037-462A-8E03-054EB5398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266D-990F-4FCD-ACF2-427A8430C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57B92-9E22-400A-B2CE-9FC18B5E9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D27F9-6A24-484E-A7D2-5413C1A16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C3065-8C12-4DCD-ACF5-6B7A959CA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01DDE-21FC-4B25-A20C-66C970761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107720" y="628560"/>
            <a:ext cx="79088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F2CC8-1229-4D4A-B183-78B5A1F30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A0749-9FA1-41A9-9A8B-2449CDE0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4197A-E95E-46E6-B0CB-D2A64189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48BF1-261D-4D57-9057-1626E636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0ADF5-8BFB-4372-A29B-6ECFC446B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3F00C-C2BD-45B6-BE49-E2175C642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107720" y="628560"/>
            <a:ext cx="79088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8094-0EB7-422E-A349-F042213A7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21D5D-10A5-4A0B-B1D2-BAF6BBFDC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886D3D-DADB-4DD7-989C-9C7DFEFAF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36126-AAA3-42AC-9BF2-F292DE45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824B1-B63D-40F3-B9D2-1BAC6C55E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3D7201-1CDA-4F35-A419-825ABBACF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B5E59-B8F0-4484-BD3B-99BDD1C6D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1107720" y="628560"/>
            <a:ext cx="79088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C154A-C8EA-4AD6-A6ED-9AAA8773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8AD8A9-D8AD-4D89-B318-7B8AC6420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108838-7716-4EBD-B1C0-FBAECF9D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62FCC-5F1D-4708-B7B9-C4169ACC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B23A-858E-460C-B11D-BEC61723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73B86-3056-42B8-BD91-2C031AA0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11CCB7-FB20-40DA-9165-74D165926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B2CF3-DF4C-423A-A31D-9CA95CE29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0B7A8-A119-416D-8B45-A385D0326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037B1-E4C6-45A4-A930-8F2AD0430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FE548-712E-4CFC-B3B4-692692B41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814D0-4DDC-400A-B7EA-3AECB765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698DB3-F7B7-47DD-ADF1-B62A61821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1107720" y="628560"/>
            <a:ext cx="79088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CD5212-C08B-435F-ABC4-D7406CA64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C8620D-CAEA-4054-A32C-CB090A5C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09EF-E707-4B42-BF30-E21EE910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DA5FD7-4A92-4A78-A43E-AE8F950E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0CFBC-8D58-4095-9B4F-D9BB87DD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1E03A-4B35-497A-9890-F3539463A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E29A0-25B6-4037-B0B3-E3FB2CC93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574BBF-0D6F-457E-9D3C-2686F6E74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8EE841-A847-4125-A09A-EB525A0EC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75BA18-C90A-498A-8CA6-B87143D56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A5423D-BA15-4102-AF48-18DAE6481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4C9E8A-FAB3-4AB6-9F8C-486D01F6E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8669A6-545E-4DE8-8D76-5E9D3B8B8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A0C6-7F59-4746-BE38-B8FACE880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1107720" y="628560"/>
            <a:ext cx="79088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EB2EEA-00D7-4052-923F-0B6FA83CD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435869-00B9-4F59-AB0A-BDE729DF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EF3EFF-F876-438A-8BBF-F076955F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95D449-09D6-4961-A9E5-28FF9E18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632934-257A-489B-811F-26DF211C5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BE12BC-DE8B-4E1F-80BD-3D479BF48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FB0BC0-A1A5-4C0E-A57A-4B516ACB3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D76702-952F-49B5-B117-717ED3F94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607F4F-0136-4D37-814C-B5FE44D8C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37183E-94A4-4D39-9BD4-8D2C83D55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21.xml"/><Relationship Id="rId11" Type="http://schemas.openxmlformats.org/officeDocument/2006/relationships/slideLayout" Target="../slideLayouts/slideLayout122.xml"/><Relationship Id="rId12" Type="http://schemas.openxmlformats.org/officeDocument/2006/relationships/slideLayout" Target="../slideLayouts/slideLayout123.xml"/><Relationship Id="rId13" Type="http://schemas.openxmlformats.org/officeDocument/2006/relationships/slideLayout" Target="../slideLayouts/slideLayout124.xml"/><Relationship Id="rId14" Type="http://schemas.openxmlformats.org/officeDocument/2006/relationships/slideLayout" Target="../slideLayouts/slideLayout125.xml"/><Relationship Id="rId15" Type="http://schemas.openxmlformats.org/officeDocument/2006/relationships/slideLayout" Target="../slideLayouts/slideLayout126.xml"/><Relationship Id="rId16" Type="http://schemas.openxmlformats.org/officeDocument/2006/relationships/slideLayout" Target="../slideLayouts/slideLayout127.xml"/><Relationship Id="rId17" Type="http://schemas.openxmlformats.org/officeDocument/2006/relationships/slideLayout" Target="../slideLayouts/slideLayout128.xml"/><Relationship Id="rId18" Type="http://schemas.openxmlformats.org/officeDocument/2006/relationships/slideLayout" Target="../slideLayouts/slideLayout129.xml"/><Relationship Id="rId19" Type="http://schemas.openxmlformats.org/officeDocument/2006/relationships/slideLayout" Target="../slideLayouts/slideLayout130.xml"/><Relationship Id="rId20" Type="http://schemas.openxmlformats.org/officeDocument/2006/relationships/slideLayout" Target="../slideLayouts/slideLayout131.xml"/><Relationship Id="rId21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33.xml"/><Relationship Id="rId11" Type="http://schemas.openxmlformats.org/officeDocument/2006/relationships/slideLayout" Target="../slideLayouts/slideLayout134.xml"/><Relationship Id="rId12" Type="http://schemas.openxmlformats.org/officeDocument/2006/relationships/slideLayout" Target="../slideLayouts/slideLayout135.xml"/><Relationship Id="rId13" Type="http://schemas.openxmlformats.org/officeDocument/2006/relationships/slideLayout" Target="../slideLayouts/slideLayout136.xml"/><Relationship Id="rId14" Type="http://schemas.openxmlformats.org/officeDocument/2006/relationships/slideLayout" Target="../slideLayouts/slideLayout137.xml"/><Relationship Id="rId15" Type="http://schemas.openxmlformats.org/officeDocument/2006/relationships/slideLayout" Target="../slideLayouts/slideLayout138.xml"/><Relationship Id="rId16" Type="http://schemas.openxmlformats.org/officeDocument/2006/relationships/slideLayout" Target="../slideLayouts/slideLayout139.xml"/><Relationship Id="rId17" Type="http://schemas.openxmlformats.org/officeDocument/2006/relationships/slideLayout" Target="../slideLayouts/slideLayout140.xml"/><Relationship Id="rId18" Type="http://schemas.openxmlformats.org/officeDocument/2006/relationships/slideLayout" Target="../slideLayouts/slideLayout141.xml"/><Relationship Id="rId19" Type="http://schemas.openxmlformats.org/officeDocument/2006/relationships/slideLayout" Target="../slideLayouts/slideLayout142.xml"/><Relationship Id="rId20" Type="http://schemas.openxmlformats.org/officeDocument/2006/relationships/slideLayout" Target="../slideLayouts/slideLayout143.xml"/><Relationship Id="rId21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45.xml"/><Relationship Id="rId11" Type="http://schemas.openxmlformats.org/officeDocument/2006/relationships/slideLayout" Target="../slideLayouts/slideLayout146.xml"/><Relationship Id="rId12" Type="http://schemas.openxmlformats.org/officeDocument/2006/relationships/slideLayout" Target="../slideLayouts/slideLayout147.xml"/><Relationship Id="rId13" Type="http://schemas.openxmlformats.org/officeDocument/2006/relationships/slideLayout" Target="../slideLayouts/slideLayout148.xml"/><Relationship Id="rId14" Type="http://schemas.openxmlformats.org/officeDocument/2006/relationships/slideLayout" Target="../slideLayouts/slideLayout149.xml"/><Relationship Id="rId15" Type="http://schemas.openxmlformats.org/officeDocument/2006/relationships/slideLayout" Target="../slideLayouts/slideLayout150.xml"/><Relationship Id="rId16" Type="http://schemas.openxmlformats.org/officeDocument/2006/relationships/slideLayout" Target="../slideLayouts/slideLayout151.xml"/><Relationship Id="rId17" Type="http://schemas.openxmlformats.org/officeDocument/2006/relationships/slideLayout" Target="../slideLayouts/slideLayout152.xml"/><Relationship Id="rId18" Type="http://schemas.openxmlformats.org/officeDocument/2006/relationships/slideLayout" Target="../slideLayouts/slideLayout153.xml"/><Relationship Id="rId19" Type="http://schemas.openxmlformats.org/officeDocument/2006/relationships/slideLayout" Target="../slideLayouts/slideLayout154.xml"/><Relationship Id="rId20" Type="http://schemas.openxmlformats.org/officeDocument/2006/relationships/slideLayout" Target="../slideLayouts/slideLayout155.xml"/><Relationship Id="rId21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57.xml"/><Relationship Id="rId11" Type="http://schemas.openxmlformats.org/officeDocument/2006/relationships/slideLayout" Target="../slideLayouts/slideLayout158.xml"/><Relationship Id="rId12" Type="http://schemas.openxmlformats.org/officeDocument/2006/relationships/slideLayout" Target="../slideLayouts/slideLayout159.xml"/><Relationship Id="rId13" Type="http://schemas.openxmlformats.org/officeDocument/2006/relationships/slideLayout" Target="../slideLayouts/slideLayout160.xml"/><Relationship Id="rId14" Type="http://schemas.openxmlformats.org/officeDocument/2006/relationships/slideLayout" Target="../slideLayouts/slideLayout161.xml"/><Relationship Id="rId15" Type="http://schemas.openxmlformats.org/officeDocument/2006/relationships/slideLayout" Target="../slideLayouts/slideLayout162.xml"/><Relationship Id="rId16" Type="http://schemas.openxmlformats.org/officeDocument/2006/relationships/slideLayout" Target="../slideLayouts/slideLayout163.xml"/><Relationship Id="rId17" Type="http://schemas.openxmlformats.org/officeDocument/2006/relationships/slideLayout" Target="../slideLayouts/slideLayout164.xml"/><Relationship Id="rId18" Type="http://schemas.openxmlformats.org/officeDocument/2006/relationships/slideLayout" Target="../slideLayouts/slideLayout165.xml"/><Relationship Id="rId19" Type="http://schemas.openxmlformats.org/officeDocument/2006/relationships/slideLayout" Target="../slideLayouts/slideLayout166.xml"/><Relationship Id="rId20" Type="http://schemas.openxmlformats.org/officeDocument/2006/relationships/slideLayout" Target="../slideLayouts/slideLayout167.xml"/><Relationship Id="rId21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69.xml"/><Relationship Id="rId11" Type="http://schemas.openxmlformats.org/officeDocument/2006/relationships/slideLayout" Target="../slideLayouts/slideLayout170.xml"/><Relationship Id="rId12" Type="http://schemas.openxmlformats.org/officeDocument/2006/relationships/slideLayout" Target="../slideLayouts/slideLayout171.xml"/><Relationship Id="rId13" Type="http://schemas.openxmlformats.org/officeDocument/2006/relationships/slideLayout" Target="../slideLayouts/slideLayout172.xml"/><Relationship Id="rId14" Type="http://schemas.openxmlformats.org/officeDocument/2006/relationships/slideLayout" Target="../slideLayouts/slideLayout173.xml"/><Relationship Id="rId15" Type="http://schemas.openxmlformats.org/officeDocument/2006/relationships/slideLayout" Target="../slideLayouts/slideLayout174.xml"/><Relationship Id="rId16" Type="http://schemas.openxmlformats.org/officeDocument/2006/relationships/slideLayout" Target="../slideLayouts/slideLayout175.xml"/><Relationship Id="rId17" Type="http://schemas.openxmlformats.org/officeDocument/2006/relationships/slideLayout" Target="../slideLayouts/slideLayout176.xml"/><Relationship Id="rId18" Type="http://schemas.openxmlformats.org/officeDocument/2006/relationships/slideLayout" Target="../slideLayouts/slideLayout177.xml"/><Relationship Id="rId19" Type="http://schemas.openxmlformats.org/officeDocument/2006/relationships/slideLayout" Target="../slideLayouts/slideLayout178.xml"/><Relationship Id="rId20" Type="http://schemas.openxmlformats.org/officeDocument/2006/relationships/slideLayout" Target="../slideLayouts/slideLayout179.xml"/><Relationship Id="rId21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81.xml"/><Relationship Id="rId11" Type="http://schemas.openxmlformats.org/officeDocument/2006/relationships/slideLayout" Target="../slideLayouts/slideLayout182.xml"/><Relationship Id="rId12" Type="http://schemas.openxmlformats.org/officeDocument/2006/relationships/slideLayout" Target="../slideLayouts/slideLayout183.xml"/><Relationship Id="rId13" Type="http://schemas.openxmlformats.org/officeDocument/2006/relationships/slideLayout" Target="../slideLayouts/slideLayout184.xml"/><Relationship Id="rId14" Type="http://schemas.openxmlformats.org/officeDocument/2006/relationships/slideLayout" Target="../slideLayouts/slideLayout185.xml"/><Relationship Id="rId15" Type="http://schemas.openxmlformats.org/officeDocument/2006/relationships/slideLayout" Target="../slideLayouts/slideLayout186.xml"/><Relationship Id="rId16" Type="http://schemas.openxmlformats.org/officeDocument/2006/relationships/slideLayout" Target="../slideLayouts/slideLayout187.xml"/><Relationship Id="rId17" Type="http://schemas.openxmlformats.org/officeDocument/2006/relationships/slideLayout" Target="../slideLayouts/slideLayout188.xml"/><Relationship Id="rId18" Type="http://schemas.openxmlformats.org/officeDocument/2006/relationships/slideLayout" Target="../slideLayouts/slideLayout189.xml"/><Relationship Id="rId19" Type="http://schemas.openxmlformats.org/officeDocument/2006/relationships/slideLayout" Target="../slideLayouts/slideLayout190.xml"/><Relationship Id="rId20" Type="http://schemas.openxmlformats.org/officeDocument/2006/relationships/slideLayout" Target="../slideLayouts/slideLayout191.xml"/><Relationship Id="rId21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93.xml"/><Relationship Id="rId11" Type="http://schemas.openxmlformats.org/officeDocument/2006/relationships/slideLayout" Target="../slideLayouts/slideLayout194.xml"/><Relationship Id="rId12" Type="http://schemas.openxmlformats.org/officeDocument/2006/relationships/slideLayout" Target="../slideLayouts/slideLayout195.xml"/><Relationship Id="rId13" Type="http://schemas.openxmlformats.org/officeDocument/2006/relationships/slideLayout" Target="../slideLayouts/slideLayout196.xml"/><Relationship Id="rId14" Type="http://schemas.openxmlformats.org/officeDocument/2006/relationships/slideLayout" Target="../slideLayouts/slideLayout197.xml"/><Relationship Id="rId15" Type="http://schemas.openxmlformats.org/officeDocument/2006/relationships/slideLayout" Target="../slideLayouts/slideLayout198.xml"/><Relationship Id="rId16" Type="http://schemas.openxmlformats.org/officeDocument/2006/relationships/slideLayout" Target="../slideLayouts/slideLayout199.xml"/><Relationship Id="rId17" Type="http://schemas.openxmlformats.org/officeDocument/2006/relationships/slideLayout" Target="../slideLayouts/slideLayout200.xml"/><Relationship Id="rId18" Type="http://schemas.openxmlformats.org/officeDocument/2006/relationships/slideLayout" Target="../slideLayouts/slideLayout201.xml"/><Relationship Id="rId19" Type="http://schemas.openxmlformats.org/officeDocument/2006/relationships/slideLayout" Target="../slideLayouts/slideLayout202.xml"/><Relationship Id="rId20" Type="http://schemas.openxmlformats.org/officeDocument/2006/relationships/slideLayout" Target="../slideLayouts/slideLayout203.xml"/><Relationship Id="rId21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05.xml"/><Relationship Id="rId11" Type="http://schemas.openxmlformats.org/officeDocument/2006/relationships/slideLayout" Target="../slideLayouts/slideLayout206.xml"/><Relationship Id="rId12" Type="http://schemas.openxmlformats.org/officeDocument/2006/relationships/slideLayout" Target="../slideLayouts/slideLayout207.xml"/><Relationship Id="rId13" Type="http://schemas.openxmlformats.org/officeDocument/2006/relationships/slideLayout" Target="../slideLayouts/slideLayout208.xml"/><Relationship Id="rId14" Type="http://schemas.openxmlformats.org/officeDocument/2006/relationships/slideLayout" Target="../slideLayouts/slideLayout209.xml"/><Relationship Id="rId15" Type="http://schemas.openxmlformats.org/officeDocument/2006/relationships/slideLayout" Target="../slideLayouts/slideLayout210.xml"/><Relationship Id="rId16" Type="http://schemas.openxmlformats.org/officeDocument/2006/relationships/slideLayout" Target="../slideLayouts/slideLayout211.xml"/><Relationship Id="rId17" Type="http://schemas.openxmlformats.org/officeDocument/2006/relationships/slideLayout" Target="../slideLayouts/slideLayout212.xml"/><Relationship Id="rId18" Type="http://schemas.openxmlformats.org/officeDocument/2006/relationships/slideLayout" Target="../slideLayouts/slideLayout213.xml"/><Relationship Id="rId19" Type="http://schemas.openxmlformats.org/officeDocument/2006/relationships/slideLayout" Target="../slideLayouts/slideLayout214.xml"/><Relationship Id="rId20" Type="http://schemas.openxmlformats.org/officeDocument/2006/relationships/slideLayout" Target="../slideLayouts/slideLayout215.xml"/><Relationship Id="rId21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17.xml"/><Relationship Id="rId11" Type="http://schemas.openxmlformats.org/officeDocument/2006/relationships/slideLayout" Target="../slideLayouts/slideLayout218.xml"/><Relationship Id="rId12" Type="http://schemas.openxmlformats.org/officeDocument/2006/relationships/slideLayout" Target="../slideLayouts/slideLayout219.xml"/><Relationship Id="rId13" Type="http://schemas.openxmlformats.org/officeDocument/2006/relationships/slideLayout" Target="../slideLayouts/slideLayout220.xml"/><Relationship Id="rId14" Type="http://schemas.openxmlformats.org/officeDocument/2006/relationships/slideLayout" Target="../slideLayouts/slideLayout221.xml"/><Relationship Id="rId15" Type="http://schemas.openxmlformats.org/officeDocument/2006/relationships/slideLayout" Target="../slideLayouts/slideLayout222.xml"/><Relationship Id="rId16" Type="http://schemas.openxmlformats.org/officeDocument/2006/relationships/slideLayout" Target="../slideLayouts/slideLayout223.xml"/><Relationship Id="rId17" Type="http://schemas.openxmlformats.org/officeDocument/2006/relationships/slideLayout" Target="../slideLayouts/slideLayout224.xml"/><Relationship Id="rId18" Type="http://schemas.openxmlformats.org/officeDocument/2006/relationships/slideLayout" Target="../slideLayouts/slideLayout225.xml"/><Relationship Id="rId19" Type="http://schemas.openxmlformats.org/officeDocument/2006/relationships/slideLayout" Target="../slideLayouts/slideLayout226.xml"/><Relationship Id="rId20" Type="http://schemas.openxmlformats.org/officeDocument/2006/relationships/slideLayout" Target="../slideLayouts/slideLayout227.xml"/><Relationship Id="rId21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49.xml"/><Relationship Id="rId11" Type="http://schemas.openxmlformats.org/officeDocument/2006/relationships/slideLayout" Target="../slideLayouts/slideLayout50.xml"/><Relationship Id="rId12" Type="http://schemas.openxmlformats.org/officeDocument/2006/relationships/slideLayout" Target="../slideLayouts/slideLayout51.xml"/><Relationship Id="rId13" Type="http://schemas.openxmlformats.org/officeDocument/2006/relationships/slideLayout" Target="../slideLayouts/slideLayout52.xml"/><Relationship Id="rId14" Type="http://schemas.openxmlformats.org/officeDocument/2006/relationships/slideLayout" Target="../slideLayouts/slideLayout53.xml"/><Relationship Id="rId15" Type="http://schemas.openxmlformats.org/officeDocument/2006/relationships/slideLayout" Target="../slideLayouts/slideLayout54.xml"/><Relationship Id="rId16" Type="http://schemas.openxmlformats.org/officeDocument/2006/relationships/slideLayout" Target="../slideLayouts/slideLayout55.xml"/><Relationship Id="rId17" Type="http://schemas.openxmlformats.org/officeDocument/2006/relationships/slideLayout" Target="../slideLayouts/slideLayout56.xml"/><Relationship Id="rId18" Type="http://schemas.openxmlformats.org/officeDocument/2006/relationships/slideLayout" Target="../slideLayouts/slideLayout57.xml"/><Relationship Id="rId19" Type="http://schemas.openxmlformats.org/officeDocument/2006/relationships/slideLayout" Target="../slideLayouts/slideLayout58.xml"/><Relationship Id="rId20" Type="http://schemas.openxmlformats.org/officeDocument/2006/relationships/slideLayout" Target="../slideLayouts/slideLayout59.xml"/><Relationship Id="rId21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61.xml"/><Relationship Id="rId11" Type="http://schemas.openxmlformats.org/officeDocument/2006/relationships/slideLayout" Target="../slideLayouts/slideLayout62.xml"/><Relationship Id="rId12" Type="http://schemas.openxmlformats.org/officeDocument/2006/relationships/slideLayout" Target="../slideLayouts/slideLayout63.xml"/><Relationship Id="rId13" Type="http://schemas.openxmlformats.org/officeDocument/2006/relationships/slideLayout" Target="../slideLayouts/slideLayout64.xml"/><Relationship Id="rId14" Type="http://schemas.openxmlformats.org/officeDocument/2006/relationships/slideLayout" Target="../slideLayouts/slideLayout65.xml"/><Relationship Id="rId15" Type="http://schemas.openxmlformats.org/officeDocument/2006/relationships/slideLayout" Target="../slideLayouts/slideLayout66.xml"/><Relationship Id="rId16" Type="http://schemas.openxmlformats.org/officeDocument/2006/relationships/slideLayout" Target="../slideLayouts/slideLayout67.xml"/><Relationship Id="rId17" Type="http://schemas.openxmlformats.org/officeDocument/2006/relationships/slideLayout" Target="../slideLayouts/slideLayout68.xml"/><Relationship Id="rId18" Type="http://schemas.openxmlformats.org/officeDocument/2006/relationships/slideLayout" Target="../slideLayouts/slideLayout69.xml"/><Relationship Id="rId19" Type="http://schemas.openxmlformats.org/officeDocument/2006/relationships/slideLayout" Target="../slideLayouts/slideLayout70.xml"/><Relationship Id="rId20" Type="http://schemas.openxmlformats.org/officeDocument/2006/relationships/slideLayout" Target="../slideLayouts/slideLayout71.xml"/><Relationship Id="rId21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73.xml"/><Relationship Id="rId11" Type="http://schemas.openxmlformats.org/officeDocument/2006/relationships/slideLayout" Target="../slideLayouts/slideLayout74.xml"/><Relationship Id="rId12" Type="http://schemas.openxmlformats.org/officeDocument/2006/relationships/slideLayout" Target="../slideLayouts/slideLayout75.xml"/><Relationship Id="rId13" Type="http://schemas.openxmlformats.org/officeDocument/2006/relationships/slideLayout" Target="../slideLayouts/slideLayout76.xml"/><Relationship Id="rId14" Type="http://schemas.openxmlformats.org/officeDocument/2006/relationships/slideLayout" Target="../slideLayouts/slideLayout77.xml"/><Relationship Id="rId15" Type="http://schemas.openxmlformats.org/officeDocument/2006/relationships/slideLayout" Target="../slideLayouts/slideLayout78.xml"/><Relationship Id="rId16" Type="http://schemas.openxmlformats.org/officeDocument/2006/relationships/slideLayout" Target="../slideLayouts/slideLayout79.xml"/><Relationship Id="rId17" Type="http://schemas.openxmlformats.org/officeDocument/2006/relationships/slideLayout" Target="../slideLayouts/slideLayout80.xml"/><Relationship Id="rId18" Type="http://schemas.openxmlformats.org/officeDocument/2006/relationships/slideLayout" Target="../slideLayouts/slideLayout81.xml"/><Relationship Id="rId19" Type="http://schemas.openxmlformats.org/officeDocument/2006/relationships/slideLayout" Target="../slideLayouts/slideLayout82.xml"/><Relationship Id="rId20" Type="http://schemas.openxmlformats.org/officeDocument/2006/relationships/slideLayout" Target="../slideLayouts/slideLayout83.xml"/><Relationship Id="rId21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85.xml"/><Relationship Id="rId11" Type="http://schemas.openxmlformats.org/officeDocument/2006/relationships/slideLayout" Target="../slideLayouts/slideLayout86.xml"/><Relationship Id="rId12" Type="http://schemas.openxmlformats.org/officeDocument/2006/relationships/slideLayout" Target="../slideLayouts/slideLayout87.xml"/><Relationship Id="rId13" Type="http://schemas.openxmlformats.org/officeDocument/2006/relationships/slideLayout" Target="../slideLayouts/slideLayout88.xml"/><Relationship Id="rId14" Type="http://schemas.openxmlformats.org/officeDocument/2006/relationships/slideLayout" Target="../slideLayouts/slideLayout89.xml"/><Relationship Id="rId15" Type="http://schemas.openxmlformats.org/officeDocument/2006/relationships/slideLayout" Target="../slideLayouts/slideLayout90.xml"/><Relationship Id="rId16" Type="http://schemas.openxmlformats.org/officeDocument/2006/relationships/slideLayout" Target="../slideLayouts/slideLayout91.xml"/><Relationship Id="rId17" Type="http://schemas.openxmlformats.org/officeDocument/2006/relationships/slideLayout" Target="../slideLayouts/slideLayout92.xml"/><Relationship Id="rId18" Type="http://schemas.openxmlformats.org/officeDocument/2006/relationships/slideLayout" Target="../slideLayouts/slideLayout93.xml"/><Relationship Id="rId19" Type="http://schemas.openxmlformats.org/officeDocument/2006/relationships/slideLayout" Target="../slideLayouts/slideLayout94.xml"/><Relationship Id="rId20" Type="http://schemas.openxmlformats.org/officeDocument/2006/relationships/slideLayout" Target="../slideLayouts/slideLayout95.xml"/><Relationship Id="rId21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97.xml"/><Relationship Id="rId11" Type="http://schemas.openxmlformats.org/officeDocument/2006/relationships/slideLayout" Target="../slideLayouts/slideLayout98.xml"/><Relationship Id="rId12" Type="http://schemas.openxmlformats.org/officeDocument/2006/relationships/slideLayout" Target="../slideLayouts/slideLayout99.xml"/><Relationship Id="rId13" Type="http://schemas.openxmlformats.org/officeDocument/2006/relationships/slideLayout" Target="../slideLayouts/slideLayout100.xml"/><Relationship Id="rId14" Type="http://schemas.openxmlformats.org/officeDocument/2006/relationships/slideLayout" Target="../slideLayouts/slideLayout101.xml"/><Relationship Id="rId15" Type="http://schemas.openxmlformats.org/officeDocument/2006/relationships/slideLayout" Target="../slideLayouts/slideLayout102.xml"/><Relationship Id="rId16" Type="http://schemas.openxmlformats.org/officeDocument/2006/relationships/slideLayout" Target="../slideLayouts/slideLayout103.xml"/><Relationship Id="rId17" Type="http://schemas.openxmlformats.org/officeDocument/2006/relationships/slideLayout" Target="../slideLayouts/slideLayout104.xml"/><Relationship Id="rId18" Type="http://schemas.openxmlformats.org/officeDocument/2006/relationships/slideLayout" Target="../slideLayouts/slideLayout105.xml"/><Relationship Id="rId19" Type="http://schemas.openxmlformats.org/officeDocument/2006/relationships/slideLayout" Target="../slideLayouts/slideLayout106.xml"/><Relationship Id="rId20" Type="http://schemas.openxmlformats.org/officeDocument/2006/relationships/slideLayout" Target="../slideLayouts/slideLayout107.xml"/><Relationship Id="rId21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8b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0" descr="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27"/>
          <p:cNvGrpSpPr/>
          <p:nvPr/>
        </p:nvGrpSpPr>
        <p:grpSpPr>
          <a:xfrm>
            <a:off x="6692760" y="228600"/>
            <a:ext cx="2451240" cy="4038480"/>
            <a:chOff x="6692760" y="228600"/>
            <a:chExt cx="2451240" cy="4038480"/>
          </a:xfrm>
        </p:grpSpPr>
        <p:pic>
          <p:nvPicPr>
            <p:cNvPr id="2" name="Picture 24" descr="11"/>
            <p:cNvPicPr/>
            <p:nvPr/>
          </p:nvPicPr>
          <p:blipFill>
            <a:blip r:embed="rId3"/>
            <a:stretch/>
          </p:blipFill>
          <p:spPr>
            <a:xfrm>
              <a:off x="6692760" y="228600"/>
              <a:ext cx="2451240" cy="403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25" descr="12"/>
            <p:cNvPicPr/>
            <p:nvPr/>
          </p:nvPicPr>
          <p:blipFill>
            <a:blip r:embed="rId4"/>
            <a:stretch/>
          </p:blipFill>
          <p:spPr>
            <a:xfrm>
              <a:off x="6958440" y="817200"/>
              <a:ext cx="1919880" cy="238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" name="Group 44"/>
          <p:cNvGrpSpPr/>
          <p:nvPr/>
        </p:nvGrpSpPr>
        <p:grpSpPr>
          <a:xfrm>
            <a:off x="-19080" y="-57240"/>
            <a:ext cx="9182160" cy="1349640"/>
            <a:chOff x="-19080" y="-57240"/>
            <a:chExt cx="9182160" cy="1349640"/>
          </a:xfrm>
        </p:grpSpPr>
        <p:sp>
          <p:nvSpPr>
            <p:cNvPr id="5" name="Freeform 14"/>
            <p:cNvSpPr/>
            <p:nvPr/>
          </p:nvSpPr>
          <p:spPr>
            <a:xfrm flipH="1">
              <a:off x="-9720" y="-15480"/>
              <a:ext cx="9172440" cy="1307880"/>
            </a:xfrm>
            <a:custGeom>
              <a:avLst/>
              <a:gdLst/>
              <a:ahLst/>
              <a:rect l="l" t="t" r="r" b="b"/>
              <a:pathLst>
                <a:path w="5778" h="1215">
                  <a:moveTo>
                    <a:pt x="5778" y="640"/>
                  </a:moveTo>
                  <a:cubicBezTo>
                    <a:pt x="4217" y="104"/>
                    <a:pt x="3024" y="562"/>
                    <a:pt x="2656" y="668"/>
                  </a:cubicBezTo>
                  <a:cubicBezTo>
                    <a:pt x="2288" y="774"/>
                    <a:pt x="1066" y="1215"/>
                    <a:pt x="0" y="726"/>
                  </a:cubicBezTo>
                  <a:cubicBezTo>
                    <a:pt x="0" y="726"/>
                    <a:pt x="12" y="292"/>
                    <a:pt x="12" y="6"/>
                  </a:cubicBezTo>
                  <a:cubicBezTo>
                    <a:pt x="2901" y="5"/>
                    <a:pt x="5778" y="0"/>
                    <a:pt x="5778" y="0"/>
                  </a:cubicBezTo>
                  <a:cubicBezTo>
                    <a:pt x="5778" y="227"/>
                    <a:pt x="5778" y="413"/>
                    <a:pt x="5778" y="640"/>
                  </a:cubicBezTo>
                  <a:close/>
                </a:path>
              </a:pathLst>
            </a:custGeom>
            <a:solidFill>
              <a:srgbClr val="0000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5"/>
            <p:cNvSpPr/>
            <p:nvPr/>
          </p:nvSpPr>
          <p:spPr>
            <a:xfrm>
              <a:off x="-19080" y="-57240"/>
              <a:ext cx="9167760" cy="1265040"/>
            </a:xfrm>
            <a:custGeom>
              <a:avLst/>
              <a:gdLst/>
              <a:ahLst/>
              <a:rect l="l" t="t" r="r" b="b"/>
              <a:pathLst>
                <a:path w="5783" h="1176">
                  <a:moveTo>
                    <a:pt x="0" y="496"/>
                  </a:moveTo>
                  <a:cubicBezTo>
                    <a:pt x="1405" y="0"/>
                    <a:pt x="2961" y="600"/>
                    <a:pt x="3148" y="662"/>
                  </a:cubicBezTo>
                  <a:cubicBezTo>
                    <a:pt x="3335" y="724"/>
                    <a:pt x="4732" y="1176"/>
                    <a:pt x="5783" y="614"/>
                  </a:cubicBezTo>
                  <a:cubicBezTo>
                    <a:pt x="5783" y="614"/>
                    <a:pt x="5783" y="328"/>
                    <a:pt x="5783" y="42"/>
                  </a:cubicBezTo>
                  <a:cubicBezTo>
                    <a:pt x="2891" y="42"/>
                    <a:pt x="0" y="42"/>
                    <a:pt x="0" y="42"/>
                  </a:cubicBezTo>
                  <a:cubicBezTo>
                    <a:pt x="0" y="269"/>
                    <a:pt x="0" y="269"/>
                    <a:pt x="0" y="496"/>
                  </a:cubicBezTo>
                  <a:close/>
                </a:path>
              </a:pathLst>
            </a:custGeom>
            <a:solidFill>
              <a:srgbClr val="ea8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6"/>
            <p:cNvSpPr/>
            <p:nvPr/>
          </p:nvSpPr>
          <p:spPr>
            <a:xfrm>
              <a:off x="2505240" y="200880"/>
              <a:ext cx="6643440" cy="1006920"/>
            </a:xfrm>
            <a:custGeom>
              <a:avLst/>
              <a:gdLst/>
              <a:ahLst/>
              <a:rect l="l" t="t" r="r" b="b"/>
              <a:pathLst>
                <a:path w="4173" h="936">
                  <a:moveTo>
                    <a:pt x="669" y="179"/>
                  </a:moveTo>
                  <a:cubicBezTo>
                    <a:pt x="1122" y="287"/>
                    <a:pt x="1351" y="360"/>
                    <a:pt x="1538" y="422"/>
                  </a:cubicBezTo>
                  <a:cubicBezTo>
                    <a:pt x="1725" y="484"/>
                    <a:pt x="3122" y="936"/>
                    <a:pt x="4173" y="374"/>
                  </a:cubicBezTo>
                  <a:cubicBezTo>
                    <a:pt x="4173" y="374"/>
                    <a:pt x="4173" y="387"/>
                    <a:pt x="4173" y="306"/>
                  </a:cubicBezTo>
                  <a:cubicBezTo>
                    <a:pt x="3957" y="435"/>
                    <a:pt x="3346" y="626"/>
                    <a:pt x="2845" y="589"/>
                  </a:cubicBezTo>
                  <a:cubicBezTo>
                    <a:pt x="2344" y="552"/>
                    <a:pt x="1639" y="170"/>
                    <a:pt x="1165" y="85"/>
                  </a:cubicBezTo>
                  <a:cubicBezTo>
                    <a:pt x="691" y="0"/>
                    <a:pt x="261" y="21"/>
                    <a:pt x="0" y="77"/>
                  </a:cubicBezTo>
                  <a:cubicBezTo>
                    <a:pt x="2" y="84"/>
                    <a:pt x="261" y="92"/>
                    <a:pt x="669" y="179"/>
                  </a:cubicBezTo>
                  <a:close/>
                </a:path>
              </a:pathLst>
            </a:custGeom>
            <a:gradFill rotWithShape="0">
              <a:gsLst>
                <a:gs pos="0">
                  <a:srgbClr val="5d2100">
                    <a:alpha val="0"/>
                  </a:srgbClr>
                </a:gs>
                <a:gs pos="100000">
                  <a:srgbClr val="c84700">
                    <a:alpha val="5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7"/>
            <p:cNvSpPr/>
            <p:nvPr/>
          </p:nvSpPr>
          <p:spPr>
            <a:xfrm>
              <a:off x="5285160" y="-12600"/>
              <a:ext cx="3862440" cy="1177560"/>
            </a:xfrm>
            <a:custGeom>
              <a:avLst/>
              <a:gdLst/>
              <a:ahLst/>
              <a:rect l="l" t="t" r="r" b="b"/>
              <a:pathLst>
                <a:path w="2426" h="1095">
                  <a:moveTo>
                    <a:pt x="2426" y="1"/>
                  </a:moveTo>
                  <a:cubicBezTo>
                    <a:pt x="2426" y="232"/>
                    <a:pt x="2426" y="464"/>
                    <a:pt x="2426" y="464"/>
                  </a:cubicBezTo>
                  <a:cubicBezTo>
                    <a:pt x="1216" y="1095"/>
                    <a:pt x="584" y="162"/>
                    <a:pt x="0" y="0"/>
                  </a:cubicBezTo>
                  <a:cubicBezTo>
                    <a:pt x="0" y="0"/>
                    <a:pt x="1213" y="0"/>
                    <a:pt x="2426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5d2100">
                    <a:alpha val="0"/>
                  </a:srgbClr>
                </a:gs>
                <a:gs pos="100000">
                  <a:srgbClr val="c847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4878B-D2AF-4449-BB64-8753F2EE5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" name="Picture 45" descr="8"/>
          <p:cNvPicPr/>
          <p:nvPr/>
        </p:nvPicPr>
        <p:blipFill>
          <a:blip r:embed="rId5"/>
          <a:stretch/>
        </p:blipFill>
        <p:spPr>
          <a:xfrm>
            <a:off x="7227720" y="878040"/>
            <a:ext cx="1751040" cy="536400"/>
          </a:xfrm>
          <a:prstGeom prst="rect">
            <a:avLst/>
          </a:prstGeom>
          <a:ln w="0">
            <a:noFill/>
          </a:ln>
        </p:spPr>
      </p:pic>
      <p:pic>
        <p:nvPicPr>
          <p:cNvPr id="15" name="Picture 52" descr="13"/>
          <p:cNvPicPr/>
          <p:nvPr/>
        </p:nvPicPr>
        <p:blipFill>
          <a:blip r:embed="rId6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16" name="Picture 53" descr="15"/>
          <p:cNvPicPr/>
          <p:nvPr/>
        </p:nvPicPr>
        <p:blipFill>
          <a:blip r:embed="rId7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17" name="Picture 57" descr="logo(trasparance)2"/>
          <p:cNvPicPr/>
          <p:nvPr/>
        </p:nvPicPr>
        <p:blipFill>
          <a:blip r:embed="rId8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18" name="Picture 58" descr="15"/>
          <p:cNvPicPr/>
          <p:nvPr/>
        </p:nvPicPr>
        <p:blipFill>
          <a:blip r:embed="rId9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B7407-0348-4130-A9CA-F9D54D54CB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8b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40" descr="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7" name="Group 27"/>
          <p:cNvGrpSpPr/>
          <p:nvPr/>
        </p:nvGrpSpPr>
        <p:grpSpPr>
          <a:xfrm>
            <a:off x="6692760" y="228600"/>
            <a:ext cx="2451240" cy="4038480"/>
            <a:chOff x="6692760" y="228600"/>
            <a:chExt cx="2451240" cy="4038480"/>
          </a:xfrm>
        </p:grpSpPr>
        <p:pic>
          <p:nvPicPr>
            <p:cNvPr id="538" name="Picture 24" descr="11"/>
            <p:cNvPicPr/>
            <p:nvPr/>
          </p:nvPicPr>
          <p:blipFill>
            <a:blip r:embed="rId3"/>
            <a:stretch/>
          </p:blipFill>
          <p:spPr>
            <a:xfrm>
              <a:off x="6692760" y="228600"/>
              <a:ext cx="2451240" cy="403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25" descr="12"/>
            <p:cNvPicPr/>
            <p:nvPr/>
          </p:nvPicPr>
          <p:blipFill>
            <a:blip r:embed="rId4"/>
            <a:stretch/>
          </p:blipFill>
          <p:spPr>
            <a:xfrm>
              <a:off x="6958440" y="817200"/>
              <a:ext cx="1919880" cy="238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0" name="Group 44"/>
          <p:cNvGrpSpPr/>
          <p:nvPr/>
        </p:nvGrpSpPr>
        <p:grpSpPr>
          <a:xfrm>
            <a:off x="-19080" y="-57240"/>
            <a:ext cx="9182160" cy="1349640"/>
            <a:chOff x="-19080" y="-57240"/>
            <a:chExt cx="9182160" cy="1349640"/>
          </a:xfrm>
        </p:grpSpPr>
        <p:sp>
          <p:nvSpPr>
            <p:cNvPr id="541" name="Freeform 14"/>
            <p:cNvSpPr/>
            <p:nvPr/>
          </p:nvSpPr>
          <p:spPr>
            <a:xfrm flipH="1">
              <a:off x="-9720" y="-15480"/>
              <a:ext cx="9172440" cy="1307880"/>
            </a:xfrm>
            <a:custGeom>
              <a:avLst/>
              <a:gdLst/>
              <a:ahLst/>
              <a:rect l="l" t="t" r="r" b="b"/>
              <a:pathLst>
                <a:path w="5778" h="1215">
                  <a:moveTo>
                    <a:pt x="5778" y="640"/>
                  </a:moveTo>
                  <a:cubicBezTo>
                    <a:pt x="4217" y="104"/>
                    <a:pt x="3024" y="562"/>
                    <a:pt x="2656" y="668"/>
                  </a:cubicBezTo>
                  <a:cubicBezTo>
                    <a:pt x="2288" y="774"/>
                    <a:pt x="1066" y="1215"/>
                    <a:pt x="0" y="726"/>
                  </a:cubicBezTo>
                  <a:cubicBezTo>
                    <a:pt x="0" y="726"/>
                    <a:pt x="12" y="292"/>
                    <a:pt x="12" y="6"/>
                  </a:cubicBezTo>
                  <a:cubicBezTo>
                    <a:pt x="2901" y="5"/>
                    <a:pt x="5778" y="0"/>
                    <a:pt x="5778" y="0"/>
                  </a:cubicBezTo>
                  <a:cubicBezTo>
                    <a:pt x="5778" y="227"/>
                    <a:pt x="5778" y="413"/>
                    <a:pt x="5778" y="640"/>
                  </a:cubicBezTo>
                  <a:close/>
                </a:path>
              </a:pathLst>
            </a:custGeom>
            <a:solidFill>
              <a:srgbClr val="0000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15"/>
            <p:cNvSpPr/>
            <p:nvPr/>
          </p:nvSpPr>
          <p:spPr>
            <a:xfrm>
              <a:off x="-19080" y="-57240"/>
              <a:ext cx="9167760" cy="1265040"/>
            </a:xfrm>
            <a:custGeom>
              <a:avLst/>
              <a:gdLst/>
              <a:ahLst/>
              <a:rect l="l" t="t" r="r" b="b"/>
              <a:pathLst>
                <a:path w="5783" h="1176">
                  <a:moveTo>
                    <a:pt x="0" y="496"/>
                  </a:moveTo>
                  <a:cubicBezTo>
                    <a:pt x="1405" y="0"/>
                    <a:pt x="2961" y="600"/>
                    <a:pt x="3148" y="662"/>
                  </a:cubicBezTo>
                  <a:cubicBezTo>
                    <a:pt x="3335" y="724"/>
                    <a:pt x="4732" y="1176"/>
                    <a:pt x="5783" y="614"/>
                  </a:cubicBezTo>
                  <a:cubicBezTo>
                    <a:pt x="5783" y="614"/>
                    <a:pt x="5783" y="328"/>
                    <a:pt x="5783" y="42"/>
                  </a:cubicBezTo>
                  <a:cubicBezTo>
                    <a:pt x="2891" y="42"/>
                    <a:pt x="0" y="42"/>
                    <a:pt x="0" y="42"/>
                  </a:cubicBezTo>
                  <a:cubicBezTo>
                    <a:pt x="0" y="269"/>
                    <a:pt x="0" y="269"/>
                    <a:pt x="0" y="496"/>
                  </a:cubicBezTo>
                  <a:close/>
                </a:path>
              </a:pathLst>
            </a:custGeom>
            <a:solidFill>
              <a:srgbClr val="ea8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6"/>
            <p:cNvSpPr/>
            <p:nvPr/>
          </p:nvSpPr>
          <p:spPr>
            <a:xfrm>
              <a:off x="2505240" y="200880"/>
              <a:ext cx="6643440" cy="1006920"/>
            </a:xfrm>
            <a:custGeom>
              <a:avLst/>
              <a:gdLst/>
              <a:ahLst/>
              <a:rect l="l" t="t" r="r" b="b"/>
              <a:pathLst>
                <a:path w="4173" h="936">
                  <a:moveTo>
                    <a:pt x="669" y="179"/>
                  </a:moveTo>
                  <a:cubicBezTo>
                    <a:pt x="1122" y="287"/>
                    <a:pt x="1351" y="360"/>
                    <a:pt x="1538" y="422"/>
                  </a:cubicBezTo>
                  <a:cubicBezTo>
                    <a:pt x="1725" y="484"/>
                    <a:pt x="3122" y="936"/>
                    <a:pt x="4173" y="374"/>
                  </a:cubicBezTo>
                  <a:cubicBezTo>
                    <a:pt x="4173" y="374"/>
                    <a:pt x="4173" y="387"/>
                    <a:pt x="4173" y="306"/>
                  </a:cubicBezTo>
                  <a:cubicBezTo>
                    <a:pt x="3957" y="435"/>
                    <a:pt x="3346" y="626"/>
                    <a:pt x="2845" y="589"/>
                  </a:cubicBezTo>
                  <a:cubicBezTo>
                    <a:pt x="2344" y="552"/>
                    <a:pt x="1639" y="170"/>
                    <a:pt x="1165" y="85"/>
                  </a:cubicBezTo>
                  <a:cubicBezTo>
                    <a:pt x="691" y="0"/>
                    <a:pt x="261" y="21"/>
                    <a:pt x="0" y="77"/>
                  </a:cubicBezTo>
                  <a:cubicBezTo>
                    <a:pt x="2" y="84"/>
                    <a:pt x="261" y="92"/>
                    <a:pt x="669" y="179"/>
                  </a:cubicBezTo>
                  <a:close/>
                </a:path>
              </a:pathLst>
            </a:custGeom>
            <a:gradFill rotWithShape="0">
              <a:gsLst>
                <a:gs pos="0">
                  <a:srgbClr val="5d2100">
                    <a:alpha val="0"/>
                  </a:srgbClr>
                </a:gs>
                <a:gs pos="100000">
                  <a:srgbClr val="c84700">
                    <a:alpha val="5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17"/>
            <p:cNvSpPr/>
            <p:nvPr/>
          </p:nvSpPr>
          <p:spPr>
            <a:xfrm>
              <a:off x="5285160" y="-12600"/>
              <a:ext cx="3862440" cy="1177560"/>
            </a:xfrm>
            <a:custGeom>
              <a:avLst/>
              <a:gdLst/>
              <a:ahLst/>
              <a:rect l="l" t="t" r="r" b="b"/>
              <a:pathLst>
                <a:path w="2426" h="1095">
                  <a:moveTo>
                    <a:pt x="2426" y="1"/>
                  </a:moveTo>
                  <a:cubicBezTo>
                    <a:pt x="2426" y="232"/>
                    <a:pt x="2426" y="464"/>
                    <a:pt x="2426" y="464"/>
                  </a:cubicBezTo>
                  <a:cubicBezTo>
                    <a:pt x="1216" y="1095"/>
                    <a:pt x="584" y="162"/>
                    <a:pt x="0" y="0"/>
                  </a:cubicBezTo>
                  <a:cubicBezTo>
                    <a:pt x="0" y="0"/>
                    <a:pt x="1213" y="0"/>
                    <a:pt x="2426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5d2100">
                    <a:alpha val="0"/>
                  </a:srgbClr>
                </a:gs>
                <a:gs pos="100000">
                  <a:srgbClr val="c847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5" name="Picture 45" descr="8"/>
          <p:cNvPicPr/>
          <p:nvPr/>
        </p:nvPicPr>
        <p:blipFill>
          <a:blip r:embed="rId5"/>
          <a:stretch/>
        </p:blipFill>
        <p:spPr>
          <a:xfrm>
            <a:off x="7227720" y="878040"/>
            <a:ext cx="1751040" cy="53640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52" descr="13"/>
          <p:cNvPicPr/>
          <p:nvPr/>
        </p:nvPicPr>
        <p:blipFill>
          <a:blip r:embed="rId6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53" descr="15"/>
          <p:cNvPicPr/>
          <p:nvPr/>
        </p:nvPicPr>
        <p:blipFill>
          <a:blip r:embed="rId7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57" descr="logo(trasparance)2"/>
          <p:cNvPicPr/>
          <p:nvPr/>
        </p:nvPicPr>
        <p:blipFill>
          <a:blip r:embed="rId8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58" descr="15"/>
          <p:cNvPicPr/>
          <p:nvPr/>
        </p:nvPicPr>
        <p:blipFill>
          <a:blip r:embed="rId9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55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ftr" idx="3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5560" indent="0" algn="r">
              <a:lnSpc>
                <a:spcPts val="1236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88888"/>
                </a:solidFill>
                <a:latin typeface="Trebuchet MS"/>
                <a:ea typeface="Trebuchet MS"/>
              </a:defRPr>
            </a:lvl1pPr>
          </a:lstStyle>
          <a:p>
            <a:pPr marL="25560" indent="0" algn="r">
              <a:lnSpc>
                <a:spcPts val="1236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70F83-7930-4224-A63A-8152E058AB7C}" type="slidenum">
              <a:rPr b="0" lang="ru-RU" sz="1200" spc="-1" strike="noStrike">
                <a:solidFill>
                  <a:srgbClr val="888888"/>
                </a:solidFill>
                <a:latin typeface="Trebuchet MS"/>
                <a:ea typeface="Trebuchet MS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0"/>
    <p:sldLayoutId id="2147483780" r:id="rId11"/>
    <p:sldLayoutId id="2147483781" r:id="rId12"/>
    <p:sldLayoutId id="2147483782" r:id="rId13"/>
    <p:sldLayoutId id="2147483783" r:id="rId14"/>
    <p:sldLayoutId id="2147483784" r:id="rId15"/>
    <p:sldLayoutId id="2147483785" r:id="rId16"/>
    <p:sldLayoutId id="2147483786" r:id="rId17"/>
    <p:sldLayoutId id="2147483787" r:id="rId18"/>
    <p:sldLayoutId id="2147483788" r:id="rId19"/>
    <p:sldLayoutId id="2147483789" r:id="rId20"/>
    <p:sldLayoutId id="2147483790" r:id="rId21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8b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40" descr="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92" name="Group 27"/>
          <p:cNvGrpSpPr/>
          <p:nvPr/>
        </p:nvGrpSpPr>
        <p:grpSpPr>
          <a:xfrm>
            <a:off x="6692760" y="228600"/>
            <a:ext cx="2451240" cy="4038480"/>
            <a:chOff x="6692760" y="228600"/>
            <a:chExt cx="2451240" cy="4038480"/>
          </a:xfrm>
        </p:grpSpPr>
        <p:pic>
          <p:nvPicPr>
            <p:cNvPr id="593" name="Picture 24" descr="11"/>
            <p:cNvPicPr/>
            <p:nvPr/>
          </p:nvPicPr>
          <p:blipFill>
            <a:blip r:embed="rId3"/>
            <a:stretch/>
          </p:blipFill>
          <p:spPr>
            <a:xfrm>
              <a:off x="6692760" y="228600"/>
              <a:ext cx="2451240" cy="403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4" name="Picture 25" descr="12"/>
            <p:cNvPicPr/>
            <p:nvPr/>
          </p:nvPicPr>
          <p:blipFill>
            <a:blip r:embed="rId4"/>
            <a:stretch/>
          </p:blipFill>
          <p:spPr>
            <a:xfrm>
              <a:off x="6958440" y="817200"/>
              <a:ext cx="1919880" cy="238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5" name="Group 44"/>
          <p:cNvGrpSpPr/>
          <p:nvPr/>
        </p:nvGrpSpPr>
        <p:grpSpPr>
          <a:xfrm>
            <a:off x="-19080" y="-57240"/>
            <a:ext cx="9182160" cy="1349640"/>
            <a:chOff x="-19080" y="-57240"/>
            <a:chExt cx="9182160" cy="1349640"/>
          </a:xfrm>
        </p:grpSpPr>
        <p:sp>
          <p:nvSpPr>
            <p:cNvPr id="596" name="Freeform 14"/>
            <p:cNvSpPr/>
            <p:nvPr/>
          </p:nvSpPr>
          <p:spPr>
            <a:xfrm flipH="1">
              <a:off x="-9720" y="-15480"/>
              <a:ext cx="9172440" cy="1307880"/>
            </a:xfrm>
            <a:custGeom>
              <a:avLst/>
              <a:gdLst/>
              <a:ahLst/>
              <a:rect l="l" t="t" r="r" b="b"/>
              <a:pathLst>
                <a:path w="5778" h="1215">
                  <a:moveTo>
                    <a:pt x="5778" y="640"/>
                  </a:moveTo>
                  <a:cubicBezTo>
                    <a:pt x="4217" y="104"/>
                    <a:pt x="3024" y="562"/>
                    <a:pt x="2656" y="668"/>
                  </a:cubicBezTo>
                  <a:cubicBezTo>
                    <a:pt x="2288" y="774"/>
                    <a:pt x="1066" y="1215"/>
                    <a:pt x="0" y="726"/>
                  </a:cubicBezTo>
                  <a:cubicBezTo>
                    <a:pt x="0" y="726"/>
                    <a:pt x="12" y="292"/>
                    <a:pt x="12" y="6"/>
                  </a:cubicBezTo>
                  <a:cubicBezTo>
                    <a:pt x="2901" y="5"/>
                    <a:pt x="5778" y="0"/>
                    <a:pt x="5778" y="0"/>
                  </a:cubicBezTo>
                  <a:cubicBezTo>
                    <a:pt x="5778" y="227"/>
                    <a:pt x="5778" y="413"/>
                    <a:pt x="5778" y="640"/>
                  </a:cubicBezTo>
                  <a:close/>
                </a:path>
              </a:pathLst>
            </a:custGeom>
            <a:solidFill>
              <a:srgbClr val="0000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5"/>
            <p:cNvSpPr/>
            <p:nvPr/>
          </p:nvSpPr>
          <p:spPr>
            <a:xfrm>
              <a:off x="-19080" y="-57240"/>
              <a:ext cx="9167760" cy="1265040"/>
            </a:xfrm>
            <a:custGeom>
              <a:avLst/>
              <a:gdLst/>
              <a:ahLst/>
              <a:rect l="l" t="t" r="r" b="b"/>
              <a:pathLst>
                <a:path w="5783" h="1176">
                  <a:moveTo>
                    <a:pt x="0" y="496"/>
                  </a:moveTo>
                  <a:cubicBezTo>
                    <a:pt x="1405" y="0"/>
                    <a:pt x="2961" y="600"/>
                    <a:pt x="3148" y="662"/>
                  </a:cubicBezTo>
                  <a:cubicBezTo>
                    <a:pt x="3335" y="724"/>
                    <a:pt x="4732" y="1176"/>
                    <a:pt x="5783" y="614"/>
                  </a:cubicBezTo>
                  <a:cubicBezTo>
                    <a:pt x="5783" y="614"/>
                    <a:pt x="5783" y="328"/>
                    <a:pt x="5783" y="42"/>
                  </a:cubicBezTo>
                  <a:cubicBezTo>
                    <a:pt x="2891" y="42"/>
                    <a:pt x="0" y="42"/>
                    <a:pt x="0" y="42"/>
                  </a:cubicBezTo>
                  <a:cubicBezTo>
                    <a:pt x="0" y="269"/>
                    <a:pt x="0" y="269"/>
                    <a:pt x="0" y="496"/>
                  </a:cubicBezTo>
                  <a:close/>
                </a:path>
              </a:pathLst>
            </a:custGeom>
            <a:solidFill>
              <a:srgbClr val="ea8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16"/>
            <p:cNvSpPr/>
            <p:nvPr/>
          </p:nvSpPr>
          <p:spPr>
            <a:xfrm>
              <a:off x="2505240" y="200880"/>
              <a:ext cx="6643440" cy="1006920"/>
            </a:xfrm>
            <a:custGeom>
              <a:avLst/>
              <a:gdLst/>
              <a:ahLst/>
              <a:rect l="l" t="t" r="r" b="b"/>
              <a:pathLst>
                <a:path w="4173" h="936">
                  <a:moveTo>
                    <a:pt x="669" y="179"/>
                  </a:moveTo>
                  <a:cubicBezTo>
                    <a:pt x="1122" y="287"/>
                    <a:pt x="1351" y="360"/>
                    <a:pt x="1538" y="422"/>
                  </a:cubicBezTo>
                  <a:cubicBezTo>
                    <a:pt x="1725" y="484"/>
                    <a:pt x="3122" y="936"/>
                    <a:pt x="4173" y="374"/>
                  </a:cubicBezTo>
                  <a:cubicBezTo>
                    <a:pt x="4173" y="374"/>
                    <a:pt x="4173" y="387"/>
                    <a:pt x="4173" y="306"/>
                  </a:cubicBezTo>
                  <a:cubicBezTo>
                    <a:pt x="3957" y="435"/>
                    <a:pt x="3346" y="626"/>
                    <a:pt x="2845" y="589"/>
                  </a:cubicBezTo>
                  <a:cubicBezTo>
                    <a:pt x="2344" y="552"/>
                    <a:pt x="1639" y="170"/>
                    <a:pt x="1165" y="85"/>
                  </a:cubicBezTo>
                  <a:cubicBezTo>
                    <a:pt x="691" y="0"/>
                    <a:pt x="261" y="21"/>
                    <a:pt x="0" y="77"/>
                  </a:cubicBezTo>
                  <a:cubicBezTo>
                    <a:pt x="2" y="84"/>
                    <a:pt x="261" y="92"/>
                    <a:pt x="669" y="179"/>
                  </a:cubicBezTo>
                  <a:close/>
                </a:path>
              </a:pathLst>
            </a:custGeom>
            <a:gradFill rotWithShape="0">
              <a:gsLst>
                <a:gs pos="0">
                  <a:srgbClr val="5d2100">
                    <a:alpha val="0"/>
                  </a:srgbClr>
                </a:gs>
                <a:gs pos="100000">
                  <a:srgbClr val="c84700">
                    <a:alpha val="5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17"/>
            <p:cNvSpPr/>
            <p:nvPr/>
          </p:nvSpPr>
          <p:spPr>
            <a:xfrm>
              <a:off x="5285160" y="-12600"/>
              <a:ext cx="3862440" cy="1177560"/>
            </a:xfrm>
            <a:custGeom>
              <a:avLst/>
              <a:gdLst/>
              <a:ahLst/>
              <a:rect l="l" t="t" r="r" b="b"/>
              <a:pathLst>
                <a:path w="2426" h="1095">
                  <a:moveTo>
                    <a:pt x="2426" y="1"/>
                  </a:moveTo>
                  <a:cubicBezTo>
                    <a:pt x="2426" y="232"/>
                    <a:pt x="2426" y="464"/>
                    <a:pt x="2426" y="464"/>
                  </a:cubicBezTo>
                  <a:cubicBezTo>
                    <a:pt x="1216" y="1095"/>
                    <a:pt x="584" y="162"/>
                    <a:pt x="0" y="0"/>
                  </a:cubicBezTo>
                  <a:cubicBezTo>
                    <a:pt x="0" y="0"/>
                    <a:pt x="1213" y="0"/>
                    <a:pt x="2426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5d2100">
                    <a:alpha val="0"/>
                  </a:srgbClr>
                </a:gs>
                <a:gs pos="100000">
                  <a:srgbClr val="c847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0" name="Picture 45" descr="8"/>
          <p:cNvPicPr/>
          <p:nvPr/>
        </p:nvPicPr>
        <p:blipFill>
          <a:blip r:embed="rId5"/>
          <a:stretch/>
        </p:blipFill>
        <p:spPr>
          <a:xfrm>
            <a:off x="7227720" y="878040"/>
            <a:ext cx="1751040" cy="53640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52" descr="13"/>
          <p:cNvPicPr/>
          <p:nvPr/>
        </p:nvPicPr>
        <p:blipFill>
          <a:blip r:embed="rId6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53" descr="15"/>
          <p:cNvPicPr/>
          <p:nvPr/>
        </p:nvPicPr>
        <p:blipFill>
          <a:blip r:embed="rId7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57" descr="logo(trasparance)2"/>
          <p:cNvPicPr/>
          <p:nvPr/>
        </p:nvPicPr>
        <p:blipFill>
          <a:blip r:embed="rId8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58" descr="15"/>
          <p:cNvPicPr/>
          <p:nvPr/>
        </p:nvPicPr>
        <p:blipFill>
          <a:blip r:embed="rId9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ftr" idx="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5560" indent="0" algn="r">
              <a:lnSpc>
                <a:spcPts val="1236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88888"/>
                </a:solidFill>
                <a:latin typeface="Trebuchet MS"/>
                <a:ea typeface="Trebuchet MS"/>
              </a:defRPr>
            </a:lvl1pPr>
          </a:lstStyle>
          <a:p>
            <a:pPr marL="25560" indent="0" algn="r">
              <a:lnSpc>
                <a:spcPts val="1236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57F84-DC09-4A11-BA40-B0798792DC4D}" type="slidenum">
              <a:rPr b="0" lang="ru-RU" sz="1200" spc="-1" strike="noStrike">
                <a:solidFill>
                  <a:srgbClr val="888888"/>
                </a:solidFill>
                <a:latin typeface="Trebuchet MS"/>
                <a:ea typeface="Trebuchet MS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10"/>
    <p:sldLayoutId id="2147483793" r:id="rId11"/>
    <p:sldLayoutId id="2147483794" r:id="rId12"/>
    <p:sldLayoutId id="2147483795" r:id="rId13"/>
    <p:sldLayoutId id="2147483796" r:id="rId14"/>
    <p:sldLayoutId id="2147483797" r:id="rId15"/>
    <p:sldLayoutId id="2147483798" r:id="rId16"/>
    <p:sldLayoutId id="2147483799" r:id="rId17"/>
    <p:sldLayoutId id="2147483800" r:id="rId18"/>
    <p:sldLayoutId id="2147483801" r:id="rId19"/>
    <p:sldLayoutId id="2147483802" r:id="rId20"/>
    <p:sldLayoutId id="2147483803" r:id="rId21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8b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40" descr="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47" name="Group 27"/>
          <p:cNvGrpSpPr/>
          <p:nvPr/>
        </p:nvGrpSpPr>
        <p:grpSpPr>
          <a:xfrm>
            <a:off x="6692760" y="228600"/>
            <a:ext cx="2451240" cy="4038480"/>
            <a:chOff x="6692760" y="228600"/>
            <a:chExt cx="2451240" cy="4038480"/>
          </a:xfrm>
        </p:grpSpPr>
        <p:pic>
          <p:nvPicPr>
            <p:cNvPr id="648" name="Picture 24" descr="11"/>
            <p:cNvPicPr/>
            <p:nvPr/>
          </p:nvPicPr>
          <p:blipFill>
            <a:blip r:embed="rId3"/>
            <a:stretch/>
          </p:blipFill>
          <p:spPr>
            <a:xfrm>
              <a:off x="6692760" y="228600"/>
              <a:ext cx="2451240" cy="403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9" name="Picture 25" descr="12"/>
            <p:cNvPicPr/>
            <p:nvPr/>
          </p:nvPicPr>
          <p:blipFill>
            <a:blip r:embed="rId4"/>
            <a:stretch/>
          </p:blipFill>
          <p:spPr>
            <a:xfrm>
              <a:off x="6958440" y="817200"/>
              <a:ext cx="1919880" cy="238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0" name="Group 44"/>
          <p:cNvGrpSpPr/>
          <p:nvPr/>
        </p:nvGrpSpPr>
        <p:grpSpPr>
          <a:xfrm>
            <a:off x="-19080" y="-57240"/>
            <a:ext cx="9182160" cy="1349640"/>
            <a:chOff x="-19080" y="-57240"/>
            <a:chExt cx="9182160" cy="1349640"/>
          </a:xfrm>
        </p:grpSpPr>
        <p:sp>
          <p:nvSpPr>
            <p:cNvPr id="651" name="Freeform 14"/>
            <p:cNvSpPr/>
            <p:nvPr/>
          </p:nvSpPr>
          <p:spPr>
            <a:xfrm flipH="1">
              <a:off x="-9720" y="-15480"/>
              <a:ext cx="9172440" cy="1307880"/>
            </a:xfrm>
            <a:custGeom>
              <a:avLst/>
              <a:gdLst/>
              <a:ahLst/>
              <a:rect l="l" t="t" r="r" b="b"/>
              <a:pathLst>
                <a:path w="5778" h="1215">
                  <a:moveTo>
                    <a:pt x="5778" y="640"/>
                  </a:moveTo>
                  <a:cubicBezTo>
                    <a:pt x="4217" y="104"/>
                    <a:pt x="3024" y="562"/>
                    <a:pt x="2656" y="668"/>
                  </a:cubicBezTo>
                  <a:cubicBezTo>
                    <a:pt x="2288" y="774"/>
                    <a:pt x="1066" y="1215"/>
                    <a:pt x="0" y="726"/>
                  </a:cubicBezTo>
                  <a:cubicBezTo>
                    <a:pt x="0" y="726"/>
                    <a:pt x="12" y="292"/>
                    <a:pt x="12" y="6"/>
                  </a:cubicBezTo>
                  <a:cubicBezTo>
                    <a:pt x="2901" y="5"/>
                    <a:pt x="5778" y="0"/>
                    <a:pt x="5778" y="0"/>
                  </a:cubicBezTo>
                  <a:cubicBezTo>
                    <a:pt x="5778" y="227"/>
                    <a:pt x="5778" y="413"/>
                    <a:pt x="5778" y="640"/>
                  </a:cubicBezTo>
                  <a:close/>
                </a:path>
              </a:pathLst>
            </a:custGeom>
            <a:solidFill>
              <a:srgbClr val="0000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15"/>
            <p:cNvSpPr/>
            <p:nvPr/>
          </p:nvSpPr>
          <p:spPr>
            <a:xfrm>
              <a:off x="-19080" y="-57240"/>
              <a:ext cx="9167760" cy="1265040"/>
            </a:xfrm>
            <a:custGeom>
              <a:avLst/>
              <a:gdLst/>
              <a:ahLst/>
              <a:rect l="l" t="t" r="r" b="b"/>
              <a:pathLst>
                <a:path w="5783" h="1176">
                  <a:moveTo>
                    <a:pt x="0" y="496"/>
                  </a:moveTo>
                  <a:cubicBezTo>
                    <a:pt x="1405" y="0"/>
                    <a:pt x="2961" y="600"/>
                    <a:pt x="3148" y="662"/>
                  </a:cubicBezTo>
                  <a:cubicBezTo>
                    <a:pt x="3335" y="724"/>
                    <a:pt x="4732" y="1176"/>
                    <a:pt x="5783" y="614"/>
                  </a:cubicBezTo>
                  <a:cubicBezTo>
                    <a:pt x="5783" y="614"/>
                    <a:pt x="5783" y="328"/>
                    <a:pt x="5783" y="42"/>
                  </a:cubicBezTo>
                  <a:cubicBezTo>
                    <a:pt x="2891" y="42"/>
                    <a:pt x="0" y="42"/>
                    <a:pt x="0" y="42"/>
                  </a:cubicBezTo>
                  <a:cubicBezTo>
                    <a:pt x="0" y="269"/>
                    <a:pt x="0" y="269"/>
                    <a:pt x="0" y="496"/>
                  </a:cubicBezTo>
                  <a:close/>
                </a:path>
              </a:pathLst>
            </a:custGeom>
            <a:solidFill>
              <a:srgbClr val="ea8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16"/>
            <p:cNvSpPr/>
            <p:nvPr/>
          </p:nvSpPr>
          <p:spPr>
            <a:xfrm>
              <a:off x="2505240" y="200880"/>
              <a:ext cx="6643440" cy="1006920"/>
            </a:xfrm>
            <a:custGeom>
              <a:avLst/>
              <a:gdLst/>
              <a:ahLst/>
              <a:rect l="l" t="t" r="r" b="b"/>
              <a:pathLst>
                <a:path w="4173" h="936">
                  <a:moveTo>
                    <a:pt x="669" y="179"/>
                  </a:moveTo>
                  <a:cubicBezTo>
                    <a:pt x="1122" y="287"/>
                    <a:pt x="1351" y="360"/>
                    <a:pt x="1538" y="422"/>
                  </a:cubicBezTo>
                  <a:cubicBezTo>
                    <a:pt x="1725" y="484"/>
                    <a:pt x="3122" y="936"/>
                    <a:pt x="4173" y="374"/>
                  </a:cubicBezTo>
                  <a:cubicBezTo>
                    <a:pt x="4173" y="374"/>
                    <a:pt x="4173" y="387"/>
                    <a:pt x="4173" y="306"/>
                  </a:cubicBezTo>
                  <a:cubicBezTo>
                    <a:pt x="3957" y="435"/>
                    <a:pt x="3346" y="626"/>
                    <a:pt x="2845" y="589"/>
                  </a:cubicBezTo>
                  <a:cubicBezTo>
                    <a:pt x="2344" y="552"/>
                    <a:pt x="1639" y="170"/>
                    <a:pt x="1165" y="85"/>
                  </a:cubicBezTo>
                  <a:cubicBezTo>
                    <a:pt x="691" y="0"/>
                    <a:pt x="261" y="21"/>
                    <a:pt x="0" y="77"/>
                  </a:cubicBezTo>
                  <a:cubicBezTo>
                    <a:pt x="2" y="84"/>
                    <a:pt x="261" y="92"/>
                    <a:pt x="669" y="179"/>
                  </a:cubicBezTo>
                  <a:close/>
                </a:path>
              </a:pathLst>
            </a:custGeom>
            <a:gradFill rotWithShape="0">
              <a:gsLst>
                <a:gs pos="0">
                  <a:srgbClr val="5d2100">
                    <a:alpha val="0"/>
                  </a:srgbClr>
                </a:gs>
                <a:gs pos="100000">
                  <a:srgbClr val="c84700">
                    <a:alpha val="5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17"/>
            <p:cNvSpPr/>
            <p:nvPr/>
          </p:nvSpPr>
          <p:spPr>
            <a:xfrm>
              <a:off x="5285160" y="-12600"/>
              <a:ext cx="3862440" cy="1177560"/>
            </a:xfrm>
            <a:custGeom>
              <a:avLst/>
              <a:gdLst/>
              <a:ahLst/>
              <a:rect l="l" t="t" r="r" b="b"/>
              <a:pathLst>
                <a:path w="2426" h="1095">
                  <a:moveTo>
                    <a:pt x="2426" y="1"/>
                  </a:moveTo>
                  <a:cubicBezTo>
                    <a:pt x="2426" y="232"/>
                    <a:pt x="2426" y="464"/>
                    <a:pt x="2426" y="464"/>
                  </a:cubicBezTo>
                  <a:cubicBezTo>
                    <a:pt x="1216" y="1095"/>
                    <a:pt x="584" y="162"/>
                    <a:pt x="0" y="0"/>
                  </a:cubicBezTo>
                  <a:cubicBezTo>
                    <a:pt x="0" y="0"/>
                    <a:pt x="1213" y="0"/>
                    <a:pt x="2426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5d2100">
                    <a:alpha val="0"/>
                  </a:srgbClr>
                </a:gs>
                <a:gs pos="100000">
                  <a:srgbClr val="c847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5" name="Picture 45" descr="8"/>
          <p:cNvPicPr/>
          <p:nvPr/>
        </p:nvPicPr>
        <p:blipFill>
          <a:blip r:embed="rId5"/>
          <a:stretch/>
        </p:blipFill>
        <p:spPr>
          <a:xfrm>
            <a:off x="7227720" y="878040"/>
            <a:ext cx="1751040" cy="53640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52" descr="13"/>
          <p:cNvPicPr/>
          <p:nvPr/>
        </p:nvPicPr>
        <p:blipFill>
          <a:blip r:embed="rId6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53" descr="15"/>
          <p:cNvPicPr/>
          <p:nvPr/>
        </p:nvPicPr>
        <p:blipFill>
          <a:blip r:embed="rId7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57" descr="logo(trasparance)2"/>
          <p:cNvPicPr/>
          <p:nvPr/>
        </p:nvPicPr>
        <p:blipFill>
          <a:blip r:embed="rId8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58" descr="15"/>
          <p:cNvPicPr/>
          <p:nvPr/>
        </p:nvPicPr>
        <p:blipFill>
          <a:blip r:embed="rId9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66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ftr" idx="3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dt" idx="3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5560" indent="0" algn="r">
              <a:lnSpc>
                <a:spcPts val="1236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88888"/>
                </a:solidFill>
                <a:latin typeface="Trebuchet MS"/>
                <a:ea typeface="Trebuchet MS"/>
              </a:defRPr>
            </a:lvl1pPr>
          </a:lstStyle>
          <a:p>
            <a:pPr marL="25560" indent="0" algn="r">
              <a:lnSpc>
                <a:spcPts val="1236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64ECE-3C28-484C-80CD-E81790B6B127}" type="slidenum">
              <a:rPr b="0" lang="ru-RU" sz="1200" spc="-1" strike="noStrike">
                <a:solidFill>
                  <a:srgbClr val="888888"/>
                </a:solidFill>
                <a:latin typeface="Trebuchet MS"/>
                <a:ea typeface="Trebuchet MS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10"/>
    <p:sldLayoutId id="2147483806" r:id="rId11"/>
    <p:sldLayoutId id="2147483807" r:id="rId12"/>
    <p:sldLayoutId id="2147483808" r:id="rId13"/>
    <p:sldLayoutId id="2147483809" r:id="rId14"/>
    <p:sldLayoutId id="2147483810" r:id="rId15"/>
    <p:sldLayoutId id="2147483811" r:id="rId16"/>
    <p:sldLayoutId id="2147483812" r:id="rId17"/>
    <p:sldLayoutId id="2147483813" r:id="rId18"/>
    <p:sldLayoutId id="2147483814" r:id="rId19"/>
    <p:sldLayoutId id="2147483815" r:id="rId20"/>
    <p:sldLayoutId id="2147483816" r:id="rId21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8b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Picture 40" descr="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02" name="Group 27"/>
          <p:cNvGrpSpPr/>
          <p:nvPr/>
        </p:nvGrpSpPr>
        <p:grpSpPr>
          <a:xfrm>
            <a:off x="6692760" y="228600"/>
            <a:ext cx="2451240" cy="4038480"/>
            <a:chOff x="6692760" y="228600"/>
            <a:chExt cx="2451240" cy="4038480"/>
          </a:xfrm>
        </p:grpSpPr>
        <p:pic>
          <p:nvPicPr>
            <p:cNvPr id="703" name="Picture 24" descr="11"/>
            <p:cNvPicPr/>
            <p:nvPr/>
          </p:nvPicPr>
          <p:blipFill>
            <a:blip r:embed="rId3"/>
            <a:stretch/>
          </p:blipFill>
          <p:spPr>
            <a:xfrm>
              <a:off x="6692760" y="228600"/>
              <a:ext cx="2451240" cy="403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25" descr="12"/>
            <p:cNvPicPr/>
            <p:nvPr/>
          </p:nvPicPr>
          <p:blipFill>
            <a:blip r:embed="rId4"/>
            <a:stretch/>
          </p:blipFill>
          <p:spPr>
            <a:xfrm>
              <a:off x="6958440" y="817200"/>
              <a:ext cx="1919880" cy="238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5" name="Group 44"/>
          <p:cNvGrpSpPr/>
          <p:nvPr/>
        </p:nvGrpSpPr>
        <p:grpSpPr>
          <a:xfrm>
            <a:off x="-19080" y="-57240"/>
            <a:ext cx="9182160" cy="1349640"/>
            <a:chOff x="-19080" y="-57240"/>
            <a:chExt cx="9182160" cy="1349640"/>
          </a:xfrm>
        </p:grpSpPr>
        <p:sp>
          <p:nvSpPr>
            <p:cNvPr id="706" name="Freeform 14"/>
            <p:cNvSpPr/>
            <p:nvPr/>
          </p:nvSpPr>
          <p:spPr>
            <a:xfrm flipH="1">
              <a:off x="-9720" y="-15480"/>
              <a:ext cx="9172440" cy="1307880"/>
            </a:xfrm>
            <a:custGeom>
              <a:avLst/>
              <a:gdLst/>
              <a:ahLst/>
              <a:rect l="l" t="t" r="r" b="b"/>
              <a:pathLst>
                <a:path w="5778" h="1215">
                  <a:moveTo>
                    <a:pt x="5778" y="640"/>
                  </a:moveTo>
                  <a:cubicBezTo>
                    <a:pt x="4217" y="104"/>
                    <a:pt x="3024" y="562"/>
                    <a:pt x="2656" y="668"/>
                  </a:cubicBezTo>
                  <a:cubicBezTo>
                    <a:pt x="2288" y="774"/>
                    <a:pt x="1066" y="1215"/>
                    <a:pt x="0" y="726"/>
                  </a:cubicBezTo>
                  <a:cubicBezTo>
                    <a:pt x="0" y="726"/>
                    <a:pt x="12" y="292"/>
                    <a:pt x="12" y="6"/>
                  </a:cubicBezTo>
                  <a:cubicBezTo>
                    <a:pt x="2901" y="5"/>
                    <a:pt x="5778" y="0"/>
                    <a:pt x="5778" y="0"/>
                  </a:cubicBezTo>
                  <a:cubicBezTo>
                    <a:pt x="5778" y="227"/>
                    <a:pt x="5778" y="413"/>
                    <a:pt x="5778" y="640"/>
                  </a:cubicBezTo>
                  <a:close/>
                </a:path>
              </a:pathLst>
            </a:custGeom>
            <a:solidFill>
              <a:srgbClr val="0000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15"/>
            <p:cNvSpPr/>
            <p:nvPr/>
          </p:nvSpPr>
          <p:spPr>
            <a:xfrm>
              <a:off x="-19080" y="-57240"/>
              <a:ext cx="9167760" cy="1265040"/>
            </a:xfrm>
            <a:custGeom>
              <a:avLst/>
              <a:gdLst/>
              <a:ahLst/>
              <a:rect l="l" t="t" r="r" b="b"/>
              <a:pathLst>
                <a:path w="5783" h="1176">
                  <a:moveTo>
                    <a:pt x="0" y="496"/>
                  </a:moveTo>
                  <a:cubicBezTo>
                    <a:pt x="1405" y="0"/>
                    <a:pt x="2961" y="600"/>
                    <a:pt x="3148" y="662"/>
                  </a:cubicBezTo>
                  <a:cubicBezTo>
                    <a:pt x="3335" y="724"/>
                    <a:pt x="4732" y="1176"/>
                    <a:pt x="5783" y="614"/>
                  </a:cubicBezTo>
                  <a:cubicBezTo>
                    <a:pt x="5783" y="614"/>
                    <a:pt x="5783" y="328"/>
                    <a:pt x="5783" y="42"/>
                  </a:cubicBezTo>
                  <a:cubicBezTo>
                    <a:pt x="2891" y="42"/>
                    <a:pt x="0" y="42"/>
                    <a:pt x="0" y="42"/>
                  </a:cubicBezTo>
                  <a:cubicBezTo>
                    <a:pt x="0" y="269"/>
                    <a:pt x="0" y="269"/>
                    <a:pt x="0" y="496"/>
                  </a:cubicBezTo>
                  <a:close/>
                </a:path>
              </a:pathLst>
            </a:custGeom>
            <a:solidFill>
              <a:srgbClr val="ea8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16"/>
            <p:cNvSpPr/>
            <p:nvPr/>
          </p:nvSpPr>
          <p:spPr>
            <a:xfrm>
              <a:off x="2505240" y="200880"/>
              <a:ext cx="6643440" cy="1006920"/>
            </a:xfrm>
            <a:custGeom>
              <a:avLst/>
              <a:gdLst/>
              <a:ahLst/>
              <a:rect l="l" t="t" r="r" b="b"/>
              <a:pathLst>
                <a:path w="4173" h="936">
                  <a:moveTo>
                    <a:pt x="669" y="179"/>
                  </a:moveTo>
                  <a:cubicBezTo>
                    <a:pt x="1122" y="287"/>
                    <a:pt x="1351" y="360"/>
                    <a:pt x="1538" y="422"/>
                  </a:cubicBezTo>
                  <a:cubicBezTo>
                    <a:pt x="1725" y="484"/>
                    <a:pt x="3122" y="936"/>
                    <a:pt x="4173" y="374"/>
                  </a:cubicBezTo>
                  <a:cubicBezTo>
                    <a:pt x="4173" y="374"/>
                    <a:pt x="4173" y="387"/>
                    <a:pt x="4173" y="306"/>
                  </a:cubicBezTo>
                  <a:cubicBezTo>
                    <a:pt x="3957" y="435"/>
                    <a:pt x="3346" y="626"/>
                    <a:pt x="2845" y="589"/>
                  </a:cubicBezTo>
                  <a:cubicBezTo>
                    <a:pt x="2344" y="552"/>
                    <a:pt x="1639" y="170"/>
                    <a:pt x="1165" y="85"/>
                  </a:cubicBezTo>
                  <a:cubicBezTo>
                    <a:pt x="691" y="0"/>
                    <a:pt x="261" y="21"/>
                    <a:pt x="0" y="77"/>
                  </a:cubicBezTo>
                  <a:cubicBezTo>
                    <a:pt x="2" y="84"/>
                    <a:pt x="261" y="92"/>
                    <a:pt x="669" y="179"/>
                  </a:cubicBezTo>
                  <a:close/>
                </a:path>
              </a:pathLst>
            </a:custGeom>
            <a:gradFill rotWithShape="0">
              <a:gsLst>
                <a:gs pos="0">
                  <a:srgbClr val="5d2100">
                    <a:alpha val="0"/>
                  </a:srgbClr>
                </a:gs>
                <a:gs pos="100000">
                  <a:srgbClr val="c84700">
                    <a:alpha val="5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17"/>
            <p:cNvSpPr/>
            <p:nvPr/>
          </p:nvSpPr>
          <p:spPr>
            <a:xfrm>
              <a:off x="5285160" y="-12600"/>
              <a:ext cx="3862440" cy="1177560"/>
            </a:xfrm>
            <a:custGeom>
              <a:avLst/>
              <a:gdLst/>
              <a:ahLst/>
              <a:rect l="l" t="t" r="r" b="b"/>
              <a:pathLst>
                <a:path w="2426" h="1095">
                  <a:moveTo>
                    <a:pt x="2426" y="1"/>
                  </a:moveTo>
                  <a:cubicBezTo>
                    <a:pt x="2426" y="232"/>
                    <a:pt x="2426" y="464"/>
                    <a:pt x="2426" y="464"/>
                  </a:cubicBezTo>
                  <a:cubicBezTo>
                    <a:pt x="1216" y="1095"/>
                    <a:pt x="584" y="162"/>
                    <a:pt x="0" y="0"/>
                  </a:cubicBezTo>
                  <a:cubicBezTo>
                    <a:pt x="0" y="0"/>
                    <a:pt x="1213" y="0"/>
                    <a:pt x="2426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5d2100">
                    <a:alpha val="0"/>
                  </a:srgbClr>
                </a:gs>
                <a:gs pos="100000">
                  <a:srgbClr val="c847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0" name="Picture 45" descr="8"/>
          <p:cNvPicPr/>
          <p:nvPr/>
        </p:nvPicPr>
        <p:blipFill>
          <a:blip r:embed="rId5"/>
          <a:stretch/>
        </p:blipFill>
        <p:spPr>
          <a:xfrm>
            <a:off x="7227720" y="878040"/>
            <a:ext cx="1751040" cy="53640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52" descr="13"/>
          <p:cNvPicPr/>
          <p:nvPr/>
        </p:nvPicPr>
        <p:blipFill>
          <a:blip r:embed="rId6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53" descr="15"/>
          <p:cNvPicPr/>
          <p:nvPr/>
        </p:nvPicPr>
        <p:blipFill>
          <a:blip r:embed="rId7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57" descr="logo(trasparance)2"/>
          <p:cNvPicPr/>
          <p:nvPr/>
        </p:nvPicPr>
        <p:blipFill>
          <a:blip r:embed="rId8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58" descr="15"/>
          <p:cNvPicPr/>
          <p:nvPr/>
        </p:nvPicPr>
        <p:blipFill>
          <a:blip r:embed="rId9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71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 type="ftr" idx="4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 type="dt" idx="4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5560" indent="0" algn="r">
              <a:lnSpc>
                <a:spcPts val="1236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88888"/>
                </a:solidFill>
                <a:latin typeface="Trebuchet MS"/>
                <a:ea typeface="Trebuchet MS"/>
              </a:defRPr>
            </a:lvl1pPr>
          </a:lstStyle>
          <a:p>
            <a:pPr marL="25560" indent="0" algn="r">
              <a:lnSpc>
                <a:spcPts val="1236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0BEE2-F352-46A5-A354-34F79513757D}" type="slidenum">
              <a:rPr b="0" lang="ru-RU" sz="1200" spc="-1" strike="noStrike">
                <a:solidFill>
                  <a:srgbClr val="888888"/>
                </a:solidFill>
                <a:latin typeface="Trebuchet MS"/>
                <a:ea typeface="Trebuchet MS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10"/>
    <p:sldLayoutId id="2147483819" r:id="rId11"/>
    <p:sldLayoutId id="2147483820" r:id="rId12"/>
    <p:sldLayoutId id="2147483821" r:id="rId13"/>
    <p:sldLayoutId id="2147483822" r:id="rId14"/>
    <p:sldLayoutId id="2147483823" r:id="rId15"/>
    <p:sldLayoutId id="2147483824" r:id="rId16"/>
    <p:sldLayoutId id="2147483825" r:id="rId17"/>
    <p:sldLayoutId id="2147483826" r:id="rId18"/>
    <p:sldLayoutId id="2147483827" r:id="rId19"/>
    <p:sldLayoutId id="2147483828" r:id="rId20"/>
    <p:sldLayoutId id="2147483829" r:id="rId21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8b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40" descr="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57" name="Group 27"/>
          <p:cNvGrpSpPr/>
          <p:nvPr/>
        </p:nvGrpSpPr>
        <p:grpSpPr>
          <a:xfrm>
            <a:off x="6692760" y="228600"/>
            <a:ext cx="2451240" cy="4038480"/>
            <a:chOff x="6692760" y="228600"/>
            <a:chExt cx="2451240" cy="4038480"/>
          </a:xfrm>
        </p:grpSpPr>
        <p:pic>
          <p:nvPicPr>
            <p:cNvPr id="758" name="Picture 24" descr="11"/>
            <p:cNvPicPr/>
            <p:nvPr/>
          </p:nvPicPr>
          <p:blipFill>
            <a:blip r:embed="rId3"/>
            <a:stretch/>
          </p:blipFill>
          <p:spPr>
            <a:xfrm>
              <a:off x="6692760" y="228600"/>
              <a:ext cx="2451240" cy="403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9" name="Picture 25" descr="12"/>
            <p:cNvPicPr/>
            <p:nvPr/>
          </p:nvPicPr>
          <p:blipFill>
            <a:blip r:embed="rId4"/>
            <a:stretch/>
          </p:blipFill>
          <p:spPr>
            <a:xfrm>
              <a:off x="6958440" y="817200"/>
              <a:ext cx="1919880" cy="238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0" name="Group 44"/>
          <p:cNvGrpSpPr/>
          <p:nvPr/>
        </p:nvGrpSpPr>
        <p:grpSpPr>
          <a:xfrm>
            <a:off x="-19080" y="-57240"/>
            <a:ext cx="9182160" cy="1349640"/>
            <a:chOff x="-19080" y="-57240"/>
            <a:chExt cx="9182160" cy="1349640"/>
          </a:xfrm>
        </p:grpSpPr>
        <p:sp>
          <p:nvSpPr>
            <p:cNvPr id="761" name="Freeform 14"/>
            <p:cNvSpPr/>
            <p:nvPr/>
          </p:nvSpPr>
          <p:spPr>
            <a:xfrm flipH="1">
              <a:off x="-9720" y="-15480"/>
              <a:ext cx="9172440" cy="1307880"/>
            </a:xfrm>
            <a:custGeom>
              <a:avLst/>
              <a:gdLst/>
              <a:ahLst/>
              <a:rect l="l" t="t" r="r" b="b"/>
              <a:pathLst>
                <a:path w="5778" h="1215">
                  <a:moveTo>
                    <a:pt x="5778" y="640"/>
                  </a:moveTo>
                  <a:cubicBezTo>
                    <a:pt x="4217" y="104"/>
                    <a:pt x="3024" y="562"/>
                    <a:pt x="2656" y="668"/>
                  </a:cubicBezTo>
                  <a:cubicBezTo>
                    <a:pt x="2288" y="774"/>
                    <a:pt x="1066" y="1215"/>
                    <a:pt x="0" y="726"/>
                  </a:cubicBezTo>
                  <a:cubicBezTo>
                    <a:pt x="0" y="726"/>
                    <a:pt x="12" y="292"/>
                    <a:pt x="12" y="6"/>
                  </a:cubicBezTo>
                  <a:cubicBezTo>
                    <a:pt x="2901" y="5"/>
                    <a:pt x="5778" y="0"/>
                    <a:pt x="5778" y="0"/>
                  </a:cubicBezTo>
                  <a:cubicBezTo>
                    <a:pt x="5778" y="227"/>
                    <a:pt x="5778" y="413"/>
                    <a:pt x="5778" y="640"/>
                  </a:cubicBezTo>
                  <a:close/>
                </a:path>
              </a:pathLst>
            </a:custGeom>
            <a:solidFill>
              <a:srgbClr val="0000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5"/>
            <p:cNvSpPr/>
            <p:nvPr/>
          </p:nvSpPr>
          <p:spPr>
            <a:xfrm>
              <a:off x="-19080" y="-57240"/>
              <a:ext cx="9167760" cy="1265040"/>
            </a:xfrm>
            <a:custGeom>
              <a:avLst/>
              <a:gdLst/>
              <a:ahLst/>
              <a:rect l="l" t="t" r="r" b="b"/>
              <a:pathLst>
                <a:path w="5783" h="1176">
                  <a:moveTo>
                    <a:pt x="0" y="496"/>
                  </a:moveTo>
                  <a:cubicBezTo>
                    <a:pt x="1405" y="0"/>
                    <a:pt x="2961" y="600"/>
                    <a:pt x="3148" y="662"/>
                  </a:cubicBezTo>
                  <a:cubicBezTo>
                    <a:pt x="3335" y="724"/>
                    <a:pt x="4732" y="1176"/>
                    <a:pt x="5783" y="614"/>
                  </a:cubicBezTo>
                  <a:cubicBezTo>
                    <a:pt x="5783" y="614"/>
                    <a:pt x="5783" y="328"/>
                    <a:pt x="5783" y="42"/>
                  </a:cubicBezTo>
                  <a:cubicBezTo>
                    <a:pt x="2891" y="42"/>
                    <a:pt x="0" y="42"/>
                    <a:pt x="0" y="42"/>
                  </a:cubicBezTo>
                  <a:cubicBezTo>
                    <a:pt x="0" y="269"/>
                    <a:pt x="0" y="269"/>
                    <a:pt x="0" y="496"/>
                  </a:cubicBezTo>
                  <a:close/>
                </a:path>
              </a:pathLst>
            </a:custGeom>
            <a:solidFill>
              <a:srgbClr val="ea8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6"/>
            <p:cNvSpPr/>
            <p:nvPr/>
          </p:nvSpPr>
          <p:spPr>
            <a:xfrm>
              <a:off x="2505240" y="200880"/>
              <a:ext cx="6643440" cy="1006920"/>
            </a:xfrm>
            <a:custGeom>
              <a:avLst/>
              <a:gdLst/>
              <a:ahLst/>
              <a:rect l="l" t="t" r="r" b="b"/>
              <a:pathLst>
                <a:path w="4173" h="936">
                  <a:moveTo>
                    <a:pt x="669" y="179"/>
                  </a:moveTo>
                  <a:cubicBezTo>
                    <a:pt x="1122" y="287"/>
                    <a:pt x="1351" y="360"/>
                    <a:pt x="1538" y="422"/>
                  </a:cubicBezTo>
                  <a:cubicBezTo>
                    <a:pt x="1725" y="484"/>
                    <a:pt x="3122" y="936"/>
                    <a:pt x="4173" y="374"/>
                  </a:cubicBezTo>
                  <a:cubicBezTo>
                    <a:pt x="4173" y="374"/>
                    <a:pt x="4173" y="387"/>
                    <a:pt x="4173" y="306"/>
                  </a:cubicBezTo>
                  <a:cubicBezTo>
                    <a:pt x="3957" y="435"/>
                    <a:pt x="3346" y="626"/>
                    <a:pt x="2845" y="589"/>
                  </a:cubicBezTo>
                  <a:cubicBezTo>
                    <a:pt x="2344" y="552"/>
                    <a:pt x="1639" y="170"/>
                    <a:pt x="1165" y="85"/>
                  </a:cubicBezTo>
                  <a:cubicBezTo>
                    <a:pt x="691" y="0"/>
                    <a:pt x="261" y="21"/>
                    <a:pt x="0" y="77"/>
                  </a:cubicBezTo>
                  <a:cubicBezTo>
                    <a:pt x="2" y="84"/>
                    <a:pt x="261" y="92"/>
                    <a:pt x="669" y="179"/>
                  </a:cubicBezTo>
                  <a:close/>
                </a:path>
              </a:pathLst>
            </a:custGeom>
            <a:gradFill rotWithShape="0">
              <a:gsLst>
                <a:gs pos="0">
                  <a:srgbClr val="5d2100">
                    <a:alpha val="0"/>
                  </a:srgbClr>
                </a:gs>
                <a:gs pos="100000">
                  <a:srgbClr val="c84700">
                    <a:alpha val="5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7"/>
            <p:cNvSpPr/>
            <p:nvPr/>
          </p:nvSpPr>
          <p:spPr>
            <a:xfrm>
              <a:off x="5285160" y="-12600"/>
              <a:ext cx="3862440" cy="1177560"/>
            </a:xfrm>
            <a:custGeom>
              <a:avLst/>
              <a:gdLst/>
              <a:ahLst/>
              <a:rect l="l" t="t" r="r" b="b"/>
              <a:pathLst>
                <a:path w="2426" h="1095">
                  <a:moveTo>
                    <a:pt x="2426" y="1"/>
                  </a:moveTo>
                  <a:cubicBezTo>
                    <a:pt x="2426" y="232"/>
                    <a:pt x="2426" y="464"/>
                    <a:pt x="2426" y="464"/>
                  </a:cubicBezTo>
                  <a:cubicBezTo>
                    <a:pt x="1216" y="1095"/>
                    <a:pt x="584" y="162"/>
                    <a:pt x="0" y="0"/>
                  </a:cubicBezTo>
                  <a:cubicBezTo>
                    <a:pt x="0" y="0"/>
                    <a:pt x="1213" y="0"/>
                    <a:pt x="2426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5d2100">
                    <a:alpha val="0"/>
                  </a:srgbClr>
                </a:gs>
                <a:gs pos="100000">
                  <a:srgbClr val="c847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5" name="Picture 45" descr="8"/>
          <p:cNvPicPr/>
          <p:nvPr/>
        </p:nvPicPr>
        <p:blipFill>
          <a:blip r:embed="rId5"/>
          <a:stretch/>
        </p:blipFill>
        <p:spPr>
          <a:xfrm>
            <a:off x="7227720" y="878040"/>
            <a:ext cx="1751040" cy="53640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52" descr="13"/>
          <p:cNvPicPr/>
          <p:nvPr/>
        </p:nvPicPr>
        <p:blipFill>
          <a:blip r:embed="rId6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53" descr="15"/>
          <p:cNvPicPr/>
          <p:nvPr/>
        </p:nvPicPr>
        <p:blipFill>
          <a:blip r:embed="rId7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57" descr="logo(trasparance)2"/>
          <p:cNvPicPr/>
          <p:nvPr/>
        </p:nvPicPr>
        <p:blipFill>
          <a:blip r:embed="rId8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58" descr="15"/>
          <p:cNvPicPr/>
          <p:nvPr/>
        </p:nvPicPr>
        <p:blipFill>
          <a:blip r:embed="rId9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77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 type="ftr" idx="4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 type="dt" idx="4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5560" indent="0" algn="r">
              <a:lnSpc>
                <a:spcPts val="1236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88888"/>
                </a:solidFill>
                <a:latin typeface="Trebuchet MS"/>
                <a:ea typeface="Trebuchet MS"/>
              </a:defRPr>
            </a:lvl1pPr>
          </a:lstStyle>
          <a:p>
            <a:pPr marL="25560" indent="0" algn="r">
              <a:lnSpc>
                <a:spcPts val="1236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83FA4-101B-4B34-8363-9B5562824306}" type="slidenum">
              <a:rPr b="0" lang="ru-RU" sz="1200" spc="-1" strike="noStrike">
                <a:solidFill>
                  <a:srgbClr val="888888"/>
                </a:solidFill>
                <a:latin typeface="Trebuchet MS"/>
                <a:ea typeface="Trebuchet MS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10"/>
    <p:sldLayoutId id="2147483832" r:id="rId11"/>
    <p:sldLayoutId id="2147483833" r:id="rId12"/>
    <p:sldLayoutId id="2147483834" r:id="rId13"/>
    <p:sldLayoutId id="2147483835" r:id="rId14"/>
    <p:sldLayoutId id="2147483836" r:id="rId15"/>
    <p:sldLayoutId id="2147483837" r:id="rId16"/>
    <p:sldLayoutId id="2147483838" r:id="rId17"/>
    <p:sldLayoutId id="2147483839" r:id="rId18"/>
    <p:sldLayoutId id="2147483840" r:id="rId19"/>
    <p:sldLayoutId id="2147483841" r:id="rId20"/>
    <p:sldLayoutId id="2147483842" r:id="rId21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8b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1" name="Picture 40" descr="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12" name="Group 27"/>
          <p:cNvGrpSpPr/>
          <p:nvPr/>
        </p:nvGrpSpPr>
        <p:grpSpPr>
          <a:xfrm>
            <a:off x="6692760" y="228600"/>
            <a:ext cx="2451240" cy="4038480"/>
            <a:chOff x="6692760" y="228600"/>
            <a:chExt cx="2451240" cy="4038480"/>
          </a:xfrm>
        </p:grpSpPr>
        <p:pic>
          <p:nvPicPr>
            <p:cNvPr id="813" name="Picture 24" descr="11"/>
            <p:cNvPicPr/>
            <p:nvPr/>
          </p:nvPicPr>
          <p:blipFill>
            <a:blip r:embed="rId3"/>
            <a:stretch/>
          </p:blipFill>
          <p:spPr>
            <a:xfrm>
              <a:off x="6692760" y="228600"/>
              <a:ext cx="2451240" cy="403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4" name="Picture 25" descr="12"/>
            <p:cNvPicPr/>
            <p:nvPr/>
          </p:nvPicPr>
          <p:blipFill>
            <a:blip r:embed="rId4"/>
            <a:stretch/>
          </p:blipFill>
          <p:spPr>
            <a:xfrm>
              <a:off x="6958440" y="817200"/>
              <a:ext cx="1919880" cy="238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5" name="Group 44"/>
          <p:cNvGrpSpPr/>
          <p:nvPr/>
        </p:nvGrpSpPr>
        <p:grpSpPr>
          <a:xfrm>
            <a:off x="-19080" y="-57240"/>
            <a:ext cx="9182160" cy="1349640"/>
            <a:chOff x="-19080" y="-57240"/>
            <a:chExt cx="9182160" cy="1349640"/>
          </a:xfrm>
        </p:grpSpPr>
        <p:sp>
          <p:nvSpPr>
            <p:cNvPr id="816" name="Freeform 14"/>
            <p:cNvSpPr/>
            <p:nvPr/>
          </p:nvSpPr>
          <p:spPr>
            <a:xfrm flipH="1">
              <a:off x="-9720" y="-15480"/>
              <a:ext cx="9172440" cy="1307880"/>
            </a:xfrm>
            <a:custGeom>
              <a:avLst/>
              <a:gdLst/>
              <a:ahLst/>
              <a:rect l="l" t="t" r="r" b="b"/>
              <a:pathLst>
                <a:path w="5778" h="1215">
                  <a:moveTo>
                    <a:pt x="5778" y="640"/>
                  </a:moveTo>
                  <a:cubicBezTo>
                    <a:pt x="4217" y="104"/>
                    <a:pt x="3024" y="562"/>
                    <a:pt x="2656" y="668"/>
                  </a:cubicBezTo>
                  <a:cubicBezTo>
                    <a:pt x="2288" y="774"/>
                    <a:pt x="1066" y="1215"/>
                    <a:pt x="0" y="726"/>
                  </a:cubicBezTo>
                  <a:cubicBezTo>
                    <a:pt x="0" y="726"/>
                    <a:pt x="12" y="292"/>
                    <a:pt x="12" y="6"/>
                  </a:cubicBezTo>
                  <a:cubicBezTo>
                    <a:pt x="2901" y="5"/>
                    <a:pt x="5778" y="0"/>
                    <a:pt x="5778" y="0"/>
                  </a:cubicBezTo>
                  <a:cubicBezTo>
                    <a:pt x="5778" y="227"/>
                    <a:pt x="5778" y="413"/>
                    <a:pt x="5778" y="640"/>
                  </a:cubicBezTo>
                  <a:close/>
                </a:path>
              </a:pathLst>
            </a:custGeom>
            <a:solidFill>
              <a:srgbClr val="0000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15"/>
            <p:cNvSpPr/>
            <p:nvPr/>
          </p:nvSpPr>
          <p:spPr>
            <a:xfrm>
              <a:off x="-19080" y="-57240"/>
              <a:ext cx="9167760" cy="1265040"/>
            </a:xfrm>
            <a:custGeom>
              <a:avLst/>
              <a:gdLst/>
              <a:ahLst/>
              <a:rect l="l" t="t" r="r" b="b"/>
              <a:pathLst>
                <a:path w="5783" h="1176">
                  <a:moveTo>
                    <a:pt x="0" y="496"/>
                  </a:moveTo>
                  <a:cubicBezTo>
                    <a:pt x="1405" y="0"/>
                    <a:pt x="2961" y="600"/>
                    <a:pt x="3148" y="662"/>
                  </a:cubicBezTo>
                  <a:cubicBezTo>
                    <a:pt x="3335" y="724"/>
                    <a:pt x="4732" y="1176"/>
                    <a:pt x="5783" y="614"/>
                  </a:cubicBezTo>
                  <a:cubicBezTo>
                    <a:pt x="5783" y="614"/>
                    <a:pt x="5783" y="328"/>
                    <a:pt x="5783" y="42"/>
                  </a:cubicBezTo>
                  <a:cubicBezTo>
                    <a:pt x="2891" y="42"/>
                    <a:pt x="0" y="42"/>
                    <a:pt x="0" y="42"/>
                  </a:cubicBezTo>
                  <a:cubicBezTo>
                    <a:pt x="0" y="269"/>
                    <a:pt x="0" y="269"/>
                    <a:pt x="0" y="496"/>
                  </a:cubicBezTo>
                  <a:close/>
                </a:path>
              </a:pathLst>
            </a:custGeom>
            <a:solidFill>
              <a:srgbClr val="ea8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16"/>
            <p:cNvSpPr/>
            <p:nvPr/>
          </p:nvSpPr>
          <p:spPr>
            <a:xfrm>
              <a:off x="2505240" y="200880"/>
              <a:ext cx="6643440" cy="1006920"/>
            </a:xfrm>
            <a:custGeom>
              <a:avLst/>
              <a:gdLst/>
              <a:ahLst/>
              <a:rect l="l" t="t" r="r" b="b"/>
              <a:pathLst>
                <a:path w="4173" h="936">
                  <a:moveTo>
                    <a:pt x="669" y="179"/>
                  </a:moveTo>
                  <a:cubicBezTo>
                    <a:pt x="1122" y="287"/>
                    <a:pt x="1351" y="360"/>
                    <a:pt x="1538" y="422"/>
                  </a:cubicBezTo>
                  <a:cubicBezTo>
                    <a:pt x="1725" y="484"/>
                    <a:pt x="3122" y="936"/>
                    <a:pt x="4173" y="374"/>
                  </a:cubicBezTo>
                  <a:cubicBezTo>
                    <a:pt x="4173" y="374"/>
                    <a:pt x="4173" y="387"/>
                    <a:pt x="4173" y="306"/>
                  </a:cubicBezTo>
                  <a:cubicBezTo>
                    <a:pt x="3957" y="435"/>
                    <a:pt x="3346" y="626"/>
                    <a:pt x="2845" y="589"/>
                  </a:cubicBezTo>
                  <a:cubicBezTo>
                    <a:pt x="2344" y="552"/>
                    <a:pt x="1639" y="170"/>
                    <a:pt x="1165" y="85"/>
                  </a:cubicBezTo>
                  <a:cubicBezTo>
                    <a:pt x="691" y="0"/>
                    <a:pt x="261" y="21"/>
                    <a:pt x="0" y="77"/>
                  </a:cubicBezTo>
                  <a:cubicBezTo>
                    <a:pt x="2" y="84"/>
                    <a:pt x="261" y="92"/>
                    <a:pt x="669" y="179"/>
                  </a:cubicBezTo>
                  <a:close/>
                </a:path>
              </a:pathLst>
            </a:custGeom>
            <a:gradFill rotWithShape="0">
              <a:gsLst>
                <a:gs pos="0">
                  <a:srgbClr val="5d2100">
                    <a:alpha val="0"/>
                  </a:srgbClr>
                </a:gs>
                <a:gs pos="100000">
                  <a:srgbClr val="c84700">
                    <a:alpha val="5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17"/>
            <p:cNvSpPr/>
            <p:nvPr/>
          </p:nvSpPr>
          <p:spPr>
            <a:xfrm>
              <a:off x="5285160" y="-12600"/>
              <a:ext cx="3862440" cy="1177560"/>
            </a:xfrm>
            <a:custGeom>
              <a:avLst/>
              <a:gdLst/>
              <a:ahLst/>
              <a:rect l="l" t="t" r="r" b="b"/>
              <a:pathLst>
                <a:path w="2426" h="1095">
                  <a:moveTo>
                    <a:pt x="2426" y="1"/>
                  </a:moveTo>
                  <a:cubicBezTo>
                    <a:pt x="2426" y="232"/>
                    <a:pt x="2426" y="464"/>
                    <a:pt x="2426" y="464"/>
                  </a:cubicBezTo>
                  <a:cubicBezTo>
                    <a:pt x="1216" y="1095"/>
                    <a:pt x="584" y="162"/>
                    <a:pt x="0" y="0"/>
                  </a:cubicBezTo>
                  <a:cubicBezTo>
                    <a:pt x="0" y="0"/>
                    <a:pt x="1213" y="0"/>
                    <a:pt x="2426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5d2100">
                    <a:alpha val="0"/>
                  </a:srgbClr>
                </a:gs>
                <a:gs pos="100000">
                  <a:srgbClr val="c847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20" name="Picture 45" descr="8"/>
          <p:cNvPicPr/>
          <p:nvPr/>
        </p:nvPicPr>
        <p:blipFill>
          <a:blip r:embed="rId5"/>
          <a:stretch/>
        </p:blipFill>
        <p:spPr>
          <a:xfrm>
            <a:off x="7227720" y="878040"/>
            <a:ext cx="1751040" cy="53640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52" descr="13"/>
          <p:cNvPicPr/>
          <p:nvPr/>
        </p:nvPicPr>
        <p:blipFill>
          <a:blip r:embed="rId6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53" descr="15"/>
          <p:cNvPicPr/>
          <p:nvPr/>
        </p:nvPicPr>
        <p:blipFill>
          <a:blip r:embed="rId7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57" descr="logo(trasparance)2"/>
          <p:cNvPicPr/>
          <p:nvPr/>
        </p:nvPicPr>
        <p:blipFill>
          <a:blip r:embed="rId8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58" descr="15"/>
          <p:cNvPicPr/>
          <p:nvPr/>
        </p:nvPicPr>
        <p:blipFill>
          <a:blip r:embed="rId9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82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 type="ftr" idx="4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 type="dt" idx="4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5560" indent="0" algn="r">
              <a:lnSpc>
                <a:spcPts val="1236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88888"/>
                </a:solidFill>
                <a:latin typeface="Trebuchet MS"/>
                <a:ea typeface="Trebuchet MS"/>
              </a:defRPr>
            </a:lvl1pPr>
          </a:lstStyle>
          <a:p>
            <a:pPr marL="25560" indent="0" algn="r">
              <a:lnSpc>
                <a:spcPts val="1236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2F568-FFC6-48F3-B81E-E7AC9D01E768}" type="slidenum">
              <a:rPr b="0" lang="ru-RU" sz="1200" spc="-1" strike="noStrike">
                <a:solidFill>
                  <a:srgbClr val="888888"/>
                </a:solidFill>
                <a:latin typeface="Trebuchet MS"/>
                <a:ea typeface="Trebuchet MS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10"/>
    <p:sldLayoutId id="2147483845" r:id="rId11"/>
    <p:sldLayoutId id="2147483846" r:id="rId12"/>
    <p:sldLayoutId id="2147483847" r:id="rId13"/>
    <p:sldLayoutId id="2147483848" r:id="rId14"/>
    <p:sldLayoutId id="2147483849" r:id="rId15"/>
    <p:sldLayoutId id="2147483850" r:id="rId16"/>
    <p:sldLayoutId id="2147483851" r:id="rId17"/>
    <p:sldLayoutId id="2147483852" r:id="rId18"/>
    <p:sldLayoutId id="2147483853" r:id="rId19"/>
    <p:sldLayoutId id="2147483854" r:id="rId20"/>
    <p:sldLayoutId id="2147483855" r:id="rId21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8b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6" name="Picture 40" descr="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67" name="Group 27"/>
          <p:cNvGrpSpPr/>
          <p:nvPr/>
        </p:nvGrpSpPr>
        <p:grpSpPr>
          <a:xfrm>
            <a:off x="6692760" y="228600"/>
            <a:ext cx="2451240" cy="4038480"/>
            <a:chOff x="6692760" y="228600"/>
            <a:chExt cx="2451240" cy="4038480"/>
          </a:xfrm>
        </p:grpSpPr>
        <p:pic>
          <p:nvPicPr>
            <p:cNvPr id="868" name="Picture 24" descr="11"/>
            <p:cNvPicPr/>
            <p:nvPr/>
          </p:nvPicPr>
          <p:blipFill>
            <a:blip r:embed="rId3"/>
            <a:stretch/>
          </p:blipFill>
          <p:spPr>
            <a:xfrm>
              <a:off x="6692760" y="228600"/>
              <a:ext cx="2451240" cy="403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9" name="Picture 25" descr="12"/>
            <p:cNvPicPr/>
            <p:nvPr/>
          </p:nvPicPr>
          <p:blipFill>
            <a:blip r:embed="rId4"/>
            <a:stretch/>
          </p:blipFill>
          <p:spPr>
            <a:xfrm>
              <a:off x="6958440" y="817200"/>
              <a:ext cx="1919880" cy="238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0" name="Group 44"/>
          <p:cNvGrpSpPr/>
          <p:nvPr/>
        </p:nvGrpSpPr>
        <p:grpSpPr>
          <a:xfrm>
            <a:off x="-19080" y="-57240"/>
            <a:ext cx="9182160" cy="1349640"/>
            <a:chOff x="-19080" y="-57240"/>
            <a:chExt cx="9182160" cy="1349640"/>
          </a:xfrm>
        </p:grpSpPr>
        <p:sp>
          <p:nvSpPr>
            <p:cNvPr id="871" name="Freeform 14"/>
            <p:cNvSpPr/>
            <p:nvPr/>
          </p:nvSpPr>
          <p:spPr>
            <a:xfrm flipH="1">
              <a:off x="-9720" y="-15480"/>
              <a:ext cx="9172440" cy="1307880"/>
            </a:xfrm>
            <a:custGeom>
              <a:avLst/>
              <a:gdLst/>
              <a:ahLst/>
              <a:rect l="l" t="t" r="r" b="b"/>
              <a:pathLst>
                <a:path w="5778" h="1215">
                  <a:moveTo>
                    <a:pt x="5778" y="640"/>
                  </a:moveTo>
                  <a:cubicBezTo>
                    <a:pt x="4217" y="104"/>
                    <a:pt x="3024" y="562"/>
                    <a:pt x="2656" y="668"/>
                  </a:cubicBezTo>
                  <a:cubicBezTo>
                    <a:pt x="2288" y="774"/>
                    <a:pt x="1066" y="1215"/>
                    <a:pt x="0" y="726"/>
                  </a:cubicBezTo>
                  <a:cubicBezTo>
                    <a:pt x="0" y="726"/>
                    <a:pt x="12" y="292"/>
                    <a:pt x="12" y="6"/>
                  </a:cubicBezTo>
                  <a:cubicBezTo>
                    <a:pt x="2901" y="5"/>
                    <a:pt x="5778" y="0"/>
                    <a:pt x="5778" y="0"/>
                  </a:cubicBezTo>
                  <a:cubicBezTo>
                    <a:pt x="5778" y="227"/>
                    <a:pt x="5778" y="413"/>
                    <a:pt x="5778" y="640"/>
                  </a:cubicBezTo>
                  <a:close/>
                </a:path>
              </a:pathLst>
            </a:custGeom>
            <a:solidFill>
              <a:srgbClr val="0000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15"/>
            <p:cNvSpPr/>
            <p:nvPr/>
          </p:nvSpPr>
          <p:spPr>
            <a:xfrm>
              <a:off x="-19080" y="-57240"/>
              <a:ext cx="9167760" cy="1265040"/>
            </a:xfrm>
            <a:custGeom>
              <a:avLst/>
              <a:gdLst/>
              <a:ahLst/>
              <a:rect l="l" t="t" r="r" b="b"/>
              <a:pathLst>
                <a:path w="5783" h="1176">
                  <a:moveTo>
                    <a:pt x="0" y="496"/>
                  </a:moveTo>
                  <a:cubicBezTo>
                    <a:pt x="1405" y="0"/>
                    <a:pt x="2961" y="600"/>
                    <a:pt x="3148" y="662"/>
                  </a:cubicBezTo>
                  <a:cubicBezTo>
                    <a:pt x="3335" y="724"/>
                    <a:pt x="4732" y="1176"/>
                    <a:pt x="5783" y="614"/>
                  </a:cubicBezTo>
                  <a:cubicBezTo>
                    <a:pt x="5783" y="614"/>
                    <a:pt x="5783" y="328"/>
                    <a:pt x="5783" y="42"/>
                  </a:cubicBezTo>
                  <a:cubicBezTo>
                    <a:pt x="2891" y="42"/>
                    <a:pt x="0" y="42"/>
                    <a:pt x="0" y="42"/>
                  </a:cubicBezTo>
                  <a:cubicBezTo>
                    <a:pt x="0" y="269"/>
                    <a:pt x="0" y="269"/>
                    <a:pt x="0" y="496"/>
                  </a:cubicBezTo>
                  <a:close/>
                </a:path>
              </a:pathLst>
            </a:custGeom>
            <a:solidFill>
              <a:srgbClr val="ea8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16"/>
            <p:cNvSpPr/>
            <p:nvPr/>
          </p:nvSpPr>
          <p:spPr>
            <a:xfrm>
              <a:off x="2505240" y="200880"/>
              <a:ext cx="6643440" cy="1006920"/>
            </a:xfrm>
            <a:custGeom>
              <a:avLst/>
              <a:gdLst/>
              <a:ahLst/>
              <a:rect l="l" t="t" r="r" b="b"/>
              <a:pathLst>
                <a:path w="4173" h="936">
                  <a:moveTo>
                    <a:pt x="669" y="179"/>
                  </a:moveTo>
                  <a:cubicBezTo>
                    <a:pt x="1122" y="287"/>
                    <a:pt x="1351" y="360"/>
                    <a:pt x="1538" y="422"/>
                  </a:cubicBezTo>
                  <a:cubicBezTo>
                    <a:pt x="1725" y="484"/>
                    <a:pt x="3122" y="936"/>
                    <a:pt x="4173" y="374"/>
                  </a:cubicBezTo>
                  <a:cubicBezTo>
                    <a:pt x="4173" y="374"/>
                    <a:pt x="4173" y="387"/>
                    <a:pt x="4173" y="306"/>
                  </a:cubicBezTo>
                  <a:cubicBezTo>
                    <a:pt x="3957" y="435"/>
                    <a:pt x="3346" y="626"/>
                    <a:pt x="2845" y="589"/>
                  </a:cubicBezTo>
                  <a:cubicBezTo>
                    <a:pt x="2344" y="552"/>
                    <a:pt x="1639" y="170"/>
                    <a:pt x="1165" y="85"/>
                  </a:cubicBezTo>
                  <a:cubicBezTo>
                    <a:pt x="691" y="0"/>
                    <a:pt x="261" y="21"/>
                    <a:pt x="0" y="77"/>
                  </a:cubicBezTo>
                  <a:cubicBezTo>
                    <a:pt x="2" y="84"/>
                    <a:pt x="261" y="92"/>
                    <a:pt x="669" y="179"/>
                  </a:cubicBezTo>
                  <a:close/>
                </a:path>
              </a:pathLst>
            </a:custGeom>
            <a:gradFill rotWithShape="0">
              <a:gsLst>
                <a:gs pos="0">
                  <a:srgbClr val="5d2100">
                    <a:alpha val="0"/>
                  </a:srgbClr>
                </a:gs>
                <a:gs pos="100000">
                  <a:srgbClr val="c84700">
                    <a:alpha val="5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17"/>
            <p:cNvSpPr/>
            <p:nvPr/>
          </p:nvSpPr>
          <p:spPr>
            <a:xfrm>
              <a:off x="5285160" y="-12600"/>
              <a:ext cx="3862440" cy="1177560"/>
            </a:xfrm>
            <a:custGeom>
              <a:avLst/>
              <a:gdLst/>
              <a:ahLst/>
              <a:rect l="l" t="t" r="r" b="b"/>
              <a:pathLst>
                <a:path w="2426" h="1095">
                  <a:moveTo>
                    <a:pt x="2426" y="1"/>
                  </a:moveTo>
                  <a:cubicBezTo>
                    <a:pt x="2426" y="232"/>
                    <a:pt x="2426" y="464"/>
                    <a:pt x="2426" y="464"/>
                  </a:cubicBezTo>
                  <a:cubicBezTo>
                    <a:pt x="1216" y="1095"/>
                    <a:pt x="584" y="162"/>
                    <a:pt x="0" y="0"/>
                  </a:cubicBezTo>
                  <a:cubicBezTo>
                    <a:pt x="0" y="0"/>
                    <a:pt x="1213" y="0"/>
                    <a:pt x="2426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5d2100">
                    <a:alpha val="0"/>
                  </a:srgbClr>
                </a:gs>
                <a:gs pos="100000">
                  <a:srgbClr val="c847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5" name="Picture 45" descr="8"/>
          <p:cNvPicPr/>
          <p:nvPr/>
        </p:nvPicPr>
        <p:blipFill>
          <a:blip r:embed="rId5"/>
          <a:stretch/>
        </p:blipFill>
        <p:spPr>
          <a:xfrm>
            <a:off x="7227720" y="878040"/>
            <a:ext cx="1751040" cy="536400"/>
          </a:xfrm>
          <a:prstGeom prst="rect">
            <a:avLst/>
          </a:prstGeom>
          <a:ln w="0">
            <a:noFill/>
          </a:ln>
        </p:spPr>
      </p:pic>
      <p:pic>
        <p:nvPicPr>
          <p:cNvPr id="876" name="Picture 52" descr="13"/>
          <p:cNvPicPr/>
          <p:nvPr/>
        </p:nvPicPr>
        <p:blipFill>
          <a:blip r:embed="rId6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877" name="Picture 53" descr="15"/>
          <p:cNvPicPr/>
          <p:nvPr/>
        </p:nvPicPr>
        <p:blipFill>
          <a:blip r:embed="rId7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878" name="Picture 57" descr="logo(trasparance)2"/>
          <p:cNvPicPr/>
          <p:nvPr/>
        </p:nvPicPr>
        <p:blipFill>
          <a:blip r:embed="rId8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58" descr="15"/>
          <p:cNvPicPr/>
          <p:nvPr/>
        </p:nvPicPr>
        <p:blipFill>
          <a:blip r:embed="rId9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ftr" idx="4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dt" idx="5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5560" indent="0" algn="r">
              <a:lnSpc>
                <a:spcPts val="1236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88888"/>
                </a:solidFill>
                <a:latin typeface="Trebuchet MS"/>
                <a:ea typeface="Trebuchet MS"/>
              </a:defRPr>
            </a:lvl1pPr>
          </a:lstStyle>
          <a:p>
            <a:pPr marL="25560" indent="0" algn="r">
              <a:lnSpc>
                <a:spcPts val="1236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91A1C-BE82-4377-B715-B84E1AE4F7CA}" type="slidenum">
              <a:rPr b="0" lang="ru-RU" sz="1200" spc="-1" strike="noStrike">
                <a:solidFill>
                  <a:srgbClr val="888888"/>
                </a:solidFill>
                <a:latin typeface="Trebuchet MS"/>
                <a:ea typeface="Trebuchet MS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10"/>
    <p:sldLayoutId id="2147483858" r:id="rId11"/>
    <p:sldLayoutId id="2147483859" r:id="rId12"/>
    <p:sldLayoutId id="2147483860" r:id="rId13"/>
    <p:sldLayoutId id="2147483861" r:id="rId14"/>
    <p:sldLayoutId id="2147483862" r:id="rId15"/>
    <p:sldLayoutId id="2147483863" r:id="rId16"/>
    <p:sldLayoutId id="2147483864" r:id="rId17"/>
    <p:sldLayoutId id="2147483865" r:id="rId18"/>
    <p:sldLayoutId id="2147483866" r:id="rId19"/>
    <p:sldLayoutId id="2147483867" r:id="rId20"/>
    <p:sldLayoutId id="2147483868" r:id="rId21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8b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Picture 40" descr="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22" name="Group 27"/>
          <p:cNvGrpSpPr/>
          <p:nvPr/>
        </p:nvGrpSpPr>
        <p:grpSpPr>
          <a:xfrm>
            <a:off x="6692760" y="228600"/>
            <a:ext cx="2451240" cy="4038480"/>
            <a:chOff x="6692760" y="228600"/>
            <a:chExt cx="2451240" cy="4038480"/>
          </a:xfrm>
        </p:grpSpPr>
        <p:pic>
          <p:nvPicPr>
            <p:cNvPr id="923" name="Picture 24" descr="11"/>
            <p:cNvPicPr/>
            <p:nvPr/>
          </p:nvPicPr>
          <p:blipFill>
            <a:blip r:embed="rId3"/>
            <a:stretch/>
          </p:blipFill>
          <p:spPr>
            <a:xfrm>
              <a:off x="6692760" y="228600"/>
              <a:ext cx="2451240" cy="403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4" name="Picture 25" descr="12"/>
            <p:cNvPicPr/>
            <p:nvPr/>
          </p:nvPicPr>
          <p:blipFill>
            <a:blip r:embed="rId4"/>
            <a:stretch/>
          </p:blipFill>
          <p:spPr>
            <a:xfrm>
              <a:off x="6958440" y="817200"/>
              <a:ext cx="1919880" cy="238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5" name="Group 44"/>
          <p:cNvGrpSpPr/>
          <p:nvPr/>
        </p:nvGrpSpPr>
        <p:grpSpPr>
          <a:xfrm>
            <a:off x="-19080" y="-57240"/>
            <a:ext cx="9182160" cy="1349640"/>
            <a:chOff x="-19080" y="-57240"/>
            <a:chExt cx="9182160" cy="1349640"/>
          </a:xfrm>
        </p:grpSpPr>
        <p:sp>
          <p:nvSpPr>
            <p:cNvPr id="926" name="Freeform 14"/>
            <p:cNvSpPr/>
            <p:nvPr/>
          </p:nvSpPr>
          <p:spPr>
            <a:xfrm flipH="1">
              <a:off x="-9720" y="-15480"/>
              <a:ext cx="9172440" cy="1307880"/>
            </a:xfrm>
            <a:custGeom>
              <a:avLst/>
              <a:gdLst/>
              <a:ahLst/>
              <a:rect l="l" t="t" r="r" b="b"/>
              <a:pathLst>
                <a:path w="5778" h="1215">
                  <a:moveTo>
                    <a:pt x="5778" y="640"/>
                  </a:moveTo>
                  <a:cubicBezTo>
                    <a:pt x="4217" y="104"/>
                    <a:pt x="3024" y="562"/>
                    <a:pt x="2656" y="668"/>
                  </a:cubicBezTo>
                  <a:cubicBezTo>
                    <a:pt x="2288" y="774"/>
                    <a:pt x="1066" y="1215"/>
                    <a:pt x="0" y="726"/>
                  </a:cubicBezTo>
                  <a:cubicBezTo>
                    <a:pt x="0" y="726"/>
                    <a:pt x="12" y="292"/>
                    <a:pt x="12" y="6"/>
                  </a:cubicBezTo>
                  <a:cubicBezTo>
                    <a:pt x="2901" y="5"/>
                    <a:pt x="5778" y="0"/>
                    <a:pt x="5778" y="0"/>
                  </a:cubicBezTo>
                  <a:cubicBezTo>
                    <a:pt x="5778" y="227"/>
                    <a:pt x="5778" y="413"/>
                    <a:pt x="5778" y="640"/>
                  </a:cubicBezTo>
                  <a:close/>
                </a:path>
              </a:pathLst>
            </a:custGeom>
            <a:solidFill>
              <a:srgbClr val="0000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15"/>
            <p:cNvSpPr/>
            <p:nvPr/>
          </p:nvSpPr>
          <p:spPr>
            <a:xfrm>
              <a:off x="-19080" y="-57240"/>
              <a:ext cx="9167760" cy="1265040"/>
            </a:xfrm>
            <a:custGeom>
              <a:avLst/>
              <a:gdLst/>
              <a:ahLst/>
              <a:rect l="l" t="t" r="r" b="b"/>
              <a:pathLst>
                <a:path w="5783" h="1176">
                  <a:moveTo>
                    <a:pt x="0" y="496"/>
                  </a:moveTo>
                  <a:cubicBezTo>
                    <a:pt x="1405" y="0"/>
                    <a:pt x="2961" y="600"/>
                    <a:pt x="3148" y="662"/>
                  </a:cubicBezTo>
                  <a:cubicBezTo>
                    <a:pt x="3335" y="724"/>
                    <a:pt x="4732" y="1176"/>
                    <a:pt x="5783" y="614"/>
                  </a:cubicBezTo>
                  <a:cubicBezTo>
                    <a:pt x="5783" y="614"/>
                    <a:pt x="5783" y="328"/>
                    <a:pt x="5783" y="42"/>
                  </a:cubicBezTo>
                  <a:cubicBezTo>
                    <a:pt x="2891" y="42"/>
                    <a:pt x="0" y="42"/>
                    <a:pt x="0" y="42"/>
                  </a:cubicBezTo>
                  <a:cubicBezTo>
                    <a:pt x="0" y="269"/>
                    <a:pt x="0" y="269"/>
                    <a:pt x="0" y="496"/>
                  </a:cubicBezTo>
                  <a:close/>
                </a:path>
              </a:pathLst>
            </a:custGeom>
            <a:solidFill>
              <a:srgbClr val="ea8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16"/>
            <p:cNvSpPr/>
            <p:nvPr/>
          </p:nvSpPr>
          <p:spPr>
            <a:xfrm>
              <a:off x="2505240" y="200880"/>
              <a:ext cx="6643440" cy="1006920"/>
            </a:xfrm>
            <a:custGeom>
              <a:avLst/>
              <a:gdLst/>
              <a:ahLst/>
              <a:rect l="l" t="t" r="r" b="b"/>
              <a:pathLst>
                <a:path w="4173" h="936">
                  <a:moveTo>
                    <a:pt x="669" y="179"/>
                  </a:moveTo>
                  <a:cubicBezTo>
                    <a:pt x="1122" y="287"/>
                    <a:pt x="1351" y="360"/>
                    <a:pt x="1538" y="422"/>
                  </a:cubicBezTo>
                  <a:cubicBezTo>
                    <a:pt x="1725" y="484"/>
                    <a:pt x="3122" y="936"/>
                    <a:pt x="4173" y="374"/>
                  </a:cubicBezTo>
                  <a:cubicBezTo>
                    <a:pt x="4173" y="374"/>
                    <a:pt x="4173" y="387"/>
                    <a:pt x="4173" y="306"/>
                  </a:cubicBezTo>
                  <a:cubicBezTo>
                    <a:pt x="3957" y="435"/>
                    <a:pt x="3346" y="626"/>
                    <a:pt x="2845" y="589"/>
                  </a:cubicBezTo>
                  <a:cubicBezTo>
                    <a:pt x="2344" y="552"/>
                    <a:pt x="1639" y="170"/>
                    <a:pt x="1165" y="85"/>
                  </a:cubicBezTo>
                  <a:cubicBezTo>
                    <a:pt x="691" y="0"/>
                    <a:pt x="261" y="21"/>
                    <a:pt x="0" y="77"/>
                  </a:cubicBezTo>
                  <a:cubicBezTo>
                    <a:pt x="2" y="84"/>
                    <a:pt x="261" y="92"/>
                    <a:pt x="669" y="179"/>
                  </a:cubicBezTo>
                  <a:close/>
                </a:path>
              </a:pathLst>
            </a:custGeom>
            <a:gradFill rotWithShape="0">
              <a:gsLst>
                <a:gs pos="0">
                  <a:srgbClr val="5d2100">
                    <a:alpha val="0"/>
                  </a:srgbClr>
                </a:gs>
                <a:gs pos="100000">
                  <a:srgbClr val="c84700">
                    <a:alpha val="5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17"/>
            <p:cNvSpPr/>
            <p:nvPr/>
          </p:nvSpPr>
          <p:spPr>
            <a:xfrm>
              <a:off x="5285160" y="-12600"/>
              <a:ext cx="3862440" cy="1177560"/>
            </a:xfrm>
            <a:custGeom>
              <a:avLst/>
              <a:gdLst/>
              <a:ahLst/>
              <a:rect l="l" t="t" r="r" b="b"/>
              <a:pathLst>
                <a:path w="2426" h="1095">
                  <a:moveTo>
                    <a:pt x="2426" y="1"/>
                  </a:moveTo>
                  <a:cubicBezTo>
                    <a:pt x="2426" y="232"/>
                    <a:pt x="2426" y="464"/>
                    <a:pt x="2426" y="464"/>
                  </a:cubicBezTo>
                  <a:cubicBezTo>
                    <a:pt x="1216" y="1095"/>
                    <a:pt x="584" y="162"/>
                    <a:pt x="0" y="0"/>
                  </a:cubicBezTo>
                  <a:cubicBezTo>
                    <a:pt x="0" y="0"/>
                    <a:pt x="1213" y="0"/>
                    <a:pt x="2426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5d2100">
                    <a:alpha val="0"/>
                  </a:srgbClr>
                </a:gs>
                <a:gs pos="100000">
                  <a:srgbClr val="c847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0" name="Picture 45" descr="8"/>
          <p:cNvPicPr/>
          <p:nvPr/>
        </p:nvPicPr>
        <p:blipFill>
          <a:blip r:embed="rId5"/>
          <a:stretch/>
        </p:blipFill>
        <p:spPr>
          <a:xfrm>
            <a:off x="7227720" y="878040"/>
            <a:ext cx="1751040" cy="53640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52" descr="13"/>
          <p:cNvPicPr/>
          <p:nvPr/>
        </p:nvPicPr>
        <p:blipFill>
          <a:blip r:embed="rId6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53" descr="15"/>
          <p:cNvPicPr/>
          <p:nvPr/>
        </p:nvPicPr>
        <p:blipFill>
          <a:blip r:embed="rId7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57" descr="logo(trasparance)2"/>
          <p:cNvPicPr/>
          <p:nvPr/>
        </p:nvPicPr>
        <p:blipFill>
          <a:blip r:embed="rId8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58" descr="15"/>
          <p:cNvPicPr/>
          <p:nvPr/>
        </p:nvPicPr>
        <p:blipFill>
          <a:blip r:embed="rId9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93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 type="ftr" idx="5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 type="dt" idx="5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5560" indent="0" algn="r">
              <a:lnSpc>
                <a:spcPts val="1236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88888"/>
                </a:solidFill>
                <a:latin typeface="Trebuchet MS"/>
                <a:ea typeface="Trebuchet MS"/>
              </a:defRPr>
            </a:lvl1pPr>
          </a:lstStyle>
          <a:p>
            <a:pPr marL="25560" indent="0" algn="r">
              <a:lnSpc>
                <a:spcPts val="1236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DEE00-DF8A-407F-B28F-EA520735B290}" type="slidenum">
              <a:rPr b="0" lang="ru-RU" sz="1200" spc="-1" strike="noStrike">
                <a:solidFill>
                  <a:srgbClr val="888888"/>
                </a:solidFill>
                <a:latin typeface="Trebuchet MS"/>
                <a:ea typeface="Trebuchet MS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10"/>
    <p:sldLayoutId id="2147483871" r:id="rId11"/>
    <p:sldLayoutId id="2147483872" r:id="rId12"/>
    <p:sldLayoutId id="2147483873" r:id="rId13"/>
    <p:sldLayoutId id="2147483874" r:id="rId14"/>
    <p:sldLayoutId id="2147483875" r:id="rId15"/>
    <p:sldLayoutId id="2147483876" r:id="rId16"/>
    <p:sldLayoutId id="2147483877" r:id="rId17"/>
    <p:sldLayoutId id="2147483878" r:id="rId18"/>
    <p:sldLayoutId id="2147483879" r:id="rId19"/>
    <p:sldLayoutId id="2147483880" r:id="rId20"/>
    <p:sldLayoutId id="2147483881" r:id="rId21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8b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6" name="Picture 40" descr="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77" name="Group 27"/>
          <p:cNvGrpSpPr/>
          <p:nvPr/>
        </p:nvGrpSpPr>
        <p:grpSpPr>
          <a:xfrm>
            <a:off x="6692760" y="228600"/>
            <a:ext cx="2451240" cy="4038480"/>
            <a:chOff x="6692760" y="228600"/>
            <a:chExt cx="2451240" cy="4038480"/>
          </a:xfrm>
        </p:grpSpPr>
        <p:pic>
          <p:nvPicPr>
            <p:cNvPr id="978" name="Picture 24" descr="11"/>
            <p:cNvPicPr/>
            <p:nvPr/>
          </p:nvPicPr>
          <p:blipFill>
            <a:blip r:embed="rId3"/>
            <a:stretch/>
          </p:blipFill>
          <p:spPr>
            <a:xfrm>
              <a:off x="6692760" y="228600"/>
              <a:ext cx="2451240" cy="403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9" name="Picture 25" descr="12"/>
            <p:cNvPicPr/>
            <p:nvPr/>
          </p:nvPicPr>
          <p:blipFill>
            <a:blip r:embed="rId4"/>
            <a:stretch/>
          </p:blipFill>
          <p:spPr>
            <a:xfrm>
              <a:off x="6958440" y="817200"/>
              <a:ext cx="1919880" cy="238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80" name="Group 44"/>
          <p:cNvGrpSpPr/>
          <p:nvPr/>
        </p:nvGrpSpPr>
        <p:grpSpPr>
          <a:xfrm>
            <a:off x="-19080" y="-57240"/>
            <a:ext cx="9182160" cy="1349640"/>
            <a:chOff x="-19080" y="-57240"/>
            <a:chExt cx="9182160" cy="1349640"/>
          </a:xfrm>
        </p:grpSpPr>
        <p:sp>
          <p:nvSpPr>
            <p:cNvPr id="981" name="Freeform 14"/>
            <p:cNvSpPr/>
            <p:nvPr/>
          </p:nvSpPr>
          <p:spPr>
            <a:xfrm flipH="1">
              <a:off x="-9720" y="-15480"/>
              <a:ext cx="9172440" cy="1307880"/>
            </a:xfrm>
            <a:custGeom>
              <a:avLst/>
              <a:gdLst/>
              <a:ahLst/>
              <a:rect l="l" t="t" r="r" b="b"/>
              <a:pathLst>
                <a:path w="5778" h="1215">
                  <a:moveTo>
                    <a:pt x="5778" y="640"/>
                  </a:moveTo>
                  <a:cubicBezTo>
                    <a:pt x="4217" y="104"/>
                    <a:pt x="3024" y="562"/>
                    <a:pt x="2656" y="668"/>
                  </a:cubicBezTo>
                  <a:cubicBezTo>
                    <a:pt x="2288" y="774"/>
                    <a:pt x="1066" y="1215"/>
                    <a:pt x="0" y="726"/>
                  </a:cubicBezTo>
                  <a:cubicBezTo>
                    <a:pt x="0" y="726"/>
                    <a:pt x="12" y="292"/>
                    <a:pt x="12" y="6"/>
                  </a:cubicBezTo>
                  <a:cubicBezTo>
                    <a:pt x="2901" y="5"/>
                    <a:pt x="5778" y="0"/>
                    <a:pt x="5778" y="0"/>
                  </a:cubicBezTo>
                  <a:cubicBezTo>
                    <a:pt x="5778" y="227"/>
                    <a:pt x="5778" y="413"/>
                    <a:pt x="5778" y="640"/>
                  </a:cubicBezTo>
                  <a:close/>
                </a:path>
              </a:pathLst>
            </a:custGeom>
            <a:solidFill>
              <a:srgbClr val="0000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15"/>
            <p:cNvSpPr/>
            <p:nvPr/>
          </p:nvSpPr>
          <p:spPr>
            <a:xfrm>
              <a:off x="-19080" y="-57240"/>
              <a:ext cx="9167760" cy="1265040"/>
            </a:xfrm>
            <a:custGeom>
              <a:avLst/>
              <a:gdLst/>
              <a:ahLst/>
              <a:rect l="l" t="t" r="r" b="b"/>
              <a:pathLst>
                <a:path w="5783" h="1176">
                  <a:moveTo>
                    <a:pt x="0" y="496"/>
                  </a:moveTo>
                  <a:cubicBezTo>
                    <a:pt x="1405" y="0"/>
                    <a:pt x="2961" y="600"/>
                    <a:pt x="3148" y="662"/>
                  </a:cubicBezTo>
                  <a:cubicBezTo>
                    <a:pt x="3335" y="724"/>
                    <a:pt x="4732" y="1176"/>
                    <a:pt x="5783" y="614"/>
                  </a:cubicBezTo>
                  <a:cubicBezTo>
                    <a:pt x="5783" y="614"/>
                    <a:pt x="5783" y="328"/>
                    <a:pt x="5783" y="42"/>
                  </a:cubicBezTo>
                  <a:cubicBezTo>
                    <a:pt x="2891" y="42"/>
                    <a:pt x="0" y="42"/>
                    <a:pt x="0" y="42"/>
                  </a:cubicBezTo>
                  <a:cubicBezTo>
                    <a:pt x="0" y="269"/>
                    <a:pt x="0" y="269"/>
                    <a:pt x="0" y="496"/>
                  </a:cubicBezTo>
                  <a:close/>
                </a:path>
              </a:pathLst>
            </a:custGeom>
            <a:solidFill>
              <a:srgbClr val="ea8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16"/>
            <p:cNvSpPr/>
            <p:nvPr/>
          </p:nvSpPr>
          <p:spPr>
            <a:xfrm>
              <a:off x="2505240" y="200880"/>
              <a:ext cx="6643440" cy="1006920"/>
            </a:xfrm>
            <a:custGeom>
              <a:avLst/>
              <a:gdLst/>
              <a:ahLst/>
              <a:rect l="l" t="t" r="r" b="b"/>
              <a:pathLst>
                <a:path w="4173" h="936">
                  <a:moveTo>
                    <a:pt x="669" y="179"/>
                  </a:moveTo>
                  <a:cubicBezTo>
                    <a:pt x="1122" y="287"/>
                    <a:pt x="1351" y="360"/>
                    <a:pt x="1538" y="422"/>
                  </a:cubicBezTo>
                  <a:cubicBezTo>
                    <a:pt x="1725" y="484"/>
                    <a:pt x="3122" y="936"/>
                    <a:pt x="4173" y="374"/>
                  </a:cubicBezTo>
                  <a:cubicBezTo>
                    <a:pt x="4173" y="374"/>
                    <a:pt x="4173" y="387"/>
                    <a:pt x="4173" y="306"/>
                  </a:cubicBezTo>
                  <a:cubicBezTo>
                    <a:pt x="3957" y="435"/>
                    <a:pt x="3346" y="626"/>
                    <a:pt x="2845" y="589"/>
                  </a:cubicBezTo>
                  <a:cubicBezTo>
                    <a:pt x="2344" y="552"/>
                    <a:pt x="1639" y="170"/>
                    <a:pt x="1165" y="85"/>
                  </a:cubicBezTo>
                  <a:cubicBezTo>
                    <a:pt x="691" y="0"/>
                    <a:pt x="261" y="21"/>
                    <a:pt x="0" y="77"/>
                  </a:cubicBezTo>
                  <a:cubicBezTo>
                    <a:pt x="2" y="84"/>
                    <a:pt x="261" y="92"/>
                    <a:pt x="669" y="179"/>
                  </a:cubicBezTo>
                  <a:close/>
                </a:path>
              </a:pathLst>
            </a:custGeom>
            <a:gradFill rotWithShape="0">
              <a:gsLst>
                <a:gs pos="0">
                  <a:srgbClr val="5d2100">
                    <a:alpha val="0"/>
                  </a:srgbClr>
                </a:gs>
                <a:gs pos="100000">
                  <a:srgbClr val="c84700">
                    <a:alpha val="5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17"/>
            <p:cNvSpPr/>
            <p:nvPr/>
          </p:nvSpPr>
          <p:spPr>
            <a:xfrm>
              <a:off x="5285160" y="-12600"/>
              <a:ext cx="3862440" cy="1177560"/>
            </a:xfrm>
            <a:custGeom>
              <a:avLst/>
              <a:gdLst/>
              <a:ahLst/>
              <a:rect l="l" t="t" r="r" b="b"/>
              <a:pathLst>
                <a:path w="2426" h="1095">
                  <a:moveTo>
                    <a:pt x="2426" y="1"/>
                  </a:moveTo>
                  <a:cubicBezTo>
                    <a:pt x="2426" y="232"/>
                    <a:pt x="2426" y="464"/>
                    <a:pt x="2426" y="464"/>
                  </a:cubicBezTo>
                  <a:cubicBezTo>
                    <a:pt x="1216" y="1095"/>
                    <a:pt x="584" y="162"/>
                    <a:pt x="0" y="0"/>
                  </a:cubicBezTo>
                  <a:cubicBezTo>
                    <a:pt x="0" y="0"/>
                    <a:pt x="1213" y="0"/>
                    <a:pt x="2426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5d2100">
                    <a:alpha val="0"/>
                  </a:srgbClr>
                </a:gs>
                <a:gs pos="100000">
                  <a:srgbClr val="c847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85" name="Picture 45" descr="8"/>
          <p:cNvPicPr/>
          <p:nvPr/>
        </p:nvPicPr>
        <p:blipFill>
          <a:blip r:embed="rId5"/>
          <a:stretch/>
        </p:blipFill>
        <p:spPr>
          <a:xfrm>
            <a:off x="7227720" y="878040"/>
            <a:ext cx="1751040" cy="53640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52" descr="13"/>
          <p:cNvPicPr/>
          <p:nvPr/>
        </p:nvPicPr>
        <p:blipFill>
          <a:blip r:embed="rId6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53" descr="15"/>
          <p:cNvPicPr/>
          <p:nvPr/>
        </p:nvPicPr>
        <p:blipFill>
          <a:blip r:embed="rId7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57" descr="logo(trasparance)2"/>
          <p:cNvPicPr/>
          <p:nvPr/>
        </p:nvPicPr>
        <p:blipFill>
          <a:blip r:embed="rId8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58" descr="15"/>
          <p:cNvPicPr/>
          <p:nvPr/>
        </p:nvPicPr>
        <p:blipFill>
          <a:blip r:embed="rId9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 type="ftr" idx="5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 type="dt" idx="5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5560" indent="0" algn="r">
              <a:lnSpc>
                <a:spcPts val="1236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88888"/>
                </a:solidFill>
                <a:latin typeface="Trebuchet MS"/>
                <a:ea typeface="Trebuchet MS"/>
              </a:defRPr>
            </a:lvl1pPr>
          </a:lstStyle>
          <a:p>
            <a:pPr marL="25560" indent="0" algn="r">
              <a:lnSpc>
                <a:spcPts val="1236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A7ADE-19C5-404F-AC9F-70BC551EA257}" type="slidenum">
              <a:rPr b="0" lang="ru-RU" sz="1200" spc="-1" strike="noStrike">
                <a:solidFill>
                  <a:srgbClr val="888888"/>
                </a:solidFill>
                <a:latin typeface="Trebuchet MS"/>
                <a:ea typeface="Trebuchet MS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10"/>
    <p:sldLayoutId id="2147483884" r:id="rId11"/>
    <p:sldLayoutId id="2147483885" r:id="rId12"/>
    <p:sldLayoutId id="2147483886" r:id="rId13"/>
    <p:sldLayoutId id="2147483887" r:id="rId14"/>
    <p:sldLayoutId id="2147483888" r:id="rId15"/>
    <p:sldLayoutId id="2147483889" r:id="rId16"/>
    <p:sldLayoutId id="2147483890" r:id="rId17"/>
    <p:sldLayoutId id="2147483891" r:id="rId18"/>
    <p:sldLayoutId id="2147483892" r:id="rId19"/>
    <p:sldLayoutId id="2147483893" r:id="rId20"/>
    <p:sldLayoutId id="2147483894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8b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0" descr="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27"/>
          <p:cNvGrpSpPr/>
          <p:nvPr/>
        </p:nvGrpSpPr>
        <p:grpSpPr>
          <a:xfrm>
            <a:off x="6692760" y="228600"/>
            <a:ext cx="2451240" cy="4038480"/>
            <a:chOff x="6692760" y="228600"/>
            <a:chExt cx="2451240" cy="4038480"/>
          </a:xfrm>
        </p:grpSpPr>
        <p:pic>
          <p:nvPicPr>
            <p:cNvPr id="57" name="Picture 24" descr="11"/>
            <p:cNvPicPr/>
            <p:nvPr/>
          </p:nvPicPr>
          <p:blipFill>
            <a:blip r:embed="rId3"/>
            <a:stretch/>
          </p:blipFill>
          <p:spPr>
            <a:xfrm>
              <a:off x="6692760" y="228600"/>
              <a:ext cx="2451240" cy="403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25" descr="12"/>
            <p:cNvPicPr/>
            <p:nvPr/>
          </p:nvPicPr>
          <p:blipFill>
            <a:blip r:embed="rId4"/>
            <a:stretch/>
          </p:blipFill>
          <p:spPr>
            <a:xfrm>
              <a:off x="6958440" y="817200"/>
              <a:ext cx="1919880" cy="238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" name="Group 44"/>
          <p:cNvGrpSpPr/>
          <p:nvPr/>
        </p:nvGrpSpPr>
        <p:grpSpPr>
          <a:xfrm>
            <a:off x="-19080" y="-57240"/>
            <a:ext cx="9182160" cy="1349640"/>
            <a:chOff x="-19080" y="-57240"/>
            <a:chExt cx="9182160" cy="1349640"/>
          </a:xfrm>
        </p:grpSpPr>
        <p:sp>
          <p:nvSpPr>
            <p:cNvPr id="60" name="Freeform 14"/>
            <p:cNvSpPr/>
            <p:nvPr/>
          </p:nvSpPr>
          <p:spPr>
            <a:xfrm flipH="1">
              <a:off x="-9720" y="-15480"/>
              <a:ext cx="9172440" cy="1307880"/>
            </a:xfrm>
            <a:custGeom>
              <a:avLst/>
              <a:gdLst/>
              <a:ahLst/>
              <a:rect l="l" t="t" r="r" b="b"/>
              <a:pathLst>
                <a:path w="5778" h="1215">
                  <a:moveTo>
                    <a:pt x="5778" y="640"/>
                  </a:moveTo>
                  <a:cubicBezTo>
                    <a:pt x="4217" y="104"/>
                    <a:pt x="3024" y="562"/>
                    <a:pt x="2656" y="668"/>
                  </a:cubicBezTo>
                  <a:cubicBezTo>
                    <a:pt x="2288" y="774"/>
                    <a:pt x="1066" y="1215"/>
                    <a:pt x="0" y="726"/>
                  </a:cubicBezTo>
                  <a:cubicBezTo>
                    <a:pt x="0" y="726"/>
                    <a:pt x="12" y="292"/>
                    <a:pt x="12" y="6"/>
                  </a:cubicBezTo>
                  <a:cubicBezTo>
                    <a:pt x="2901" y="5"/>
                    <a:pt x="5778" y="0"/>
                    <a:pt x="5778" y="0"/>
                  </a:cubicBezTo>
                  <a:cubicBezTo>
                    <a:pt x="5778" y="227"/>
                    <a:pt x="5778" y="413"/>
                    <a:pt x="5778" y="640"/>
                  </a:cubicBezTo>
                  <a:close/>
                </a:path>
              </a:pathLst>
            </a:custGeom>
            <a:solidFill>
              <a:srgbClr val="0000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5"/>
            <p:cNvSpPr/>
            <p:nvPr/>
          </p:nvSpPr>
          <p:spPr>
            <a:xfrm>
              <a:off x="-19080" y="-57240"/>
              <a:ext cx="9167760" cy="1265040"/>
            </a:xfrm>
            <a:custGeom>
              <a:avLst/>
              <a:gdLst/>
              <a:ahLst/>
              <a:rect l="l" t="t" r="r" b="b"/>
              <a:pathLst>
                <a:path w="5783" h="1176">
                  <a:moveTo>
                    <a:pt x="0" y="496"/>
                  </a:moveTo>
                  <a:cubicBezTo>
                    <a:pt x="1405" y="0"/>
                    <a:pt x="2961" y="600"/>
                    <a:pt x="3148" y="662"/>
                  </a:cubicBezTo>
                  <a:cubicBezTo>
                    <a:pt x="3335" y="724"/>
                    <a:pt x="4732" y="1176"/>
                    <a:pt x="5783" y="614"/>
                  </a:cubicBezTo>
                  <a:cubicBezTo>
                    <a:pt x="5783" y="614"/>
                    <a:pt x="5783" y="328"/>
                    <a:pt x="5783" y="42"/>
                  </a:cubicBezTo>
                  <a:cubicBezTo>
                    <a:pt x="2891" y="42"/>
                    <a:pt x="0" y="42"/>
                    <a:pt x="0" y="42"/>
                  </a:cubicBezTo>
                  <a:cubicBezTo>
                    <a:pt x="0" y="269"/>
                    <a:pt x="0" y="269"/>
                    <a:pt x="0" y="496"/>
                  </a:cubicBezTo>
                  <a:close/>
                </a:path>
              </a:pathLst>
            </a:custGeom>
            <a:solidFill>
              <a:srgbClr val="ea8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6"/>
            <p:cNvSpPr/>
            <p:nvPr/>
          </p:nvSpPr>
          <p:spPr>
            <a:xfrm>
              <a:off x="2505240" y="200880"/>
              <a:ext cx="6643440" cy="1006920"/>
            </a:xfrm>
            <a:custGeom>
              <a:avLst/>
              <a:gdLst/>
              <a:ahLst/>
              <a:rect l="l" t="t" r="r" b="b"/>
              <a:pathLst>
                <a:path w="4173" h="936">
                  <a:moveTo>
                    <a:pt x="669" y="179"/>
                  </a:moveTo>
                  <a:cubicBezTo>
                    <a:pt x="1122" y="287"/>
                    <a:pt x="1351" y="360"/>
                    <a:pt x="1538" y="422"/>
                  </a:cubicBezTo>
                  <a:cubicBezTo>
                    <a:pt x="1725" y="484"/>
                    <a:pt x="3122" y="936"/>
                    <a:pt x="4173" y="374"/>
                  </a:cubicBezTo>
                  <a:cubicBezTo>
                    <a:pt x="4173" y="374"/>
                    <a:pt x="4173" y="387"/>
                    <a:pt x="4173" y="306"/>
                  </a:cubicBezTo>
                  <a:cubicBezTo>
                    <a:pt x="3957" y="435"/>
                    <a:pt x="3346" y="626"/>
                    <a:pt x="2845" y="589"/>
                  </a:cubicBezTo>
                  <a:cubicBezTo>
                    <a:pt x="2344" y="552"/>
                    <a:pt x="1639" y="170"/>
                    <a:pt x="1165" y="85"/>
                  </a:cubicBezTo>
                  <a:cubicBezTo>
                    <a:pt x="691" y="0"/>
                    <a:pt x="261" y="21"/>
                    <a:pt x="0" y="77"/>
                  </a:cubicBezTo>
                  <a:cubicBezTo>
                    <a:pt x="2" y="84"/>
                    <a:pt x="261" y="92"/>
                    <a:pt x="669" y="179"/>
                  </a:cubicBezTo>
                  <a:close/>
                </a:path>
              </a:pathLst>
            </a:custGeom>
            <a:gradFill rotWithShape="0">
              <a:gsLst>
                <a:gs pos="0">
                  <a:srgbClr val="5d2100">
                    <a:alpha val="0"/>
                  </a:srgbClr>
                </a:gs>
                <a:gs pos="100000">
                  <a:srgbClr val="c84700">
                    <a:alpha val="5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7"/>
            <p:cNvSpPr/>
            <p:nvPr/>
          </p:nvSpPr>
          <p:spPr>
            <a:xfrm>
              <a:off x="5285160" y="-12600"/>
              <a:ext cx="3862440" cy="1177560"/>
            </a:xfrm>
            <a:custGeom>
              <a:avLst/>
              <a:gdLst/>
              <a:ahLst/>
              <a:rect l="l" t="t" r="r" b="b"/>
              <a:pathLst>
                <a:path w="2426" h="1095">
                  <a:moveTo>
                    <a:pt x="2426" y="1"/>
                  </a:moveTo>
                  <a:cubicBezTo>
                    <a:pt x="2426" y="232"/>
                    <a:pt x="2426" y="464"/>
                    <a:pt x="2426" y="464"/>
                  </a:cubicBezTo>
                  <a:cubicBezTo>
                    <a:pt x="1216" y="1095"/>
                    <a:pt x="584" y="162"/>
                    <a:pt x="0" y="0"/>
                  </a:cubicBezTo>
                  <a:cubicBezTo>
                    <a:pt x="0" y="0"/>
                    <a:pt x="1213" y="0"/>
                    <a:pt x="2426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5d2100">
                    <a:alpha val="0"/>
                  </a:srgbClr>
                </a:gs>
                <a:gs pos="100000">
                  <a:srgbClr val="c847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B5119-B460-4999-8A0E-37A11B744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5" descr="8"/>
          <p:cNvPicPr/>
          <p:nvPr/>
        </p:nvPicPr>
        <p:blipFill>
          <a:blip r:embed="rId5"/>
          <a:stretch/>
        </p:blipFill>
        <p:spPr>
          <a:xfrm>
            <a:off x="7227720" y="878040"/>
            <a:ext cx="1751040" cy="536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2" descr="13"/>
          <p:cNvPicPr/>
          <p:nvPr/>
        </p:nvPicPr>
        <p:blipFill>
          <a:blip r:embed="rId6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3" descr="15"/>
          <p:cNvPicPr/>
          <p:nvPr/>
        </p:nvPicPr>
        <p:blipFill>
          <a:blip r:embed="rId7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7" descr="logo(trasparance)2"/>
          <p:cNvPicPr/>
          <p:nvPr/>
        </p:nvPicPr>
        <p:blipFill>
          <a:blip r:embed="rId8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8" descr="15"/>
          <p:cNvPicPr/>
          <p:nvPr/>
        </p:nvPicPr>
        <p:blipFill>
          <a:blip r:embed="rId9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B3BC1-A6AA-42BF-81E3-ECFCC034AE81}" type="slidenum">
              <a:rPr b="1" i="1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7A31E-0F49-472E-B0B5-845DFA968E0A}" type="slidenum">
              <a:rPr b="1" i="1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566E3-F637-4880-A029-F3B562A3D164}" type="slidenum">
              <a:rPr b="1" i="1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13D27-8567-449D-AD2F-528B4CA66FB2}" type="slidenum">
              <a:rPr b="1" i="1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2F95F-E910-474E-A1B4-D6A85B777AC8}" type="slidenum">
              <a:rPr b="1" i="1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44CF3-CCBE-4AF3-AE84-0F96AAC00BF7}" type="slidenum">
              <a:rPr b="1" i="1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0DEAC-91C2-4ECF-96C4-ABCF4DB761EE}" type="slidenum">
              <a:rPr b="1" i="1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3188-0629-445F-8F2B-6DE932337A4F}" type="slidenum">
              <a:rPr b="1" i="1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44FAC-AFAF-4734-B783-FEA839F3DB9B}" type="slidenum">
              <a:rPr b="1" i="1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5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0C4EA-D13C-492B-9DDF-8426B1AC2611}" type="slidenum">
              <a:rPr b="1" i="1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8b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0" descr="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27"/>
          <p:cNvGrpSpPr/>
          <p:nvPr/>
        </p:nvGrpSpPr>
        <p:grpSpPr>
          <a:xfrm>
            <a:off x="6692760" y="228600"/>
            <a:ext cx="2451240" cy="4038480"/>
            <a:chOff x="6692760" y="228600"/>
            <a:chExt cx="2451240" cy="4038480"/>
          </a:xfrm>
        </p:grpSpPr>
        <p:pic>
          <p:nvPicPr>
            <p:cNvPr id="112" name="Picture 24" descr="11"/>
            <p:cNvPicPr/>
            <p:nvPr/>
          </p:nvPicPr>
          <p:blipFill>
            <a:blip r:embed="rId3"/>
            <a:stretch/>
          </p:blipFill>
          <p:spPr>
            <a:xfrm>
              <a:off x="6692760" y="228600"/>
              <a:ext cx="2451240" cy="403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icture 25" descr="12"/>
            <p:cNvPicPr/>
            <p:nvPr/>
          </p:nvPicPr>
          <p:blipFill>
            <a:blip r:embed="rId4"/>
            <a:stretch/>
          </p:blipFill>
          <p:spPr>
            <a:xfrm>
              <a:off x="6958440" y="817200"/>
              <a:ext cx="1919880" cy="238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" name="Group 44"/>
          <p:cNvGrpSpPr/>
          <p:nvPr/>
        </p:nvGrpSpPr>
        <p:grpSpPr>
          <a:xfrm>
            <a:off x="-19080" y="-57240"/>
            <a:ext cx="9182160" cy="1349640"/>
            <a:chOff x="-19080" y="-57240"/>
            <a:chExt cx="9182160" cy="1349640"/>
          </a:xfrm>
        </p:grpSpPr>
        <p:sp>
          <p:nvSpPr>
            <p:cNvPr id="115" name="Freeform 14"/>
            <p:cNvSpPr/>
            <p:nvPr/>
          </p:nvSpPr>
          <p:spPr>
            <a:xfrm flipH="1">
              <a:off x="-9720" y="-15480"/>
              <a:ext cx="9172440" cy="1307880"/>
            </a:xfrm>
            <a:custGeom>
              <a:avLst/>
              <a:gdLst/>
              <a:ahLst/>
              <a:rect l="l" t="t" r="r" b="b"/>
              <a:pathLst>
                <a:path w="5778" h="1215">
                  <a:moveTo>
                    <a:pt x="5778" y="640"/>
                  </a:moveTo>
                  <a:cubicBezTo>
                    <a:pt x="4217" y="104"/>
                    <a:pt x="3024" y="562"/>
                    <a:pt x="2656" y="668"/>
                  </a:cubicBezTo>
                  <a:cubicBezTo>
                    <a:pt x="2288" y="774"/>
                    <a:pt x="1066" y="1215"/>
                    <a:pt x="0" y="726"/>
                  </a:cubicBezTo>
                  <a:cubicBezTo>
                    <a:pt x="0" y="726"/>
                    <a:pt x="12" y="292"/>
                    <a:pt x="12" y="6"/>
                  </a:cubicBezTo>
                  <a:cubicBezTo>
                    <a:pt x="2901" y="5"/>
                    <a:pt x="5778" y="0"/>
                    <a:pt x="5778" y="0"/>
                  </a:cubicBezTo>
                  <a:cubicBezTo>
                    <a:pt x="5778" y="227"/>
                    <a:pt x="5778" y="413"/>
                    <a:pt x="5778" y="640"/>
                  </a:cubicBezTo>
                  <a:close/>
                </a:path>
              </a:pathLst>
            </a:custGeom>
            <a:solidFill>
              <a:srgbClr val="0000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5"/>
            <p:cNvSpPr/>
            <p:nvPr/>
          </p:nvSpPr>
          <p:spPr>
            <a:xfrm>
              <a:off x="-19080" y="-57240"/>
              <a:ext cx="9167760" cy="1265040"/>
            </a:xfrm>
            <a:custGeom>
              <a:avLst/>
              <a:gdLst/>
              <a:ahLst/>
              <a:rect l="l" t="t" r="r" b="b"/>
              <a:pathLst>
                <a:path w="5783" h="1176">
                  <a:moveTo>
                    <a:pt x="0" y="496"/>
                  </a:moveTo>
                  <a:cubicBezTo>
                    <a:pt x="1405" y="0"/>
                    <a:pt x="2961" y="600"/>
                    <a:pt x="3148" y="662"/>
                  </a:cubicBezTo>
                  <a:cubicBezTo>
                    <a:pt x="3335" y="724"/>
                    <a:pt x="4732" y="1176"/>
                    <a:pt x="5783" y="614"/>
                  </a:cubicBezTo>
                  <a:cubicBezTo>
                    <a:pt x="5783" y="614"/>
                    <a:pt x="5783" y="328"/>
                    <a:pt x="5783" y="42"/>
                  </a:cubicBezTo>
                  <a:cubicBezTo>
                    <a:pt x="2891" y="42"/>
                    <a:pt x="0" y="42"/>
                    <a:pt x="0" y="42"/>
                  </a:cubicBezTo>
                  <a:cubicBezTo>
                    <a:pt x="0" y="269"/>
                    <a:pt x="0" y="269"/>
                    <a:pt x="0" y="496"/>
                  </a:cubicBezTo>
                  <a:close/>
                </a:path>
              </a:pathLst>
            </a:custGeom>
            <a:solidFill>
              <a:srgbClr val="ea8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6"/>
            <p:cNvSpPr/>
            <p:nvPr/>
          </p:nvSpPr>
          <p:spPr>
            <a:xfrm>
              <a:off x="2505240" y="200880"/>
              <a:ext cx="6643440" cy="1006920"/>
            </a:xfrm>
            <a:custGeom>
              <a:avLst/>
              <a:gdLst/>
              <a:ahLst/>
              <a:rect l="l" t="t" r="r" b="b"/>
              <a:pathLst>
                <a:path w="4173" h="936">
                  <a:moveTo>
                    <a:pt x="669" y="179"/>
                  </a:moveTo>
                  <a:cubicBezTo>
                    <a:pt x="1122" y="287"/>
                    <a:pt x="1351" y="360"/>
                    <a:pt x="1538" y="422"/>
                  </a:cubicBezTo>
                  <a:cubicBezTo>
                    <a:pt x="1725" y="484"/>
                    <a:pt x="3122" y="936"/>
                    <a:pt x="4173" y="374"/>
                  </a:cubicBezTo>
                  <a:cubicBezTo>
                    <a:pt x="4173" y="374"/>
                    <a:pt x="4173" y="387"/>
                    <a:pt x="4173" y="306"/>
                  </a:cubicBezTo>
                  <a:cubicBezTo>
                    <a:pt x="3957" y="435"/>
                    <a:pt x="3346" y="626"/>
                    <a:pt x="2845" y="589"/>
                  </a:cubicBezTo>
                  <a:cubicBezTo>
                    <a:pt x="2344" y="552"/>
                    <a:pt x="1639" y="170"/>
                    <a:pt x="1165" y="85"/>
                  </a:cubicBezTo>
                  <a:cubicBezTo>
                    <a:pt x="691" y="0"/>
                    <a:pt x="261" y="21"/>
                    <a:pt x="0" y="77"/>
                  </a:cubicBezTo>
                  <a:cubicBezTo>
                    <a:pt x="2" y="84"/>
                    <a:pt x="261" y="92"/>
                    <a:pt x="669" y="179"/>
                  </a:cubicBezTo>
                  <a:close/>
                </a:path>
              </a:pathLst>
            </a:custGeom>
            <a:gradFill rotWithShape="0">
              <a:gsLst>
                <a:gs pos="0">
                  <a:srgbClr val="5d2100">
                    <a:alpha val="0"/>
                  </a:srgbClr>
                </a:gs>
                <a:gs pos="100000">
                  <a:srgbClr val="c84700">
                    <a:alpha val="5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7"/>
            <p:cNvSpPr/>
            <p:nvPr/>
          </p:nvSpPr>
          <p:spPr>
            <a:xfrm>
              <a:off x="5285160" y="-12600"/>
              <a:ext cx="3862440" cy="1177560"/>
            </a:xfrm>
            <a:custGeom>
              <a:avLst/>
              <a:gdLst/>
              <a:ahLst/>
              <a:rect l="l" t="t" r="r" b="b"/>
              <a:pathLst>
                <a:path w="2426" h="1095">
                  <a:moveTo>
                    <a:pt x="2426" y="1"/>
                  </a:moveTo>
                  <a:cubicBezTo>
                    <a:pt x="2426" y="232"/>
                    <a:pt x="2426" y="464"/>
                    <a:pt x="2426" y="464"/>
                  </a:cubicBezTo>
                  <a:cubicBezTo>
                    <a:pt x="1216" y="1095"/>
                    <a:pt x="584" y="162"/>
                    <a:pt x="0" y="0"/>
                  </a:cubicBezTo>
                  <a:cubicBezTo>
                    <a:pt x="0" y="0"/>
                    <a:pt x="1213" y="0"/>
                    <a:pt x="2426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5d2100">
                    <a:alpha val="0"/>
                  </a:srgbClr>
                </a:gs>
                <a:gs pos="100000">
                  <a:srgbClr val="c847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0D79C-0993-4D40-B818-125DDC1BC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5" descr="8"/>
          <p:cNvPicPr/>
          <p:nvPr/>
        </p:nvPicPr>
        <p:blipFill>
          <a:blip r:embed="rId5"/>
          <a:stretch/>
        </p:blipFill>
        <p:spPr>
          <a:xfrm>
            <a:off x="7227720" y="878040"/>
            <a:ext cx="1751040" cy="5364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2" descr="13"/>
          <p:cNvPicPr/>
          <p:nvPr/>
        </p:nvPicPr>
        <p:blipFill>
          <a:blip r:embed="rId6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3" descr="15"/>
          <p:cNvPicPr/>
          <p:nvPr/>
        </p:nvPicPr>
        <p:blipFill>
          <a:blip r:embed="rId7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7" descr="logo(trasparance)2"/>
          <p:cNvPicPr/>
          <p:nvPr/>
        </p:nvPicPr>
        <p:blipFill>
          <a:blip r:embed="rId8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8" descr="15"/>
          <p:cNvPicPr/>
          <p:nvPr/>
        </p:nvPicPr>
        <p:blipFill>
          <a:blip r:embed="rId9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 type="ftr" idx="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5"/>
          <p:cNvSpPr>
            <a:spLocks noGrp="1"/>
          </p:cNvSpPr>
          <p:nvPr>
            <p:ph type="sldNum" idx="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F0113-5228-448F-90A7-BFE31A1570FF}" type="slidenum">
              <a:rPr b="1" i="1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 type="dt" idx="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D5EB5-3C79-4DA7-913F-E6EC8904B5D9}" type="datetime">
              <a:rPr b="1" i="1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4"/>
          <p:cNvSpPr>
            <a:spLocks noGrp="1"/>
          </p:cNvSpPr>
          <p:nvPr>
            <p:ph type="ftr" idx="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5"/>
          <p:cNvSpPr>
            <a:spLocks noGrp="1"/>
          </p:cNvSpPr>
          <p:nvPr>
            <p:ph type="sldNum" idx="9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EBB42-A392-4E02-AE61-691024FD5BEE}" type="slidenum">
              <a:rPr b="1" i="1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 type="ftr" idx="9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4"/>
          <p:cNvSpPr>
            <a:spLocks noGrp="1"/>
          </p:cNvSpPr>
          <p:nvPr>
            <p:ph type="dt" idx="9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5"/>
          <p:cNvSpPr>
            <a:spLocks noGrp="1"/>
          </p:cNvSpPr>
          <p:nvPr>
            <p:ph type="sldNum" idx="9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5560" indent="0" algn="r">
              <a:lnSpc>
                <a:spcPts val="1236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88888"/>
                </a:solidFill>
                <a:latin typeface="Trebuchet MS"/>
                <a:ea typeface="Trebuchet MS"/>
              </a:defRPr>
            </a:lvl1pPr>
          </a:lstStyle>
          <a:p>
            <a:pPr marL="25560" indent="0" algn="r">
              <a:lnSpc>
                <a:spcPts val="1236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5EA22-CAF0-4942-8493-00AD3FA21CBA}" type="slidenum">
              <a:rPr b="0" lang="en-US" sz="1200" spc="-1" strike="noStrike">
                <a:solidFill>
                  <a:srgbClr val="888888"/>
                </a:solidFill>
                <a:latin typeface="Trebuchet MS"/>
                <a:ea typeface="Trebuchet MS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8b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0" descr="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6" name="Group 27"/>
          <p:cNvGrpSpPr/>
          <p:nvPr/>
        </p:nvGrpSpPr>
        <p:grpSpPr>
          <a:xfrm>
            <a:off x="6692760" y="228600"/>
            <a:ext cx="2451240" cy="4038480"/>
            <a:chOff x="6692760" y="228600"/>
            <a:chExt cx="2451240" cy="4038480"/>
          </a:xfrm>
        </p:grpSpPr>
        <p:pic>
          <p:nvPicPr>
            <p:cNvPr id="167" name="Picture 24" descr="11"/>
            <p:cNvPicPr/>
            <p:nvPr/>
          </p:nvPicPr>
          <p:blipFill>
            <a:blip r:embed="rId3"/>
            <a:stretch/>
          </p:blipFill>
          <p:spPr>
            <a:xfrm>
              <a:off x="6692760" y="228600"/>
              <a:ext cx="2451240" cy="403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25" descr="12"/>
            <p:cNvPicPr/>
            <p:nvPr/>
          </p:nvPicPr>
          <p:blipFill>
            <a:blip r:embed="rId4"/>
            <a:stretch/>
          </p:blipFill>
          <p:spPr>
            <a:xfrm>
              <a:off x="6958440" y="817200"/>
              <a:ext cx="1919880" cy="238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9" name="Group 44"/>
          <p:cNvGrpSpPr/>
          <p:nvPr/>
        </p:nvGrpSpPr>
        <p:grpSpPr>
          <a:xfrm>
            <a:off x="-19080" y="-57240"/>
            <a:ext cx="9182160" cy="1349640"/>
            <a:chOff x="-19080" y="-57240"/>
            <a:chExt cx="9182160" cy="1349640"/>
          </a:xfrm>
        </p:grpSpPr>
        <p:sp>
          <p:nvSpPr>
            <p:cNvPr id="170" name="Freeform 14"/>
            <p:cNvSpPr/>
            <p:nvPr/>
          </p:nvSpPr>
          <p:spPr>
            <a:xfrm flipH="1">
              <a:off x="-9720" y="-15480"/>
              <a:ext cx="9172440" cy="1307880"/>
            </a:xfrm>
            <a:custGeom>
              <a:avLst/>
              <a:gdLst/>
              <a:ahLst/>
              <a:rect l="l" t="t" r="r" b="b"/>
              <a:pathLst>
                <a:path w="5778" h="1215">
                  <a:moveTo>
                    <a:pt x="5778" y="640"/>
                  </a:moveTo>
                  <a:cubicBezTo>
                    <a:pt x="4217" y="104"/>
                    <a:pt x="3024" y="562"/>
                    <a:pt x="2656" y="668"/>
                  </a:cubicBezTo>
                  <a:cubicBezTo>
                    <a:pt x="2288" y="774"/>
                    <a:pt x="1066" y="1215"/>
                    <a:pt x="0" y="726"/>
                  </a:cubicBezTo>
                  <a:cubicBezTo>
                    <a:pt x="0" y="726"/>
                    <a:pt x="12" y="292"/>
                    <a:pt x="12" y="6"/>
                  </a:cubicBezTo>
                  <a:cubicBezTo>
                    <a:pt x="2901" y="5"/>
                    <a:pt x="5778" y="0"/>
                    <a:pt x="5778" y="0"/>
                  </a:cubicBezTo>
                  <a:cubicBezTo>
                    <a:pt x="5778" y="227"/>
                    <a:pt x="5778" y="413"/>
                    <a:pt x="5778" y="640"/>
                  </a:cubicBezTo>
                  <a:close/>
                </a:path>
              </a:pathLst>
            </a:custGeom>
            <a:solidFill>
              <a:srgbClr val="0000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5"/>
            <p:cNvSpPr/>
            <p:nvPr/>
          </p:nvSpPr>
          <p:spPr>
            <a:xfrm>
              <a:off x="-19080" y="-57240"/>
              <a:ext cx="9167760" cy="1265040"/>
            </a:xfrm>
            <a:custGeom>
              <a:avLst/>
              <a:gdLst/>
              <a:ahLst/>
              <a:rect l="l" t="t" r="r" b="b"/>
              <a:pathLst>
                <a:path w="5783" h="1176">
                  <a:moveTo>
                    <a:pt x="0" y="496"/>
                  </a:moveTo>
                  <a:cubicBezTo>
                    <a:pt x="1405" y="0"/>
                    <a:pt x="2961" y="600"/>
                    <a:pt x="3148" y="662"/>
                  </a:cubicBezTo>
                  <a:cubicBezTo>
                    <a:pt x="3335" y="724"/>
                    <a:pt x="4732" y="1176"/>
                    <a:pt x="5783" y="614"/>
                  </a:cubicBezTo>
                  <a:cubicBezTo>
                    <a:pt x="5783" y="614"/>
                    <a:pt x="5783" y="328"/>
                    <a:pt x="5783" y="42"/>
                  </a:cubicBezTo>
                  <a:cubicBezTo>
                    <a:pt x="2891" y="42"/>
                    <a:pt x="0" y="42"/>
                    <a:pt x="0" y="42"/>
                  </a:cubicBezTo>
                  <a:cubicBezTo>
                    <a:pt x="0" y="269"/>
                    <a:pt x="0" y="269"/>
                    <a:pt x="0" y="496"/>
                  </a:cubicBezTo>
                  <a:close/>
                </a:path>
              </a:pathLst>
            </a:custGeom>
            <a:solidFill>
              <a:srgbClr val="ea8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6"/>
            <p:cNvSpPr/>
            <p:nvPr/>
          </p:nvSpPr>
          <p:spPr>
            <a:xfrm>
              <a:off x="2505240" y="200880"/>
              <a:ext cx="6643440" cy="1006920"/>
            </a:xfrm>
            <a:custGeom>
              <a:avLst/>
              <a:gdLst/>
              <a:ahLst/>
              <a:rect l="l" t="t" r="r" b="b"/>
              <a:pathLst>
                <a:path w="4173" h="936">
                  <a:moveTo>
                    <a:pt x="669" y="179"/>
                  </a:moveTo>
                  <a:cubicBezTo>
                    <a:pt x="1122" y="287"/>
                    <a:pt x="1351" y="360"/>
                    <a:pt x="1538" y="422"/>
                  </a:cubicBezTo>
                  <a:cubicBezTo>
                    <a:pt x="1725" y="484"/>
                    <a:pt x="3122" y="936"/>
                    <a:pt x="4173" y="374"/>
                  </a:cubicBezTo>
                  <a:cubicBezTo>
                    <a:pt x="4173" y="374"/>
                    <a:pt x="4173" y="387"/>
                    <a:pt x="4173" y="306"/>
                  </a:cubicBezTo>
                  <a:cubicBezTo>
                    <a:pt x="3957" y="435"/>
                    <a:pt x="3346" y="626"/>
                    <a:pt x="2845" y="589"/>
                  </a:cubicBezTo>
                  <a:cubicBezTo>
                    <a:pt x="2344" y="552"/>
                    <a:pt x="1639" y="170"/>
                    <a:pt x="1165" y="85"/>
                  </a:cubicBezTo>
                  <a:cubicBezTo>
                    <a:pt x="691" y="0"/>
                    <a:pt x="261" y="21"/>
                    <a:pt x="0" y="77"/>
                  </a:cubicBezTo>
                  <a:cubicBezTo>
                    <a:pt x="2" y="84"/>
                    <a:pt x="261" y="92"/>
                    <a:pt x="669" y="179"/>
                  </a:cubicBezTo>
                  <a:close/>
                </a:path>
              </a:pathLst>
            </a:custGeom>
            <a:gradFill rotWithShape="0">
              <a:gsLst>
                <a:gs pos="0">
                  <a:srgbClr val="5d2100">
                    <a:alpha val="0"/>
                  </a:srgbClr>
                </a:gs>
                <a:gs pos="100000">
                  <a:srgbClr val="c84700">
                    <a:alpha val="5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7"/>
            <p:cNvSpPr/>
            <p:nvPr/>
          </p:nvSpPr>
          <p:spPr>
            <a:xfrm>
              <a:off x="5285160" y="-12600"/>
              <a:ext cx="3862440" cy="1177560"/>
            </a:xfrm>
            <a:custGeom>
              <a:avLst/>
              <a:gdLst/>
              <a:ahLst/>
              <a:rect l="l" t="t" r="r" b="b"/>
              <a:pathLst>
                <a:path w="2426" h="1095">
                  <a:moveTo>
                    <a:pt x="2426" y="1"/>
                  </a:moveTo>
                  <a:cubicBezTo>
                    <a:pt x="2426" y="232"/>
                    <a:pt x="2426" y="464"/>
                    <a:pt x="2426" y="464"/>
                  </a:cubicBezTo>
                  <a:cubicBezTo>
                    <a:pt x="1216" y="1095"/>
                    <a:pt x="584" y="162"/>
                    <a:pt x="0" y="0"/>
                  </a:cubicBezTo>
                  <a:cubicBezTo>
                    <a:pt x="0" y="0"/>
                    <a:pt x="1213" y="0"/>
                    <a:pt x="2426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5d2100">
                    <a:alpha val="0"/>
                  </a:srgbClr>
                </a:gs>
                <a:gs pos="100000">
                  <a:srgbClr val="c847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F4471-8961-4B49-BDE0-144B0BF28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5" descr="8"/>
          <p:cNvPicPr/>
          <p:nvPr/>
        </p:nvPicPr>
        <p:blipFill>
          <a:blip r:embed="rId5"/>
          <a:stretch/>
        </p:blipFill>
        <p:spPr>
          <a:xfrm>
            <a:off x="7227720" y="878040"/>
            <a:ext cx="1751040" cy="536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2" descr="13"/>
          <p:cNvPicPr/>
          <p:nvPr/>
        </p:nvPicPr>
        <p:blipFill>
          <a:blip r:embed="rId6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3" descr="15"/>
          <p:cNvPicPr/>
          <p:nvPr/>
        </p:nvPicPr>
        <p:blipFill>
          <a:blip r:embed="rId7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7" descr="logo(trasparance)2"/>
          <p:cNvPicPr/>
          <p:nvPr/>
        </p:nvPicPr>
        <p:blipFill>
          <a:blip r:embed="rId8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8" descr="15"/>
          <p:cNvPicPr/>
          <p:nvPr/>
        </p:nvPicPr>
        <p:blipFill>
          <a:blip r:embed="rId9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8b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0" descr="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21" name="Group 27"/>
          <p:cNvGrpSpPr/>
          <p:nvPr/>
        </p:nvGrpSpPr>
        <p:grpSpPr>
          <a:xfrm>
            <a:off x="6692760" y="228600"/>
            <a:ext cx="2451240" cy="4038480"/>
            <a:chOff x="6692760" y="228600"/>
            <a:chExt cx="2451240" cy="4038480"/>
          </a:xfrm>
        </p:grpSpPr>
        <p:pic>
          <p:nvPicPr>
            <p:cNvPr id="222" name="Picture 24" descr="11"/>
            <p:cNvPicPr/>
            <p:nvPr/>
          </p:nvPicPr>
          <p:blipFill>
            <a:blip r:embed="rId3"/>
            <a:stretch/>
          </p:blipFill>
          <p:spPr>
            <a:xfrm>
              <a:off x="6692760" y="228600"/>
              <a:ext cx="2451240" cy="403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25" descr="12"/>
            <p:cNvPicPr/>
            <p:nvPr/>
          </p:nvPicPr>
          <p:blipFill>
            <a:blip r:embed="rId4"/>
            <a:stretch/>
          </p:blipFill>
          <p:spPr>
            <a:xfrm>
              <a:off x="6958440" y="817200"/>
              <a:ext cx="1919880" cy="238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4" name="Group 44"/>
          <p:cNvGrpSpPr/>
          <p:nvPr/>
        </p:nvGrpSpPr>
        <p:grpSpPr>
          <a:xfrm>
            <a:off x="-19080" y="-57240"/>
            <a:ext cx="9182160" cy="1349640"/>
            <a:chOff x="-19080" y="-57240"/>
            <a:chExt cx="9182160" cy="1349640"/>
          </a:xfrm>
        </p:grpSpPr>
        <p:sp>
          <p:nvSpPr>
            <p:cNvPr id="225" name="Freeform 14"/>
            <p:cNvSpPr/>
            <p:nvPr/>
          </p:nvSpPr>
          <p:spPr>
            <a:xfrm flipH="1">
              <a:off x="-9720" y="-15480"/>
              <a:ext cx="9172440" cy="1307880"/>
            </a:xfrm>
            <a:custGeom>
              <a:avLst/>
              <a:gdLst/>
              <a:ahLst/>
              <a:rect l="l" t="t" r="r" b="b"/>
              <a:pathLst>
                <a:path w="5778" h="1215">
                  <a:moveTo>
                    <a:pt x="5778" y="640"/>
                  </a:moveTo>
                  <a:cubicBezTo>
                    <a:pt x="4217" y="104"/>
                    <a:pt x="3024" y="562"/>
                    <a:pt x="2656" y="668"/>
                  </a:cubicBezTo>
                  <a:cubicBezTo>
                    <a:pt x="2288" y="774"/>
                    <a:pt x="1066" y="1215"/>
                    <a:pt x="0" y="726"/>
                  </a:cubicBezTo>
                  <a:cubicBezTo>
                    <a:pt x="0" y="726"/>
                    <a:pt x="12" y="292"/>
                    <a:pt x="12" y="6"/>
                  </a:cubicBezTo>
                  <a:cubicBezTo>
                    <a:pt x="2901" y="5"/>
                    <a:pt x="5778" y="0"/>
                    <a:pt x="5778" y="0"/>
                  </a:cubicBezTo>
                  <a:cubicBezTo>
                    <a:pt x="5778" y="227"/>
                    <a:pt x="5778" y="413"/>
                    <a:pt x="5778" y="640"/>
                  </a:cubicBezTo>
                  <a:close/>
                </a:path>
              </a:pathLst>
            </a:custGeom>
            <a:solidFill>
              <a:srgbClr val="0000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5"/>
            <p:cNvSpPr/>
            <p:nvPr/>
          </p:nvSpPr>
          <p:spPr>
            <a:xfrm>
              <a:off x="-19080" y="-57240"/>
              <a:ext cx="9167760" cy="1265040"/>
            </a:xfrm>
            <a:custGeom>
              <a:avLst/>
              <a:gdLst/>
              <a:ahLst/>
              <a:rect l="l" t="t" r="r" b="b"/>
              <a:pathLst>
                <a:path w="5783" h="1176">
                  <a:moveTo>
                    <a:pt x="0" y="496"/>
                  </a:moveTo>
                  <a:cubicBezTo>
                    <a:pt x="1405" y="0"/>
                    <a:pt x="2961" y="600"/>
                    <a:pt x="3148" y="662"/>
                  </a:cubicBezTo>
                  <a:cubicBezTo>
                    <a:pt x="3335" y="724"/>
                    <a:pt x="4732" y="1176"/>
                    <a:pt x="5783" y="614"/>
                  </a:cubicBezTo>
                  <a:cubicBezTo>
                    <a:pt x="5783" y="614"/>
                    <a:pt x="5783" y="328"/>
                    <a:pt x="5783" y="42"/>
                  </a:cubicBezTo>
                  <a:cubicBezTo>
                    <a:pt x="2891" y="42"/>
                    <a:pt x="0" y="42"/>
                    <a:pt x="0" y="42"/>
                  </a:cubicBezTo>
                  <a:cubicBezTo>
                    <a:pt x="0" y="269"/>
                    <a:pt x="0" y="269"/>
                    <a:pt x="0" y="496"/>
                  </a:cubicBezTo>
                  <a:close/>
                </a:path>
              </a:pathLst>
            </a:custGeom>
            <a:solidFill>
              <a:srgbClr val="ea8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6"/>
            <p:cNvSpPr/>
            <p:nvPr/>
          </p:nvSpPr>
          <p:spPr>
            <a:xfrm>
              <a:off x="2505240" y="200880"/>
              <a:ext cx="6643440" cy="1006920"/>
            </a:xfrm>
            <a:custGeom>
              <a:avLst/>
              <a:gdLst/>
              <a:ahLst/>
              <a:rect l="l" t="t" r="r" b="b"/>
              <a:pathLst>
                <a:path w="4173" h="936">
                  <a:moveTo>
                    <a:pt x="669" y="179"/>
                  </a:moveTo>
                  <a:cubicBezTo>
                    <a:pt x="1122" y="287"/>
                    <a:pt x="1351" y="360"/>
                    <a:pt x="1538" y="422"/>
                  </a:cubicBezTo>
                  <a:cubicBezTo>
                    <a:pt x="1725" y="484"/>
                    <a:pt x="3122" y="936"/>
                    <a:pt x="4173" y="374"/>
                  </a:cubicBezTo>
                  <a:cubicBezTo>
                    <a:pt x="4173" y="374"/>
                    <a:pt x="4173" y="387"/>
                    <a:pt x="4173" y="306"/>
                  </a:cubicBezTo>
                  <a:cubicBezTo>
                    <a:pt x="3957" y="435"/>
                    <a:pt x="3346" y="626"/>
                    <a:pt x="2845" y="589"/>
                  </a:cubicBezTo>
                  <a:cubicBezTo>
                    <a:pt x="2344" y="552"/>
                    <a:pt x="1639" y="170"/>
                    <a:pt x="1165" y="85"/>
                  </a:cubicBezTo>
                  <a:cubicBezTo>
                    <a:pt x="691" y="0"/>
                    <a:pt x="261" y="21"/>
                    <a:pt x="0" y="77"/>
                  </a:cubicBezTo>
                  <a:cubicBezTo>
                    <a:pt x="2" y="84"/>
                    <a:pt x="261" y="92"/>
                    <a:pt x="669" y="179"/>
                  </a:cubicBezTo>
                  <a:close/>
                </a:path>
              </a:pathLst>
            </a:custGeom>
            <a:gradFill rotWithShape="0">
              <a:gsLst>
                <a:gs pos="0">
                  <a:srgbClr val="5d2100">
                    <a:alpha val="0"/>
                  </a:srgbClr>
                </a:gs>
                <a:gs pos="100000">
                  <a:srgbClr val="c84700">
                    <a:alpha val="5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7"/>
            <p:cNvSpPr/>
            <p:nvPr/>
          </p:nvSpPr>
          <p:spPr>
            <a:xfrm>
              <a:off x="5285160" y="-12600"/>
              <a:ext cx="3862440" cy="1177560"/>
            </a:xfrm>
            <a:custGeom>
              <a:avLst/>
              <a:gdLst/>
              <a:ahLst/>
              <a:rect l="l" t="t" r="r" b="b"/>
              <a:pathLst>
                <a:path w="2426" h="1095">
                  <a:moveTo>
                    <a:pt x="2426" y="1"/>
                  </a:moveTo>
                  <a:cubicBezTo>
                    <a:pt x="2426" y="232"/>
                    <a:pt x="2426" y="464"/>
                    <a:pt x="2426" y="464"/>
                  </a:cubicBezTo>
                  <a:cubicBezTo>
                    <a:pt x="1216" y="1095"/>
                    <a:pt x="584" y="162"/>
                    <a:pt x="0" y="0"/>
                  </a:cubicBezTo>
                  <a:cubicBezTo>
                    <a:pt x="0" y="0"/>
                    <a:pt x="1213" y="0"/>
                    <a:pt x="2426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5d2100">
                    <a:alpha val="0"/>
                  </a:srgbClr>
                </a:gs>
                <a:gs pos="100000">
                  <a:srgbClr val="c847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670DC-7E9C-4A88-B2E5-A32EB4E27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45" descr="8"/>
          <p:cNvPicPr/>
          <p:nvPr/>
        </p:nvPicPr>
        <p:blipFill>
          <a:blip r:embed="rId5"/>
          <a:stretch/>
        </p:blipFill>
        <p:spPr>
          <a:xfrm>
            <a:off x="7227720" y="878040"/>
            <a:ext cx="1751040" cy="5364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2" descr="13"/>
          <p:cNvPicPr/>
          <p:nvPr/>
        </p:nvPicPr>
        <p:blipFill>
          <a:blip r:embed="rId6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3" descr="15"/>
          <p:cNvPicPr/>
          <p:nvPr/>
        </p:nvPicPr>
        <p:blipFill>
          <a:blip r:embed="rId7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7" descr="logo(trasparance)2"/>
          <p:cNvPicPr/>
          <p:nvPr/>
        </p:nvPicPr>
        <p:blipFill>
          <a:blip r:embed="rId8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8" descr="15"/>
          <p:cNvPicPr/>
          <p:nvPr/>
        </p:nvPicPr>
        <p:blipFill>
          <a:blip r:embed="rId9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0"/>
    <p:sldLayoutId id="2147483702" r:id="rId11"/>
    <p:sldLayoutId id="2147483703" r:id="rId12"/>
    <p:sldLayoutId id="2147483704" r:id="rId13"/>
    <p:sldLayoutId id="2147483705" r:id="rId14"/>
    <p:sldLayoutId id="2147483706" r:id="rId15"/>
    <p:sldLayoutId id="2147483707" r:id="rId16"/>
    <p:sldLayoutId id="2147483708" r:id="rId17"/>
    <p:sldLayoutId id="2147483709" r:id="rId18"/>
    <p:sldLayoutId id="2147483710" r:id="rId19"/>
    <p:sldLayoutId id="2147483711" r:id="rId20"/>
    <p:sldLayoutId id="2147483712" r:id="rId21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8b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40" descr="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76" name="Group 27"/>
          <p:cNvGrpSpPr/>
          <p:nvPr/>
        </p:nvGrpSpPr>
        <p:grpSpPr>
          <a:xfrm>
            <a:off x="6692760" y="228600"/>
            <a:ext cx="2451240" cy="4038480"/>
            <a:chOff x="6692760" y="228600"/>
            <a:chExt cx="2451240" cy="4038480"/>
          </a:xfrm>
        </p:grpSpPr>
        <p:pic>
          <p:nvPicPr>
            <p:cNvPr id="277" name="Picture 24" descr="11"/>
            <p:cNvPicPr/>
            <p:nvPr/>
          </p:nvPicPr>
          <p:blipFill>
            <a:blip r:embed="rId3"/>
            <a:stretch/>
          </p:blipFill>
          <p:spPr>
            <a:xfrm>
              <a:off x="6692760" y="228600"/>
              <a:ext cx="2451240" cy="403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25" descr="12"/>
            <p:cNvPicPr/>
            <p:nvPr/>
          </p:nvPicPr>
          <p:blipFill>
            <a:blip r:embed="rId4"/>
            <a:stretch/>
          </p:blipFill>
          <p:spPr>
            <a:xfrm>
              <a:off x="6958440" y="817200"/>
              <a:ext cx="1919880" cy="238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9" name="Group 44"/>
          <p:cNvGrpSpPr/>
          <p:nvPr/>
        </p:nvGrpSpPr>
        <p:grpSpPr>
          <a:xfrm>
            <a:off x="-19080" y="-57240"/>
            <a:ext cx="9182160" cy="1349640"/>
            <a:chOff x="-19080" y="-57240"/>
            <a:chExt cx="9182160" cy="1349640"/>
          </a:xfrm>
        </p:grpSpPr>
        <p:sp>
          <p:nvSpPr>
            <p:cNvPr id="280" name="Freeform 14"/>
            <p:cNvSpPr/>
            <p:nvPr/>
          </p:nvSpPr>
          <p:spPr>
            <a:xfrm flipH="1">
              <a:off x="-9720" y="-15480"/>
              <a:ext cx="9172440" cy="1307880"/>
            </a:xfrm>
            <a:custGeom>
              <a:avLst/>
              <a:gdLst/>
              <a:ahLst/>
              <a:rect l="l" t="t" r="r" b="b"/>
              <a:pathLst>
                <a:path w="5778" h="1215">
                  <a:moveTo>
                    <a:pt x="5778" y="640"/>
                  </a:moveTo>
                  <a:cubicBezTo>
                    <a:pt x="4217" y="104"/>
                    <a:pt x="3024" y="562"/>
                    <a:pt x="2656" y="668"/>
                  </a:cubicBezTo>
                  <a:cubicBezTo>
                    <a:pt x="2288" y="774"/>
                    <a:pt x="1066" y="1215"/>
                    <a:pt x="0" y="726"/>
                  </a:cubicBezTo>
                  <a:cubicBezTo>
                    <a:pt x="0" y="726"/>
                    <a:pt x="12" y="292"/>
                    <a:pt x="12" y="6"/>
                  </a:cubicBezTo>
                  <a:cubicBezTo>
                    <a:pt x="2901" y="5"/>
                    <a:pt x="5778" y="0"/>
                    <a:pt x="5778" y="0"/>
                  </a:cubicBezTo>
                  <a:cubicBezTo>
                    <a:pt x="5778" y="227"/>
                    <a:pt x="5778" y="413"/>
                    <a:pt x="5778" y="640"/>
                  </a:cubicBezTo>
                  <a:close/>
                </a:path>
              </a:pathLst>
            </a:custGeom>
            <a:solidFill>
              <a:srgbClr val="0000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5"/>
            <p:cNvSpPr/>
            <p:nvPr/>
          </p:nvSpPr>
          <p:spPr>
            <a:xfrm>
              <a:off x="-19080" y="-57240"/>
              <a:ext cx="9167760" cy="1265040"/>
            </a:xfrm>
            <a:custGeom>
              <a:avLst/>
              <a:gdLst/>
              <a:ahLst/>
              <a:rect l="l" t="t" r="r" b="b"/>
              <a:pathLst>
                <a:path w="5783" h="1176">
                  <a:moveTo>
                    <a:pt x="0" y="496"/>
                  </a:moveTo>
                  <a:cubicBezTo>
                    <a:pt x="1405" y="0"/>
                    <a:pt x="2961" y="600"/>
                    <a:pt x="3148" y="662"/>
                  </a:cubicBezTo>
                  <a:cubicBezTo>
                    <a:pt x="3335" y="724"/>
                    <a:pt x="4732" y="1176"/>
                    <a:pt x="5783" y="614"/>
                  </a:cubicBezTo>
                  <a:cubicBezTo>
                    <a:pt x="5783" y="614"/>
                    <a:pt x="5783" y="328"/>
                    <a:pt x="5783" y="42"/>
                  </a:cubicBezTo>
                  <a:cubicBezTo>
                    <a:pt x="2891" y="42"/>
                    <a:pt x="0" y="42"/>
                    <a:pt x="0" y="42"/>
                  </a:cubicBezTo>
                  <a:cubicBezTo>
                    <a:pt x="0" y="269"/>
                    <a:pt x="0" y="269"/>
                    <a:pt x="0" y="496"/>
                  </a:cubicBezTo>
                  <a:close/>
                </a:path>
              </a:pathLst>
            </a:custGeom>
            <a:solidFill>
              <a:srgbClr val="ea8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6"/>
            <p:cNvSpPr/>
            <p:nvPr/>
          </p:nvSpPr>
          <p:spPr>
            <a:xfrm>
              <a:off x="2505240" y="200880"/>
              <a:ext cx="6643440" cy="1006920"/>
            </a:xfrm>
            <a:custGeom>
              <a:avLst/>
              <a:gdLst/>
              <a:ahLst/>
              <a:rect l="l" t="t" r="r" b="b"/>
              <a:pathLst>
                <a:path w="4173" h="936">
                  <a:moveTo>
                    <a:pt x="669" y="179"/>
                  </a:moveTo>
                  <a:cubicBezTo>
                    <a:pt x="1122" y="287"/>
                    <a:pt x="1351" y="360"/>
                    <a:pt x="1538" y="422"/>
                  </a:cubicBezTo>
                  <a:cubicBezTo>
                    <a:pt x="1725" y="484"/>
                    <a:pt x="3122" y="936"/>
                    <a:pt x="4173" y="374"/>
                  </a:cubicBezTo>
                  <a:cubicBezTo>
                    <a:pt x="4173" y="374"/>
                    <a:pt x="4173" y="387"/>
                    <a:pt x="4173" y="306"/>
                  </a:cubicBezTo>
                  <a:cubicBezTo>
                    <a:pt x="3957" y="435"/>
                    <a:pt x="3346" y="626"/>
                    <a:pt x="2845" y="589"/>
                  </a:cubicBezTo>
                  <a:cubicBezTo>
                    <a:pt x="2344" y="552"/>
                    <a:pt x="1639" y="170"/>
                    <a:pt x="1165" y="85"/>
                  </a:cubicBezTo>
                  <a:cubicBezTo>
                    <a:pt x="691" y="0"/>
                    <a:pt x="261" y="21"/>
                    <a:pt x="0" y="77"/>
                  </a:cubicBezTo>
                  <a:cubicBezTo>
                    <a:pt x="2" y="84"/>
                    <a:pt x="261" y="92"/>
                    <a:pt x="669" y="179"/>
                  </a:cubicBezTo>
                  <a:close/>
                </a:path>
              </a:pathLst>
            </a:custGeom>
            <a:gradFill rotWithShape="0">
              <a:gsLst>
                <a:gs pos="0">
                  <a:srgbClr val="5d2100">
                    <a:alpha val="0"/>
                  </a:srgbClr>
                </a:gs>
                <a:gs pos="100000">
                  <a:srgbClr val="c84700">
                    <a:alpha val="5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7"/>
            <p:cNvSpPr/>
            <p:nvPr/>
          </p:nvSpPr>
          <p:spPr>
            <a:xfrm>
              <a:off x="5285160" y="-12600"/>
              <a:ext cx="3862440" cy="1177560"/>
            </a:xfrm>
            <a:custGeom>
              <a:avLst/>
              <a:gdLst/>
              <a:ahLst/>
              <a:rect l="l" t="t" r="r" b="b"/>
              <a:pathLst>
                <a:path w="2426" h="1095">
                  <a:moveTo>
                    <a:pt x="2426" y="1"/>
                  </a:moveTo>
                  <a:cubicBezTo>
                    <a:pt x="2426" y="232"/>
                    <a:pt x="2426" y="464"/>
                    <a:pt x="2426" y="464"/>
                  </a:cubicBezTo>
                  <a:cubicBezTo>
                    <a:pt x="1216" y="1095"/>
                    <a:pt x="584" y="162"/>
                    <a:pt x="0" y="0"/>
                  </a:cubicBezTo>
                  <a:cubicBezTo>
                    <a:pt x="0" y="0"/>
                    <a:pt x="1213" y="0"/>
                    <a:pt x="2426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5d2100">
                    <a:alpha val="0"/>
                  </a:srgbClr>
                </a:gs>
                <a:gs pos="100000">
                  <a:srgbClr val="c847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18410-77E4-452D-AB71-2B29E200E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45" descr="8"/>
          <p:cNvPicPr/>
          <p:nvPr/>
        </p:nvPicPr>
        <p:blipFill>
          <a:blip r:embed="rId5"/>
          <a:stretch/>
        </p:blipFill>
        <p:spPr>
          <a:xfrm>
            <a:off x="7227720" y="878040"/>
            <a:ext cx="1751040" cy="5364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52" descr="13"/>
          <p:cNvPicPr/>
          <p:nvPr/>
        </p:nvPicPr>
        <p:blipFill>
          <a:blip r:embed="rId6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3" descr="15"/>
          <p:cNvPicPr/>
          <p:nvPr/>
        </p:nvPicPr>
        <p:blipFill>
          <a:blip r:embed="rId7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57" descr="logo(trasparance)2"/>
          <p:cNvPicPr/>
          <p:nvPr/>
        </p:nvPicPr>
        <p:blipFill>
          <a:blip r:embed="rId8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58" descr="15"/>
          <p:cNvPicPr/>
          <p:nvPr/>
        </p:nvPicPr>
        <p:blipFill>
          <a:blip r:embed="rId9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0"/>
    <p:sldLayoutId id="2147483715" r:id="rId11"/>
    <p:sldLayoutId id="2147483716" r:id="rId12"/>
    <p:sldLayoutId id="2147483717" r:id="rId13"/>
    <p:sldLayoutId id="2147483718" r:id="rId14"/>
    <p:sldLayoutId id="2147483719" r:id="rId15"/>
    <p:sldLayoutId id="2147483720" r:id="rId16"/>
    <p:sldLayoutId id="2147483721" r:id="rId17"/>
    <p:sldLayoutId id="2147483722" r:id="rId18"/>
    <p:sldLayoutId id="2147483723" r:id="rId19"/>
    <p:sldLayoutId id="2147483724" r:id="rId20"/>
    <p:sldLayoutId id="2147483725" r:id="rId21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8b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40" descr="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31" name="Group 27"/>
          <p:cNvGrpSpPr/>
          <p:nvPr/>
        </p:nvGrpSpPr>
        <p:grpSpPr>
          <a:xfrm>
            <a:off x="6692760" y="228600"/>
            <a:ext cx="2451240" cy="4038480"/>
            <a:chOff x="6692760" y="228600"/>
            <a:chExt cx="2451240" cy="4038480"/>
          </a:xfrm>
        </p:grpSpPr>
        <p:pic>
          <p:nvPicPr>
            <p:cNvPr id="332" name="Picture 24" descr="11"/>
            <p:cNvPicPr/>
            <p:nvPr/>
          </p:nvPicPr>
          <p:blipFill>
            <a:blip r:embed="rId3"/>
            <a:stretch/>
          </p:blipFill>
          <p:spPr>
            <a:xfrm>
              <a:off x="6692760" y="228600"/>
              <a:ext cx="2451240" cy="403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Picture 25" descr="12"/>
            <p:cNvPicPr/>
            <p:nvPr/>
          </p:nvPicPr>
          <p:blipFill>
            <a:blip r:embed="rId4"/>
            <a:stretch/>
          </p:blipFill>
          <p:spPr>
            <a:xfrm>
              <a:off x="6958440" y="817200"/>
              <a:ext cx="1919880" cy="238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4" name="Group 44"/>
          <p:cNvGrpSpPr/>
          <p:nvPr/>
        </p:nvGrpSpPr>
        <p:grpSpPr>
          <a:xfrm>
            <a:off x="-19080" y="-57240"/>
            <a:ext cx="9182160" cy="1349640"/>
            <a:chOff x="-19080" y="-57240"/>
            <a:chExt cx="9182160" cy="1349640"/>
          </a:xfrm>
        </p:grpSpPr>
        <p:sp>
          <p:nvSpPr>
            <p:cNvPr id="335" name="Freeform 14"/>
            <p:cNvSpPr/>
            <p:nvPr/>
          </p:nvSpPr>
          <p:spPr>
            <a:xfrm flipH="1">
              <a:off x="-9720" y="-15480"/>
              <a:ext cx="9172440" cy="1307880"/>
            </a:xfrm>
            <a:custGeom>
              <a:avLst/>
              <a:gdLst/>
              <a:ahLst/>
              <a:rect l="l" t="t" r="r" b="b"/>
              <a:pathLst>
                <a:path w="5778" h="1215">
                  <a:moveTo>
                    <a:pt x="5778" y="640"/>
                  </a:moveTo>
                  <a:cubicBezTo>
                    <a:pt x="4217" y="104"/>
                    <a:pt x="3024" y="562"/>
                    <a:pt x="2656" y="668"/>
                  </a:cubicBezTo>
                  <a:cubicBezTo>
                    <a:pt x="2288" y="774"/>
                    <a:pt x="1066" y="1215"/>
                    <a:pt x="0" y="726"/>
                  </a:cubicBezTo>
                  <a:cubicBezTo>
                    <a:pt x="0" y="726"/>
                    <a:pt x="12" y="292"/>
                    <a:pt x="12" y="6"/>
                  </a:cubicBezTo>
                  <a:cubicBezTo>
                    <a:pt x="2901" y="5"/>
                    <a:pt x="5778" y="0"/>
                    <a:pt x="5778" y="0"/>
                  </a:cubicBezTo>
                  <a:cubicBezTo>
                    <a:pt x="5778" y="227"/>
                    <a:pt x="5778" y="413"/>
                    <a:pt x="5778" y="640"/>
                  </a:cubicBezTo>
                  <a:close/>
                </a:path>
              </a:pathLst>
            </a:custGeom>
            <a:solidFill>
              <a:srgbClr val="0000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5"/>
            <p:cNvSpPr/>
            <p:nvPr/>
          </p:nvSpPr>
          <p:spPr>
            <a:xfrm>
              <a:off x="-19080" y="-57240"/>
              <a:ext cx="9167760" cy="1265040"/>
            </a:xfrm>
            <a:custGeom>
              <a:avLst/>
              <a:gdLst/>
              <a:ahLst/>
              <a:rect l="l" t="t" r="r" b="b"/>
              <a:pathLst>
                <a:path w="5783" h="1176">
                  <a:moveTo>
                    <a:pt x="0" y="496"/>
                  </a:moveTo>
                  <a:cubicBezTo>
                    <a:pt x="1405" y="0"/>
                    <a:pt x="2961" y="600"/>
                    <a:pt x="3148" y="662"/>
                  </a:cubicBezTo>
                  <a:cubicBezTo>
                    <a:pt x="3335" y="724"/>
                    <a:pt x="4732" y="1176"/>
                    <a:pt x="5783" y="614"/>
                  </a:cubicBezTo>
                  <a:cubicBezTo>
                    <a:pt x="5783" y="614"/>
                    <a:pt x="5783" y="328"/>
                    <a:pt x="5783" y="42"/>
                  </a:cubicBezTo>
                  <a:cubicBezTo>
                    <a:pt x="2891" y="42"/>
                    <a:pt x="0" y="42"/>
                    <a:pt x="0" y="42"/>
                  </a:cubicBezTo>
                  <a:cubicBezTo>
                    <a:pt x="0" y="269"/>
                    <a:pt x="0" y="269"/>
                    <a:pt x="0" y="496"/>
                  </a:cubicBezTo>
                  <a:close/>
                </a:path>
              </a:pathLst>
            </a:custGeom>
            <a:solidFill>
              <a:srgbClr val="ea8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6"/>
            <p:cNvSpPr/>
            <p:nvPr/>
          </p:nvSpPr>
          <p:spPr>
            <a:xfrm>
              <a:off x="2505240" y="200880"/>
              <a:ext cx="6643440" cy="1006920"/>
            </a:xfrm>
            <a:custGeom>
              <a:avLst/>
              <a:gdLst/>
              <a:ahLst/>
              <a:rect l="l" t="t" r="r" b="b"/>
              <a:pathLst>
                <a:path w="4173" h="936">
                  <a:moveTo>
                    <a:pt x="669" y="179"/>
                  </a:moveTo>
                  <a:cubicBezTo>
                    <a:pt x="1122" y="287"/>
                    <a:pt x="1351" y="360"/>
                    <a:pt x="1538" y="422"/>
                  </a:cubicBezTo>
                  <a:cubicBezTo>
                    <a:pt x="1725" y="484"/>
                    <a:pt x="3122" y="936"/>
                    <a:pt x="4173" y="374"/>
                  </a:cubicBezTo>
                  <a:cubicBezTo>
                    <a:pt x="4173" y="374"/>
                    <a:pt x="4173" y="387"/>
                    <a:pt x="4173" y="306"/>
                  </a:cubicBezTo>
                  <a:cubicBezTo>
                    <a:pt x="3957" y="435"/>
                    <a:pt x="3346" y="626"/>
                    <a:pt x="2845" y="589"/>
                  </a:cubicBezTo>
                  <a:cubicBezTo>
                    <a:pt x="2344" y="552"/>
                    <a:pt x="1639" y="170"/>
                    <a:pt x="1165" y="85"/>
                  </a:cubicBezTo>
                  <a:cubicBezTo>
                    <a:pt x="691" y="0"/>
                    <a:pt x="261" y="21"/>
                    <a:pt x="0" y="77"/>
                  </a:cubicBezTo>
                  <a:cubicBezTo>
                    <a:pt x="2" y="84"/>
                    <a:pt x="261" y="92"/>
                    <a:pt x="669" y="179"/>
                  </a:cubicBezTo>
                  <a:close/>
                </a:path>
              </a:pathLst>
            </a:custGeom>
            <a:gradFill rotWithShape="0">
              <a:gsLst>
                <a:gs pos="0">
                  <a:srgbClr val="5d2100">
                    <a:alpha val="0"/>
                  </a:srgbClr>
                </a:gs>
                <a:gs pos="100000">
                  <a:srgbClr val="c84700">
                    <a:alpha val="5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7"/>
            <p:cNvSpPr/>
            <p:nvPr/>
          </p:nvSpPr>
          <p:spPr>
            <a:xfrm>
              <a:off x="5285160" y="-12600"/>
              <a:ext cx="3862440" cy="1177560"/>
            </a:xfrm>
            <a:custGeom>
              <a:avLst/>
              <a:gdLst/>
              <a:ahLst/>
              <a:rect l="l" t="t" r="r" b="b"/>
              <a:pathLst>
                <a:path w="2426" h="1095">
                  <a:moveTo>
                    <a:pt x="2426" y="1"/>
                  </a:moveTo>
                  <a:cubicBezTo>
                    <a:pt x="2426" y="232"/>
                    <a:pt x="2426" y="464"/>
                    <a:pt x="2426" y="464"/>
                  </a:cubicBezTo>
                  <a:cubicBezTo>
                    <a:pt x="1216" y="1095"/>
                    <a:pt x="584" y="162"/>
                    <a:pt x="0" y="0"/>
                  </a:cubicBezTo>
                  <a:cubicBezTo>
                    <a:pt x="0" y="0"/>
                    <a:pt x="1213" y="0"/>
                    <a:pt x="2426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5d2100">
                    <a:alpha val="0"/>
                  </a:srgbClr>
                </a:gs>
                <a:gs pos="100000">
                  <a:srgbClr val="c847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12A02-6760-46A6-8248-14963E966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45" descr="8"/>
          <p:cNvPicPr/>
          <p:nvPr/>
        </p:nvPicPr>
        <p:blipFill>
          <a:blip r:embed="rId5"/>
          <a:stretch/>
        </p:blipFill>
        <p:spPr>
          <a:xfrm>
            <a:off x="7227720" y="878040"/>
            <a:ext cx="1751040" cy="5364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52" descr="13"/>
          <p:cNvPicPr/>
          <p:nvPr/>
        </p:nvPicPr>
        <p:blipFill>
          <a:blip r:embed="rId6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53" descr="15"/>
          <p:cNvPicPr/>
          <p:nvPr/>
        </p:nvPicPr>
        <p:blipFill>
          <a:blip r:embed="rId7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57" descr="logo(trasparance)2"/>
          <p:cNvPicPr/>
          <p:nvPr/>
        </p:nvPicPr>
        <p:blipFill>
          <a:blip r:embed="rId8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58" descr="15"/>
          <p:cNvPicPr/>
          <p:nvPr/>
        </p:nvPicPr>
        <p:blipFill>
          <a:blip r:embed="rId9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0"/>
    <p:sldLayoutId id="2147483728" r:id="rId11"/>
    <p:sldLayoutId id="2147483729" r:id="rId12"/>
    <p:sldLayoutId id="2147483730" r:id="rId13"/>
    <p:sldLayoutId id="2147483731" r:id="rId14"/>
    <p:sldLayoutId id="2147483732" r:id="rId15"/>
    <p:sldLayoutId id="2147483733" r:id="rId16"/>
    <p:sldLayoutId id="2147483734" r:id="rId17"/>
    <p:sldLayoutId id="2147483735" r:id="rId18"/>
    <p:sldLayoutId id="2147483736" r:id="rId19"/>
    <p:sldLayoutId id="2147483737" r:id="rId20"/>
    <p:sldLayoutId id="2147483738" r:id="rId21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8b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40" descr="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86" name="Group 27"/>
          <p:cNvGrpSpPr/>
          <p:nvPr/>
        </p:nvGrpSpPr>
        <p:grpSpPr>
          <a:xfrm>
            <a:off x="6692760" y="228600"/>
            <a:ext cx="2451240" cy="4038480"/>
            <a:chOff x="6692760" y="228600"/>
            <a:chExt cx="2451240" cy="4038480"/>
          </a:xfrm>
        </p:grpSpPr>
        <p:pic>
          <p:nvPicPr>
            <p:cNvPr id="387" name="Picture 24" descr="11"/>
            <p:cNvPicPr/>
            <p:nvPr/>
          </p:nvPicPr>
          <p:blipFill>
            <a:blip r:embed="rId3"/>
            <a:stretch/>
          </p:blipFill>
          <p:spPr>
            <a:xfrm>
              <a:off x="6692760" y="228600"/>
              <a:ext cx="2451240" cy="403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25" descr="12"/>
            <p:cNvPicPr/>
            <p:nvPr/>
          </p:nvPicPr>
          <p:blipFill>
            <a:blip r:embed="rId4"/>
            <a:stretch/>
          </p:blipFill>
          <p:spPr>
            <a:xfrm>
              <a:off x="6958440" y="817200"/>
              <a:ext cx="1919880" cy="238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9" name="Group 44"/>
          <p:cNvGrpSpPr/>
          <p:nvPr/>
        </p:nvGrpSpPr>
        <p:grpSpPr>
          <a:xfrm>
            <a:off x="-19080" y="-57240"/>
            <a:ext cx="9182160" cy="1349640"/>
            <a:chOff x="-19080" y="-57240"/>
            <a:chExt cx="9182160" cy="1349640"/>
          </a:xfrm>
        </p:grpSpPr>
        <p:sp>
          <p:nvSpPr>
            <p:cNvPr id="390" name="Freeform 14"/>
            <p:cNvSpPr/>
            <p:nvPr/>
          </p:nvSpPr>
          <p:spPr>
            <a:xfrm flipH="1">
              <a:off x="-9720" y="-15480"/>
              <a:ext cx="9172440" cy="1307880"/>
            </a:xfrm>
            <a:custGeom>
              <a:avLst/>
              <a:gdLst/>
              <a:ahLst/>
              <a:rect l="l" t="t" r="r" b="b"/>
              <a:pathLst>
                <a:path w="5778" h="1215">
                  <a:moveTo>
                    <a:pt x="5778" y="640"/>
                  </a:moveTo>
                  <a:cubicBezTo>
                    <a:pt x="4217" y="104"/>
                    <a:pt x="3024" y="562"/>
                    <a:pt x="2656" y="668"/>
                  </a:cubicBezTo>
                  <a:cubicBezTo>
                    <a:pt x="2288" y="774"/>
                    <a:pt x="1066" y="1215"/>
                    <a:pt x="0" y="726"/>
                  </a:cubicBezTo>
                  <a:cubicBezTo>
                    <a:pt x="0" y="726"/>
                    <a:pt x="12" y="292"/>
                    <a:pt x="12" y="6"/>
                  </a:cubicBezTo>
                  <a:cubicBezTo>
                    <a:pt x="2901" y="5"/>
                    <a:pt x="5778" y="0"/>
                    <a:pt x="5778" y="0"/>
                  </a:cubicBezTo>
                  <a:cubicBezTo>
                    <a:pt x="5778" y="227"/>
                    <a:pt x="5778" y="413"/>
                    <a:pt x="5778" y="640"/>
                  </a:cubicBezTo>
                  <a:close/>
                </a:path>
              </a:pathLst>
            </a:custGeom>
            <a:solidFill>
              <a:srgbClr val="0000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5"/>
            <p:cNvSpPr/>
            <p:nvPr/>
          </p:nvSpPr>
          <p:spPr>
            <a:xfrm>
              <a:off x="-19080" y="-57240"/>
              <a:ext cx="9167760" cy="1265040"/>
            </a:xfrm>
            <a:custGeom>
              <a:avLst/>
              <a:gdLst/>
              <a:ahLst/>
              <a:rect l="l" t="t" r="r" b="b"/>
              <a:pathLst>
                <a:path w="5783" h="1176">
                  <a:moveTo>
                    <a:pt x="0" y="496"/>
                  </a:moveTo>
                  <a:cubicBezTo>
                    <a:pt x="1405" y="0"/>
                    <a:pt x="2961" y="600"/>
                    <a:pt x="3148" y="662"/>
                  </a:cubicBezTo>
                  <a:cubicBezTo>
                    <a:pt x="3335" y="724"/>
                    <a:pt x="4732" y="1176"/>
                    <a:pt x="5783" y="614"/>
                  </a:cubicBezTo>
                  <a:cubicBezTo>
                    <a:pt x="5783" y="614"/>
                    <a:pt x="5783" y="328"/>
                    <a:pt x="5783" y="42"/>
                  </a:cubicBezTo>
                  <a:cubicBezTo>
                    <a:pt x="2891" y="42"/>
                    <a:pt x="0" y="42"/>
                    <a:pt x="0" y="42"/>
                  </a:cubicBezTo>
                  <a:cubicBezTo>
                    <a:pt x="0" y="269"/>
                    <a:pt x="0" y="269"/>
                    <a:pt x="0" y="496"/>
                  </a:cubicBezTo>
                  <a:close/>
                </a:path>
              </a:pathLst>
            </a:custGeom>
            <a:solidFill>
              <a:srgbClr val="ea8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6"/>
            <p:cNvSpPr/>
            <p:nvPr/>
          </p:nvSpPr>
          <p:spPr>
            <a:xfrm>
              <a:off x="2505240" y="200880"/>
              <a:ext cx="6643440" cy="1006920"/>
            </a:xfrm>
            <a:custGeom>
              <a:avLst/>
              <a:gdLst/>
              <a:ahLst/>
              <a:rect l="l" t="t" r="r" b="b"/>
              <a:pathLst>
                <a:path w="4173" h="936">
                  <a:moveTo>
                    <a:pt x="669" y="179"/>
                  </a:moveTo>
                  <a:cubicBezTo>
                    <a:pt x="1122" y="287"/>
                    <a:pt x="1351" y="360"/>
                    <a:pt x="1538" y="422"/>
                  </a:cubicBezTo>
                  <a:cubicBezTo>
                    <a:pt x="1725" y="484"/>
                    <a:pt x="3122" y="936"/>
                    <a:pt x="4173" y="374"/>
                  </a:cubicBezTo>
                  <a:cubicBezTo>
                    <a:pt x="4173" y="374"/>
                    <a:pt x="4173" y="387"/>
                    <a:pt x="4173" y="306"/>
                  </a:cubicBezTo>
                  <a:cubicBezTo>
                    <a:pt x="3957" y="435"/>
                    <a:pt x="3346" y="626"/>
                    <a:pt x="2845" y="589"/>
                  </a:cubicBezTo>
                  <a:cubicBezTo>
                    <a:pt x="2344" y="552"/>
                    <a:pt x="1639" y="170"/>
                    <a:pt x="1165" y="85"/>
                  </a:cubicBezTo>
                  <a:cubicBezTo>
                    <a:pt x="691" y="0"/>
                    <a:pt x="261" y="21"/>
                    <a:pt x="0" y="77"/>
                  </a:cubicBezTo>
                  <a:cubicBezTo>
                    <a:pt x="2" y="84"/>
                    <a:pt x="261" y="92"/>
                    <a:pt x="669" y="179"/>
                  </a:cubicBezTo>
                  <a:close/>
                </a:path>
              </a:pathLst>
            </a:custGeom>
            <a:gradFill rotWithShape="0">
              <a:gsLst>
                <a:gs pos="0">
                  <a:srgbClr val="5d2100">
                    <a:alpha val="0"/>
                  </a:srgbClr>
                </a:gs>
                <a:gs pos="100000">
                  <a:srgbClr val="c84700">
                    <a:alpha val="5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7"/>
            <p:cNvSpPr/>
            <p:nvPr/>
          </p:nvSpPr>
          <p:spPr>
            <a:xfrm>
              <a:off x="5285160" y="-12600"/>
              <a:ext cx="3862440" cy="1177560"/>
            </a:xfrm>
            <a:custGeom>
              <a:avLst/>
              <a:gdLst/>
              <a:ahLst/>
              <a:rect l="l" t="t" r="r" b="b"/>
              <a:pathLst>
                <a:path w="2426" h="1095">
                  <a:moveTo>
                    <a:pt x="2426" y="1"/>
                  </a:moveTo>
                  <a:cubicBezTo>
                    <a:pt x="2426" y="232"/>
                    <a:pt x="2426" y="464"/>
                    <a:pt x="2426" y="464"/>
                  </a:cubicBezTo>
                  <a:cubicBezTo>
                    <a:pt x="1216" y="1095"/>
                    <a:pt x="584" y="162"/>
                    <a:pt x="0" y="0"/>
                  </a:cubicBezTo>
                  <a:cubicBezTo>
                    <a:pt x="0" y="0"/>
                    <a:pt x="1213" y="0"/>
                    <a:pt x="2426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5d2100">
                    <a:alpha val="0"/>
                  </a:srgbClr>
                </a:gs>
                <a:gs pos="100000">
                  <a:srgbClr val="c847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PlaceHolder 1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D053D-59B5-4B0F-AADF-37FA60AD2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45" descr="8"/>
          <p:cNvPicPr/>
          <p:nvPr/>
        </p:nvPicPr>
        <p:blipFill>
          <a:blip r:embed="rId5"/>
          <a:stretch/>
        </p:blipFill>
        <p:spPr>
          <a:xfrm>
            <a:off x="7227720" y="878040"/>
            <a:ext cx="1751040" cy="5364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52" descr="13"/>
          <p:cNvPicPr/>
          <p:nvPr/>
        </p:nvPicPr>
        <p:blipFill>
          <a:blip r:embed="rId6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3" descr="15"/>
          <p:cNvPicPr/>
          <p:nvPr/>
        </p:nvPicPr>
        <p:blipFill>
          <a:blip r:embed="rId7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57" descr="logo(trasparance)2"/>
          <p:cNvPicPr/>
          <p:nvPr/>
        </p:nvPicPr>
        <p:blipFill>
          <a:blip r:embed="rId8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58" descr="15"/>
          <p:cNvPicPr/>
          <p:nvPr/>
        </p:nvPicPr>
        <p:blipFill>
          <a:blip r:embed="rId9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0"/>
    <p:sldLayoutId id="2147483741" r:id="rId11"/>
    <p:sldLayoutId id="2147483742" r:id="rId12"/>
    <p:sldLayoutId id="2147483743" r:id="rId13"/>
    <p:sldLayoutId id="2147483744" r:id="rId14"/>
    <p:sldLayoutId id="2147483745" r:id="rId15"/>
    <p:sldLayoutId id="2147483746" r:id="rId16"/>
    <p:sldLayoutId id="2147483747" r:id="rId17"/>
    <p:sldLayoutId id="2147483748" r:id="rId18"/>
    <p:sldLayoutId id="2147483749" r:id="rId19"/>
    <p:sldLayoutId id="2147483750" r:id="rId20"/>
    <p:sldLayoutId id="2147483751" r:id="rId21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8b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40" descr="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41" name="Group 27"/>
          <p:cNvGrpSpPr/>
          <p:nvPr/>
        </p:nvGrpSpPr>
        <p:grpSpPr>
          <a:xfrm>
            <a:off x="6692760" y="228600"/>
            <a:ext cx="2451240" cy="4038480"/>
            <a:chOff x="6692760" y="228600"/>
            <a:chExt cx="2451240" cy="4038480"/>
          </a:xfrm>
        </p:grpSpPr>
        <p:pic>
          <p:nvPicPr>
            <p:cNvPr id="442" name="Picture 24" descr="11"/>
            <p:cNvPicPr/>
            <p:nvPr/>
          </p:nvPicPr>
          <p:blipFill>
            <a:blip r:embed="rId3"/>
            <a:stretch/>
          </p:blipFill>
          <p:spPr>
            <a:xfrm>
              <a:off x="6692760" y="228600"/>
              <a:ext cx="2451240" cy="403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3" name="Picture 25" descr="12"/>
            <p:cNvPicPr/>
            <p:nvPr/>
          </p:nvPicPr>
          <p:blipFill>
            <a:blip r:embed="rId4"/>
            <a:stretch/>
          </p:blipFill>
          <p:spPr>
            <a:xfrm>
              <a:off x="6958440" y="817200"/>
              <a:ext cx="1919880" cy="238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4" name="Group 44"/>
          <p:cNvGrpSpPr/>
          <p:nvPr/>
        </p:nvGrpSpPr>
        <p:grpSpPr>
          <a:xfrm>
            <a:off x="-19080" y="-57240"/>
            <a:ext cx="9182160" cy="1349640"/>
            <a:chOff x="-19080" y="-57240"/>
            <a:chExt cx="9182160" cy="1349640"/>
          </a:xfrm>
        </p:grpSpPr>
        <p:sp>
          <p:nvSpPr>
            <p:cNvPr id="445" name="Freeform 14"/>
            <p:cNvSpPr/>
            <p:nvPr/>
          </p:nvSpPr>
          <p:spPr>
            <a:xfrm flipH="1">
              <a:off x="-9720" y="-15480"/>
              <a:ext cx="9172440" cy="1307880"/>
            </a:xfrm>
            <a:custGeom>
              <a:avLst/>
              <a:gdLst/>
              <a:ahLst/>
              <a:rect l="l" t="t" r="r" b="b"/>
              <a:pathLst>
                <a:path w="5778" h="1215">
                  <a:moveTo>
                    <a:pt x="5778" y="640"/>
                  </a:moveTo>
                  <a:cubicBezTo>
                    <a:pt x="4217" y="104"/>
                    <a:pt x="3024" y="562"/>
                    <a:pt x="2656" y="668"/>
                  </a:cubicBezTo>
                  <a:cubicBezTo>
                    <a:pt x="2288" y="774"/>
                    <a:pt x="1066" y="1215"/>
                    <a:pt x="0" y="726"/>
                  </a:cubicBezTo>
                  <a:cubicBezTo>
                    <a:pt x="0" y="726"/>
                    <a:pt x="12" y="292"/>
                    <a:pt x="12" y="6"/>
                  </a:cubicBezTo>
                  <a:cubicBezTo>
                    <a:pt x="2901" y="5"/>
                    <a:pt x="5778" y="0"/>
                    <a:pt x="5778" y="0"/>
                  </a:cubicBezTo>
                  <a:cubicBezTo>
                    <a:pt x="5778" y="227"/>
                    <a:pt x="5778" y="413"/>
                    <a:pt x="5778" y="640"/>
                  </a:cubicBezTo>
                  <a:close/>
                </a:path>
              </a:pathLst>
            </a:custGeom>
            <a:solidFill>
              <a:srgbClr val="0000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5"/>
            <p:cNvSpPr/>
            <p:nvPr/>
          </p:nvSpPr>
          <p:spPr>
            <a:xfrm>
              <a:off x="-19080" y="-57240"/>
              <a:ext cx="9167760" cy="1265040"/>
            </a:xfrm>
            <a:custGeom>
              <a:avLst/>
              <a:gdLst/>
              <a:ahLst/>
              <a:rect l="l" t="t" r="r" b="b"/>
              <a:pathLst>
                <a:path w="5783" h="1176">
                  <a:moveTo>
                    <a:pt x="0" y="496"/>
                  </a:moveTo>
                  <a:cubicBezTo>
                    <a:pt x="1405" y="0"/>
                    <a:pt x="2961" y="600"/>
                    <a:pt x="3148" y="662"/>
                  </a:cubicBezTo>
                  <a:cubicBezTo>
                    <a:pt x="3335" y="724"/>
                    <a:pt x="4732" y="1176"/>
                    <a:pt x="5783" y="614"/>
                  </a:cubicBezTo>
                  <a:cubicBezTo>
                    <a:pt x="5783" y="614"/>
                    <a:pt x="5783" y="328"/>
                    <a:pt x="5783" y="42"/>
                  </a:cubicBezTo>
                  <a:cubicBezTo>
                    <a:pt x="2891" y="42"/>
                    <a:pt x="0" y="42"/>
                    <a:pt x="0" y="42"/>
                  </a:cubicBezTo>
                  <a:cubicBezTo>
                    <a:pt x="0" y="269"/>
                    <a:pt x="0" y="269"/>
                    <a:pt x="0" y="496"/>
                  </a:cubicBezTo>
                  <a:close/>
                </a:path>
              </a:pathLst>
            </a:custGeom>
            <a:solidFill>
              <a:srgbClr val="ea8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6"/>
            <p:cNvSpPr/>
            <p:nvPr/>
          </p:nvSpPr>
          <p:spPr>
            <a:xfrm>
              <a:off x="2505240" y="200880"/>
              <a:ext cx="6643440" cy="1006920"/>
            </a:xfrm>
            <a:custGeom>
              <a:avLst/>
              <a:gdLst/>
              <a:ahLst/>
              <a:rect l="l" t="t" r="r" b="b"/>
              <a:pathLst>
                <a:path w="4173" h="936">
                  <a:moveTo>
                    <a:pt x="669" y="179"/>
                  </a:moveTo>
                  <a:cubicBezTo>
                    <a:pt x="1122" y="287"/>
                    <a:pt x="1351" y="360"/>
                    <a:pt x="1538" y="422"/>
                  </a:cubicBezTo>
                  <a:cubicBezTo>
                    <a:pt x="1725" y="484"/>
                    <a:pt x="3122" y="936"/>
                    <a:pt x="4173" y="374"/>
                  </a:cubicBezTo>
                  <a:cubicBezTo>
                    <a:pt x="4173" y="374"/>
                    <a:pt x="4173" y="387"/>
                    <a:pt x="4173" y="306"/>
                  </a:cubicBezTo>
                  <a:cubicBezTo>
                    <a:pt x="3957" y="435"/>
                    <a:pt x="3346" y="626"/>
                    <a:pt x="2845" y="589"/>
                  </a:cubicBezTo>
                  <a:cubicBezTo>
                    <a:pt x="2344" y="552"/>
                    <a:pt x="1639" y="170"/>
                    <a:pt x="1165" y="85"/>
                  </a:cubicBezTo>
                  <a:cubicBezTo>
                    <a:pt x="691" y="0"/>
                    <a:pt x="261" y="21"/>
                    <a:pt x="0" y="77"/>
                  </a:cubicBezTo>
                  <a:cubicBezTo>
                    <a:pt x="2" y="84"/>
                    <a:pt x="261" y="92"/>
                    <a:pt x="669" y="179"/>
                  </a:cubicBezTo>
                  <a:close/>
                </a:path>
              </a:pathLst>
            </a:custGeom>
            <a:gradFill rotWithShape="0">
              <a:gsLst>
                <a:gs pos="0">
                  <a:srgbClr val="5d2100">
                    <a:alpha val="0"/>
                  </a:srgbClr>
                </a:gs>
                <a:gs pos="100000">
                  <a:srgbClr val="c84700">
                    <a:alpha val="5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7"/>
            <p:cNvSpPr/>
            <p:nvPr/>
          </p:nvSpPr>
          <p:spPr>
            <a:xfrm>
              <a:off x="5285160" y="-12600"/>
              <a:ext cx="3862440" cy="1177560"/>
            </a:xfrm>
            <a:custGeom>
              <a:avLst/>
              <a:gdLst/>
              <a:ahLst/>
              <a:rect l="l" t="t" r="r" b="b"/>
              <a:pathLst>
                <a:path w="2426" h="1095">
                  <a:moveTo>
                    <a:pt x="2426" y="1"/>
                  </a:moveTo>
                  <a:cubicBezTo>
                    <a:pt x="2426" y="232"/>
                    <a:pt x="2426" y="464"/>
                    <a:pt x="2426" y="464"/>
                  </a:cubicBezTo>
                  <a:cubicBezTo>
                    <a:pt x="1216" y="1095"/>
                    <a:pt x="584" y="162"/>
                    <a:pt x="0" y="0"/>
                  </a:cubicBezTo>
                  <a:cubicBezTo>
                    <a:pt x="0" y="0"/>
                    <a:pt x="1213" y="0"/>
                    <a:pt x="2426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5d2100">
                    <a:alpha val="0"/>
                  </a:srgbClr>
                </a:gs>
                <a:gs pos="100000">
                  <a:srgbClr val="c847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PlaceHolder 1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0E875-A51E-49F2-ACFB-4B8CCD87C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Picture 45" descr="8"/>
          <p:cNvPicPr/>
          <p:nvPr/>
        </p:nvPicPr>
        <p:blipFill>
          <a:blip r:embed="rId5"/>
          <a:stretch/>
        </p:blipFill>
        <p:spPr>
          <a:xfrm>
            <a:off x="7227720" y="878040"/>
            <a:ext cx="1751040" cy="5364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52" descr="13"/>
          <p:cNvPicPr/>
          <p:nvPr/>
        </p:nvPicPr>
        <p:blipFill>
          <a:blip r:embed="rId6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53" descr="15"/>
          <p:cNvPicPr/>
          <p:nvPr/>
        </p:nvPicPr>
        <p:blipFill>
          <a:blip r:embed="rId7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57" descr="logo(trasparance)2"/>
          <p:cNvPicPr/>
          <p:nvPr/>
        </p:nvPicPr>
        <p:blipFill>
          <a:blip r:embed="rId8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58" descr="15"/>
          <p:cNvPicPr/>
          <p:nvPr/>
        </p:nvPicPr>
        <p:blipFill>
          <a:blip r:embed="rId9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0"/>
    <p:sldLayoutId id="2147483754" r:id="rId11"/>
    <p:sldLayoutId id="2147483755" r:id="rId12"/>
    <p:sldLayoutId id="2147483756" r:id="rId13"/>
    <p:sldLayoutId id="2147483757" r:id="rId14"/>
    <p:sldLayoutId id="2147483758" r:id="rId15"/>
    <p:sldLayoutId id="2147483759" r:id="rId16"/>
    <p:sldLayoutId id="2147483760" r:id="rId17"/>
    <p:sldLayoutId id="2147483761" r:id="rId18"/>
    <p:sldLayoutId id="2147483762" r:id="rId19"/>
    <p:sldLayoutId id="2147483763" r:id="rId20"/>
    <p:sldLayoutId id="2147483764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9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Text Box 179"/>
          <p:cNvSpPr/>
          <p:nvPr/>
        </p:nvSpPr>
        <p:spPr>
          <a:xfrm>
            <a:off x="141120" y="384120"/>
            <a:ext cx="86551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Форма №</a:t>
            </a:r>
            <a:r>
              <a:rPr b="1" lang="en-U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30</a:t>
            </a:r>
            <a:br>
              <a:rPr sz="2800"/>
            </a:br>
            <a:r>
              <a:rPr b="1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«Сведения о медицинской организации»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Подзаголовок 2"/>
          <p:cNvSpPr/>
          <p:nvPr/>
        </p:nvSpPr>
        <p:spPr>
          <a:xfrm>
            <a:off x="4883040" y="1946160"/>
            <a:ext cx="3994200" cy="39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54500"/>
                </a:solidFill>
                <a:latin typeface="Times New Roman"/>
              </a:rPr>
              <a:t>РАЗДЕЛ </a:t>
            </a:r>
            <a:r>
              <a:rPr b="1" i="1" lang="en-US" sz="2400" spc="-1" strike="noStrike">
                <a:solidFill>
                  <a:srgbClr val="754500"/>
                </a:solidFill>
                <a:latin typeface="Times New Roman"/>
              </a:rPr>
              <a:t>III</a:t>
            </a:r>
            <a:r>
              <a:rPr b="1" i="1" lang="ru-RU" sz="2400" spc="-1" strike="noStrike">
                <a:solidFill>
                  <a:srgbClr val="754500"/>
                </a:solidFill>
                <a:latin typeface="Times New Roman"/>
              </a:rPr>
              <a:t>.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54500"/>
                </a:solidFill>
                <a:latin typeface="Times New Roman"/>
              </a:rPr>
              <a:t>ДЕЯТЕЛЬНОСТЬ </a:t>
            </a:r>
            <a:r>
              <a:rPr b="1" i="1" lang="en-US" sz="2400" spc="-1" strike="noStrike">
                <a:solidFill>
                  <a:srgbClr val="754500"/>
                </a:solidFill>
                <a:latin typeface="Times New Roman"/>
              </a:rPr>
              <a:t>                       </a:t>
            </a:r>
            <a:r>
              <a:rPr b="1" i="1" lang="ru-RU" sz="2400" spc="-1" strike="noStrike">
                <a:solidFill>
                  <a:srgbClr val="754500"/>
                </a:solidFill>
                <a:latin typeface="Times New Roman"/>
              </a:rPr>
              <a:t>МЕДИЦИНСКОЙ</a:t>
            </a:r>
            <a:r>
              <a:rPr b="1" i="1" lang="en-US" sz="2400" spc="-1" strike="noStrike">
                <a:solidFill>
                  <a:srgbClr val="7545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754500"/>
                </a:solidFill>
                <a:latin typeface="Times New Roman"/>
              </a:rPr>
              <a:t>ОРГАНИЗАЦИИ </a:t>
            </a:r>
            <a:br>
              <a:rPr sz="2400"/>
            </a:br>
            <a:r>
              <a:rPr b="1" i="1" lang="ru-RU" sz="2400" spc="-1" strike="noStrike">
                <a:solidFill>
                  <a:srgbClr val="754500"/>
                </a:solidFill>
                <a:latin typeface="Times New Roman"/>
              </a:rPr>
              <a:t>ПО ОКАЗАНИЮ</a:t>
            </a:r>
            <a:r>
              <a:rPr b="1" i="1" lang="en-US" sz="2400" spc="-1" strike="noStrike">
                <a:solidFill>
                  <a:srgbClr val="7545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754500"/>
                </a:solidFill>
                <a:latin typeface="Times New Roman"/>
              </a:rPr>
              <a:t>МЕДИЦИНСКОЙ </a:t>
            </a:r>
            <a:r>
              <a:rPr b="1" i="1" lang="en-US" sz="2400" spc="-1" strike="noStrike">
                <a:solidFill>
                  <a:srgbClr val="754500"/>
                </a:solidFill>
                <a:latin typeface="Times New Roman"/>
              </a:rPr>
              <a:t>                      </a:t>
            </a:r>
            <a:r>
              <a:rPr b="1" i="1" lang="ru-RU" sz="2400" spc="-1" strike="noStrike">
                <a:solidFill>
                  <a:srgbClr val="754500"/>
                </a:solidFill>
                <a:latin typeface="Times New Roman"/>
              </a:rPr>
              <a:t> ПОМОЩИ В</a:t>
            </a:r>
            <a:r>
              <a:rPr b="1" i="1" lang="en-US" sz="2400" spc="-1" strike="noStrike">
                <a:solidFill>
                  <a:srgbClr val="7545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754500"/>
                </a:solidFill>
                <a:latin typeface="Times New Roman"/>
              </a:rPr>
              <a:t>АМБУЛАТОРНЫХ </a:t>
            </a:r>
            <a:r>
              <a:rPr b="1" i="1" lang="en-US" sz="2400" spc="-1" strike="noStrike">
                <a:solidFill>
                  <a:srgbClr val="754500"/>
                </a:solidFill>
                <a:latin typeface="Times New Roman"/>
              </a:rPr>
              <a:t>                      </a:t>
            </a:r>
            <a:r>
              <a:rPr b="1" i="1" lang="ru-RU" sz="2400" spc="-1" strike="noStrike">
                <a:solidFill>
                  <a:srgbClr val="754500"/>
                </a:solidFill>
                <a:latin typeface="Times New Roman"/>
              </a:rPr>
              <a:t> УСЛОВИЯХ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3" name="Рисунок 1" descr=""/>
          <p:cNvPicPr/>
          <p:nvPr/>
        </p:nvPicPr>
        <p:blipFill>
          <a:blip r:embed="rId1"/>
          <a:stretch/>
        </p:blipFill>
        <p:spPr>
          <a:xfrm>
            <a:off x="141120" y="1946160"/>
            <a:ext cx="508824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670572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2100. Работа врачей медицинской организации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амбулаторных условиях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6" name=""/>
          <p:cNvGraphicFramePr/>
          <p:nvPr/>
        </p:nvGraphicFramePr>
        <p:xfrm>
          <a:off x="76320" y="1066680"/>
          <a:ext cx="8839080" cy="5183280"/>
        </p:xfrm>
        <a:graphic>
          <a:graphicData uri="http://schemas.openxmlformats.org/drawingml/2006/table">
            <a:tbl>
              <a:tblPr/>
              <a:tblGrid>
                <a:gridCol w="1379520"/>
                <a:gridCol w="525240"/>
                <a:gridCol w="838440"/>
                <a:gridCol w="609480"/>
                <a:gridCol w="609480"/>
                <a:gridCol w="533520"/>
                <a:gridCol w="609480"/>
                <a:gridCol w="609840"/>
                <a:gridCol w="533160"/>
                <a:gridCol w="685800"/>
                <a:gridCol w="685800"/>
                <a:gridCol w="533520"/>
                <a:gridCol w="685800"/>
              </a:tblGrid>
              <a:tr h="8226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из гр.3) сделано по поводу заболеваний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 врачами на дому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й, включая профилактические - всего 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-ми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ми 18 лет и более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ельских жителей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9: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 12: по поводу заболеваний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 заболеваний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–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аллиативной медицинской помощ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тделениях, кабинетах паллиативной медпомощ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291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291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0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ыездной патронажной службой для оказания паллиативной медицинской помощи на дому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291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291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7" name="Rectangle 1694"/>
          <p:cNvSpPr/>
          <p:nvPr/>
        </p:nvSpPr>
        <p:spPr>
          <a:xfrm>
            <a:off x="3282840" y="4611600"/>
            <a:ext cx="5632560" cy="552600"/>
          </a:xfrm>
          <a:prstGeom prst="rect">
            <a:avLst/>
          </a:prstGeom>
          <a:solidFill>
            <a:srgbClr val="ffd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</a:rPr>
              <a:t>Сумма строк 126 и 127 может быть больше строки 61 за счет иных специалистов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Стрелка: круговая 1"/>
          <p:cNvSpPr/>
          <p:nvPr/>
        </p:nvSpPr>
        <p:spPr>
          <a:xfrm rot="5400000">
            <a:off x="2019240" y="3765600"/>
            <a:ext cx="642960" cy="627120"/>
          </a:xfrm>
          <a:custGeom>
            <a:avLst/>
            <a:gdLst/>
            <a:ahLst/>
            <a:rect l="l" t="t" r="r" b="b"/>
            <a:pathLst>
              <a:path w="642937" h="627062">
                <a:moveTo>
                  <a:pt x="39191" y="313531"/>
                </a:moveTo>
                <a:cubicBezTo>
                  <a:pt x="39191" y="176624"/>
                  <a:pt x="143048" y="60673"/>
                  <a:pt x="282572" y="41808"/>
                </a:cubicBezTo>
                <a:cubicBezTo>
                  <a:pt x="420435" y="23168"/>
                  <a:pt x="551700" y="104978"/>
                  <a:pt x="591785" y="234523"/>
                </a:cubicBezTo>
                <a:lnTo>
                  <a:pt x="628805" y="234523"/>
                </a:lnTo>
                <a:lnTo>
                  <a:pt x="564554" y="313531"/>
                </a:lnTo>
                <a:lnTo>
                  <a:pt x="472040" y="234523"/>
                </a:lnTo>
                <a:lnTo>
                  <a:pt x="508056" y="234523"/>
                </a:lnTo>
                <a:cubicBezTo>
                  <a:pt x="469638" y="150720"/>
                  <a:pt x="375950" y="103665"/>
                  <a:pt x="282427" y="121200"/>
                </a:cubicBezTo>
                <a:cubicBezTo>
                  <a:pt x="186678" y="139153"/>
                  <a:pt x="117575" y="219774"/>
                  <a:pt x="117575" y="313531"/>
                </a:cubicBezTo>
                <a:lnTo>
                  <a:pt x="39191" y="313531"/>
                </a:lnTo>
                <a:close/>
              </a:path>
            </a:pathLst>
          </a:custGeom>
          <a:solidFill>
            <a:srgbClr val="41adc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Стрелка: круговая 2"/>
          <p:cNvSpPr/>
          <p:nvPr/>
        </p:nvSpPr>
        <p:spPr>
          <a:xfrm rot="5400000">
            <a:off x="1979640" y="3990960"/>
            <a:ext cx="1379520" cy="1074960"/>
          </a:xfrm>
          <a:custGeom>
            <a:avLst/>
            <a:gdLst/>
            <a:ahLst/>
            <a:rect l="l" t="t" r="r" b="b"/>
            <a:pathLst>
              <a:path w="1379538" h="1074737">
                <a:moveTo>
                  <a:pt x="67171" y="537369"/>
                </a:moveTo>
                <a:cubicBezTo>
                  <a:pt x="67171" y="297671"/>
                  <a:pt x="305923" y="96341"/>
                  <a:pt x="621393" y="70016"/>
                </a:cubicBezTo>
                <a:cubicBezTo>
                  <a:pt x="900297" y="46743"/>
                  <a:pt x="1165350" y="167244"/>
                  <a:pt x="1268646" y="364278"/>
                </a:cubicBezTo>
                <a:lnTo>
                  <a:pt x="1325705" y="364277"/>
                </a:lnTo>
                <a:lnTo>
                  <a:pt x="1245196" y="537368"/>
                </a:lnTo>
                <a:lnTo>
                  <a:pt x="1057020" y="364277"/>
                </a:lnTo>
                <a:lnTo>
                  <a:pt x="1108187" y="364277"/>
                </a:lnTo>
                <a:cubicBezTo>
                  <a:pt x="1007593" y="249219"/>
                  <a:pt x="817046" y="186427"/>
                  <a:pt x="623657" y="204606"/>
                </a:cubicBezTo>
                <a:cubicBezTo>
                  <a:pt x="381797" y="227342"/>
                  <a:pt x="201513" y="369454"/>
                  <a:pt x="201513" y="537368"/>
                </a:cubicBezTo>
                <a:lnTo>
                  <a:pt x="67171" y="537369"/>
                </a:lnTo>
                <a:close/>
              </a:path>
            </a:pathLst>
          </a:custGeom>
          <a:solidFill>
            <a:srgbClr val="41adc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3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врачей медицинской организации в амбулаторных условиях, единица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01" name=""/>
          <p:cNvGraphicFramePr/>
          <p:nvPr/>
        </p:nvGraphicFramePr>
        <p:xfrm>
          <a:off x="465120" y="1576440"/>
          <a:ext cx="7755120" cy="2651040"/>
        </p:xfrm>
        <a:graphic>
          <a:graphicData uri="http://schemas.openxmlformats.org/drawingml/2006/table">
            <a:tbl>
              <a:tblPr/>
              <a:tblGrid>
                <a:gridCol w="1736640"/>
                <a:gridCol w="430200"/>
                <a:gridCol w="405000"/>
                <a:gridCol w="519120"/>
                <a:gridCol w="517320"/>
                <a:gridCol w="517680"/>
                <a:gridCol w="519120"/>
                <a:gridCol w="517320"/>
                <a:gridCol w="519120"/>
                <a:gridCol w="517680"/>
                <a:gridCol w="519120"/>
                <a:gridCol w="517680"/>
                <a:gridCol w="519120"/>
              </a:tblGrid>
              <a:tr h="669960">
                <a:tc rowSpan="3"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100)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3320" rIns="133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-ки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13320" rIns="13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3320" rIns="13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из графы 3) сделано по поводу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болеваний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13320" rIns="13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 врачами на дому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3320" rIns="13320" tIns="0" bIns="0" anchor="b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й, включая профилак-тические –  всего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3320" rIns="133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3320" rIns="133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3320" rIns="133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ми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 лет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более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3320" rIns="133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–17 лет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3320" rIns="13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3320" rIns="133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ельских жителей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3320" rIns="133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афы 9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3320" rIns="133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афы 12 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 заболеваний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320" rIns="133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–17 лет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320" rIns="133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 заболеваний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лет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480">
                <a:tc>
                  <a:txBody>
                    <a:bodyPr lIns="13320" rIns="133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b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13320" rIns="13320" tIns="0" bIns="0" anchor="b">
                      <a:noAutofit/>
                    </a:bodyPr>
                    <a:p>
                      <a:pPr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, всего (Мариинская участковая больница, с.Суслово)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ctr">
                      <a:noAutofit/>
                    </a:bodyPr>
                    <a:p>
                      <a:pPr algn="ctr"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ctr">
                      <a:noAutofit/>
                    </a:bodyPr>
                    <a:p>
                      <a:pPr algn="ctr"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50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ctr">
                      <a:noAutofit/>
                    </a:bodyPr>
                    <a:p>
                      <a:pPr algn="ctr"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50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ctr">
                      <a:noAutofit/>
                    </a:bodyPr>
                    <a:p>
                      <a:pPr algn="ctr"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41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ctr">
                      <a:noAutofit/>
                    </a:bodyPr>
                    <a:p>
                      <a:pPr algn="ctr"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55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ctr">
                      <a:noAutofit/>
                    </a:bodyPr>
                    <a:p>
                      <a:pPr algn="ctr"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2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ctr">
                      <a:noAutofit/>
                    </a:bodyPr>
                    <a:p>
                      <a:pPr algn="ctr"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3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ctr">
                      <a:noAutofit/>
                    </a:bodyPr>
                    <a:p>
                      <a:pPr algn="ctr"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9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ctr">
                      <a:noAutofit/>
                    </a:bodyPr>
                    <a:p>
                      <a:pPr algn="ctr"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9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ctr">
                      <a:noAutofit/>
                    </a:bodyPr>
                    <a:p>
                      <a:pPr algn="ctr"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4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ctr">
                      <a:noAutofit/>
                    </a:bodyPr>
                    <a:p>
                      <a:pPr algn="ctr"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5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ctr">
                      <a:noAutofit/>
                    </a:bodyPr>
                    <a:p>
                      <a:pPr algn="ctr"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7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13320" rIns="13320" tIns="0" bIns="0" anchor="b">
                      <a:noAutofit/>
                    </a:bodyPr>
                    <a:p>
                      <a:pPr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1)  врачи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булаторий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ctr">
                      <a:noAutofit/>
                    </a:bodyPr>
                    <a:p>
                      <a:pPr algn="ctr"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ctr">
                      <a:noAutofit/>
                    </a:bodyPr>
                    <a:p>
                      <a:pPr algn="ctr"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50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ctr">
                      <a:noAutofit/>
                    </a:bodyPr>
                    <a:p>
                      <a:pPr algn="ctr"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50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ctr">
                      <a:noAutofit/>
                    </a:bodyPr>
                    <a:p>
                      <a:pPr algn="ctr"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41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ctr">
                      <a:noAutofit/>
                    </a:bodyPr>
                    <a:p>
                      <a:pPr algn="ctr"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55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ctr">
                      <a:noAutofit/>
                    </a:bodyPr>
                    <a:p>
                      <a:pPr algn="ctr"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2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ctr">
                      <a:noAutofit/>
                    </a:bodyPr>
                    <a:p>
                      <a:pPr algn="ctr"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3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ctr">
                      <a:noAutofit/>
                    </a:bodyPr>
                    <a:p>
                      <a:pPr algn="ctr"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9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ctr">
                      <a:noAutofit/>
                    </a:bodyPr>
                    <a:p>
                      <a:pPr algn="ctr"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9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ctr">
                      <a:noAutofit/>
                    </a:bodyPr>
                    <a:p>
                      <a:pPr algn="ctr"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4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ctr">
                      <a:noAutofit/>
                    </a:bodyPr>
                    <a:p>
                      <a:pPr algn="ctr"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5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ctr">
                      <a:noAutofit/>
                    </a:bodyPr>
                    <a:p>
                      <a:pPr algn="ctr"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7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2" name="Стрелка вниз 9"/>
          <p:cNvSpPr/>
          <p:nvPr/>
        </p:nvSpPr>
        <p:spPr>
          <a:xfrm>
            <a:off x="2987640" y="3817800"/>
            <a:ext cx="46080" cy="532080"/>
          </a:xfrm>
          <a:prstGeom prst="downArrow">
            <a:avLst>
              <a:gd name="adj1" fmla="val 50000"/>
              <a:gd name="adj2" fmla="val 4998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Скругленный прямоугольник 10"/>
          <p:cNvSpPr/>
          <p:nvPr/>
        </p:nvSpPr>
        <p:spPr>
          <a:xfrm>
            <a:off x="250920" y="4508640"/>
            <a:ext cx="8062920" cy="194472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Обратить внимание!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 строке 1.1 «врачи амбулаторий» указывается суммарное число посещений по всем должностям, включенное в штатное расписание врачебной амбулатории и ведущих амбулаторный врачебный прием.  Разница сведений между 2100 и 2100-село на городскую местность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Rectangle 171"/>
          <p:cNvSpPr/>
          <p:nvPr/>
        </p:nvSpPr>
        <p:spPr>
          <a:xfrm>
            <a:off x="395280" y="641520"/>
            <a:ext cx="1828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 2100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670572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2100. Работа врачей медицинской организации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амбулаторных условиях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7" name=""/>
          <p:cNvGraphicFramePr/>
          <p:nvPr/>
        </p:nvGraphicFramePr>
        <p:xfrm>
          <a:off x="76320" y="1066680"/>
          <a:ext cx="8839080" cy="3095640"/>
        </p:xfrm>
        <a:graphic>
          <a:graphicData uri="http://schemas.openxmlformats.org/drawingml/2006/table">
            <a:tbl>
              <a:tblPr/>
              <a:tblGrid>
                <a:gridCol w="1447560"/>
                <a:gridCol w="457200"/>
                <a:gridCol w="838440"/>
                <a:gridCol w="609480"/>
                <a:gridCol w="609480"/>
                <a:gridCol w="533520"/>
                <a:gridCol w="609480"/>
                <a:gridCol w="609840"/>
                <a:gridCol w="533160"/>
                <a:gridCol w="685800"/>
                <a:gridCol w="685800"/>
                <a:gridCol w="533520"/>
                <a:gridCol w="685800"/>
              </a:tblGrid>
              <a:tr h="82404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из гр.3) сделано по поводу заболеваний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 врачами на дому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й, включая профилактические - всего 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-ми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ми 18 лет и более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ельских жителей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9: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 12: по поводу заболеваний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 заболеваний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ы-гинеколог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8" name="Text Box 1697"/>
          <p:cNvSpPr/>
          <p:nvPr/>
        </p:nvSpPr>
        <p:spPr>
          <a:xfrm>
            <a:off x="7365600" y="457200"/>
            <a:ext cx="1494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Внимание!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Text Box 100"/>
          <p:cNvSpPr/>
          <p:nvPr/>
        </p:nvSpPr>
        <p:spPr>
          <a:xfrm>
            <a:off x="1577880" y="3222720"/>
            <a:ext cx="7337520" cy="1554120"/>
          </a:xfrm>
          <a:prstGeom prst="rect">
            <a:avLst/>
          </a:prstGeom>
          <a:solidFill>
            <a:srgbClr val="ffd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гр. 3 – гр. 5 (взрослые всего) должна быть больше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гр. 3 – гр. 5 – гр. 7 (взрослые с профилактической целью) по всем строкам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То есть, число посещений в поликлинику взрослых всего должно быть больше числа посещений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взрослых в поликлинику с профилактическими целями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Text Box 101"/>
          <p:cNvSpPr/>
          <p:nvPr/>
        </p:nvSpPr>
        <p:spPr>
          <a:xfrm>
            <a:off x="1577880" y="4994280"/>
            <a:ext cx="7337520" cy="1797480"/>
          </a:xfrm>
          <a:prstGeom prst="rect">
            <a:avLst/>
          </a:prstGeom>
          <a:solidFill>
            <a:srgbClr val="ffe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гр. 9 – гр. 11 (всего с профилактической целью) должна быть больше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гр. 12 – гр. 13 (дети с профилактической целью) по всем строкам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То есть, число посещений на дому с профилактическими целями всего должно быть больше числа посещений детей на дому с профилактическими целями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Городские всего (гр3 - 4) – Городские по заболеваниям = Городские профилактические (ошибка при минусе)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695160" y="1001520"/>
            <a:ext cx="77025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.2101. ПОСЕЩЕНИЯ К СРЕДНЕМУ МЕДИЦИНСКОМУ ПЕРСОНАЛУ УЧИТЫВАЮТСЯ ПРИ УСЛОВИИ ОСУЩЕСТВЛЕНИЯ САМОСТОЯТЕЛЬНОГО АМБУЛАТОРНОГО ПРИЕМА (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КЛЮЧАЯ ПЕРЕДВИЖНЫЕ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66200" y="2181240"/>
            <a:ext cx="8237880" cy="351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учитываются в виде учетной единицы – «посещение» работа среднего медицинского персонала лабораторий, рентгеновских, физиотерапевтических, лечебно-физкультурных и других вспомогательных отделений (кабинетов), где учету подлежит число отпущенных процедур (выполненных анализов, исследований и др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ещени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 зубным врачам и гигиенистам стоматологически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таблицу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включают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рейсовые и послерейсовые осмотры, проведенные медицинскими сестрами в т.2101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включают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1676520" y="456840"/>
            <a:ext cx="5790960" cy="3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блица 2105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5" name=""/>
          <p:cNvGraphicFramePr/>
          <p:nvPr/>
        </p:nvGraphicFramePr>
        <p:xfrm>
          <a:off x="152280" y="838080"/>
          <a:ext cx="8763120" cy="5784840"/>
        </p:xfrm>
        <a:graphic>
          <a:graphicData uri="http://schemas.openxmlformats.org/drawingml/2006/table">
            <a:tbl>
              <a:tblPr/>
              <a:tblGrid>
                <a:gridCol w="3733920"/>
                <a:gridCol w="533520"/>
                <a:gridCol w="1201680"/>
                <a:gridCol w="1008000"/>
                <a:gridCol w="762120"/>
                <a:gridCol w="1523880"/>
              </a:tblGrid>
              <a:tr h="27432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табл. 2100, стр. 1)  сделано посещений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-к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ими жителями (из гр. 5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заболеваниям: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 неотложной форм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диспансерному наблюдению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рофилактической и иными целями: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медицинский осмо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пансеризация и профилактический медицинский осмо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ный медицинский осмо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центрах здоровья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лиативная помощь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ронаж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вижным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амбулаториям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c5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c5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бными бригадам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c5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c5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бильными медицинскими бригадам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c5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c5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бильными медицинскими комплексам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c5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c5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6" name="Rectangle 697"/>
          <p:cNvSpPr/>
          <p:nvPr/>
        </p:nvSpPr>
        <p:spPr>
          <a:xfrm>
            <a:off x="4414680" y="3695760"/>
            <a:ext cx="4496040" cy="2746440"/>
          </a:xfrm>
          <a:prstGeom prst="rect">
            <a:avLst/>
          </a:prstGeom>
          <a:solidFill>
            <a:srgbClr val="ffe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строке 15 "мобильная медицинская бригада"</a:t>
            </a:r>
            <a:r>
              <a:rPr b="1" i="1" lang="ru-RU" sz="1800" spc="-1" strike="noStrike">
                <a:solidFill>
                  <a:srgbClr val="754500"/>
                </a:solidFill>
                <a:latin typeface="Times New Roman"/>
                <a:ea typeface="Times New Roman"/>
              </a:rPr>
              <a:t> указываются выполненные врачебные посещения бригадой, если она выезжала не на мобильном медицинском комплексе.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строке 16 "мобильный медицинский комплекс"</a:t>
            </a:r>
            <a:r>
              <a:rPr b="1" i="1" lang="ru-RU" sz="1800" spc="-1" strike="noStrike">
                <a:solidFill>
                  <a:srgbClr val="754500"/>
                </a:solidFill>
                <a:latin typeface="Times New Roman"/>
                <a:ea typeface="Times New Roman"/>
              </a:rPr>
              <a:t> указываются посещения, выполненные мобильной медицинской бригадой с использованием мобильного медицинского комплекса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Rectangle 703"/>
          <p:cNvSpPr/>
          <p:nvPr/>
        </p:nvSpPr>
        <p:spPr>
          <a:xfrm>
            <a:off x="4419720" y="1866960"/>
            <a:ext cx="4491000" cy="1878120"/>
          </a:xfrm>
          <a:prstGeom prst="rect">
            <a:avLst/>
          </a:prstGeom>
          <a:solidFill>
            <a:srgbClr val="ffd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ения, выполненные передвижными подразделениями, указываются из общего числа посещений (по заболеваниям и с профилактическими и иными целями). Также наличие передвижных подразделений и количество выездов  должно быть отображено в таблице 1003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1676520" y="345600"/>
            <a:ext cx="5790960" cy="3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аблица 2105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0" name=""/>
          <p:cNvGraphicFramePr/>
          <p:nvPr/>
        </p:nvGraphicFramePr>
        <p:xfrm>
          <a:off x="166680" y="650880"/>
          <a:ext cx="8748720" cy="6603840"/>
        </p:xfrm>
        <a:graphic>
          <a:graphicData uri="http://schemas.openxmlformats.org/drawingml/2006/table">
            <a:tbl>
              <a:tblPr/>
              <a:tblGrid>
                <a:gridCol w="3727440"/>
                <a:gridCol w="533520"/>
                <a:gridCol w="1198440"/>
                <a:gridCol w="1006560"/>
                <a:gridCol w="761760"/>
                <a:gridCol w="1521000"/>
              </a:tblGrid>
              <a:tr h="274320">
                <a:tc rowSpan="2"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табл. 2100, стр. 1)  сделано посещений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-к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ими жителями (из гр. 5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заболеваниям: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 неотложной форме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значения от 8,9 до 17,5% от посещений по поводу заболевания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>
                        <a:alpha val="50000"/>
                      </a:srgbClr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ых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значения от 0,5 до 12,3% от посещений по поводу заболевания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>
                        <a:alpha val="50000"/>
                      </a:srgbClr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>
                        <a:alpha val="50000"/>
                      </a:srgbClr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диспансерному наблюдению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значения от 2,9 до 35,0% от посещений по поводу заболевания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>
                        <a:alpha val="50000"/>
                      </a:srgbClr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>
                        <a:alpha val="50000"/>
                      </a:srgbClr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рофилактической и иными целями: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медицинский осмо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пансеризация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профилактический медицинский осмо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ный медицинский осмо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центрах здоровья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лиативная помощь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ронаж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вижным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амбулаториям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бными бригадам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бильными медицинскими бригадам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бильными медицинскими комплексам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1" name="Rectangle 697"/>
          <p:cNvSpPr/>
          <p:nvPr/>
        </p:nvSpPr>
        <p:spPr>
          <a:xfrm>
            <a:off x="4419720" y="3505320"/>
            <a:ext cx="4495680" cy="1689120"/>
          </a:xfrm>
          <a:prstGeom prst="rect">
            <a:avLst/>
          </a:prstGeom>
          <a:solidFill>
            <a:srgbClr val="ffbc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Графа 3 – графа 4 = городские жители всего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Графа 5 – графа 6 = городские жители дети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!!!Всего не должно быть больше чем дети по всем строкам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/>
          </p:nvPr>
        </p:nvSpPr>
        <p:spPr>
          <a:xfrm>
            <a:off x="152280" y="533160"/>
            <a:ext cx="883944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 заполнении таблицы 2105 следует иметь в виду, что источником информации для таблицы 2105 служит Талон (форма №025-1/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трока 2 «в неотложной форме»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ещение по неотложной помощи – оказание неотложной медицинской помощи лицам, обратившимся с признаками неотложных состояний (при внезапных острых заболеваниях, состояниях, обострении хронических заболеваний, не опасных для жизни и не требующих экстренной медицинской помощи) в отделение (кабинет) неотложной медицинской помощи, являющегося структурным подразделением поликлиники (врачебной амбулатории, центра общей врачебной практики (семейной медицины), а также на дому при вызове врач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трока 3 «активных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ещение на дому считается активным, если оно проводится по инициативе врача. Как правило, активно наблюдаются пациенты больные со злокачественными новообразованиями, инфекционными заболеваниями, лица пожилого и старческого возраста, инвалиды с тяжелыми заболеваниями. Данный показатель должен составлять 30–60% от общего числа посещений на дому, что зависит от таких факторов, как соотношение первичных и повторных посещений пациента; динамика и сезонность заболеваний; возможность госпитализации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/>
          </p:nvPr>
        </p:nvSpPr>
        <p:spPr>
          <a:xfrm>
            <a:off x="152280" y="533160"/>
            <a:ext cx="883944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 заполнении таблицы 2105 следует иметь в виду, что источником информации для таблицы 2105 служит Талон (форма №025-1/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ка 4 «по диспансерному наблюдению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испансерное наблюдение представляет собой динамическое наблюдение, в том числе необходимое обследование, за состоянием здоровья лиц, страдающих хроническими заболеваниями, функциональными расстройствами, иными состояниями, в целях своевременного выявления, предупреждения осложнений, обострений заболеваний, иных патологических состояний, их профилактики и осуществления медицинской реабилитации указанных л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Rectangle 703"/>
          <p:cNvSpPr/>
          <p:nvPr/>
        </p:nvSpPr>
        <p:spPr>
          <a:xfrm>
            <a:off x="1676520" y="3276720"/>
            <a:ext cx="6324480" cy="2433600"/>
          </a:xfrm>
          <a:prstGeom prst="rect">
            <a:avLst/>
          </a:prstGeom>
          <a:solidFill>
            <a:srgbClr val="ffbc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отчетной форме №30 посещения учитываются  по установленному порядку: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Все посещения по поводу диспансерного наблюдения указываются по поводу заболевания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Разовые посещения по поводу заболевания у стоматологов учитываются соответственно по поводу заболевания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1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/>
          </p:nvPr>
        </p:nvSpPr>
        <p:spPr>
          <a:xfrm>
            <a:off x="304560" y="762120"/>
            <a:ext cx="883908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ка 6 «медицинский осмотр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казываются посещения, выполненные в порядке целевого профилактического осмо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Целевые профилактические медицинские осмотры — медицинские осмотры (обследования), предпринятые с целью выявления определенных заболеваний на ранней стадии (новообразования, туберкулез, глаукома, сахарный диабет, сердечно-сосудистые заболевания и др.), охватывают различные группы организованного и неорганизованного насе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ключаются предварительные, периодические, медицинские осмотры спортсменов, профилактические осмотры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ка 7 «диспансеризация и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</a:rPr>
              <a:t>профилактический медицинский осмотр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казать количество посещений, выполненных в ходе диспансеризации определенных групп взрослого населения и диспансеризация детей-сирот (форма №131 и №030/Д/с/о- 13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от 27 апреля 2021 г. N 404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УТВЕРЖДЕНИИ ПОРЯДКА ПРОВЕДЕНИЯ ПРОФИЛАКТИЧЕСКОГО МЕДИЦИНСКОГО ОСМОТРА И ДИСПАНСЕРИЗАЦИИ ОПРЕДЕЛЕННЫХ ГРУПП ВЗРОСЛОГО НАС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ведения строки 6 в строку 7 не включа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ка 8 «комплексный медицинский осмотр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казываются посещения, выполненные в центрах здоровья и внеплановые медицинские осмотры (осмотры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участников ВОВ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не плановой диспансеризац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ка 9 «из них в центрах здоровья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казываются посещения, выполненные в центрах здоровья (в соответствии с формой №6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646200" y="877680"/>
            <a:ext cx="7866000" cy="525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15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СТЕРСТВО ЗДРАВООХРАНЕНИЯ РОССИЙСКОЙ ФЕДЕРАЦИ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28 ЯНВАРЯ 2021 Г. N 29Н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УТВЕРЖДЕНИИ ПОРЯДКА ПРОВЕДЕНИЯ ОБЯЗАТЕЛЬНЫХ ПРЕДВАРИТЕЛЬНЫХ И ПЕРИОДИЧЕСКИХ МЕДИЦИНСКИХ ОСМОТРОВ РАБОТНИКОВ, ПРЕДУСМОТРЕННЫХ ЧАСТЬЮ ЧЕТВЕРТОЙ СТАТЬИ 213 ТРУДОВОГО КОДЕКСА РОССИЙСКОЙ ФЕДЕРАЦИИ, ПЕРЕЧНЯ МЕДИЦИНСКИХ ПРОТИВОПОКАЗАНИЙ К ОСУЩЕСТВЛЕНИЮ РАБОТ С ВРЕДНЫМИ И (ИЛИ) ОПАСНЫМИ ПРОИЗВОДСТВЕННЫМИ ФАКТОРАМИ, А ТАКЖЕ РАБОТАМ, ПРИ ВЫПОЛНЕНИИ КОТОРЫХ ПРОВОДЯТСЯ ОБЯЗАТЕЛЬНЫЕ ПРЕДВАРИТЕЛЬНЫЕ И ПЕРИОДИЧЕСКИЕ МЕДИЦИНСКИЕ ОСМОТРЫ</a:t>
            </a: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826920" y="1815840"/>
            <a:ext cx="7685280" cy="26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47480" y="1960560"/>
            <a:ext cx="8089560" cy="404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00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ЯЕТСЯ ВСЕМИ МЕДИЦИНСКИМИ ОРАНИЗАЦИЯМИ, ОКАЗЫВАЮЩИМИ МЕДИЦИНСКУЮ ПОМОЩЬ В АМБУЛАТОРНЫХ УСЛОВИЯХ И НА ДОМУ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СВЕДЕНИЯ О ДЕЯТЕЛЬНОСТИ ВРАЧЕЙ, ЗАНИМАЮЩИХ СООТВЕТСТВУЮЩИЕ ДОЛЖНОСТИ, ОСУЩЕСТВЛЯЮЩИХ ПРИЕМ ПАЦИЕНТОВ В АМБУЛАТОРНЫХ УСЛОВИЯХ ( В ТОМ ЧИСЛЕ КОНСУЛЬТАТИВНЫЙ) И НА ДОМУ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МБУЛАТОРНЫЙ ПРИЕМ ВРАЧЕЙ ОТДЕЛЕНИЙ (КАБИНЕТОВ)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АТНЫХ УСЛУГ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ДИЦИНСКОЙ ОРГАНИЗАЦИИ ВКЛЮЧАЮТСЯ В СТРОКИ СООТВЕТСТВЕННО ЗАНИМАЕМЫМ ДОЛЖНОСТЯМ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У НЕ ВКЛЮЧАЮТСЯ ПОСЕЩЕНИЯ СРЕДНЕГО МЕДИЦИНСКОГО ПЕРСОНАЛА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ЛЕМЕДИЦИНСКИЕ КОНСУЛЬТАЦИИ В 2100 НЕ ВКЛЮЧАЮТСЯ (УКАЗЫВАЮТСЯ В ТАБЛИЦЕ 7004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623520" y="1125360"/>
            <a:ext cx="7870680" cy="81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врачей медицинской организации в амбулаторных услов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/>
          </p:nvPr>
        </p:nvSpPr>
        <p:spPr>
          <a:xfrm>
            <a:off x="369720" y="1221840"/>
            <a:ext cx="86220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ка 10 «паллиативная помощь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казываются посещения, выполненные в рамках оказания паллиативной помощи в амбулаторных условиях. К ним относятся посещения с кодом по МКБ-10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51.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«Паллиативная помощ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рока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«паллиативная помощь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заполняется, если в организации организован кабинет (отделение) по оказанию паллиативной помощ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данную строку включаются посещения врача кабинета противоболевой терап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акже указываются посещения, выполненные врачами-терапевтами, врачами терапевтами участковыми, врачами-педиатрами, врачами-педиатрами участковыми, врачами общей практики, врачами-специалистами медицинских организаций, оказывающих первичную медико-санитарную помощь, специализированную медицинскую помощь, оказывающие паллиативную медицинскую помощ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ка 11 «патронаж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казываются посещения, выполненные врачом на дому для проведения профилактических, оздоровительных и санитарно-просветительных мероприят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атронаж — форма работы медицинской организации, основными целями которой являются проведение на дому оздоровительных и профилактических мероприятий, внедрение правил личной гигиены и улучшение санитарно-гигиенических условий в быту. Особенно широко используется в учреждениях охраны материнства и детства, некоторых диспансерах. Осуществляется врачами: участковыми (патронажными), диспансеров. Особой формой патронажа является уход за одинокими и престарелыми больн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598320" y="1424160"/>
            <a:ext cx="7834320" cy="543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ка 12 «прочие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казываются посещения, выполненные врачом с профилактическими целями, не указанными выше. Например, посещения контактных пациентов, обследования социальных условий проживания семьи, «подворовые» обходы в сельской местности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На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Осмотры детей при поездке в оздоровительный лаге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Посещения беременных при нормальной берем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Осмотры перед привив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Осмотры для получения справки в бассе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Осмотры здоровых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Осмотры спортсменов перед соревнованием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рока 15 «врачебные бригад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ая врачебная бригада является временным или постоянно действующим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ункциональным подразделение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Формируется руководителем медицинской организации из числа штатных врачей и средних медицинских работников с соблюдением действующего законодательства. Выездная врачебная бригада работает по плану и графику, утверждаемому в установленном порядке руководителем медицинской организации, в составе которой она организу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ывается в зависимости от конкретных условий оказания первичной медико-санитарной помощи населению в целях обеспечения ее доступности могут формироваться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стоянно действующие медицинские бригады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щие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врача-терапевта участкового, фельдшеров, акушеров и медицинских сестер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 распределением между ними функциональных обязанностей по компетенции, исходя из установленных штатных нормативов, предназначенных для расчета количества должностей, предусмотренных для выполнения медицинской организацией возложенных на нее функ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84700"/>
                </a:solidFill>
                <a:latin typeface="Times New Roman"/>
                <a:ea typeface="Times New Roman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Прямоугольник 1"/>
          <p:cNvSpPr/>
          <p:nvPr/>
        </p:nvSpPr>
        <p:spPr>
          <a:xfrm>
            <a:off x="606600" y="333360"/>
            <a:ext cx="7860960" cy="50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рока 16 «мобильные медицинские бригады»: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бильная медицинская бригада организуется в структуре медицинской организации (ее структурного подразделения), оказывающей первичную медико-санитарную помощь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</a:t>
            </a:r>
            <a:r>
              <a:rPr b="0" lang="ru-RU" sz="1800" spc="-1" strike="noStrike">
                <a:solidFill>
                  <a:srgbClr val="c847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казания первичной медико-санитарной помощью населения, в том числе жителей населенных пунктов с преимущественным проживанием лиц старше трудоспособного возраста либо расположенных на значительном удалении от медицинской организации и (или) имеющих плохую транспортную доступность с учетом климато-географических условий.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став мобильной медицинской бригады формируется руководителем медицинской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рганизации</a:t>
            </a:r>
            <a:r>
              <a:rPr b="0" lang="ru-RU" sz="1800" spc="-1" strike="noStrike">
                <a:solidFill>
                  <a:srgbClr val="c847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ее структурного подразделения) из числа врачей и медицинских работников со средним медицинским образованием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исходя из цели ее формирования и возложенных задач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617400" y="1285560"/>
            <a:ext cx="7772400" cy="136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БЛИЦА 2106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РАЩЕНИЯ ПО ПОВОДУ ЗАБОЛЕВАНИЙ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625320" y="344304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8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щение включает в себя одно или несколько посещений пациента, в результате которых цель обращения достигну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тность посещений по заболеванию в среднем по медицинским организациям составляет – 1 обращение 3-3,5 посещений (кроме специализированных МО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5" name=""/>
          <p:cNvGraphicFramePr/>
          <p:nvPr/>
        </p:nvGraphicFramePr>
        <p:xfrm>
          <a:off x="735120" y="2124000"/>
          <a:ext cx="5651280" cy="762120"/>
        </p:xfrm>
        <a:graphic>
          <a:graphicData uri="http://schemas.openxmlformats.org/drawingml/2006/table">
            <a:tbl>
              <a:tblPr/>
              <a:tblGrid>
                <a:gridCol w="4584600"/>
                <a:gridCol w="254160"/>
                <a:gridCol w="812520"/>
              </a:tblGrid>
              <a:tr h="190440">
                <a:tc>
                  <a:txBody>
                    <a:bodyPr lIns="9000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бращения по поводу заболеваний, всего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45720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з них - сельских жителей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000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етей 0-17 лет (из стр. 1)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45720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з них - сельских жителей (из стр.3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1195200" y="772920"/>
            <a:ext cx="6895800" cy="62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0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7" name=""/>
          <p:cNvGraphicFramePr/>
          <p:nvPr/>
        </p:nvGraphicFramePr>
        <p:xfrm>
          <a:off x="676440" y="1704960"/>
          <a:ext cx="8029440" cy="4260960"/>
        </p:xfrm>
        <a:graphic>
          <a:graphicData uri="http://schemas.openxmlformats.org/drawingml/2006/table">
            <a:tbl>
              <a:tblPr/>
              <a:tblGrid>
                <a:gridCol w="8029440"/>
              </a:tblGrid>
              <a:tr h="42638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медицинских организаций и их подразделений, оказывающих медицинскую помощь в амбулаторных условиях, участвующих в создании и тиражировании «Новой модели медицинской организации», посещения: к врачам, всего 1 __________, из них: сельских жителей 2 _________, к среднему медицинскому персоналу 3 ________, из них: сельских жителей 4 ________.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медицинских организаций и их подразделений с созданной современной инфраструктурой оказания медицинской помощи детям, посещения: к врачам, всего 5__________, из них: сельских жителей 6 _________, к среднему медицинскому персоналу 7 ________, из них: сельских жителей 8 ________.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ещения указываются в целом по юридическому лицу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роке 5 и далее, указываются посещения, выполненные детьми детских поликлиник и поликлинических подразделений, в которых созданы комфортные условия пребывания детей  и дооснащенных медицинским оборудованием.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544320" y="2824200"/>
            <a:ext cx="7826040" cy="296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АХ 1-4 УКАЗЫВАЮТСЯ ВЫПОЛНЕННЫЕ ПОСЕЩЕНИЯ В ДЕТСКИЕ ПОЛИКЛИНИКИ, ДЕТСКИЕ ПОЛИКЛИНИЧЕСКИЕ ОТДЕЛЕНИЯ, КОНСУЛЬТАТИВНО-ДИАГНОСТИЧЕСКИЕ ЦЕНТРЫ ДЛЯ ДЕТЕЙ.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ПО ДЕТСКИМ ПОЛИКЛИНИКАМ (ЮРИДИЧЕСКИМ ЛИЦАМ) УКАЗЫВАЮТСЯ ПОСЕЩЕНИЯ В ЦЕЛОМ ПО МЕДИЦИНСКОЙ ОРГАНИЗАЦИИ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ПО ДЕТСКИМ ПОЛИКЛИНИЧЕСКИМ ОТДЕЛЕНИЯМ (ВХОДЯЩИМ В СОСТАВ МЕДИЦИНСКОЙ ОРГАНИЗАЦИИ) УКАЗЫВАЮТСЯ ПОСЕЩЕНИЯ СТРУКТУРНОГО ПОДРАЗДЕЛЕНИЯ.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ПО КОНСУЛЬТАТИВНО-ДИАГНОСТИЧЕСКИМ ЦЕНТРАМ УКАЗЫВАЮТСЯ ПОСЕЩЕНИЯ В ЦЕЛОМ ПО ЦЕНТРУ. ЕСЛИ ЦЕНТР, ВХОДЯЩИЙ В СОСТАВ МЕДИЦИНСКОЙ ОРГАНИЗАЦИИ – УКАЗЫВАЮТСЯ ПО ПОДРАЗДЕЛЕНИЮ.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АХ 5-8 УКАЗЫВАЮТСЯ, ВЫПОЛНЕННЫЕ ПОСЕЩЕНИЯ В ДЕТСКИЕ ПОЛИКЛИНИКИ, ДЕТСКИЕ ПОЛИКЛИНИЧЕСКИЕ ОТДЕЛЕНИЯ, КОНСУЛЬТАТИВНО-ДИАГНОСТИЧЕСКИЕ ЦЕНТРЫ ДЛЯ ДЕТЕЙ С СОЗДАННОЙ СОВРЕМЕННОЙ ИНФРАСТРУКТУРОЙ.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И 3 И 7 «К СРЕДНЕМУ МЕДИЦИНСКОМУ ПЕРСОНАЛУ» ВКЛЮЧАЮТСЯ ТАКЖЕ ПОСЕЩЕНИЯ </a:t>
            </a: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УБНЫХ ВРАЧЕЙ И ГИГИЕНИСТОВ СТОМАТОЛОГИЧЕСКИХ.</a:t>
            </a:r>
            <a:br>
              <a:rPr sz="1100"/>
            </a:b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, ЕСЛИ ДЕТСКАЯ ПОЛИКЛИНИКА (ЮРИДИЧЕСКОЕ ЛИЦО) ОБЕСПЕЧИЛО КОМФОРТНЫЕ УСЛОВИЯ ДЛЯ ДЕТЕЙ – УКАЗЫВАЮТСЯ ПОСЕЩЕНИЯ В ЦЕЛОМ ПО МЕДИЦИНСКОЙ ОРГАНИЗАЦИИ. В ДАННОМ СЛУЧАЕ СТРОКИ С 1 ПО 4 БУДУТ РАВНЫ СТРОКАМ С 5 ПО 8. </a:t>
            </a:r>
            <a:br>
              <a:rPr sz="1100"/>
            </a:b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509760" y="782280"/>
            <a:ext cx="8029440" cy="206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108)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медицинских организаций и их подразделений (детские поликлиники, детские поликлинические отделения медицинских организаций, консультативно-диагностические центры для детей), посещения: к врачам, всего 1_____, из них: сельских жителей 2 _____, к среднему медицинскому персоналу 3 ________, из них: сельских жителей 4 ________, из них в медицинских организациях и их подразделениях с созданной современной инфраструктурой оказания медицинской помощи детям, посещения: к врачам, всего 5__________, из них: сельских жителей 6 _________, к среднему медицинскому персоналу 7 ________, из них: сельских жителей 8 ________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546120" y="1285560"/>
            <a:ext cx="7772400" cy="136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БЛИЦЫ 2700, 2710.</a:t>
            </a: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АБЛИЦЫ ВКЛЮЧАЮТ ПОСЕЩЕНИЯ К ЗУБНЫМ ВРАЧАМ И ГИГИЕНИСТАМ СТОМАТОЛОГИЧЕСКИМ (ТАБЛИЦА 2700) И ВРАЧЕЙ-СТОМАТОЛОГОВ (ТАБЛИЦА 2710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598320" y="2927160"/>
            <a:ext cx="7896240" cy="147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аблицу 2700 включаются сведения о деятельности зубных врачей здравпунктов, стоматологических кабинетов различных специальных учебных заведений, предприятий, если они состоят в штате медицинской организ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блица 2700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4" name=""/>
          <p:cNvGraphicFramePr/>
          <p:nvPr/>
        </p:nvGraphicFramePr>
        <p:xfrm>
          <a:off x="152280" y="838080"/>
          <a:ext cx="8763120" cy="4000680"/>
        </p:xfrm>
        <a:graphic>
          <a:graphicData uri="http://schemas.openxmlformats.org/drawingml/2006/table">
            <a:tbl>
              <a:tblPr/>
              <a:tblGrid>
                <a:gridCol w="1133640"/>
                <a:gridCol w="460440"/>
                <a:gridCol w="608040"/>
                <a:gridCol w="560160"/>
                <a:gridCol w="789120"/>
                <a:gridCol w="623880"/>
                <a:gridCol w="625320"/>
                <a:gridCol w="608040"/>
                <a:gridCol w="790560"/>
                <a:gridCol w="608040"/>
                <a:gridCol w="574920"/>
                <a:gridCol w="591840"/>
                <a:gridCol w="789120"/>
              </a:tblGrid>
              <a:tr h="37620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ингент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лечено зубов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6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алено зубов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стоян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санирован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актическая работа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 курс профилактик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 объем работы в УЕТ (из гр.3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оян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 осложненного кариеса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мотрено в порядке плановой сан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 12 нуждались в сан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 13 санирован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зубными врачам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гиенистами стоматологическим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.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5" name="Rectangle 1520"/>
          <p:cNvSpPr/>
          <p:nvPr/>
        </p:nvSpPr>
        <p:spPr>
          <a:xfrm>
            <a:off x="152280" y="4629240"/>
            <a:ext cx="8763120" cy="1314360"/>
          </a:xfrm>
          <a:prstGeom prst="rect">
            <a:avLst/>
          </a:prstGeom>
          <a:solidFill>
            <a:srgbClr val="ffbc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В графе 11 показывается общее число санированных, как по обращаемости, так и во время профилактической работы.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В графе 16 указывается общий объем выполненной работы, выраженный в условных единицах трудоемкости (УЕТ). Выполненный объем работы в УЕТах указывается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в абсолютных значениях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Rectangle 1521"/>
          <p:cNvSpPr/>
          <p:nvPr/>
        </p:nvSpPr>
        <p:spPr>
          <a:xfrm>
            <a:off x="1828800" y="3124080"/>
            <a:ext cx="7086600" cy="533520"/>
          </a:xfrm>
          <a:prstGeom prst="rect">
            <a:avLst/>
          </a:prstGeom>
          <a:solidFill>
            <a:srgbClr val="ffbc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Разница между графами 11 и 14 по всем строкам должна быть на санированных при обращении пациента за медицинской помощью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38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блица 2710. Работа врачей-стоматолог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Rectangle 70"/>
          <p:cNvSpPr/>
          <p:nvPr/>
        </p:nvSpPr>
        <p:spPr>
          <a:xfrm>
            <a:off x="228600" y="6095880"/>
            <a:ext cx="8686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*  Первичным считается первое посещение за стоматологической помощью в отчетном году по любому поводу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0" name=""/>
          <p:cNvGraphicFramePr/>
          <p:nvPr/>
        </p:nvGraphicFramePr>
        <p:xfrm>
          <a:off x="152280" y="1143000"/>
          <a:ext cx="8534520" cy="3833640"/>
        </p:xfrm>
        <a:graphic>
          <a:graphicData uri="http://schemas.openxmlformats.org/drawingml/2006/table">
            <a:tbl>
              <a:tblPr/>
              <a:tblGrid>
                <a:gridCol w="3408480"/>
                <a:gridCol w="655560"/>
                <a:gridCol w="930240"/>
                <a:gridCol w="1101960"/>
                <a:gridCol w="672840"/>
                <a:gridCol w="874800"/>
                <a:gridCol w="890640"/>
              </a:tblGrid>
              <a:tr h="73152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ингент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Число посещений врачей-стоматологов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(из т. 2100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лечено зубов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6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1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ервичных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оян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 осложненного кариеса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тр. 1: дети до 14 лет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лючительно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и 15-17 лет включительн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е жители (из стр.1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ередвижных стоматологических кабинета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1" name="Rectangle 583"/>
          <p:cNvSpPr/>
          <p:nvPr/>
        </p:nvSpPr>
        <p:spPr>
          <a:xfrm>
            <a:off x="4114800" y="3048120"/>
            <a:ext cx="4648320" cy="838080"/>
          </a:xfrm>
          <a:prstGeom prst="rect">
            <a:avLst/>
          </a:prstGeom>
          <a:solidFill>
            <a:srgbClr val="ffbc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трока 1 по графе 3 должна быть равна сумме посещений, указанных в таблице 2100 по сумме строк 88+89+91+92 и сумме граф 3+9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Rectangle 585"/>
          <p:cNvSpPr/>
          <p:nvPr/>
        </p:nvSpPr>
        <p:spPr>
          <a:xfrm>
            <a:off x="4114800" y="5105520"/>
            <a:ext cx="4648320" cy="838080"/>
          </a:xfrm>
          <a:prstGeom prst="rect">
            <a:avLst/>
          </a:prstGeom>
          <a:solidFill>
            <a:srgbClr val="ffbc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трока 6 по графе 3 должна быть равна сумме посещений, указанных в таблице 2100 по сумме строк 88+89+91+92 и сумме граф 4+10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Rectangle 586"/>
          <p:cNvSpPr/>
          <p:nvPr/>
        </p:nvSpPr>
        <p:spPr>
          <a:xfrm>
            <a:off x="4114800" y="3962520"/>
            <a:ext cx="4648320" cy="1066680"/>
          </a:xfrm>
          <a:prstGeom prst="rect">
            <a:avLst/>
          </a:prstGeom>
          <a:solidFill>
            <a:srgbClr val="ffbc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умма строк 4+5 по графе 3 должна быть равна сумме посещений, указанных в таблице 2100 по сумме строк 88+89+91+92и сумме граф 5+12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74840" y="641160"/>
            <a:ext cx="8480160" cy="8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рафы таблицы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7" name="Таблица 4" descr=""/>
          <p:cNvPicPr/>
          <p:nvPr/>
        </p:nvPicPr>
        <p:blipFill>
          <a:blip r:embed="rId1"/>
          <a:stretch/>
        </p:blipFill>
        <p:spPr>
          <a:xfrm>
            <a:off x="450720" y="1584360"/>
            <a:ext cx="8431200" cy="203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8" name=""/>
          <p:cNvGraphicFramePr/>
          <p:nvPr/>
        </p:nvGraphicFramePr>
        <p:xfrm>
          <a:off x="519120" y="4027320"/>
          <a:ext cx="8343720" cy="2003760"/>
        </p:xfrm>
        <a:graphic>
          <a:graphicData uri="http://schemas.openxmlformats.org/drawingml/2006/table">
            <a:tbl>
              <a:tblPr/>
              <a:tblGrid>
                <a:gridCol w="2220840"/>
                <a:gridCol w="1139760"/>
                <a:gridCol w="1140120"/>
                <a:gridCol w="1139760"/>
                <a:gridCol w="1137960"/>
                <a:gridCol w="1565280"/>
              </a:tblGrid>
              <a:tr h="1089360">
                <a:tc gridSpan="6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исло посещений врачами на дому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8800">
                <a:tc rowSpan="2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сего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з них сельских жителей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з гр. 9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з гр. 12 - по поводу заболеваний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з гр. 10 сель-ских жителей - по поводу заболеваний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 поводу заболеваний 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етей 0-17 лет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7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1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3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4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712440" y="765000"/>
            <a:ext cx="8070840" cy="1019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ФИЛАКТИЧЕСКИЕ ОСМОТРЫ И ДИСПАНСЕРИЗАЦИЯ, ПРОВЕДЕННЫЕ МЕДИЦИНСКОЙ ОРГАНИЗАЦИЕЙ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БЛИЦА 2510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580680" y="4502160"/>
            <a:ext cx="8255160" cy="203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блицу заполняют только те медицинские организации, которые организуют осмотр соответствующих контингентов и отвечают за его проведение, и не заполняют специализированные (кожно-венерологические, противотуберкулезные и др.) организ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таблицу включаются сведения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таблицы 2516 «Обязательные предварительные и периодические осмотры, проведенные медицинской организацией. Обращаю внимание на контроль т.2510 стр.8 (по всем графам)-стр.8.2 = т.2516 стр.1 гр.3,4. Данные стр. 8.2.2 (углубленная диспансеризация граждан, переболевших новой короновирусной инфекцией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OVID-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19) входит в строку в стр.8.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6" name="Таблица 3" descr=""/>
          <p:cNvPicPr/>
          <p:nvPr/>
        </p:nvPicPr>
        <p:blipFill>
          <a:blip r:embed="rId1"/>
          <a:stretch/>
        </p:blipFill>
        <p:spPr>
          <a:xfrm>
            <a:off x="378000" y="1805040"/>
            <a:ext cx="846108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784080" y="942840"/>
            <a:ext cx="7772400" cy="136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блица 2510 «Профилактические осмотры и диспансеризация, проведенные медицинской организацией»*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738360" y="2511000"/>
            <a:ext cx="7711920" cy="359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1000"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ИКАЗ от 27 апреля 2021 г. N 404н ОБ УТВЕРЖДЕНИИ ПОРЯДКА ПРОВЕДЕНИЯ ПРОФИЛАКТИЧЕСКОГО МЕДИЦИНСКОГО ОСМОТРА И ДИСПАНСЕРИЗАЦИИ ОПРЕДЕЛЕННЫХ ГРУПП ВЗРОСЛОГО НАСЕЛ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филактически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едицинский осмотр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водится в целях раннего (своевременного) выявления состояний, заболеваний и факторов риска их развития, немедицинского потребления наркотических средств и психотропных веществ, а также в целях определения групп здоровья и выработки рекомендаций для пациент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испансеризац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редставляет собой комплекс мероприятий, включающий в себя профилактический медицинский осмотр и дополнительные методы обследований, проводимые в целях оценки состояния здоровья (включая определение группы здоровья и группы диспансерного наблюдения) и осуществляемых в отношении определенных групп населения в соответствии с законодательством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731880" y="696600"/>
            <a:ext cx="7772400" cy="136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аблица 2510 «Профилактические осмотры и диспансеризация, проведенные медицинской организацией»* 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853920" y="49017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53000"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) ОПРЕДЕЛЕНИЕ ГРУППЫ ЗДОРОВЬЯ, НЕОБХОДИМЫХ ПРОФИЛАКТИЧЕСКИХ, ЛЕЧЕБНЫХ, РЕАБИЛИТАЦИОННЫХ И ОЗДОРОВИТЕЛЬНЫХ МЕРОПРИЯТИЙ ДЛЯ ГРАЖДАН С ВЫЯВЛЕННЫМИ ХРОНИЧЕСКИМИ НЕИНФЕКЦИОННЫМИ ЗАБОЛЕВАНИЯМИ И (ИЛИ) ФАКТОРАМИ РИСКА ИХ РАЗВИТИЯ, А ТАКЖЕ ДЛЯ ЗДОРОВЫХ ГРАЖДАН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4) ОПРЕДЕЛЕНИЕ ГРУППЫ ДИСПАНСЕРНОГО НАБЛЮДЕНИЯ ГРАЖДАН С ВЫЯВЛЕННЫМИ ХРОНИЧЕСКИМИ НЕИНФЕКЦИОННЫМИ ЗАБОЛЕВАНИЯМИ И ИНЫМИ ЗАБОЛЕВАНИЯМИ (СОСТОЯНИЯМИ), ВКЛЮЧАЯ ГРАЖДАН С ВЫСОКИМ И ОЧЕНЬ ВЫСОКИМ СЕРДЕЧНО-СОСУДИСТЫМ РИСКОМ. В ДОПОЛНЕНИЕ К ПРОФИЛАКТИЧЕСКИМ МЕДИЦИНСКИМ ОСМОТРАМ И ДИСПАНСЕРИЗАЦИИ ГРАЖДАНЕ, ПЕРЕБОЛЕВШИЕ НОВОЙ КОРОНАВИРУСНОЙ ИНФЕКЦИЕЙ (COVID-19), ПРОХОДЯТ УГЛУБЛЕННУЮ ДИСПАНСЕРИЗАЦИЮ, ВКЛЮЧАЮЩУЮ ИССЛЕДОВАНИЯ И ИНЫЕ МЕДИЦИНСКИЕ ВМЕШАТЕЛЬСТВА В СООТВЕТСТВИИ С ПЕРЕЧНЕМ ИССЛЕДОВАНИЙ И ИНЫХ МЕДИЦИНСКИХ ВМЕШАТЕЛЬСТВ, ПРОВОДИМЫХ В РАМКАХ УГЛУБЛЕННОЙ ДИСПАНСЕРИЗАЦИИ, УСТАНОВЛЕННЫМ ПРОГРАММОЙ ГОСУДАРСТВЕННЫХ ГАРАНТИЙ БЕСПЛАТНОГО ОКАЗАНИЯ ГРАЖДАНАМ МЕДИЦИНСКОЙ ПОМОЩИ НА СООТВЕТСТВУЮЩИЙ ГОД И ПЛАНОВЫЙ ПЕРИОД (ДАЛЕЕ - УГЛУБЛЕННАЯ ДИСПАНСЕРИЗАЦИЯ). УГЛУБЛЕННАЯ ДИСПАНСЕРИЗАЦИЯ ТАКЖЕ МОЖЕТ БЫТЬ ПРОВЕДЕНА ПО ИНИЦИАТИВЕ ГРАЖДАНИНА, В ОТНОШЕНИИ КОТОРОГО ОТСУТСТВУЮТ СВЕДЕНИЯ О ПЕРЕНЕСЕННОМ ЗАБОЛЕВАНИИ НОВОЙ КОРОНАВИРУСНОЙ ИНФЕКЦИЕЙ (COVID-19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41360" y="722160"/>
            <a:ext cx="7772400" cy="136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АБЛИЦА 2510 «ПРОФИЛАКТИЧЕСКИЕ ОСМОТРЫ И ДИСПАНСЕРИЗАЦИЯ, ПРОВЕДЕННЫЕ МЕДИЦИНСКОЙ ОРГАНИЗАЦИЕЙ»* 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608040" y="39970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3000"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КАЗ от 1 июля 2021 г. N 698н ОБ УТВЕРЖДЕНИИ ПОРЯДКА НАПРАВЛЕНИЯ ГРАЖДАН НА ПРОХОЖДЕНИЕ УГЛУБЛЕННОЙ ДИСПАНСЕРИЗАЦИИ, ВКЛЮЧАЯ КАТЕГОРИИ ГРАЖДАН, ПРОХОДЯЩИХ УГЛУБЛЕННУЮ ДИСПАНСЕРИЗАЦИЮ В ПЕРВООЧЕРЕДНОМ ПОРЯДК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стоящий Порядок регулирует вопросы направления взрослых (в возрасте 18 лет и старше) на прохождение углубленной диспансеризации, включая категории граждан, проходящих углубленную диспансеризацию в первоочередном порядке (далее - граждане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749160" y="898200"/>
            <a:ext cx="7772400" cy="136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АБЛИЦА 2510 «ПРОФИЛАКТИЧЕСКИЕ ОСМОТРЫ И ДИСПАНСЕРИЗАЦИЯ, ПРОВЕДЕННЫЕ МЕДИЦИНСКОЙ ОРГАНИЗАЦИЕЙ»* 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608040" y="4392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51000"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инистерство здравоохранения и социального развития Российской Федерации приказ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т 12 апреля 2011 г. N 302н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Об утверждении перечней вредных и (или) опасных производственных факторов и работ, при выполнении которых проводятся обязательные предварительные и периодические медицинские осмотры (обследования), и порядка проведения обязательных предварительных и периодических медицинских осмотров (обследований) работников, занятых на тяжелых работах и на работах с вредными и (или) опасными условиями труда» -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тмене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заме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стерство труда и социальной защиты Российской Федераци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N 988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стерство здравоохранения Российской Федераци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N 1420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каз от 31 декабря 2020 года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Об утверждении перечня вредных и (или) опасных производственных факторов и работ, при выполнении которых проводятся обязательные предварительные медицинские осмотры при поступлении на работу и периодические медицинские осмотры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стерство здравоохранения Российской Федерац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792000" y="880920"/>
            <a:ext cx="7772400" cy="136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ДОЛЖЕНИ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739800" y="485892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56000"/>
          </a:bodyPr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риказ от 28 января 2021 г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N 29н «Об утверждении порядка проведения обязательных предварительных и периодических медицинских осмотров работников, предусмотренных частью четвертой статьи 213 трудового кодекса российской федерации, перечня медицинских противопоказаний к осуществлению работ с вредными и (или) опасными производственными факторами, а также работам, при выполнении которых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оводятся обязательные предварительные и периодические медицинские осмотры» Минздрав РФ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Согласно п.16 и п.33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заключении указываются: дата выдачи, ФИО, дата рождения, пол лица, наименование работодателя, наименование структурного подразделения работодателя, должности или вида работы, наименование вредных и (или) опасных производственных факторов, видов работ, результаты предварительного осмотра, медицинские противопоказания к работе выявлены или не выявлены,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группа здоровья лиц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тупающего на работ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677880" y="1126800"/>
            <a:ext cx="7772400" cy="136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БЛИЦА 2511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ФИЛАКТИЧЕСКИЕ ОСМОТРЫ ДЕТЕЙ В ВОЗРАСТЕ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5-17 ЛЕТ С ЦЕЛЬЮ СОХРАНЕНИЯ ИХ РЕПРОДУКТИВНОГО ЗДОРОВЬЯ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712800" y="403992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4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ключает сведения о профилактических осмотрах детей в возрасте 15-17 лет с целю сохранения их репродуктивного здоровья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нные этой таблицы не должны превышать значения по соответствующим графам строк 3 «Дети в возрасте 15-17 лет включительно» и 4 «из общего числа детей 15-17 лет – юношей» таблицы 25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трока 1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авн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умме строк 1.1 + 1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650520" y="1204920"/>
            <a:ext cx="7667640" cy="976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БЛИЦА 2514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ЕВЫЕ ОСМОТРЫ НА ОНКОПАТОЛОГИЮ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652320" y="4946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  <a:ea typeface="Calibri"/>
              </a:rPr>
              <a:t>Обратить внимание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 данной таблице, указываются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Arial"/>
              </a:rPr>
              <a:t>только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целевые осмот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трока 1 может быть больше суммы строк 2+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  <a:ea typeface="Calibri"/>
              </a:rPr>
              <a:t>Гр.3 и гр.5; по стр.3 всегда – 0 (мужчин в женских консультациях не осматривают)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1" name=""/>
          <p:cNvGraphicFramePr/>
          <p:nvPr/>
        </p:nvGraphicFramePr>
        <p:xfrm>
          <a:off x="439560" y="1811160"/>
          <a:ext cx="8217000" cy="3108600"/>
        </p:xfrm>
        <a:graphic>
          <a:graphicData uri="http://schemas.openxmlformats.org/drawingml/2006/table">
            <a:tbl>
              <a:tblPr/>
              <a:tblGrid>
                <a:gridCol w="4032360"/>
                <a:gridCol w="674640"/>
                <a:gridCol w="876240"/>
                <a:gridCol w="878040"/>
                <a:gridCol w="878040"/>
                <a:gridCol w="877680"/>
              </a:tblGrid>
              <a:tr h="481320">
                <a:tc rowSpan="2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евые осмотры на онкопатологию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оки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них направлено в онкологические учреждения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жчины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нщины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жчины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нщины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8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мотрено с целью выявления онкологической патологии, всего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080">
                <a:tc>
                  <a:txBody>
                    <a:bodyPr lIns="18288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стр.1 - в смотровых кабинетах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288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54864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женских консультациях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864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стр.1 осмотрено - при реализации скрининговых программ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18288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 диспансеризации (профилактических осмотрах) отдельных контингентов населения (кроме пациентов с хроническими заболеваниями)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18288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 диспансеризации пациентов с хроническими заболеваниями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288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120">
                <a:tc>
                  <a:txBody>
                    <a:bodyPr lIns="9000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стр.1 направлено - на цитологическое исследование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320">
                <a:tc>
                  <a:txBody>
                    <a:bodyPr lIns="8229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 гистологическое исследование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29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677880" y="1434960"/>
            <a:ext cx="7772400" cy="136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БЛИЦА 2515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ДИЦИНСКОЕ ОСВИДЕТЕЛЬСТВОВАНИЕ ЛИЦ НА СОСТОЯНИЕ АЛКОГОЛЬНОГО, НАРКОЛОГИЧЕСКОГО И ИНОГО ТОКСИКОЛОГИЧЕСКОГО ОПЬЯНЕНИЯ, ПРОВЕДЕННОЕ СПЕЦИАЛИСТАМИ МЕДИЦИНСКИХ ОРГАНИЗАЦИЙ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625320" y="48765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блица заполняется медицинскими организациями (или их обособленными структурными подразделениями) которые имеют лицензию на осуществление медицинской деятельности, предусматривающую выполнение работ (оказание услуг) по медицинскому освидетельствованию.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редусмотрена проверка с таблицей 2500 ф.3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4" name=""/>
          <p:cNvGraphicFramePr/>
          <p:nvPr/>
        </p:nvGraphicFramePr>
        <p:xfrm>
          <a:off x="466560" y="2347920"/>
          <a:ext cx="8220240" cy="2354400"/>
        </p:xfrm>
        <a:graphic>
          <a:graphicData uri="http://schemas.openxmlformats.org/drawingml/2006/table">
            <a:tbl>
              <a:tblPr/>
              <a:tblGrid>
                <a:gridCol w="2355840"/>
                <a:gridCol w="738360"/>
                <a:gridCol w="1477800"/>
                <a:gridCol w="619200"/>
                <a:gridCol w="757440"/>
                <a:gridCol w="757080"/>
                <a:gridCol w="757440"/>
                <a:gridCol w="757080"/>
              </a:tblGrid>
              <a:tr h="948960">
                <a:tc rowSpan="3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оки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лиц, направленных на освидетельствование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освидетельствования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тановлено 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ьянение не установлено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отказов от освиде-тельствования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когольное опьянение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ьянение наркотиками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ьянение ненаркотическими ПАВ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7884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884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158040" rIns="6480" tIns="648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них (из стр.01) управляют транспортным  средством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804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74480" y="541080"/>
            <a:ext cx="8135640" cy="65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Результаты проведения медицинской реабилитации, человек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6" name=""/>
          <p:cNvGraphicFramePr/>
          <p:nvPr/>
        </p:nvGraphicFramePr>
        <p:xfrm>
          <a:off x="439560" y="1546200"/>
          <a:ext cx="8020080" cy="3505320"/>
        </p:xfrm>
        <a:graphic>
          <a:graphicData uri="http://schemas.openxmlformats.org/drawingml/2006/table">
            <a:tbl>
              <a:tblPr/>
              <a:tblGrid>
                <a:gridCol w="1019520"/>
                <a:gridCol w="404640"/>
                <a:gridCol w="888840"/>
                <a:gridCol w="605160"/>
                <a:gridCol w="973080"/>
                <a:gridCol w="745920"/>
                <a:gridCol w="871560"/>
                <a:gridCol w="650880"/>
                <a:gridCol w="971640"/>
                <a:gridCol w="888840"/>
              </a:tblGrid>
              <a:tr h="914040"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уждающихся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медицинской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билитации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рамках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ПРА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ных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ую реабилитацию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рамках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ПРА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ончивших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ую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билитацию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рамках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ПРА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шедших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ую реабилитацию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торно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ных на МСЭ после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я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ой реабилитации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всего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1686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420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208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807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7735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463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102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464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х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484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067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414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058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302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074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735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542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202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53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794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749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433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89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67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22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стр. 1.2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0–2 лет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лючительно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1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37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91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9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34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3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5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7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стр. 1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валидов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420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dee7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420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dee7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807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7c1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807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7c1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463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9c8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463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9c8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468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226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х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067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dee7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067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dee7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058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7c1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058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7c1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074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9c8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074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9c8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021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336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53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dee7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53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dee7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749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7c1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749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7c1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89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9c8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89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9c8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47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90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стр. 2.2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0–2 лет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лючительно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.1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dee7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dee7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9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7c1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9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7c1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3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9c8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3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9c8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7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7" name="Выгнутая вправо стрелка 1"/>
          <p:cNvSpPr/>
          <p:nvPr/>
        </p:nvSpPr>
        <p:spPr>
          <a:xfrm>
            <a:off x="3352680" y="2716200"/>
            <a:ext cx="349200" cy="1251000"/>
          </a:xfrm>
          <a:custGeom>
            <a:avLst/>
            <a:gdLst>
              <a:gd name="textAreaLeft" fmla="*/ 46800 w 349200"/>
              <a:gd name="textAreaRight" fmla="*/ 302400 w 349200"/>
              <a:gd name="textAreaTop" fmla="*/ 280080 h 1251000"/>
              <a:gd name="textAreaBottom" fmla="*/ 927360 h 1251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670" stAng="-5400000" swAng="5400000"/>
                <a:lnTo>
                  <a:pt x="21600" y="11177"/>
                </a:lnTo>
                <a:arcTo wR="21600" hR="9670" stAng="0" swAng="3601492"/>
                <a:lnTo>
                  <a:pt x="5400" y="21293"/>
                </a:lnTo>
                <a:lnTo>
                  <a:pt x="0" y="20093"/>
                </a:lnTo>
                <a:lnTo>
                  <a:pt x="5400" y="18278"/>
                </a:lnTo>
                <a:lnTo>
                  <a:pt x="5400" y="19032"/>
                </a:lnTo>
                <a:arcTo wR="21600" hR="9670" stAng="3601492" swAng="-3481252"/>
                <a:lnTo>
                  <a:pt x="21534" y="10423"/>
                </a:lnTo>
                <a:arcTo wR="21600" hR="9670" stAng="-120240" swAng="-5279760"/>
                <a:close/>
              </a:path>
              <a:path fill="darkenLess" w="21600" h="21600">
                <a:moveTo>
                  <a:pt x="0" y="0"/>
                </a:moveTo>
                <a:arcTo wR="21600" hR="9670" stAng="-5400000" swAng="5400000"/>
                <a:lnTo>
                  <a:pt x="21600" y="11177"/>
                </a:lnTo>
                <a:arcTo wR="21600" hR="9670" stAng="0" swAng="-120240"/>
                <a:lnTo>
                  <a:pt x="21534" y="10423"/>
                </a:lnTo>
                <a:arcTo wR="21600" hR="9670" stAng="-120240" swAng="-5279760"/>
                <a:close/>
              </a:path>
            </a:pathLst>
          </a:custGeom>
          <a:solidFill>
            <a:srgbClr val="41adc3"/>
          </a:solidFill>
          <a:ln w="25560">
            <a:solidFill>
              <a:srgbClr val="2d7e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Выгнутая вправо стрелка 6"/>
          <p:cNvSpPr/>
          <p:nvPr/>
        </p:nvSpPr>
        <p:spPr>
          <a:xfrm>
            <a:off x="6600960" y="2741760"/>
            <a:ext cx="326880" cy="1249200"/>
          </a:xfrm>
          <a:custGeom>
            <a:avLst/>
            <a:gdLst>
              <a:gd name="textAreaLeft" fmla="*/ 43560 w 326880"/>
              <a:gd name="textAreaRight" fmla="*/ 283320 w 326880"/>
              <a:gd name="textAreaTop" fmla="*/ 281520 h 1249200"/>
              <a:gd name="textAreaBottom" fmla="*/ 926640 h 124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740" stAng="-5400000" swAng="5400000"/>
                <a:lnTo>
                  <a:pt x="21600" y="11153"/>
                </a:lnTo>
                <a:arcTo wR="21600" hR="9740" stAng="0" swAng="3612280"/>
                <a:lnTo>
                  <a:pt x="5400" y="21291"/>
                </a:lnTo>
                <a:lnTo>
                  <a:pt x="0" y="20187"/>
                </a:lnTo>
                <a:lnTo>
                  <a:pt x="5400" y="18464"/>
                </a:lnTo>
                <a:lnTo>
                  <a:pt x="5400" y="19171"/>
                </a:lnTo>
                <a:arcTo wR="21600" hR="9740" stAng="3612280" swAng="-3499581"/>
                <a:lnTo>
                  <a:pt x="21543" y="10447"/>
                </a:lnTo>
                <a:arcTo wR="21600" hR="9740" stAng="-112700" swAng="-5287300"/>
                <a:close/>
              </a:path>
              <a:path fill="darkenLess" w="21600" h="21600">
                <a:moveTo>
                  <a:pt x="0" y="0"/>
                </a:moveTo>
                <a:arcTo wR="21600" hR="9740" stAng="-5400000" swAng="5400000"/>
                <a:lnTo>
                  <a:pt x="21600" y="11153"/>
                </a:lnTo>
                <a:arcTo wR="21600" hR="9740" stAng="0" swAng="-112700"/>
                <a:lnTo>
                  <a:pt x="21543" y="10447"/>
                </a:lnTo>
                <a:arcTo wR="21600" hR="9740" stAng="-112700" swAng="-5287300"/>
                <a:close/>
              </a:path>
            </a:pathLst>
          </a:custGeom>
          <a:solidFill>
            <a:srgbClr val="41adc3"/>
          </a:solidFill>
          <a:ln w="25560">
            <a:solidFill>
              <a:srgbClr val="2d7e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Выгнутая вправо стрелка 7"/>
          <p:cNvSpPr/>
          <p:nvPr/>
        </p:nvSpPr>
        <p:spPr>
          <a:xfrm>
            <a:off x="3362400" y="3451320"/>
            <a:ext cx="528480" cy="1495440"/>
          </a:xfrm>
          <a:custGeom>
            <a:avLst/>
            <a:gdLst>
              <a:gd name="textAreaLeft" fmla="*/ 70560 w 528480"/>
              <a:gd name="textAreaRight" fmla="*/ 457920 w 528480"/>
              <a:gd name="textAreaTop" fmla="*/ 324360 h 1495440"/>
              <a:gd name="textAreaBottom" fmla="*/ 1105200 h 149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369" stAng="-5400000" swAng="5400000"/>
                <a:lnTo>
                  <a:pt x="21600" y="11277"/>
                </a:lnTo>
                <a:arcTo wR="21600" hR="9369" stAng="0" swAng="3554072"/>
                <a:lnTo>
                  <a:pt x="5400" y="21303"/>
                </a:lnTo>
                <a:lnTo>
                  <a:pt x="0" y="19691"/>
                </a:lnTo>
                <a:lnTo>
                  <a:pt x="5400" y="17485"/>
                </a:lnTo>
                <a:lnTo>
                  <a:pt x="5400" y="18440"/>
                </a:lnTo>
                <a:arcTo wR="21600" hR="9369" stAng="3554072" swAng="-3401545"/>
                <a:lnTo>
                  <a:pt x="21488" y="10323"/>
                </a:lnTo>
                <a:arcTo wR="21600" hR="9369" stAng="-152527" swAng="-5247473"/>
                <a:close/>
              </a:path>
              <a:path fill="darkenLess" w="21600" h="21600">
                <a:moveTo>
                  <a:pt x="0" y="0"/>
                </a:moveTo>
                <a:arcTo wR="21600" hR="9369" stAng="-5400000" swAng="5400000"/>
                <a:lnTo>
                  <a:pt x="21600" y="11277"/>
                </a:lnTo>
                <a:arcTo wR="21600" hR="9369" stAng="0" swAng="-152527"/>
                <a:lnTo>
                  <a:pt x="21488" y="10323"/>
                </a:lnTo>
                <a:arcTo wR="21600" hR="9369" stAng="-152527" swAng="-5247473"/>
                <a:close/>
              </a:path>
            </a:pathLst>
          </a:custGeom>
          <a:solidFill>
            <a:srgbClr val="ffff00"/>
          </a:solidFill>
          <a:ln w="25560">
            <a:solidFill>
              <a:srgbClr val="2d7e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Выгнутая вправо стрелка 10"/>
          <p:cNvSpPr/>
          <p:nvPr/>
        </p:nvSpPr>
        <p:spPr>
          <a:xfrm>
            <a:off x="3354480" y="3214800"/>
            <a:ext cx="479160" cy="1373040"/>
          </a:xfrm>
          <a:custGeom>
            <a:avLst/>
            <a:gdLst>
              <a:gd name="textAreaLeft" fmla="*/ 64080 w 479160"/>
              <a:gd name="textAreaRight" fmla="*/ 415080 w 479160"/>
              <a:gd name="textAreaTop" fmla="*/ 298080 h 1373040"/>
              <a:gd name="textAreaBottom" fmla="*/ 1014840 h 137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386" stAng="-5400000" swAng="5400000"/>
                <a:lnTo>
                  <a:pt x="21600" y="11271"/>
                </a:lnTo>
                <a:arcTo wR="21600" hR="9386" stAng="0" swAng="3556891"/>
                <a:lnTo>
                  <a:pt x="5400" y="21302"/>
                </a:lnTo>
                <a:lnTo>
                  <a:pt x="0" y="19715"/>
                </a:lnTo>
                <a:lnTo>
                  <a:pt x="5400" y="17531"/>
                </a:lnTo>
                <a:lnTo>
                  <a:pt x="5400" y="18474"/>
                </a:lnTo>
                <a:arcTo wR="21600" hR="9386" stAng="3556891" swAng="-3406222"/>
                <a:lnTo>
                  <a:pt x="21491" y="10329"/>
                </a:lnTo>
                <a:arcTo wR="21600" hR="9386" stAng="-150669" swAng="-5249331"/>
                <a:close/>
              </a:path>
              <a:path fill="darkenLess" w="21600" h="21600">
                <a:moveTo>
                  <a:pt x="0" y="0"/>
                </a:moveTo>
                <a:arcTo wR="21600" hR="9386" stAng="-5400000" swAng="5400000"/>
                <a:lnTo>
                  <a:pt x="21600" y="11271"/>
                </a:lnTo>
                <a:arcTo wR="21600" hR="9386" stAng="0" swAng="-150669"/>
                <a:lnTo>
                  <a:pt x="21491" y="10329"/>
                </a:lnTo>
                <a:arcTo wR="21600" hR="9386" stAng="-150669" swAng="-5249331"/>
                <a:close/>
              </a:path>
            </a:pathLst>
          </a:custGeom>
          <a:solidFill>
            <a:srgbClr val="00b0f0"/>
          </a:solidFill>
          <a:ln w="25560">
            <a:solidFill>
              <a:srgbClr val="2d7e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Выгнутая вправо стрелка 13"/>
          <p:cNvSpPr/>
          <p:nvPr/>
        </p:nvSpPr>
        <p:spPr>
          <a:xfrm>
            <a:off x="5075280" y="2903400"/>
            <a:ext cx="496800" cy="1444680"/>
          </a:xfrm>
          <a:custGeom>
            <a:avLst/>
            <a:gdLst>
              <a:gd name="textAreaLeft" fmla="*/ 66600 w 496800"/>
              <a:gd name="textAreaRight" fmla="*/ 430200 w 496800"/>
              <a:gd name="textAreaTop" fmla="*/ 314640 h 1444680"/>
              <a:gd name="textAreaBottom" fmla="*/ 1068120 h 144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407" stAng="-5400000" swAng="5400000"/>
                <a:lnTo>
                  <a:pt x="21600" y="11264"/>
                </a:lnTo>
                <a:arcTo wR="21600" hR="9407" stAng="0" swAng="3560263"/>
                <a:lnTo>
                  <a:pt x="5400" y="21301"/>
                </a:lnTo>
                <a:lnTo>
                  <a:pt x="0" y="19743"/>
                </a:lnTo>
                <a:lnTo>
                  <a:pt x="5400" y="17586"/>
                </a:lnTo>
                <a:lnTo>
                  <a:pt x="5400" y="18515"/>
                </a:lnTo>
                <a:arcTo wR="21600" hR="9407" stAng="3560263" swAng="-3411855"/>
                <a:lnTo>
                  <a:pt x="21495" y="10336"/>
                </a:lnTo>
                <a:arcTo wR="21600" hR="9407" stAng="-148408" swAng="-5251592"/>
                <a:close/>
              </a:path>
              <a:path fill="darkenLess" w="21600" h="21600">
                <a:moveTo>
                  <a:pt x="0" y="0"/>
                </a:moveTo>
                <a:arcTo wR="21600" hR="9407" stAng="-5400000" swAng="5400000"/>
                <a:lnTo>
                  <a:pt x="21600" y="11264"/>
                </a:lnTo>
                <a:arcTo wR="21600" hR="9407" stAng="0" swAng="-148408"/>
                <a:lnTo>
                  <a:pt x="21495" y="10336"/>
                </a:lnTo>
                <a:arcTo wR="21600" hR="9407" stAng="-148408" swAng="-5251592"/>
                <a:close/>
              </a:path>
            </a:pathLst>
          </a:custGeom>
          <a:solidFill>
            <a:srgbClr val="e2a0b9"/>
          </a:solidFill>
          <a:ln w="25560">
            <a:solidFill>
              <a:srgbClr val="2d7e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Выгнутая вправо стрелка 14"/>
          <p:cNvSpPr/>
          <p:nvPr/>
        </p:nvSpPr>
        <p:spPr>
          <a:xfrm>
            <a:off x="3341520" y="2948040"/>
            <a:ext cx="597240" cy="1407960"/>
          </a:xfrm>
          <a:custGeom>
            <a:avLst/>
            <a:gdLst>
              <a:gd name="textAreaLeft" fmla="*/ 79920 w 597240"/>
              <a:gd name="textAreaRight" fmla="*/ 517320 w 597240"/>
              <a:gd name="textAreaTop" fmla="*/ 295920 h 1407960"/>
              <a:gd name="textAreaBottom" fmla="*/ 1037520 h 140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083" stAng="-5400000" swAng="5400000"/>
                <a:lnTo>
                  <a:pt x="21600" y="11373"/>
                </a:lnTo>
                <a:arcTo wR="21600" hR="9083" stAng="0" swAng="3506968"/>
                <a:lnTo>
                  <a:pt x="5400" y="21312"/>
                </a:lnTo>
                <a:lnTo>
                  <a:pt x="0" y="19311"/>
                </a:lnTo>
                <a:lnTo>
                  <a:pt x="5400" y="16734"/>
                </a:lnTo>
                <a:lnTo>
                  <a:pt x="5400" y="17878"/>
                </a:lnTo>
                <a:arcTo wR="21600" hR="9083" stAng="3506968" swAng="-3323444"/>
                <a:lnTo>
                  <a:pt x="21428" y="10228"/>
                </a:lnTo>
                <a:arcTo wR="21600" hR="9083" stAng="-183523" swAng="-5216477"/>
                <a:close/>
              </a:path>
              <a:path fill="darkenLess" w="21600" h="21600">
                <a:moveTo>
                  <a:pt x="0" y="0"/>
                </a:moveTo>
                <a:arcTo wR="21600" hR="9083" stAng="-5400000" swAng="5400000"/>
                <a:lnTo>
                  <a:pt x="21600" y="11373"/>
                </a:lnTo>
                <a:arcTo wR="21600" hR="9083" stAng="0" swAng="-183523"/>
                <a:lnTo>
                  <a:pt x="21428" y="10228"/>
                </a:lnTo>
                <a:arcTo wR="21600" hR="9083" stAng="-183523" swAng="-5216477"/>
                <a:close/>
              </a:path>
            </a:pathLst>
          </a:custGeom>
          <a:solidFill>
            <a:srgbClr val="e2a0b9"/>
          </a:solidFill>
          <a:ln w="25560">
            <a:solidFill>
              <a:srgbClr val="2d7e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Выгнутая вправо стрелка 15"/>
          <p:cNvSpPr/>
          <p:nvPr/>
        </p:nvSpPr>
        <p:spPr>
          <a:xfrm>
            <a:off x="6611760" y="2928960"/>
            <a:ext cx="579600" cy="1444680"/>
          </a:xfrm>
          <a:custGeom>
            <a:avLst/>
            <a:gdLst>
              <a:gd name="textAreaLeft" fmla="*/ 77400 w 579600"/>
              <a:gd name="textAreaRight" fmla="*/ 502200 w 579600"/>
              <a:gd name="textAreaTop" fmla="*/ 306720 h 1444680"/>
              <a:gd name="textAreaBottom" fmla="*/ 1065600 h 144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176" stAng="-5400000" swAng="5400000"/>
                <a:lnTo>
                  <a:pt x="21600" y="11342"/>
                </a:lnTo>
                <a:arcTo wR="21600" hR="9176" stAng="0" swAng="3522464"/>
                <a:lnTo>
                  <a:pt x="5400" y="21309"/>
                </a:lnTo>
                <a:lnTo>
                  <a:pt x="0" y="19434"/>
                </a:lnTo>
                <a:lnTo>
                  <a:pt x="5400" y="16977"/>
                </a:lnTo>
                <a:lnTo>
                  <a:pt x="5400" y="18060"/>
                </a:lnTo>
                <a:arcTo wR="21600" hR="9176" stAng="3522464" swAng="-3349033"/>
                <a:lnTo>
                  <a:pt x="21449" y="10259"/>
                </a:lnTo>
                <a:arcTo wR="21600" hR="9176" stAng="-173431" swAng="-5226569"/>
                <a:close/>
              </a:path>
              <a:path fill="darkenLess" w="21600" h="21600">
                <a:moveTo>
                  <a:pt x="0" y="0"/>
                </a:moveTo>
                <a:arcTo wR="21600" hR="9176" stAng="-5400000" swAng="5400000"/>
                <a:lnTo>
                  <a:pt x="21600" y="11342"/>
                </a:lnTo>
                <a:arcTo wR="21600" hR="9176" stAng="0" swAng="-173431"/>
                <a:lnTo>
                  <a:pt x="21449" y="10259"/>
                </a:lnTo>
                <a:arcTo wR="21600" hR="9176" stAng="-173431" swAng="-5226569"/>
                <a:close/>
              </a:path>
            </a:pathLst>
          </a:custGeom>
          <a:solidFill>
            <a:srgbClr val="e2a0b9"/>
          </a:solidFill>
          <a:ln w="25560">
            <a:solidFill>
              <a:srgbClr val="2d7e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Rectangle 3"/>
          <p:cNvSpPr/>
          <p:nvPr/>
        </p:nvSpPr>
        <p:spPr>
          <a:xfrm>
            <a:off x="3352680" y="898560"/>
            <a:ext cx="1871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d0d0d"/>
                </a:solidFill>
                <a:latin typeface="Times New Roman"/>
              </a:rPr>
              <a:t>Таблица 2850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Выгнутая вправо стрелка 18"/>
          <p:cNvSpPr/>
          <p:nvPr/>
        </p:nvSpPr>
        <p:spPr>
          <a:xfrm>
            <a:off x="5108400" y="2706840"/>
            <a:ext cx="301680" cy="1322280"/>
          </a:xfrm>
          <a:custGeom>
            <a:avLst/>
            <a:gdLst>
              <a:gd name="textAreaLeft" fmla="*/ 40320 w 301680"/>
              <a:gd name="textAreaRight" fmla="*/ 261360 w 301680"/>
              <a:gd name="textAreaTop" fmla="*/ 302040 h 1322280"/>
              <a:gd name="textAreaBottom" fmla="*/ 982440 h 132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877" stAng="-5400000" swAng="5400000"/>
                <a:lnTo>
                  <a:pt x="21600" y="11108"/>
                </a:lnTo>
                <a:arcTo wR="21600" hR="9877" stAng="0" swAng="3632838"/>
                <a:lnTo>
                  <a:pt x="5400" y="21286"/>
                </a:lnTo>
                <a:lnTo>
                  <a:pt x="0" y="20369"/>
                </a:lnTo>
                <a:lnTo>
                  <a:pt x="5400" y="18823"/>
                </a:lnTo>
                <a:lnTo>
                  <a:pt x="5400" y="19439"/>
                </a:lnTo>
                <a:arcTo wR="21600" hR="9877" stAng="3632838" swAng="-3534714"/>
                <a:lnTo>
                  <a:pt x="21558" y="10492"/>
                </a:lnTo>
                <a:arcTo wR="21600" hR="9877" stAng="-98124" swAng="-5301876"/>
                <a:close/>
              </a:path>
              <a:path fill="darkenLess" w="21600" h="21600">
                <a:moveTo>
                  <a:pt x="0" y="0"/>
                </a:moveTo>
                <a:arcTo wR="21600" hR="9877" stAng="-5400000" swAng="5400000"/>
                <a:lnTo>
                  <a:pt x="21600" y="11108"/>
                </a:lnTo>
                <a:arcTo wR="21600" hR="9877" stAng="0" swAng="-98124"/>
                <a:lnTo>
                  <a:pt x="21558" y="10492"/>
                </a:lnTo>
                <a:arcTo wR="21600" hR="9877" stAng="-98124" swAng="-5301876"/>
                <a:close/>
              </a:path>
            </a:pathLst>
          </a:custGeom>
          <a:solidFill>
            <a:srgbClr val="41adc3"/>
          </a:solidFill>
          <a:ln w="25560">
            <a:solidFill>
              <a:srgbClr val="2d7e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Выгнутая вправо стрелка 19"/>
          <p:cNvSpPr/>
          <p:nvPr/>
        </p:nvSpPr>
        <p:spPr>
          <a:xfrm>
            <a:off x="5084640" y="3214800"/>
            <a:ext cx="479520" cy="1374840"/>
          </a:xfrm>
          <a:custGeom>
            <a:avLst/>
            <a:gdLst>
              <a:gd name="textAreaLeft" fmla="*/ 64080 w 479520"/>
              <a:gd name="textAreaRight" fmla="*/ 415440 w 479520"/>
              <a:gd name="textAreaTop" fmla="*/ 298800 h 1374840"/>
              <a:gd name="textAreaBottom" fmla="*/ 1016280 h 137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388" stAng="-5400000" swAng="5400000"/>
                <a:lnTo>
                  <a:pt x="21600" y="11272"/>
                </a:lnTo>
                <a:arcTo wR="21600" hR="9388" stAng="0" swAng="3557132"/>
                <a:lnTo>
                  <a:pt x="5400" y="21302"/>
                </a:lnTo>
                <a:lnTo>
                  <a:pt x="0" y="19717"/>
                </a:lnTo>
                <a:lnTo>
                  <a:pt x="5400" y="17536"/>
                </a:lnTo>
                <a:lnTo>
                  <a:pt x="5400" y="18477"/>
                </a:lnTo>
                <a:arcTo wR="21600" hR="9388" stAng="3557132" swAng="-3406544"/>
                <a:lnTo>
                  <a:pt x="21491" y="10330"/>
                </a:lnTo>
                <a:arcTo wR="21600" hR="9388" stAng="-150588" swAng="-5249412"/>
                <a:close/>
              </a:path>
              <a:path fill="darkenLess" w="21600" h="21600">
                <a:moveTo>
                  <a:pt x="0" y="0"/>
                </a:moveTo>
                <a:arcTo wR="21600" hR="9388" stAng="-5400000" swAng="5400000"/>
                <a:lnTo>
                  <a:pt x="21600" y="11272"/>
                </a:lnTo>
                <a:arcTo wR="21600" hR="9388" stAng="0" swAng="-150588"/>
                <a:lnTo>
                  <a:pt x="21491" y="10330"/>
                </a:lnTo>
                <a:arcTo wR="21600" hR="9388" stAng="-150588" swAng="-5249412"/>
                <a:close/>
              </a:path>
            </a:pathLst>
          </a:custGeom>
          <a:solidFill>
            <a:srgbClr val="00b0f0"/>
          </a:solidFill>
          <a:ln w="25560">
            <a:solidFill>
              <a:srgbClr val="2d7e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Выгнутая вправо стрелка 20"/>
          <p:cNvSpPr/>
          <p:nvPr/>
        </p:nvSpPr>
        <p:spPr>
          <a:xfrm>
            <a:off x="6632640" y="3252960"/>
            <a:ext cx="479520" cy="1374480"/>
          </a:xfrm>
          <a:custGeom>
            <a:avLst/>
            <a:gdLst>
              <a:gd name="textAreaLeft" fmla="*/ 64080 w 479520"/>
              <a:gd name="textAreaRight" fmla="*/ 415440 w 479520"/>
              <a:gd name="textAreaTop" fmla="*/ 298440 h 1374480"/>
              <a:gd name="textAreaBottom" fmla="*/ 1015920 h 1374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388" stAng="-5400000" swAng="5400000"/>
                <a:lnTo>
                  <a:pt x="21600" y="11272"/>
                </a:lnTo>
                <a:arcTo wR="21600" hR="9388" stAng="0" swAng="3557132"/>
                <a:lnTo>
                  <a:pt x="5400" y="21302"/>
                </a:lnTo>
                <a:lnTo>
                  <a:pt x="0" y="19717"/>
                </a:lnTo>
                <a:lnTo>
                  <a:pt x="5400" y="17536"/>
                </a:lnTo>
                <a:lnTo>
                  <a:pt x="5400" y="18477"/>
                </a:lnTo>
                <a:arcTo wR="21600" hR="9388" stAng="3557132" swAng="-3406544"/>
                <a:lnTo>
                  <a:pt x="21491" y="10330"/>
                </a:lnTo>
                <a:arcTo wR="21600" hR="9388" stAng="-150588" swAng="-5249412"/>
                <a:close/>
              </a:path>
              <a:path fill="darkenLess" w="21600" h="21600">
                <a:moveTo>
                  <a:pt x="0" y="0"/>
                </a:moveTo>
                <a:arcTo wR="21600" hR="9388" stAng="-5400000" swAng="5400000"/>
                <a:lnTo>
                  <a:pt x="21600" y="11272"/>
                </a:lnTo>
                <a:arcTo wR="21600" hR="9388" stAng="0" swAng="-150588"/>
                <a:lnTo>
                  <a:pt x="21491" y="10330"/>
                </a:lnTo>
                <a:arcTo wR="21600" hR="9388" stAng="-150588" swAng="-5249412"/>
                <a:close/>
              </a:path>
            </a:pathLst>
          </a:custGeom>
          <a:solidFill>
            <a:srgbClr val="00b0f0"/>
          </a:solidFill>
          <a:ln w="25560">
            <a:solidFill>
              <a:srgbClr val="2d7e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Выгнутая вправо стрелка 21"/>
          <p:cNvSpPr/>
          <p:nvPr/>
        </p:nvSpPr>
        <p:spPr>
          <a:xfrm>
            <a:off x="5084640" y="3478320"/>
            <a:ext cx="528840" cy="1495440"/>
          </a:xfrm>
          <a:custGeom>
            <a:avLst/>
            <a:gdLst>
              <a:gd name="textAreaLeft" fmla="*/ 70560 w 528840"/>
              <a:gd name="textAreaRight" fmla="*/ 458280 w 528840"/>
              <a:gd name="textAreaTop" fmla="*/ 324360 h 1495440"/>
              <a:gd name="textAreaBottom" fmla="*/ 1105200 h 149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369" stAng="-5400000" swAng="5400000"/>
                <a:lnTo>
                  <a:pt x="21600" y="11277"/>
                </a:lnTo>
                <a:arcTo wR="21600" hR="9369" stAng="0" swAng="3554072"/>
                <a:lnTo>
                  <a:pt x="5400" y="21303"/>
                </a:lnTo>
                <a:lnTo>
                  <a:pt x="0" y="19691"/>
                </a:lnTo>
                <a:lnTo>
                  <a:pt x="5400" y="17485"/>
                </a:lnTo>
                <a:lnTo>
                  <a:pt x="5400" y="18440"/>
                </a:lnTo>
                <a:arcTo wR="21600" hR="9369" stAng="3554072" swAng="-3401545"/>
                <a:lnTo>
                  <a:pt x="21488" y="10323"/>
                </a:lnTo>
                <a:arcTo wR="21600" hR="9369" stAng="-152527" swAng="-5247473"/>
                <a:close/>
              </a:path>
              <a:path fill="darkenLess" w="21600" h="21600">
                <a:moveTo>
                  <a:pt x="0" y="0"/>
                </a:moveTo>
                <a:arcTo wR="21600" hR="9369" stAng="-5400000" swAng="5400000"/>
                <a:lnTo>
                  <a:pt x="21600" y="11277"/>
                </a:lnTo>
                <a:arcTo wR="21600" hR="9369" stAng="0" swAng="-152527"/>
                <a:lnTo>
                  <a:pt x="21488" y="10323"/>
                </a:lnTo>
                <a:arcTo wR="21600" hR="9369" stAng="-152527" swAng="-5247473"/>
                <a:close/>
              </a:path>
            </a:pathLst>
          </a:custGeom>
          <a:solidFill>
            <a:srgbClr val="ffff00"/>
          </a:solidFill>
          <a:ln w="25560">
            <a:solidFill>
              <a:srgbClr val="2d7e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Выгнутая вправо стрелка 22"/>
          <p:cNvSpPr/>
          <p:nvPr/>
        </p:nvSpPr>
        <p:spPr>
          <a:xfrm>
            <a:off x="6608880" y="3483000"/>
            <a:ext cx="528480" cy="1496880"/>
          </a:xfrm>
          <a:custGeom>
            <a:avLst/>
            <a:gdLst>
              <a:gd name="textAreaLeft" fmla="*/ 70560 w 528480"/>
              <a:gd name="textAreaRight" fmla="*/ 457920 w 528480"/>
              <a:gd name="textAreaTop" fmla="*/ 324720 h 1496880"/>
              <a:gd name="textAreaBottom" fmla="*/ 1106280 h 149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370" stAng="-5400000" swAng="5400000"/>
                <a:lnTo>
                  <a:pt x="21600" y="11276"/>
                </a:lnTo>
                <a:arcTo wR="21600" hR="9370" stAng="0" swAng="3554314"/>
                <a:lnTo>
                  <a:pt x="5400" y="21302"/>
                </a:lnTo>
                <a:lnTo>
                  <a:pt x="0" y="19693"/>
                </a:lnTo>
                <a:lnTo>
                  <a:pt x="5400" y="17488"/>
                </a:lnTo>
                <a:lnTo>
                  <a:pt x="5400" y="18442"/>
                </a:lnTo>
                <a:arcTo wR="21600" hR="9370" stAng="3554314" swAng="-3401949"/>
                <a:lnTo>
                  <a:pt x="21488" y="10323"/>
                </a:lnTo>
                <a:arcTo wR="21600" hR="9370" stAng="-152365" swAng="-5247635"/>
                <a:close/>
              </a:path>
              <a:path fill="darkenLess" w="21600" h="21600">
                <a:moveTo>
                  <a:pt x="0" y="0"/>
                </a:moveTo>
                <a:arcTo wR="21600" hR="9370" stAng="-5400000" swAng="5400000"/>
                <a:lnTo>
                  <a:pt x="21600" y="11276"/>
                </a:lnTo>
                <a:arcTo wR="21600" hR="9370" stAng="0" swAng="-152365"/>
                <a:lnTo>
                  <a:pt x="21488" y="10323"/>
                </a:lnTo>
                <a:arcTo wR="21600" hR="9370" stAng="-152365" swAng="-5247635"/>
                <a:close/>
              </a:path>
            </a:pathLst>
          </a:custGeom>
          <a:solidFill>
            <a:srgbClr val="ffff00"/>
          </a:solidFill>
          <a:ln w="25560">
            <a:solidFill>
              <a:srgbClr val="2d7e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"/>
          <p:cNvSpPr txBox="1"/>
          <p:nvPr/>
        </p:nvSpPr>
        <p:spPr>
          <a:xfrm>
            <a:off x="395280" y="129240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сеще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это контакт пациента с врачом медицинской организации или подразделения, оказывающего медицинскую помощь в амбулаторных условиях по любому поводу с последующей записью в «Медицинской карте пациента, получающего медицинскую помощь в амбулаторных условиях» (форма № 025/у), включающей жалобы, анамнез, объективные данные,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остановку диагноз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 основного, фонового, конкурирующего и сопутствующих заболеваний, травм, отравлений с кодами их по МКБ-10, группу здоровья,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назначенное  лече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обследование, а также результаты обследования и  динамического наблюд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раще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это повод визита пациента в поликлини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по поводу заболевания (диспансерное наблюдение, неотложное состояние и т.д.), с профилактической целью (медицинский осмотр, диспансеризация и т.д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раще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может состоять из одного или нескольких посещений пациента, в результате которых цель обращения достигну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Прямоугольник 1"/>
          <p:cNvSpPr/>
          <p:nvPr/>
        </p:nvSpPr>
        <p:spPr>
          <a:xfrm>
            <a:off x="395280" y="333360"/>
            <a:ext cx="8209080" cy="56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у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2850)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ключаются сведения о результатах медицинской реабилитации. Таблица заполняется медицинскими организациями, осуществляющими обслуживание населения по территориальному принципу (оказывающими первичную медико-санитарную помощь).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 медицинские организации (стационары, диспансеры и т.д.), в которых специалисты назначают (рекомендуют) проведение реабилитационных мероприятий пациенту, в рамках осуществления — преемственности с первичным звеном осуществляют процесс передачи сведений по пациенту.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циент показывается в таблице один раз, вне зависимости от количества проведенных курсов реабилитации в течении года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Таблица формируется за отчетный период. Если этот же пациент будет нуждаться в медицинской реабилитации на следующий год, то он еще раз покажется в отчетном периоде следующего года.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сли пациенту назначены реабилитационные мероприятия в предыдущем отчетном году, а проведен курс реабилитации в отчетном году, то следует показывать его, как нуждающегося в отчетном периоде.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у 3 включаются пациенты, нуждающиеся в медицинской реабилитации, в том числе после перенесенной новой коронавирусной инфекции COVID-19, а также пациентов с соматическими заболеваниями.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Прямоугольник 2"/>
          <p:cNvSpPr/>
          <p:nvPr/>
        </p:nvSpPr>
        <p:spPr>
          <a:xfrm>
            <a:off x="701640" y="2254320"/>
            <a:ext cx="8313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АЗДЕЛ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. РАБОТА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ЛЕЧЕБНО-ВСПОМОГАТЕЛЬНЫХ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ОТДЕЛЕНИЙ (КАБИНЕТОВ)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2" name=""/>
          <p:cNvGraphicFramePr/>
          <p:nvPr/>
        </p:nvGraphicFramePr>
        <p:xfrm>
          <a:off x="343080" y="2244600"/>
          <a:ext cx="8619840" cy="3567240"/>
        </p:xfrm>
        <a:graphic>
          <a:graphicData uri="http://schemas.openxmlformats.org/drawingml/2006/table">
            <a:tbl>
              <a:tblPr/>
              <a:tblGrid>
                <a:gridCol w="8619840"/>
              </a:tblGrid>
              <a:tr h="3567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NewRomanPSMT"/>
                        </a:rPr>
                        <a:t>Внутритабличный и межтабличный контроль: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NewRomanPSMT"/>
                        </a:rPr>
                        <a:t>- строка 1 должна быть равна сумме строк 1.1 + 1.2 + 1.3 + 1.4;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NewRomanPSMT"/>
                        </a:rPr>
                        <a:t>- строка 1 должна быть равна сумме строк 2 + 3 + 4 + 5 + 6;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NewRomanPSMT"/>
                        </a:rPr>
                        <a:t>- строка 2 должна быть равна сумме строк 2.1 + 2.2;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NewRomanPSMT"/>
                        </a:rPr>
                        <a:t>- строка 2.1 должна быть равна сумме строк 2.1.1 + 2.1.2;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NewRomanPSMT"/>
                        </a:rPr>
                        <a:t>- строка 2.2 должна быть равна сумме строк 2.2.1 + 2.2.2 + 2.2.3 + 2.2.4 +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NewRomanPSMT"/>
                        </a:rPr>
                        <a:t>2.2.5 + 2.2.6;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NewRomanPSMT"/>
                        </a:rPr>
                        <a:t>- строка 2.3 должна быть равна сумме строк 2.3.1 + 2.3.2;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NewRomanPSMT"/>
                        </a:rPr>
                        <a:t>- строка 3 должна быть равна сумме строк 3.1 + 3.2 + 3.3 + 3.4 + 3.5;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NewRomanPSMT"/>
                        </a:rPr>
                        <a:t>- строка 6 должна быть равна сумме строк 6.1+6.2+6.3+6.4;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NewRomanPSMT"/>
                        </a:rPr>
                        <a:t>- строка 8 должна быть равна сумме строк 8.1+8.2+8.3.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NewRomanPSMT"/>
                        </a:rPr>
                        <a:t>Информация по строкам со 2 по 6 должна отражаться при наличии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NewRomanPSMT"/>
                        </a:rPr>
                        <a:t>соответствующего оборудования, указанного в таблице 5118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3" name="Прямоугольник 2"/>
          <p:cNvSpPr/>
          <p:nvPr/>
        </p:nvSpPr>
        <p:spPr>
          <a:xfrm>
            <a:off x="554040" y="509760"/>
            <a:ext cx="779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1. Деятельность радиотерапевтического отделения (кабинета лучевой терапии)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Прямоугольник 3"/>
          <p:cNvSpPr/>
          <p:nvPr/>
        </p:nvSpPr>
        <p:spPr>
          <a:xfrm>
            <a:off x="655560" y="1538280"/>
            <a:ext cx="84884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Таблица 4201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Раздел заполняется в отчете только при наличие в структуре медицинской организации соответствующих отделений (кабинетов), показанных в таблице 1001 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5" name="Group 54" descr=""/>
          <p:cNvPicPr/>
          <p:nvPr/>
        </p:nvPicPr>
        <p:blipFill>
          <a:blip r:embed="rId1"/>
          <a:stretch/>
        </p:blipFill>
        <p:spPr>
          <a:xfrm>
            <a:off x="128520" y="2273400"/>
            <a:ext cx="8734320" cy="3139920"/>
          </a:xfrm>
          <a:prstGeom prst="rect">
            <a:avLst/>
          </a:prstGeom>
          <a:ln w="0">
            <a:noFill/>
          </a:ln>
        </p:spPr>
      </p:pic>
      <p:sp>
        <p:nvSpPr>
          <p:cNvPr id="1696" name="Прямоугольник 2"/>
          <p:cNvSpPr/>
          <p:nvPr/>
        </p:nvSpPr>
        <p:spPr>
          <a:xfrm>
            <a:off x="554040" y="360360"/>
            <a:ext cx="779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2. Деятельность физиотерапевтического отделения (кабинета)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Прямоугольник 3"/>
          <p:cNvSpPr/>
          <p:nvPr/>
        </p:nvSpPr>
        <p:spPr>
          <a:xfrm>
            <a:off x="738360" y="1442880"/>
            <a:ext cx="78642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4601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ведения заполняются на основании карты больного,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ечащегося в физиотерапевтическом отделении (кабинете) (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ч.форма № 044/у)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Rectangle 453"/>
          <p:cNvSpPr/>
          <p:nvPr/>
        </p:nvSpPr>
        <p:spPr>
          <a:xfrm>
            <a:off x="5052960" y="3897360"/>
            <a:ext cx="3721320" cy="1133280"/>
          </a:xfrm>
          <a:prstGeom prst="rect">
            <a:avLst/>
          </a:prstGeom>
          <a:solidFill>
            <a:srgbClr val="ffd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.2 из строки 1.1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2.2 из строки 2.1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Прямоугольник 1"/>
          <p:cNvSpPr/>
          <p:nvPr/>
        </p:nvSpPr>
        <p:spPr>
          <a:xfrm>
            <a:off x="1042920" y="574560"/>
            <a:ext cx="657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3. Деятельность кабинета ЛФК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Прямоугольник 2"/>
          <p:cNvSpPr/>
          <p:nvPr/>
        </p:nvSpPr>
        <p:spPr>
          <a:xfrm>
            <a:off x="793800" y="1144440"/>
            <a:ext cx="7893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4701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аблица заполняется на основании сведений, содержащихся в учетной форме № 042/у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В таблицу включаются сведения о пациентах, получивших лечебный массаж.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1" name="Таблица 3" descr=""/>
          <p:cNvPicPr/>
          <p:nvPr/>
        </p:nvPicPr>
        <p:blipFill>
          <a:blip r:embed="rId1"/>
          <a:stretch/>
        </p:blipFill>
        <p:spPr>
          <a:xfrm>
            <a:off x="365040" y="2206800"/>
            <a:ext cx="8454960" cy="3438360"/>
          </a:xfrm>
          <a:prstGeom prst="rect">
            <a:avLst/>
          </a:prstGeom>
          <a:ln w="0">
            <a:noFill/>
          </a:ln>
        </p:spPr>
      </p:pic>
      <p:sp>
        <p:nvSpPr>
          <p:cNvPr id="1702" name="Rectangle 453"/>
          <p:cNvSpPr/>
          <p:nvPr/>
        </p:nvSpPr>
        <p:spPr>
          <a:xfrm>
            <a:off x="5154480" y="4184640"/>
            <a:ext cx="3657600" cy="1222560"/>
          </a:xfrm>
          <a:prstGeom prst="rect">
            <a:avLst/>
          </a:prstGeom>
          <a:solidFill>
            <a:srgbClr val="ffd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.2 из строки 1.1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2.2 из строки 2.1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3" name="Рисунок 1" descr=""/>
          <p:cNvPicPr/>
          <p:nvPr/>
        </p:nvPicPr>
        <p:blipFill>
          <a:blip r:embed="rId1"/>
          <a:stretch/>
        </p:blipFill>
        <p:spPr>
          <a:xfrm>
            <a:off x="-371520" y="2122560"/>
            <a:ext cx="10001160" cy="1692360"/>
          </a:xfrm>
          <a:prstGeom prst="rect">
            <a:avLst/>
          </a:prstGeom>
          <a:ln w="0">
            <a:noFill/>
          </a:ln>
        </p:spPr>
      </p:pic>
      <p:sp>
        <p:nvSpPr>
          <p:cNvPr id="1704" name="Прямоугольник 2"/>
          <p:cNvSpPr/>
          <p:nvPr/>
        </p:nvSpPr>
        <p:spPr>
          <a:xfrm>
            <a:off x="979560" y="1523880"/>
            <a:ext cx="462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аблица 4804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Rectangle 605"/>
          <p:cNvSpPr/>
          <p:nvPr/>
        </p:nvSpPr>
        <p:spPr>
          <a:xfrm>
            <a:off x="203040" y="573120"/>
            <a:ext cx="85600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7. Логопедическая помощь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Rectangle 453"/>
          <p:cNvSpPr/>
          <p:nvPr/>
        </p:nvSpPr>
        <p:spPr>
          <a:xfrm>
            <a:off x="285840" y="4027320"/>
            <a:ext cx="8686800" cy="1219320"/>
          </a:xfrm>
          <a:prstGeom prst="rect">
            <a:avLst/>
          </a:prstGeom>
          <a:solidFill>
            <a:srgbClr val="ffd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заполняется на основании сведений, указанных в медицинской карте пациента, получающего медицинскую помощь в амбулаторных условиях (ф. 025/у) и истории развития ребенка (ф. 112/у)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заполняются по всем пациентам, закончившим занятия с логопедом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Rectangle 453"/>
          <p:cNvSpPr/>
          <p:nvPr/>
        </p:nvSpPr>
        <p:spPr>
          <a:xfrm>
            <a:off x="5273640" y="5340240"/>
            <a:ext cx="3276720" cy="1295640"/>
          </a:xfrm>
          <a:prstGeom prst="rect">
            <a:avLst/>
          </a:prstGeom>
          <a:solidFill>
            <a:srgbClr val="ffd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 может быть больше суммы строк 2+3 за счет пациентов в возрасте 18 лет и старше, закончивших занятия с логопедом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Rectangle 605"/>
          <p:cNvSpPr/>
          <p:nvPr/>
        </p:nvSpPr>
        <p:spPr>
          <a:xfrm>
            <a:off x="228600" y="6094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marL="762480" indent="-762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8. Деятельность отделения гемосорбции и гравитационной хирургии крови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Rectangle 2"/>
          <p:cNvSpPr/>
          <p:nvPr/>
        </p:nvSpPr>
        <p:spPr>
          <a:xfrm>
            <a:off x="228600" y="1219320"/>
            <a:ext cx="1981080" cy="38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marL="787680" indent="-787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4805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0" name=""/>
          <p:cNvGraphicFramePr/>
          <p:nvPr/>
        </p:nvGraphicFramePr>
        <p:xfrm>
          <a:off x="415800" y="1523880"/>
          <a:ext cx="8499600" cy="3916440"/>
        </p:xfrm>
        <a:graphic>
          <a:graphicData uri="http://schemas.openxmlformats.org/drawingml/2006/table">
            <a:tbl>
              <a:tblPr/>
              <a:tblGrid>
                <a:gridCol w="3481560"/>
                <a:gridCol w="685800"/>
                <a:gridCol w="682560"/>
                <a:gridCol w="2594160"/>
                <a:gridCol w="1055520"/>
              </a:tblGrid>
              <a:tr h="324000">
                <a:tc rowSpan="2"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одразделениях, оказывающих медицинскую помощь 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условиях дневного стационара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мест в отделен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роцедур - всег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гемосорбций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змаферезов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зерного облучения кров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ьтразвукового облучения кров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моозонотерапии кров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1" name="Rectangle 453"/>
          <p:cNvSpPr/>
          <p:nvPr/>
        </p:nvSpPr>
        <p:spPr>
          <a:xfrm>
            <a:off x="4881600" y="3322800"/>
            <a:ext cx="3657600" cy="838080"/>
          </a:xfrm>
          <a:prstGeom prst="rect">
            <a:avLst/>
          </a:prstGeom>
          <a:solidFill>
            <a:srgbClr val="ffd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2 может быть больше суммы строк с 3 по 7 на прочие процедуры, которые необходимо 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шифровать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Rectangle 453"/>
          <p:cNvSpPr/>
          <p:nvPr/>
        </p:nvSpPr>
        <p:spPr>
          <a:xfrm>
            <a:off x="4876920" y="4495680"/>
            <a:ext cx="3657600" cy="990720"/>
          </a:xfrm>
          <a:prstGeom prst="rect">
            <a:avLst/>
          </a:prstGeom>
          <a:solidFill>
            <a:srgbClr val="ffd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а 3 может быть больше суммы граф 4 + 5 за счет процедур, выполненных в стационарных условиях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605"/>
          <p:cNvSpPr/>
          <p:nvPr/>
        </p:nvSpPr>
        <p:spPr>
          <a:xfrm>
            <a:off x="228600" y="380880"/>
            <a:ext cx="8610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10. Деятельность отделения (кабинета) медицинской профилактики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Rectangle 2"/>
          <p:cNvSpPr/>
          <p:nvPr/>
        </p:nvSpPr>
        <p:spPr>
          <a:xfrm>
            <a:off x="228600" y="990720"/>
            <a:ext cx="17524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4809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5" name=""/>
          <p:cNvGraphicFramePr/>
          <p:nvPr/>
        </p:nvGraphicFramePr>
        <p:xfrm>
          <a:off x="79200" y="1468440"/>
          <a:ext cx="8874360" cy="3610080"/>
        </p:xfrm>
        <a:graphic>
          <a:graphicData uri="http://schemas.openxmlformats.org/drawingml/2006/table">
            <a:tbl>
              <a:tblPr/>
              <a:tblGrid>
                <a:gridCol w="7191720"/>
                <a:gridCol w="765000"/>
                <a:gridCol w="917640"/>
              </a:tblGrid>
              <a:tr h="216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аименование показателей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трок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сег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Число лиц, обученных основам здорового образа жизни -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Число медицинских работников, обученных методике профилактики заболеваний и укрепления здоровья –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Число пациентов обученных в “школах” –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 том числе: школе для беремен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школе для пациентов с сердечной недостаточностью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    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школе для пациентов на хроническом диализ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                    …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…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рочих школа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1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Число проведенных массовых мероприятий -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Число лиц, участвующих в мероприят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школ для родителей, дети которых больны хроническими заболеваниями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ля родителей детей в возрасте 0-2 года включительно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етей, родители (законные представители) которых прошли обучение в «школах»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в возрасте 0-2 года включительно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5"/>
          <p:cNvSpPr/>
          <p:nvPr/>
        </p:nvSpPr>
        <p:spPr>
          <a:xfrm>
            <a:off x="380880" y="1905120"/>
            <a:ext cx="83059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АЗДЕЛ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I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. РАБОТА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ДИАГНОСТИЧЕСКИХ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ОТДЕЛЕНИЙ (КАБИНЕТОВ)</a:t>
            </a:r>
            <a:br>
              <a:rPr sz="2800"/>
            </a:b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Rectangle 2"/>
          <p:cNvSpPr/>
          <p:nvPr/>
        </p:nvSpPr>
        <p:spPr>
          <a:xfrm>
            <a:off x="152280" y="1371600"/>
            <a:ext cx="8839440" cy="44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ы данного раздела заполняют в медицинских организациях, имеющих соответствующие диагностические службы. Включаются сведения об исследованиях, проведенных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ольк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отделениях (кабинетах)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анно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дицинской организации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включаютс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б анализах и исследованиях,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веденных в других организациях,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ам, обслуживаемым данной организацией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диагностические отделения данной организации оказывают помощь не только своим пациентам, но и пациентам, направленным другими организациями, в сведения о работе диагностического отделения включается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ес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ъем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веденной работ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езависимо от того, каким пациентам была оказана помощь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92120" y="926640"/>
            <a:ext cx="8515440" cy="482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ещения в течения дня пациентом одного и того же врача учитывается как одно посещение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подлежат учету как посещения врачей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лучаи оказания медицинской помощи персоналом станций (отделений) скорой медицинской помощ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обследования в рентгенологических кабинетах, лабораториях и других вспомогательных отделениях (кабинетах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лучаи оказания медицинской помощи на занятиях физической культурой, учебно-спортивных мероприятиях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консультации и экспертизы, проводимые врачебными комиссиями в соответствии со статьей 48 ФЗ от 21.11.2011 № 323-ФЗ «Об основах охраны здоровья граждан в Российской Федерации»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осещения к врачам вспомогательных отделений (кабинетов), за исключением случаев «ведения» пациента врачом данных отделений (кабинетов); назначение лечения с записью в первичной медицинской документации, контроль и динамика состояния пациента в процессе и после окончания курса проведенного лечения (лучевого, физиотерапевтического и др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Прямоугольник 3"/>
          <p:cNvSpPr/>
          <p:nvPr/>
        </p:nvSpPr>
        <p:spPr>
          <a:xfrm>
            <a:off x="1860480" y="390600"/>
            <a:ext cx="526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 5100 «Рентгенодиагностические исследования (без профилактических исследований)»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9" name="Таблица 9" descr=""/>
          <p:cNvPicPr/>
          <p:nvPr/>
        </p:nvPicPr>
        <p:blipFill>
          <a:blip r:embed="rId1"/>
          <a:stretch/>
        </p:blipFill>
        <p:spPr>
          <a:xfrm>
            <a:off x="360360" y="1359000"/>
            <a:ext cx="8551800" cy="5456160"/>
          </a:xfrm>
          <a:prstGeom prst="rect">
            <a:avLst/>
          </a:prstGeom>
          <a:ln w="0">
            <a:noFill/>
          </a:ln>
        </p:spPr>
      </p:pic>
      <p:sp>
        <p:nvSpPr>
          <p:cNvPr id="1720" name="Rectangle 453"/>
          <p:cNvSpPr/>
          <p:nvPr/>
        </p:nvSpPr>
        <p:spPr>
          <a:xfrm>
            <a:off x="3683160" y="2965320"/>
            <a:ext cx="5195880" cy="1270080"/>
          </a:xfrm>
          <a:prstGeom prst="rect">
            <a:avLst/>
          </a:prstGeom>
          <a:solidFill>
            <a:srgbClr val="c4b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ются рентгенологические диагностические исследования за исключением: профилактических (таб. 5114), интервенционных (таб. 5111) и компьютерно-томографических исследований (таб. 5113)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Rectangle 453"/>
          <p:cNvSpPr/>
          <p:nvPr/>
        </p:nvSpPr>
        <p:spPr>
          <a:xfrm>
            <a:off x="3683160" y="4373640"/>
            <a:ext cx="5181480" cy="533160"/>
          </a:xfrm>
          <a:prstGeom prst="rect">
            <a:avLst/>
          </a:prstGeom>
          <a:solidFill>
            <a:srgbClr val="c4b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 должна быть равна сумме строк 2+3+4+5+6+7+8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Rectangle 453"/>
          <p:cNvSpPr/>
          <p:nvPr/>
        </p:nvSpPr>
        <p:spPr>
          <a:xfrm>
            <a:off x="3621240" y="5310360"/>
            <a:ext cx="5257800" cy="914400"/>
          </a:xfrm>
          <a:prstGeom prst="rect">
            <a:avLst/>
          </a:prstGeom>
          <a:solidFill>
            <a:srgbClr val="c4b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а 3 больше суммы граф 11+12 за счет исследований, выполненных пациентам, получавшим медицинскую помощь в стационарных условиях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Прямая соединительная линия 2"/>
          <p:cNvSpPr/>
          <p:nvPr/>
        </p:nvSpPr>
        <p:spPr>
          <a:xfrm>
            <a:off x="406440" y="6364440"/>
            <a:ext cx="2503440" cy="3315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Прямая соединительная линия 11"/>
          <p:cNvSpPr/>
          <p:nvPr/>
        </p:nvSpPr>
        <p:spPr>
          <a:xfrm flipV="1">
            <a:off x="406440" y="6364080"/>
            <a:ext cx="2503440" cy="3315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2"/>
          <p:cNvSpPr/>
          <p:nvPr/>
        </p:nvSpPr>
        <p:spPr>
          <a:xfrm>
            <a:off x="152280" y="1371600"/>
            <a:ext cx="8839440" cy="44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11 указываются исследования с контрастированием без учета ангиографий (ангиографии указываются в таблице 5111)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у 5 «черепа и челюстно-лицевой области» также включаются исследования ЛОР-органов (гортань, околоносовые пазухи и внутреннее ухо)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строке 8 «прочих органов и систем» указываются исследования брюшной полости и забрюшинного пространства (кроме желудочно-кишечного тракта), мягких тканей, женской половой сферы, а также рентгенодиагностические исследования головного и спинного мозг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е исследования, выполненные совместно с врачами клинических специальностей (травматологами-ортопедами, урологами, гинекологами и т.д.), показываются в таблице 5111.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877680" y="294840"/>
            <a:ext cx="7886520" cy="84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113 Компьютерная томографи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рокам 1-14 графы с 3 по 5 включаются сведения о выполненных компьютерно-томографических исследованиях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7" name="Таблица 3" descr=""/>
          <p:cNvPicPr/>
          <p:nvPr/>
        </p:nvPicPr>
        <p:blipFill>
          <a:blip r:embed="rId1"/>
          <a:stretch/>
        </p:blipFill>
        <p:spPr>
          <a:xfrm>
            <a:off x="1017720" y="1195560"/>
            <a:ext cx="7089480" cy="56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615960" y="628200"/>
            <a:ext cx="8400960" cy="449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а граф 4 «без внутривенного контрастирования» и 5 «с внутривенным контрастированием» равна графе 3 «всего исследований» по всем строкам кроме 1 и 14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 «всего исследований» равна сумме строк со 2 по 14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14 «ангиография иных сосудов» графы 4 и 5 не заполняются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роке 1 «исследований всего» разность между графой 3 «Всего» и суммой граф 4 «без внутривенного контрастирования» и 5 «с внутривенным контрастированием» указывает на значение по графе 3 строки 14 «ангиография иных сосудов». 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729720" y="716040"/>
            <a:ext cx="8286840" cy="152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114 Рентгенологические профилактические (скрининговые) обследования</a:t>
            </a:r>
            <a:br>
              <a:rPr sz="18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е количество профилактических исследований молочных желез (строка 2) равна количеству исследований, выполненных на пленочных аппаратах и цифровых аппаратах (строки 2.1 и 2.2).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3 больше суммы граф 4 и 5 за счет лиц трудоспособного возраста</a:t>
            </a:r>
            <a:br>
              <a:rPr sz="1600"/>
            </a:br>
            <a:br>
              <a:rPr sz="1800"/>
            </a:br>
            <a:br>
              <a:rPr sz="1800"/>
            </a:b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0" name="Таблица 7" descr=""/>
          <p:cNvPicPr/>
          <p:nvPr/>
        </p:nvPicPr>
        <p:blipFill>
          <a:blip r:embed="rId1"/>
          <a:stretch/>
        </p:blipFill>
        <p:spPr>
          <a:xfrm>
            <a:off x="755640" y="2365200"/>
            <a:ext cx="784548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115 Ультразвуковые исследования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ются сведения об ультразвуковых исследованиях, проведенных пациентам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2" name="Таблица 3" descr=""/>
          <p:cNvPicPr/>
          <p:nvPr/>
        </p:nvPicPr>
        <p:blipFill>
          <a:blip r:embed="rId1"/>
          <a:stretch/>
        </p:blipFill>
        <p:spPr>
          <a:xfrm>
            <a:off x="841320" y="1554120"/>
            <a:ext cx="7461360" cy="3017880"/>
          </a:xfrm>
          <a:prstGeom prst="rect">
            <a:avLst/>
          </a:prstGeom>
          <a:ln w="0">
            <a:noFill/>
          </a:ln>
        </p:spPr>
      </p:pic>
      <p:sp>
        <p:nvSpPr>
          <p:cNvPr id="1733" name="Прямоугольник 1"/>
          <p:cNvSpPr/>
          <p:nvPr/>
        </p:nvSpPr>
        <p:spPr>
          <a:xfrm>
            <a:off x="890640" y="5045040"/>
            <a:ext cx="7385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Обратить внимание!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стр.2=стр.2.1 по всем графам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(в строку УЗИ сердечно-сосудистой системы,  всего - входят только исследования сосудов)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1107720" y="628200"/>
            <a:ext cx="7886520" cy="156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ение</a:t>
            </a:r>
            <a:br>
              <a:rPr sz="20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роке 4 «УЗИ органов брюшной полости, включая гепатобилиарную систему, селезенку, мезентериальные лимфоузлы» входят: исследования гепатобилиарной системы (печени, желчного пузыря, поджелудочной железы), селезенки, мезентериальных лимфоузлов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ы 6 и 7 по строкам 20-22 не заполняются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5" name=""/>
          <p:cNvGraphicFramePr/>
          <p:nvPr/>
        </p:nvGraphicFramePr>
        <p:xfrm>
          <a:off x="395280" y="2300400"/>
          <a:ext cx="8291520" cy="3125520"/>
        </p:xfrm>
        <a:graphic>
          <a:graphicData uri="http://schemas.openxmlformats.org/drawingml/2006/table">
            <a:tbl>
              <a:tblPr/>
              <a:tblGrid>
                <a:gridCol w="3643200"/>
                <a:gridCol w="339840"/>
                <a:gridCol w="803160"/>
                <a:gridCol w="851040"/>
                <a:gridCol w="876240"/>
                <a:gridCol w="876240"/>
                <a:gridCol w="901800"/>
              </a:tblGrid>
              <a:tr h="17532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ЗИ мягких тканей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1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68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з них - поверхностных лимфоузлов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1.1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ЗИ головного мозга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з них - эхоэнцефалография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.1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йросонография детям до 1 года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.2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ЗИ глаза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3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ЗИ органов грудной клетки (кроме сердца) - вилочковая железа, легкие, плевральная полость, внутригрудные лимфоузлы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4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ЗИ наружных половых органов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Эндосонографические исследования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6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льтразвуковая денситометрия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847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7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84700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ключена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6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нтраоперационные исследования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7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Прочие исследования (слюнные железы)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8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108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з общего числа исследований (стр.1) выполнено  - новорожденным и детям до 2 лет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9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68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ЗИ с внутривенным контрастированием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ЗИ с эластографией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1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6" name=""/>
          <p:cNvGraphicFramePr/>
          <p:nvPr/>
        </p:nvGraphicFramePr>
        <p:xfrm>
          <a:off x="128520" y="577800"/>
          <a:ext cx="8939160" cy="6008760"/>
        </p:xfrm>
        <a:graphic>
          <a:graphicData uri="http://schemas.openxmlformats.org/drawingml/2006/table">
            <a:tbl>
              <a:tblPr/>
              <a:tblGrid>
                <a:gridCol w="3938760"/>
                <a:gridCol w="433440"/>
                <a:gridCol w="576000"/>
                <a:gridCol w="1224000"/>
                <a:gridCol w="647640"/>
                <a:gridCol w="792360"/>
                <a:gridCol w="1326960"/>
              </a:tblGrid>
              <a:tr h="213480"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блица 5118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аппаратов и оборудования всего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одразделениях, оказывающих медицинскую помощь в амбулаторных условия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ующи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 сроком эксплуатации свыше 10 лет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 в амбулаторных условиях (из гр.6)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нтгенотерапевтические аппараты, всего: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изкофокусные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глубокой рентгенотерапии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мма-терапевтические аппараты для дистанционной лучевой терапии, всего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нейные ускорители электронов, всего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ля конвенциальной лучевой терапии </a:t>
                      </a:r>
                      <a:r>
                        <a:rPr b="0" lang="ru-RU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ез мнопластинчатого коллиматора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76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конформной радиотерапии </a:t>
                      </a:r>
                      <a:r>
                        <a:rPr b="0" lang="ru-RU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 многопластинчатым коллиматором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 возможностью контроля укладки пациента по рентгеновским изображениям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1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возможностью контроля укладки пациента по изображениям, полученным из терапевтического пучка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2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возможностью лучевой терапии с модуляцией интенсивности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3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возможностью ротационного облучения с модуляцией интенсивности пучка излучения    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4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возможностью синхронизации лучевой терапии с дыханием пациента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5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возможностью проведения стереотаксической лучевой терапии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6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возможностью облучения энергиям 10+ МэВ и электронами                   (высокоэнергетические)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7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параты и комплекты оборудования для проведения контактной радиотерапии, всего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нутриполостной радиотерапии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marL="290520" indent="428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утритканевой с высокой мощностью дозы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утритканевой микроисточниками с низкой мощностью дозы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пликационной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утрисосудистой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естандартные специализированные аппараты для лучевой терапии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7" name="Rectangle 453"/>
          <p:cNvSpPr/>
          <p:nvPr/>
        </p:nvSpPr>
        <p:spPr>
          <a:xfrm>
            <a:off x="4495680" y="1778040"/>
            <a:ext cx="4572000" cy="685800"/>
          </a:xfrm>
          <a:prstGeom prst="rect">
            <a:avLst/>
          </a:prstGeom>
          <a:solidFill>
            <a:srgbClr val="b9e1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990033"/>
                </a:solidFill>
                <a:latin typeface="Times New Roman"/>
              </a:rPr>
              <a:t>Сведения о наличии аппаратов и оборудования указываются по состоянию на 31.12 отчетного года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Rectangle 453"/>
          <p:cNvSpPr/>
          <p:nvPr/>
        </p:nvSpPr>
        <p:spPr>
          <a:xfrm>
            <a:off x="4533840" y="2517840"/>
            <a:ext cx="4564080" cy="457200"/>
          </a:xfrm>
          <a:prstGeom prst="rect">
            <a:avLst/>
          </a:prstGeom>
          <a:solidFill>
            <a:srgbClr val="b9e1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Графа 3 должна быть больше любой из граф 4,  5,  6, 7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Rectangle 453"/>
          <p:cNvSpPr/>
          <p:nvPr/>
        </p:nvSpPr>
        <p:spPr>
          <a:xfrm>
            <a:off x="4533840" y="3084480"/>
            <a:ext cx="4496040" cy="685800"/>
          </a:xfrm>
          <a:prstGeom prst="rect">
            <a:avLst/>
          </a:prstGeom>
          <a:solidFill>
            <a:srgbClr val="b9e1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трока 1 может быть больше суммы строк 1.1+1.2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Times New Roman"/>
              </a:rPr>
              <a:t>Разницу пояснить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Rectangle 453"/>
          <p:cNvSpPr/>
          <p:nvPr/>
        </p:nvSpPr>
        <p:spPr>
          <a:xfrm>
            <a:off x="4533840" y="3965400"/>
            <a:ext cx="4496040" cy="486000"/>
          </a:xfrm>
          <a:prstGeom prst="rect">
            <a:avLst/>
          </a:prstGeom>
          <a:solidFill>
            <a:srgbClr val="b9e1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трока 3 = строкам 3.1+3.2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Times New Roman"/>
              </a:rPr>
              <a:t>Разницу пояснить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Rectangle 453"/>
          <p:cNvSpPr/>
          <p:nvPr/>
        </p:nvSpPr>
        <p:spPr>
          <a:xfrm>
            <a:off x="4495680" y="4649760"/>
            <a:ext cx="4496040" cy="485640"/>
          </a:xfrm>
          <a:prstGeom prst="rect">
            <a:avLst/>
          </a:prstGeom>
          <a:solidFill>
            <a:srgbClr val="b9e1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трока 4 = строкам 4.1+4.2+4.3+4.4+4.5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Times New Roman"/>
              </a:rPr>
              <a:t>Разницу пояснить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Rectangle 453"/>
          <p:cNvSpPr/>
          <p:nvPr/>
        </p:nvSpPr>
        <p:spPr>
          <a:xfrm>
            <a:off x="4586400" y="5533920"/>
            <a:ext cx="4495680" cy="486000"/>
          </a:xfrm>
          <a:prstGeom prst="rect">
            <a:avLst/>
          </a:prstGeom>
          <a:solidFill>
            <a:srgbClr val="b9e1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трока 5 = строкам 5.1+5.2+5.3+5.4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Times New Roman"/>
              </a:rPr>
              <a:t>Разницу пояснить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Rectangle 605"/>
          <p:cNvSpPr/>
          <p:nvPr/>
        </p:nvSpPr>
        <p:spPr>
          <a:xfrm>
            <a:off x="228600" y="152280"/>
            <a:ext cx="8686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7. Аппараты и оборудование отделений (кабинетов) лучевой терапии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object 5"/>
          <p:cNvSpPr/>
          <p:nvPr/>
        </p:nvSpPr>
        <p:spPr>
          <a:xfrm>
            <a:off x="804960" y="179280"/>
            <a:ext cx="76438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119 «Магнитно-резонансные томографии»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5" name=""/>
          <p:cNvGraphicFramePr/>
          <p:nvPr/>
        </p:nvGraphicFramePr>
        <p:xfrm>
          <a:off x="1077840" y="960480"/>
          <a:ext cx="7371000" cy="5173560"/>
        </p:xfrm>
        <a:graphic>
          <a:graphicData uri="http://schemas.openxmlformats.org/drawingml/2006/table">
            <a:tbl>
              <a:tblPr/>
              <a:tblGrid>
                <a:gridCol w="3154320"/>
                <a:gridCol w="482760"/>
                <a:gridCol w="547560"/>
                <a:gridCol w="1225800"/>
                <a:gridCol w="1145880"/>
                <a:gridCol w="814680"/>
              </a:tblGrid>
              <a:tr h="189000">
                <a:tc rowSpan="2">
                  <a:txBody>
                    <a:bodyPr lIns="35640" rIns="35640" tIns="792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исследований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792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792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5640" rIns="35640" tIns="792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внутривенным  контрастированием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640" rIns="35640" tIns="792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 3 выполнено: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62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792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одразделениях, оказывающих медицинскую помощь в амбулаторных условиях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792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условиях дневного стационара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">
                <a:tc>
                  <a:txBody>
                    <a:bodyPr lIns="35640" rIns="35640" tIns="792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792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792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792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792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792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">
                <a:tc>
                  <a:txBody>
                    <a:bodyPr lIns="35640" rIns="35640" tIns="792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выполнено МРТ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792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792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792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792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792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35640" rIns="35640" tIns="792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дца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792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792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792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792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792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">
                <a:tc>
                  <a:txBody>
                    <a:bodyPr lIns="35640" rIns="35640" tIns="7920" bIns="0" anchor="t">
                      <a:noAutofit/>
                    </a:bodyPr>
                    <a:p>
                      <a:pPr marL="10944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гких и средостения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792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792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792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792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792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35640" rIns="35640" tIns="7920" bIns="0" anchor="t">
                      <a:noAutofit/>
                    </a:bodyPr>
                    <a:p>
                      <a:pPr marL="10944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ов брюшной полости и забрюшинного пространства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792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792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792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792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792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">
                <a:tc>
                  <a:txBody>
                    <a:bodyPr lIns="35640" rIns="35640" tIns="7920" bIns="0" anchor="t">
                      <a:noAutofit/>
                    </a:bodyPr>
                    <a:p>
                      <a:pPr marL="10944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ов малого таза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792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792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792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792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792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560">
                <a:tc>
                  <a:txBody>
                    <a:bodyPr lIns="35640" rIns="35640" tIns="7920" bIns="0" anchor="t">
                      <a:noAutofit/>
                    </a:bodyPr>
                    <a:p>
                      <a:pPr marL="10944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очной железы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792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792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792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792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792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">
                <a:tc>
                  <a:txBody>
                    <a:bodyPr lIns="35640" rIns="35640" tIns="7920" bIns="0" anchor="t">
                      <a:noAutofit/>
                    </a:bodyPr>
                    <a:p>
                      <a:pPr marL="10944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ловного мозга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792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792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792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792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792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">
                <a:tc>
                  <a:txBody>
                    <a:bodyPr lIns="35640" rIns="35640" tIns="7920" bIns="0" anchor="t">
                      <a:noAutofit/>
                    </a:bodyPr>
                    <a:p>
                      <a:pPr marL="10944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воночника и спинного мозга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792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792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792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792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792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">
                <a:tc>
                  <a:txBody>
                    <a:bodyPr lIns="35640" rIns="35640" tIns="7920" bIns="0" anchor="t">
                      <a:noAutofit/>
                    </a:bodyPr>
                    <a:p>
                      <a:pPr marL="10944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шейного отдела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792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1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792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792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792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792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560">
                <a:tc>
                  <a:txBody>
                    <a:bodyPr lIns="35640" rIns="35640" tIns="7920" bIns="0" anchor="t">
                      <a:noAutofit/>
                    </a:bodyPr>
                    <a:p>
                      <a:pPr marL="10944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дного отдела   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792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2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792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792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792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792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">
                <a:tc>
                  <a:txBody>
                    <a:bodyPr lIns="35640" rIns="35640" tIns="7920" bIns="0" anchor="t">
                      <a:noAutofit/>
                    </a:bodyPr>
                    <a:p>
                      <a:pPr marL="10944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яснично-крестцового отдела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792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3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792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792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792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792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">
                <a:tc>
                  <a:txBody>
                    <a:bodyPr lIns="35640" rIns="35640" tIns="7920" bIns="0" anchor="t">
                      <a:noAutofit/>
                    </a:bodyPr>
                    <a:p>
                      <a:pPr marL="10944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и “голова-шея”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792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792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792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792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792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560">
                <a:tc>
                  <a:txBody>
                    <a:bodyPr lIns="35640" rIns="35640" tIns="7920" bIns="0" anchor="t">
                      <a:noAutofit/>
                    </a:bodyPr>
                    <a:p>
                      <a:pPr marL="10944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стей, суставов и мягких тканей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792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792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792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792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792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">
                <a:tc>
                  <a:txBody>
                    <a:bodyPr lIns="35640" rIns="35640" tIns="7920" bIns="0" anchor="t">
                      <a:noAutofit/>
                    </a:bodyPr>
                    <a:p>
                      <a:pPr marL="10944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удов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792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792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792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792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792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560">
                <a:tc>
                  <a:txBody>
                    <a:bodyPr lIns="35640" rIns="35640" tIns="792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х органов и систем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792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792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792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792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792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35640" rIns="35640" tIns="792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венционные вмешательства под МРТ – контролем (из стр.1)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792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792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792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792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792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6" name="Rectangle 453"/>
          <p:cNvSpPr/>
          <p:nvPr/>
        </p:nvSpPr>
        <p:spPr>
          <a:xfrm>
            <a:off x="4710240" y="3986280"/>
            <a:ext cx="3738600" cy="931680"/>
          </a:xfrm>
          <a:prstGeom prst="rect">
            <a:avLst/>
          </a:prstGeom>
          <a:solidFill>
            <a:srgbClr val="d0e5eb"/>
          </a:solidFill>
          <a:ln w="9360">
            <a:solidFill>
              <a:srgbClr val="c84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Графа 3 больше суммы граф 5 + 6 за счет исследований, выполненных пациентам, получавших медицинскую помощь в стационарных условиях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Rectangle 453"/>
          <p:cNvSpPr/>
          <p:nvPr/>
        </p:nvSpPr>
        <p:spPr>
          <a:xfrm>
            <a:off x="4710240" y="2610000"/>
            <a:ext cx="3738600" cy="931680"/>
          </a:xfrm>
          <a:prstGeom prst="rect">
            <a:avLst/>
          </a:prstGeom>
          <a:solidFill>
            <a:srgbClr val="d0e5eb"/>
          </a:solidFill>
          <a:ln w="9360">
            <a:solidFill>
              <a:srgbClr val="c84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трока 1 должна быть равна сумме строк со 2 по 12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трока 8 = 8.1+8.2+8.3 по всем графам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Прямоугольник 4"/>
          <p:cNvSpPr/>
          <p:nvPr/>
        </p:nvSpPr>
        <p:spPr>
          <a:xfrm>
            <a:off x="896760" y="-27000"/>
            <a:ext cx="1319400" cy="14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38D4C-75A0-42D5-ACF8-C8CB48489D83}" type="slidenum">
              <a:rPr b="0" lang="ru-RU" sz="14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Rectangle 2"/>
          <p:cNvSpPr/>
          <p:nvPr/>
        </p:nvSpPr>
        <p:spPr>
          <a:xfrm>
            <a:off x="243000" y="112680"/>
            <a:ext cx="8638920" cy="781200"/>
          </a:xfrm>
          <a:prstGeom prst="rect">
            <a:avLst/>
          </a:prstGeom>
          <a:solidFill>
            <a:srgbClr val="d0e5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43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Деятельность эндоскопических отделений (кабинетов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Заголовок 1"/>
          <p:cNvSpPr/>
          <p:nvPr/>
        </p:nvSpPr>
        <p:spPr>
          <a:xfrm>
            <a:off x="138240" y="530280"/>
            <a:ext cx="18874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5125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3" name=""/>
          <p:cNvGraphicFramePr/>
          <p:nvPr/>
        </p:nvGraphicFramePr>
        <p:xfrm>
          <a:off x="415800" y="1030320"/>
          <a:ext cx="8728200" cy="5727600"/>
        </p:xfrm>
        <a:graphic>
          <a:graphicData uri="http://schemas.openxmlformats.org/drawingml/2006/table">
            <a:tbl>
              <a:tblPr/>
              <a:tblGrid>
                <a:gridCol w="2238480"/>
                <a:gridCol w="372960"/>
                <a:gridCol w="500040"/>
                <a:gridCol w="1084320"/>
                <a:gridCol w="662040"/>
                <a:gridCol w="662040"/>
                <a:gridCol w="739800"/>
                <a:gridCol w="739800"/>
                <a:gridCol w="904680"/>
                <a:gridCol w="824040"/>
              </a:tblGrid>
              <a:tr h="420120">
                <a:tc rowSpan="2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зофагогастро-дуоденоскопий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оно-скопий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нхо-скопий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тосигмо-идоскопий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сти-носкопий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ео-капсульных исследований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рочи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320"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ндоскопические лечебные манипуляции –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880"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одразделениях,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42480" rIns="424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условиях  ДС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ных под анестезией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42480" rIns="42480" tIns="0" bIns="0" anchor="t">
                      <a:noAutofit/>
                    </a:bodyPr>
                    <a:p>
                      <a:pPr marL="108000" indent="-17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аление доброкачественны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8000" indent="-17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й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42480" rIns="42480" tIns="0" bIns="0" anchor="t">
                      <a:noAutofit/>
                    </a:bodyPr>
                    <a:p>
                      <a:pPr marL="108000" indent="71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8000" indent="71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секцией в подслизистом сло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42480" rIns="42480" tIns="0" bIns="0" anchor="t">
                      <a:noAutofit/>
                    </a:bodyPr>
                    <a:p>
                      <a:pPr marL="108000" indent="-17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аление инородных тел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42480" rIns="42480" tIns="0" bIns="0" anchor="t">
                      <a:noAutofit/>
                    </a:bodyPr>
                    <a:p>
                      <a:pPr marL="108000" indent="-17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онная дилатация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42480" rIns="42480" tIns="0" bIns="0" anchor="t">
                      <a:noAutofit/>
                    </a:bodyPr>
                    <a:p>
                      <a:pPr marL="108000" indent="-17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нтирование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42480" rIns="42480" tIns="0" bIns="0" anchor="t">
                      <a:noAutofit/>
                    </a:bodyPr>
                    <a:p>
                      <a:pPr marL="108000" indent="-17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ановка кровотечений,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42480" rIns="42480" tIns="0" bIns="0" anchor="t">
                      <a:noAutofit/>
                    </a:bodyPr>
                    <a:p>
                      <a:pPr marL="108000" indent="88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экстренным показаниям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рименением клипс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4" name="Rectangle 453"/>
          <p:cNvSpPr/>
          <p:nvPr/>
        </p:nvSpPr>
        <p:spPr>
          <a:xfrm>
            <a:off x="3205080" y="2637000"/>
            <a:ext cx="5410440" cy="576000"/>
          </a:xfrm>
          <a:prstGeom prst="rect">
            <a:avLst/>
          </a:prstGeom>
          <a:solidFill>
            <a:srgbClr val="d0e5eb"/>
          </a:solidFill>
          <a:ln w="9360">
            <a:solidFill>
              <a:srgbClr val="c84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8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е или равна сумме строк 9 и 10 по всем графам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Rectangle 453"/>
          <p:cNvSpPr/>
          <p:nvPr/>
        </p:nvSpPr>
        <p:spPr>
          <a:xfrm>
            <a:off x="3581280" y="3505320"/>
            <a:ext cx="3654720" cy="1414440"/>
          </a:xfrm>
          <a:prstGeom prst="rect">
            <a:avLst/>
          </a:prstGeom>
          <a:solidFill>
            <a:srgbClr val="dfed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графе 10 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прочие)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отнести: лапароскопии, цистоскопии, ларингоскопии, уретроскопии, гистероскопии и т.д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Скругленная прямоугольная выноска 10"/>
          <p:cNvSpPr/>
          <p:nvPr/>
        </p:nvSpPr>
        <p:spPr>
          <a:xfrm>
            <a:off x="3657600" y="5257800"/>
            <a:ext cx="1828800" cy="1447920"/>
          </a:xfrm>
          <a:prstGeom prst="wedgeRoundRectCallout">
            <a:avLst>
              <a:gd name="adj1" fmla="val 133439"/>
              <a:gd name="adj2" fmla="val 23620"/>
              <a:gd name="adj3" fmla="val 16667"/>
            </a:avLst>
          </a:prstGeom>
          <a:solidFill>
            <a:srgbClr val="5bff21">
              <a:alpha val="8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данных необходимо предоставить пояснения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598320" y="1223640"/>
            <a:ext cx="7772400" cy="136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БЛИЦА 2100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ПОЛНЯЕТСЯ НА ОСНОВАНИИ СВЕДЕНИЙ, СОДЕРЖАЩИХСЯ В «ТАЛОНЕ ПАЦИЕНТА, ПОЛУЧАЮЩЕГО МЕДИЦИНСКУЮ ПОМОЩЬ В АМБУЛАТОРНЫХ УСЛОВИЯХ»  (Ф.№ 025-1/У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501480" y="2409840"/>
            <a:ext cx="7958160" cy="378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ещения учитываются только при наличии соответствующей записи в медицинской карте пациента, получающего медицинскую помощь в амбулаторных услов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троке 1.1 «врачи амбулаторий» указывается суммарное число посещений по всем должностям, включенное в штатное расписание врачебной амбулатории и ведущих амбулаторный врачебный пр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троках с 88 «стоматологи» по 92 «стоматологи-хирурги» указывают сведения о числе посещений к врачам-стоматологам, включая врачей-стоматологов передвижных установок и кабинетов в образовательных организациях, а также в санаторно-курортных организациях и в организациях, оказывающих медицинскую помощь только в стационарных условиях (психиатрические больницы и т.д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Прямоугольник 4"/>
          <p:cNvSpPr/>
          <p:nvPr/>
        </p:nvSpPr>
        <p:spPr>
          <a:xfrm>
            <a:off x="896760" y="-27000"/>
            <a:ext cx="1319400" cy="14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0C14-3522-4960-8440-CBCD693DCAC2}" type="slidenum">
              <a:rPr b="0" lang="ru-RU" sz="14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Rectangle 2"/>
          <p:cNvSpPr/>
          <p:nvPr/>
        </p:nvSpPr>
        <p:spPr>
          <a:xfrm>
            <a:off x="243000" y="112680"/>
            <a:ext cx="8638920" cy="781200"/>
          </a:xfrm>
          <a:prstGeom prst="rect">
            <a:avLst/>
          </a:prstGeom>
          <a:solidFill>
            <a:srgbClr val="dfed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229600" cy="45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Аппараты и оборудование эндоскопических отделений (кабинетов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Заголовок 1"/>
          <p:cNvSpPr/>
          <p:nvPr/>
        </p:nvSpPr>
        <p:spPr>
          <a:xfrm>
            <a:off x="324000" y="549360"/>
            <a:ext cx="158400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2000"/>
          </a:bodyPr>
          <a:p>
            <a:pPr marL="519480" indent="-51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5126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2" name=""/>
          <p:cNvGraphicFramePr/>
          <p:nvPr/>
        </p:nvGraphicFramePr>
        <p:xfrm>
          <a:off x="468360" y="828720"/>
          <a:ext cx="8567640" cy="5540400"/>
        </p:xfrm>
        <a:graphic>
          <a:graphicData uri="http://schemas.openxmlformats.org/drawingml/2006/table">
            <a:tbl>
              <a:tblPr/>
              <a:tblGrid>
                <a:gridCol w="2935080"/>
                <a:gridCol w="525600"/>
                <a:gridCol w="781200"/>
                <a:gridCol w="1036440"/>
                <a:gridCol w="897120"/>
                <a:gridCol w="796680"/>
                <a:gridCol w="798480"/>
                <a:gridCol w="797040"/>
              </a:tblGrid>
              <a:tr h="280800">
                <a:tc row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-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аппаратов и оборудования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одразделениях, оказывающих медицинскую помощь 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ующи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 сроком 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плуатации до 3 лет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 сроком 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плуатации от 4 до 7 лет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 сроком 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плуатации свыше 7 лет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бкие эндоскопы для верхних отделов желудочно-кишечного тракта, всего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идеогастроскоп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уоденоскоп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стиноскоп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бкие эндоскопы для нижних отделов желудочно-кишечного тракта, всего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32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видеоколоноскоп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гмоидоскоп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гидные ректороманоскопы (осветител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гидные ректороманоскопы (тубусы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45720" rIns="45720" tIns="0" bIns="0" anchor="t">
                      <a:noAutofit/>
                    </a:bodyPr>
                    <a:p>
                      <a:pPr marL="205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пароскоп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45720" rIns="45720" tIns="0" bIns="0" anchor="t">
                      <a:noAutofit/>
                    </a:bodyPr>
                    <a:p>
                      <a:pPr marL="205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афы специализированные для сушки и хранения эндоскопов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3" name="Rectangle 453"/>
          <p:cNvSpPr/>
          <p:nvPr/>
        </p:nvSpPr>
        <p:spPr>
          <a:xfrm>
            <a:off x="3792600" y="3060720"/>
            <a:ext cx="4825800" cy="568440"/>
          </a:xfrm>
          <a:prstGeom prst="rect">
            <a:avLst/>
          </a:prstGeom>
          <a:solidFill>
            <a:srgbClr val="dfedf2"/>
          </a:solidFill>
          <a:ln w="9360">
            <a:solidFill>
              <a:srgbClr val="c84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а 3 равна сумме граф 6+7+8 по всем строкам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Rectangle 453"/>
          <p:cNvSpPr/>
          <p:nvPr/>
        </p:nvSpPr>
        <p:spPr>
          <a:xfrm>
            <a:off x="4013280" y="3727440"/>
            <a:ext cx="4383000" cy="568440"/>
          </a:xfrm>
          <a:prstGeom prst="rect">
            <a:avLst/>
          </a:prstGeom>
          <a:solidFill>
            <a:srgbClr val="dfedf2"/>
          </a:solidFill>
          <a:ln w="9360">
            <a:solidFill>
              <a:srgbClr val="c84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ы 4 и 5 (каждая отдельно) меньше или равны графе 3 по всем строкам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Rectangle 453"/>
          <p:cNvSpPr/>
          <p:nvPr/>
        </p:nvSpPr>
        <p:spPr>
          <a:xfrm>
            <a:off x="4238640" y="4422600"/>
            <a:ext cx="4086360" cy="568440"/>
          </a:xfrm>
          <a:prstGeom prst="rect">
            <a:avLst/>
          </a:prstGeom>
          <a:solidFill>
            <a:srgbClr val="dfedf2"/>
          </a:solidFill>
          <a:ln w="9360">
            <a:solidFill>
              <a:srgbClr val="c84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 больше или равна сумме строк 1.1+1.2+1.3 по всем графам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Rectangle 453"/>
          <p:cNvSpPr/>
          <p:nvPr/>
        </p:nvSpPr>
        <p:spPr>
          <a:xfrm>
            <a:off x="4211640" y="5070600"/>
            <a:ext cx="4086360" cy="568080"/>
          </a:xfrm>
          <a:prstGeom prst="rect">
            <a:avLst/>
          </a:prstGeom>
          <a:solidFill>
            <a:srgbClr val="dfedf2"/>
          </a:solidFill>
          <a:ln w="9360">
            <a:solidFill>
              <a:srgbClr val="c84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2 больше или равна сумме строк 2.1+2.2 по всем графам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Rectangle 453"/>
          <p:cNvSpPr/>
          <p:nvPr/>
        </p:nvSpPr>
        <p:spPr>
          <a:xfrm>
            <a:off x="4889520" y="6039000"/>
            <a:ext cx="4254480" cy="752400"/>
          </a:xfrm>
          <a:prstGeom prst="rect">
            <a:avLst/>
          </a:prstGeom>
          <a:solidFill>
            <a:srgbClr val="dfed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. 5125  графы со 4 по 10 должны быть согласованы с данными по аппаратам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Rectangle 453"/>
          <p:cNvSpPr/>
          <p:nvPr/>
        </p:nvSpPr>
        <p:spPr>
          <a:xfrm>
            <a:off x="101520" y="6259680"/>
            <a:ext cx="4415040" cy="760320"/>
          </a:xfrm>
          <a:prstGeom prst="rect">
            <a:avLst/>
          </a:prstGeom>
          <a:solidFill>
            <a:srgbClr val="dfed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Сведения о наличии аппаратов и оборудования указываются по состоянию на 31.12 отчетного года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Скругленная прямоугольная выноска 15"/>
          <p:cNvSpPr/>
          <p:nvPr/>
        </p:nvSpPr>
        <p:spPr>
          <a:xfrm>
            <a:off x="7383600" y="1182600"/>
            <a:ext cx="1828800" cy="1447920"/>
          </a:xfrm>
          <a:prstGeom prst="wedgeRoundRectCallout">
            <a:avLst>
              <a:gd name="adj1" fmla="val -168226"/>
              <a:gd name="adj2" fmla="val 270564"/>
              <a:gd name="adj3" fmla="val 16667"/>
            </a:avLst>
          </a:prstGeom>
          <a:solidFill>
            <a:srgbClr val="5bff21">
              <a:alpha val="8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данных необходимо предоставить пояснения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2"/>
          <p:cNvSpPr/>
          <p:nvPr/>
        </p:nvSpPr>
        <p:spPr>
          <a:xfrm>
            <a:off x="243000" y="112680"/>
            <a:ext cx="8638920" cy="781200"/>
          </a:xfrm>
          <a:prstGeom prst="rect">
            <a:avLst/>
          </a:prstGeom>
          <a:solidFill>
            <a:srgbClr val="dfed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243000" y="512280"/>
            <a:ext cx="17524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 5401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Rectangle 605"/>
          <p:cNvSpPr/>
          <p:nvPr/>
        </p:nvSpPr>
        <p:spPr>
          <a:xfrm>
            <a:off x="243000" y="190440"/>
            <a:ext cx="8534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marL="787680" indent="-787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14. Деятельность кабинетов функциональной диагностики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Прямоугольник 4"/>
          <p:cNvSpPr/>
          <p:nvPr/>
        </p:nvSpPr>
        <p:spPr>
          <a:xfrm>
            <a:off x="152280" y="4267080"/>
            <a:ext cx="88394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Таблица заполняется  на основании сведений, указанных в журнале регистрации исследований, выполненных в отделении (кабинете) функциональной диагностики (ф. 157/у-93 приказ МЗ России от 30.11.93 № 283)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Не забывайте заполнять следующие строки: т.5404 Оснащение аппаратурой и оборудованием стр.28 (пульсооксиметры), соответственно заполнить т. 5402 Методы функциональной диагностики стр.30 (пульсоосксиметрия) и т. 5401 Деятельность кабинетов функциональной диагностики по стр.9 системы внешнего дыхания, стр.4 сделано исследований, стр.1 число обследованных лиц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5" name=""/>
          <p:cNvGraphicFramePr/>
          <p:nvPr/>
        </p:nvGraphicFramePr>
        <p:xfrm>
          <a:off x="228600" y="1066680"/>
          <a:ext cx="8763120" cy="3144960"/>
        </p:xfrm>
        <a:graphic>
          <a:graphicData uri="http://schemas.openxmlformats.org/drawingml/2006/table">
            <a:tbl>
              <a:tblPr/>
              <a:tblGrid>
                <a:gridCol w="3505320"/>
                <a:gridCol w="761760"/>
                <a:gridCol w="1295640"/>
                <a:gridCol w="1752480"/>
                <a:gridCol w="1447920"/>
              </a:tblGrid>
              <a:tr h="182880">
                <a:tc row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аименование показателей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трок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з ни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 поликлинике, амбулатор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 дневном стационар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Число обследованных лиц -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з них (стр.01): детей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лиц старше трудоспособного возраста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делано исследований -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з них (стр.04): детям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2286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лицам старше трудоспособного возраста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28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делано исследований (из стр.04):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2286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ердечно-сосудистой систем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28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0680">
                <a:tc>
                  <a:txBody>
                    <a:bodyPr lIns="2286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ервной систем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28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2286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истемы внешнего дыхания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28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520">
                <a:tc>
                  <a:txBody>
                    <a:bodyPr lIns="2286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ругих систем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28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6" name="Rectangle 453"/>
          <p:cNvSpPr/>
          <p:nvPr/>
        </p:nvSpPr>
        <p:spPr>
          <a:xfrm>
            <a:off x="4572000" y="1905120"/>
            <a:ext cx="4419720" cy="914400"/>
          </a:xfrm>
          <a:prstGeom prst="rect">
            <a:avLst/>
          </a:prstGeom>
          <a:solidFill>
            <a:srgbClr val="c4b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а 3 может быть больше суммы граф 4+5 за счет исследований, выполненных пациентам, получавших медицинскую помощь в стационарных условиях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Rectangle 453"/>
          <p:cNvSpPr/>
          <p:nvPr/>
        </p:nvSpPr>
        <p:spPr>
          <a:xfrm>
            <a:off x="4572000" y="2971800"/>
            <a:ext cx="4419720" cy="914400"/>
          </a:xfrm>
          <a:prstGeom prst="rect">
            <a:avLst/>
          </a:prstGeom>
          <a:solidFill>
            <a:srgbClr val="c4b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Числу исследований (строка 07) соответствует графа 3 журнала регистрации без перевода в условные единицы, т.е. учету подлежит весь метод исследования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Прямоугольник 4"/>
          <p:cNvSpPr/>
          <p:nvPr/>
        </p:nvSpPr>
        <p:spPr>
          <a:xfrm>
            <a:off x="896760" y="-27000"/>
            <a:ext cx="1319400" cy="14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Скругленная прямоугольная выноска 12"/>
          <p:cNvSpPr/>
          <p:nvPr/>
        </p:nvSpPr>
        <p:spPr>
          <a:xfrm>
            <a:off x="6388200" y="1147680"/>
            <a:ext cx="2493720" cy="3318120"/>
          </a:xfrm>
          <a:prstGeom prst="wedgeRoundRectCallout">
            <a:avLst>
              <a:gd name="adj1" fmla="val -265435"/>
              <a:gd name="adj2" fmla="val 47324"/>
              <a:gd name="adj3" fmla="val 16667"/>
            </a:avLst>
          </a:prstGeom>
          <a:solidFill>
            <a:srgbClr val="5bff21">
              <a:alpha val="8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Rectangle 2"/>
          <p:cNvSpPr/>
          <p:nvPr/>
        </p:nvSpPr>
        <p:spPr>
          <a:xfrm>
            <a:off x="243000" y="112680"/>
            <a:ext cx="8638920" cy="781200"/>
          </a:xfrm>
          <a:prstGeom prst="rect">
            <a:avLst/>
          </a:prstGeom>
          <a:solidFill>
            <a:srgbClr val="dfed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-360" y="522360"/>
            <a:ext cx="2322360" cy="38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 5402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Rectangle 605"/>
          <p:cNvSpPr/>
          <p:nvPr/>
        </p:nvSpPr>
        <p:spPr>
          <a:xfrm>
            <a:off x="1579680" y="231840"/>
            <a:ext cx="5976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marL="787680" indent="-787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15. Методы функциональной диагностики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4" name=""/>
          <p:cNvGraphicFramePr/>
          <p:nvPr/>
        </p:nvGraphicFramePr>
        <p:xfrm>
          <a:off x="444600" y="990720"/>
          <a:ext cx="8229600" cy="4408200"/>
        </p:xfrm>
        <a:graphic>
          <a:graphicData uri="http://schemas.openxmlformats.org/drawingml/2006/table">
            <a:tbl>
              <a:tblPr/>
              <a:tblGrid>
                <a:gridCol w="5045040"/>
                <a:gridCol w="1050840"/>
                <a:gridCol w="2133720"/>
              </a:tblGrid>
              <a:tr h="218880">
                <a:tc row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Методы исследования систем организма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№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Числ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2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трок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сследований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ЭКГ (из стр.07 т. 5401)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з них: с компьютерным анализом дан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Число ЭКГ в ДДК  (из п. 1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тресс-ЭКГ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.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ЧПЭС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Холтеровское мониторирование (ХМ) ЭКГ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М АД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оликардиография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сследование центральной гемодинамик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.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з них: методом реограф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.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сследование перифирического кровообращения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.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з них: реовазография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.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Другие</a:t>
                      </a: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методы исследования сердечно-сосудистой системы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3.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..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.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сследования моторики органов желудочно-кишечного тракта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сследование запирательного аппарата прямой кишк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рочие методы исследования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5" name="Прямоугольник 4"/>
          <p:cNvSpPr/>
          <p:nvPr/>
        </p:nvSpPr>
        <p:spPr>
          <a:xfrm>
            <a:off x="896760" y="-27000"/>
            <a:ext cx="1319400" cy="14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AutoShape 3"/>
          <p:cNvSpPr/>
          <p:nvPr/>
        </p:nvSpPr>
        <p:spPr>
          <a:xfrm flipH="1">
            <a:off x="-720" y="5189400"/>
            <a:ext cx="4932360" cy="1687680"/>
          </a:xfrm>
          <a:prstGeom prst="wedgeRoundRectCallout">
            <a:avLst>
              <a:gd name="adj1" fmla="val 3199"/>
              <a:gd name="adj2" fmla="val 20217"/>
              <a:gd name="adj3" fmla="val 16667"/>
            </a:avLst>
          </a:prstGeom>
          <a:solidFill>
            <a:srgbClr val="c4bd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360" rIns="27360" tIns="23040" bIns="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анные совпадают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01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02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трока 7</a:t>
            </a:r>
            <a:r>
              <a:rPr b="1" i="1" lang="ru-RU" sz="16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+4+5+6+7+8+9+11+</a:t>
            </a:r>
            <a:r>
              <a:rPr b="1" i="1" lang="ru-RU" sz="16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13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трока 9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и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1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30+</a:t>
            </a:r>
            <a:r>
              <a:rPr b="1" i="1" lang="ru-RU" sz="16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31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трока 10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и 32+33+</a:t>
            </a:r>
            <a:r>
              <a:rPr b="1" i="1" lang="ru-RU" sz="16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34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Скругленная прямоугольная выноска 10"/>
          <p:cNvSpPr/>
          <p:nvPr/>
        </p:nvSpPr>
        <p:spPr>
          <a:xfrm>
            <a:off x="6372360" y="1117440"/>
            <a:ext cx="2608200" cy="3819600"/>
          </a:xfrm>
          <a:prstGeom prst="wedgeRoundRectCallout">
            <a:avLst>
              <a:gd name="adj1" fmla="val -255703"/>
              <a:gd name="adj2" fmla="val 78773"/>
              <a:gd name="adj3" fmla="val 16667"/>
            </a:avLst>
          </a:prstGeom>
          <a:solidFill>
            <a:srgbClr val="5bff21">
              <a:alpha val="8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ным цветом выделены строки, в которых есть расшифровка 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ДРУГИЕ методы исследований»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 по строкам 7, 9 и 10 таблицы 5401 количество  исследований должно строго совпадать данными из таблицы 5402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AutoShape 3"/>
          <p:cNvSpPr/>
          <p:nvPr/>
        </p:nvSpPr>
        <p:spPr>
          <a:xfrm flipH="1">
            <a:off x="5076720" y="5589720"/>
            <a:ext cx="3903840" cy="1036440"/>
          </a:xfrm>
          <a:prstGeom prst="wedgeRoundRectCallout">
            <a:avLst>
              <a:gd name="adj1" fmla="val 3199"/>
              <a:gd name="adj2" fmla="val 20217"/>
              <a:gd name="adj3" fmla="val 16667"/>
            </a:avLst>
          </a:prstGeom>
          <a:solidFill>
            <a:srgbClr val="c4bd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360" rIns="27360" tIns="2304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устимы расхождения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01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02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8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и 14, 16, 17, 19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852480" y="1187280"/>
            <a:ext cx="8050320" cy="193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124 Деятельность дистанционно-диагностических кабинетов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у таблицу заполняют медицинские организации,  кто дает расшифровку электрокардиологических исследований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 т. 5402 по строке 3 графы 3 данные медицинских организаций, передающих исследования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0" name=""/>
          <p:cNvGraphicFramePr/>
          <p:nvPr/>
        </p:nvGraphicFramePr>
        <p:xfrm>
          <a:off x="1511280" y="3565440"/>
          <a:ext cx="6121440" cy="1235160"/>
        </p:xfrm>
        <a:graphic>
          <a:graphicData uri="http://schemas.openxmlformats.org/drawingml/2006/table">
            <a:tbl>
              <a:tblPr/>
              <a:tblGrid>
                <a:gridCol w="4711680"/>
                <a:gridCol w="393840"/>
                <a:gridCol w="1015920"/>
              </a:tblGrid>
              <a:tr h="9223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дистанционно-диагностических кабинетов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роведенных ЭКГ-исследований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Rectangle 2"/>
          <p:cNvSpPr/>
          <p:nvPr/>
        </p:nvSpPr>
        <p:spPr>
          <a:xfrm>
            <a:off x="243000" y="112680"/>
            <a:ext cx="8638920" cy="781200"/>
          </a:xfrm>
          <a:prstGeom prst="rect">
            <a:avLst/>
          </a:prstGeom>
          <a:solidFill>
            <a:srgbClr val="dfed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298080" y="457200"/>
            <a:ext cx="2095560" cy="38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 5404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Rectangle 605"/>
          <p:cNvSpPr/>
          <p:nvPr/>
        </p:nvSpPr>
        <p:spPr>
          <a:xfrm>
            <a:off x="304920" y="190440"/>
            <a:ext cx="8534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marL="787680" indent="-787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16. Оснащение аппаратурой и оборудованием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5" name=""/>
          <p:cNvGraphicFramePr/>
          <p:nvPr/>
        </p:nvGraphicFramePr>
        <p:xfrm>
          <a:off x="449280" y="806400"/>
          <a:ext cx="8305920" cy="6051600"/>
        </p:xfrm>
        <a:graphic>
          <a:graphicData uri="http://schemas.openxmlformats.org/drawingml/2006/table">
            <a:tbl>
              <a:tblPr/>
              <a:tblGrid>
                <a:gridCol w="4762440"/>
                <a:gridCol w="646200"/>
                <a:gridCol w="1452600"/>
                <a:gridCol w="1444680"/>
              </a:tblGrid>
              <a:tr h="3366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аппаратов и оборудования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ок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о единиц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в отделениях анестезиологии-реанимац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ппаратурное оснащение (указать к-во): электрокардиографы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плексы для дозированной физической нагрузк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31840">
                <a:tc>
                  <a:txBody>
                    <a:bodyPr lIns="68760" rIns="68760" tIns="0" bIns="0" anchor="t">
                      <a:noAutofit/>
                    </a:bodyPr>
                    <a:p>
                      <a:pPr marL="79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велоэргометры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31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ппарат для ИВЛ, всег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транспортные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я неинвазивной вентиляц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ппараты для наркоза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ниторы глубины анестез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ниторы пациента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транспортные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льтигазмониторы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фибрилляторы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ппараты ультразвуковой навигац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прицевые помпы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фузионные насосы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е количество единиц аппаратуры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в эксплуатации до 3-х лет включительн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6" name="AutoShape 1"/>
          <p:cNvSpPr/>
          <p:nvPr/>
        </p:nvSpPr>
        <p:spPr>
          <a:xfrm>
            <a:off x="5867280" y="4648320"/>
            <a:ext cx="2895840" cy="1719000"/>
          </a:xfrm>
          <a:prstGeom prst="wedgeRoundRectCallout">
            <a:avLst>
              <a:gd name="adj1" fmla="val -45504"/>
              <a:gd name="adj2" fmla="val -16819"/>
              <a:gd name="adj3" fmla="val 16667"/>
            </a:avLst>
          </a:prstGeom>
          <a:solidFill>
            <a:srgbClr val="c4bd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360" rIns="27360" tIns="2304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ывается аппаратурное оснащение из числа единиц оборудования, принадлежащих медицинской организации на 31 декабря отчетного года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Скругленная прямоугольная выноска 1"/>
          <p:cNvSpPr/>
          <p:nvPr/>
        </p:nvSpPr>
        <p:spPr>
          <a:xfrm>
            <a:off x="3429000" y="3732120"/>
            <a:ext cx="3124080" cy="763560"/>
          </a:xfrm>
          <a:prstGeom prst="wedgeRoundRectCallout">
            <a:avLst>
              <a:gd name="adj1" fmla="val 72912"/>
              <a:gd name="adj2" fmla="val -137662"/>
              <a:gd name="adj3" fmla="val 16667"/>
            </a:avLst>
          </a:prstGeom>
          <a:solidFill>
            <a:srgbClr val="5bff21">
              <a:alpha val="8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данных необходимо предоставить пояснение 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Прямоугольник 4"/>
          <p:cNvSpPr/>
          <p:nvPr/>
        </p:nvSpPr>
        <p:spPr>
          <a:xfrm>
            <a:off x="896760" y="-27000"/>
            <a:ext cx="1319400" cy="14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/>
          </p:nvPr>
        </p:nvSpPr>
        <p:spPr>
          <a:xfrm>
            <a:off x="722160" y="2300040"/>
            <a:ext cx="7772400" cy="146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оловина Наталья Михайлов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ведующая отделом врач- статист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.т. 8(3842) 680502, доб. 408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лектронный адрес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dstat@kuzdrav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527040" y="1090440"/>
            <a:ext cx="7897680" cy="14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ДОЛЖЕНИ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518760" y="1696680"/>
            <a:ext cx="8002440" cy="34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троке 125 « из общего числа посещений (стр.1) в отделениях, кабинетах, пунктах неотложной медицинской помощи (при наличии его в структуре поликлиники медицинской организации), а также при оказании неотложной медицинской помощи на д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троке 125, 126 и 127 указанные посещения расписываются по соответствующим должностям в строках 1-124 и включаются в строку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троке 129 «Кроме того,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медицински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сихологи» указывается деятельность медицинских психологов в медицинской организации. В общее количество посещений в таблицу 2100 не включа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670572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2100. Работа врачей медицинской организации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амбулаторных условиях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7" name=""/>
          <p:cNvGraphicFramePr/>
          <p:nvPr/>
        </p:nvGraphicFramePr>
        <p:xfrm>
          <a:off x="76320" y="1066680"/>
          <a:ext cx="8839080" cy="5183280"/>
        </p:xfrm>
        <a:graphic>
          <a:graphicData uri="http://schemas.openxmlformats.org/drawingml/2006/table">
            <a:tbl>
              <a:tblPr/>
              <a:tblGrid>
                <a:gridCol w="1379520"/>
                <a:gridCol w="525240"/>
                <a:gridCol w="838440"/>
                <a:gridCol w="609480"/>
                <a:gridCol w="609480"/>
                <a:gridCol w="533520"/>
                <a:gridCol w="609480"/>
                <a:gridCol w="609840"/>
                <a:gridCol w="533160"/>
                <a:gridCol w="685800"/>
                <a:gridCol w="685800"/>
                <a:gridCol w="533520"/>
                <a:gridCol w="685800"/>
              </a:tblGrid>
              <a:tr h="8226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из гр.3) сделано по поводу заболеваний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 врачами на дому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й, включая профилактические - всего 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-ми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ми 18 лет и более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ельских жителей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9: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 12: по поводу заболеваний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 заболеваний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–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аллиативной медицинской помощ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тделениях, кабинетах паллиативной медпомощ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291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291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0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ыездной патронажной службой для оказания паллиативной медицинской помощи на дому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291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291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8" name="Rectangle 1694"/>
          <p:cNvSpPr/>
          <p:nvPr/>
        </p:nvSpPr>
        <p:spPr>
          <a:xfrm>
            <a:off x="2133720" y="3435480"/>
            <a:ext cx="6781680" cy="552240"/>
          </a:xfrm>
          <a:prstGeom prst="rect">
            <a:avLst/>
          </a:prstGeom>
          <a:solidFill>
            <a:srgbClr val="ffd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i="1" lang="ru-RU" sz="1600" spc="-1" strike="noStrike">
                <a:solidFill>
                  <a:srgbClr val="002060"/>
                </a:solidFill>
                <a:latin typeface="Times New Roman"/>
              </a:rPr>
              <a:t>строку 61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«по паллиативной медицинской помощи» включаются посещения только с профилактической целью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Rectangle 1698"/>
          <p:cNvSpPr/>
          <p:nvPr/>
        </p:nvSpPr>
        <p:spPr>
          <a:xfrm>
            <a:off x="2019240" y="4064040"/>
            <a:ext cx="6896160" cy="1839960"/>
          </a:xfrm>
          <a:prstGeom prst="rect">
            <a:avLst/>
          </a:prstGeom>
          <a:solidFill>
            <a:srgbClr val="ffd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року 126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осятся посещения врачей-специалистов, оказывающих паллиативную медицинскую помощь в отделении (кабинете) паллиативной медицинской помощи (при наличии его в структуре поликлиники медицинской организации), а также </a:t>
            </a: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126 строке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 оказании паллиативной медицинской помощи патронажными службами на дому.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сещения указываются только с профилактической целью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AutoShape 17"/>
          <p:cNvSpPr/>
          <p:nvPr/>
        </p:nvSpPr>
        <p:spPr>
          <a:xfrm>
            <a:off x="1398600" y="4535640"/>
            <a:ext cx="557280" cy="1714320"/>
          </a:xfrm>
          <a:custGeom>
            <a:avLst/>
            <a:gdLst>
              <a:gd name="textAreaLeft" fmla="*/ 27000 w 557280"/>
              <a:gd name="textAreaRight" fmla="*/ 530280 w 557280"/>
              <a:gd name="textAreaTop" fmla="*/ 27000 h 1714320"/>
              <a:gd name="textAreaBottom" fmla="*/ 1687320 h 1714320"/>
            </a:gdLst>
            <a:ahLst/>
            <a:rect l="textAreaLeft" t="textAreaTop" r="textAreaRight" b="textAreaBottom"/>
            <a:pathLst>
              <a:path w="21600" h="66418">
                <a:moveTo>
                  <a:pt x="3600" y="0"/>
                </a:moveTo>
                <a:arcTo wR="3600" hR="3600" stAng="16200000" swAng="-5400000"/>
                <a:lnTo>
                  <a:pt x="0" y="62818"/>
                </a:lnTo>
                <a:arcTo wR="3600" hR="3600" stAng="10800000" swAng="-5400000"/>
                <a:lnTo>
                  <a:pt x="18000" y="664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3360">
            <a:solidFill>
              <a:srgbClr val="3f4b71"/>
            </a:solidFill>
            <a:miter/>
          </a:ln>
          <a:effectLst>
            <a:outerShdw dist="17819" dir="2700000" blurRad="0" rotWithShape="0">
              <a:srgbClr val="262d4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1138320" y="631800"/>
            <a:ext cx="670536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2100. Работа врачей медицинской организации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амбулаторных условиях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Rectangle 1698"/>
          <p:cNvSpPr/>
          <p:nvPr/>
        </p:nvSpPr>
        <p:spPr>
          <a:xfrm>
            <a:off x="380880" y="1301760"/>
            <a:ext cx="8382240" cy="5403960"/>
          </a:xfrm>
          <a:prstGeom prst="rect">
            <a:avLst/>
          </a:prstGeom>
          <a:solidFill>
            <a:srgbClr val="ffd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В соответствии с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казом Минздрава РФ от 31.05.2019 №372н «Об утверждении положения об организации оказания паллиативной медицинской помощи, включая порядок взаимодействия медицинских организаций, организаций социального обслуживания и общественных объединений, иных некоммерческих организаций, осуществляющих свою деятельность в сфере охраны»: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аллиативную медицинскую помощь оказываются: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7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фельдшерами,  при условии возложения на них функций лечащего врача и иными медицинскими работниками со средним медицинским образованием фельдшерских здравпунктов, фельдшерско-акушерских пунктов, врачебных амбулаторий, иных медицинских организаций (их структурных подразделений), оказывающих первичную доврачебную медико-санитарную помощь;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7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рачами-терапевтами, врачами терапевтами-участковыми, врачами-педиатрами, врачами-педиатрами участковыми, врачами общей практики (семейными врачами), врачами-специалистами медицинских организаций, оказывающих первичную медико-санитарную помощь, специализированную медицинскую помощь;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7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рачами по паллиативной медицинской помощи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07:17:38Z</dcterms:created>
  <dc:creator>www.themegallery.com</dc:creator>
  <dc:description/>
  <dc:language>en-US</dc:language>
  <cp:lastModifiedBy>Головина Наталья Михайловна</cp:lastModifiedBy>
  <cp:lastPrinted>2024-12-13T07:02:35Z</cp:lastPrinted>
  <dcterms:modified xsi:type="dcterms:W3CDTF">2024-12-13T08:33:12Z</dcterms:modified>
  <cp:revision>1522</cp:revision>
  <dc:subject/>
  <dc:title>ThemeGallery Power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e6b0000000000010242300207f6e001e0013c00</vt:lpwstr>
  </property>
</Properties>
</file>