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4DC8-C505-4986-82A0-A636664B8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3325-6FB2-4242-8157-82401953078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D85-64EE-481E-A135-65955BA1AA6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72FD-BFAD-4A58-9168-94F1E18AE36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1BF3-6680-41B8-9230-668C208758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DA8-B63F-4B07-A503-2F441BEC0EC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9159-49A6-4581-A992-8212DCFC4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F3A9-C026-487E-8CD7-562BA1749E8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62BC-F6E1-4841-ACA1-B3F3AC22D8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FE7-5DD3-4138-ABAB-82CED3173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ABD3-3BF6-45B2-AF13-5404F626CF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2D2-2646-4BBD-AA0C-363AE613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44E-D7C8-4466-8C15-FE0E6CD6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FD3-626C-4350-86E1-D9F243D5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E03-FEC4-499D-BB70-21C5F848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1FB-6BCE-4DAA-9818-2A533AB4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A87-31D4-418C-A5C4-5D23A4D3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B90-A66D-4920-9A43-83C94E94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CC1-67EF-4B64-B145-ADF8C93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8CA-CEED-427F-99D0-F18B3DE8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541-99CE-48B8-9D4B-02C5D1E2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0A5-40BA-4EE3-83B0-1546FD5D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065-F0B7-42A3-8467-36E74CB8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5442-D023-4FA3-9442-67194667A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8537400" y="5440320"/>
            <a:ext cx="2905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446200" y="1440000"/>
            <a:ext cx="824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a@kuzdrav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евская Марина Анатолье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-статист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.т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3842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0502 доб.405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4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5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60160" y="444240"/>
            <a:ext cx="107931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09000  Результаты доабортного консультирования : число женщин обратившихся за направлением в мед. организацию на медицинский аборт легальный должны быть все проконсультированы в Центрах медико-социальной поддерж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3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64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Раевская Марина Анатольевна</cp:lastModifiedBy>
  <cp:lastPrinted>2018-12-10T14:36:03Z</cp:lastPrinted>
  <dcterms:modified xsi:type="dcterms:W3CDTF">2024-12-13T03:35:28Z</dcterms:modified>
  <cp:revision>139</cp:revision>
  <dc:subject/>
  <dc:title>Презентация PowerPoint</dc:title>
</cp:coreProperties>
</file>