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4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</p:sldMasterIdLst>
  <p:sldIdLst>
    <p:sldId id="256" r:id="rId43"/>
    <p:sldId id="257" r:id="rId44"/>
    <p:sldId id="258" r:id="rId45"/>
    <p:sldId id="259" r:id="rId46"/>
    <p:sldId id="260" r:id="rId47"/>
    <p:sldId id="261" r:id="rId48"/>
    <p:sldId id="262" r:id="rId49"/>
    <p:sldId id="263" r:id="rId50"/>
    <p:sldId id="264" r:id="rId51"/>
    <p:sldId id="265" r:id="rId52"/>
    <p:sldId id="266" r:id="rId53"/>
    <p:sldId id="267" r:id="rId54"/>
    <p:sldId id="268" r:id="rId55"/>
    <p:sldId id="269" r:id="rId56"/>
    <p:sldId id="270" r:id="rId57"/>
    <p:sldId id="271" r:id="rId58"/>
    <p:sldId id="272" r:id="rId59"/>
    <p:sldId id="273" r:id="rId60"/>
    <p:sldId id="274" r:id="rId61"/>
    <p:sldId id="275" r:id="rId62"/>
    <p:sldId id="276" r:id="rId63"/>
    <p:sldId id="277" r:id="rId64"/>
    <p:sldId id="278" r:id="rId65"/>
    <p:sldId id="279" r:id="rId66"/>
    <p:sldId id="280" r:id="rId67"/>
    <p:sldId id="281" r:id="rId68"/>
    <p:sldId id="282" r:id="rId69"/>
    <p:sldId id="283" r:id="rId70"/>
    <p:sldId id="284" r:id="rId71"/>
    <p:sldId id="285" r:id="rId72"/>
    <p:sldId id="286" r:id="rId73"/>
    <p:sldId id="287" r:id="rId74"/>
    <p:sldId id="288" r:id="rId75"/>
    <p:sldId id="289" r:id="rId76"/>
    <p:sldId id="290" r:id="rId77"/>
    <p:sldId id="291" r:id="rId78"/>
    <p:sldId id="292" r:id="rId79"/>
    <p:sldId id="293" r:id="rId80"/>
    <p:sldId id="294" r:id="rId81"/>
    <p:sldId id="295" r:id="rId82"/>
    <p:sldId id="296" r:id="rId83"/>
    <p:sldId id="297" r:id="rId84"/>
    <p:sldId id="298" r:id="rId85"/>
    <p:sldId id="299" r:id="rId86"/>
    <p:sldId id="300" r:id="rId87"/>
    <p:sldId id="301" r:id="rId88"/>
    <p:sldId id="302" r:id="rId89"/>
    <p:sldId id="303" r:id="rId90"/>
    <p:sldId id="304" r:id="rId91"/>
    <p:sldId id="305" r:id="rId92"/>
    <p:sldId id="306" r:id="rId93"/>
    <p:sldId id="307" r:id="rId94"/>
    <p:sldId id="308" r:id="rId95"/>
    <p:sldId id="309" r:id="rId96"/>
    <p:sldId id="310" r:id="rId97"/>
    <p:sldId id="311" r:id="rId98"/>
  </p:sldIdLst>
  <p:sldSz cx="12193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" Target="slides/slide1.xml"/><Relationship Id="rId44" Type="http://schemas.openxmlformats.org/officeDocument/2006/relationships/slide" Target="slides/slide2.xml"/><Relationship Id="rId45" Type="http://schemas.openxmlformats.org/officeDocument/2006/relationships/slide" Target="slides/slide3.xml"/><Relationship Id="rId46" Type="http://schemas.openxmlformats.org/officeDocument/2006/relationships/slide" Target="slides/slide4.xml"/><Relationship Id="rId47" Type="http://schemas.openxmlformats.org/officeDocument/2006/relationships/slide" Target="slides/slide5.xml"/><Relationship Id="rId48" Type="http://schemas.openxmlformats.org/officeDocument/2006/relationships/slide" Target="slides/slide6.xml"/><Relationship Id="rId49" Type="http://schemas.openxmlformats.org/officeDocument/2006/relationships/slide" Target="slides/slide7.xml"/><Relationship Id="rId50" Type="http://schemas.openxmlformats.org/officeDocument/2006/relationships/slide" Target="slides/slide8.xml"/><Relationship Id="rId51" Type="http://schemas.openxmlformats.org/officeDocument/2006/relationships/slide" Target="slides/slide9.xml"/><Relationship Id="rId52" Type="http://schemas.openxmlformats.org/officeDocument/2006/relationships/slide" Target="slides/slide10.xml"/><Relationship Id="rId53" Type="http://schemas.openxmlformats.org/officeDocument/2006/relationships/slide" Target="slides/slide11.xml"/><Relationship Id="rId54" Type="http://schemas.openxmlformats.org/officeDocument/2006/relationships/slide" Target="slides/slide12.xml"/><Relationship Id="rId55" Type="http://schemas.openxmlformats.org/officeDocument/2006/relationships/slide" Target="slides/slide13.xml"/><Relationship Id="rId56" Type="http://schemas.openxmlformats.org/officeDocument/2006/relationships/slide" Target="slides/slide14.xml"/><Relationship Id="rId57" Type="http://schemas.openxmlformats.org/officeDocument/2006/relationships/slide" Target="slides/slide15.xml"/><Relationship Id="rId58" Type="http://schemas.openxmlformats.org/officeDocument/2006/relationships/slide" Target="slides/slide16.xml"/><Relationship Id="rId59" Type="http://schemas.openxmlformats.org/officeDocument/2006/relationships/slide" Target="slides/slide17.xml"/><Relationship Id="rId60" Type="http://schemas.openxmlformats.org/officeDocument/2006/relationships/slide" Target="slides/slide18.xml"/><Relationship Id="rId61" Type="http://schemas.openxmlformats.org/officeDocument/2006/relationships/slide" Target="slides/slide19.xml"/><Relationship Id="rId62" Type="http://schemas.openxmlformats.org/officeDocument/2006/relationships/slide" Target="slides/slide20.xml"/><Relationship Id="rId63" Type="http://schemas.openxmlformats.org/officeDocument/2006/relationships/slide" Target="slides/slide21.xml"/><Relationship Id="rId64" Type="http://schemas.openxmlformats.org/officeDocument/2006/relationships/slide" Target="slides/slide22.xml"/><Relationship Id="rId65" Type="http://schemas.openxmlformats.org/officeDocument/2006/relationships/slide" Target="slides/slide23.xml"/><Relationship Id="rId66" Type="http://schemas.openxmlformats.org/officeDocument/2006/relationships/slide" Target="slides/slide24.xml"/><Relationship Id="rId67" Type="http://schemas.openxmlformats.org/officeDocument/2006/relationships/slide" Target="slides/slide25.xml"/><Relationship Id="rId68" Type="http://schemas.openxmlformats.org/officeDocument/2006/relationships/slide" Target="slides/slide26.xml"/><Relationship Id="rId69" Type="http://schemas.openxmlformats.org/officeDocument/2006/relationships/slide" Target="slides/slide27.xml"/><Relationship Id="rId70" Type="http://schemas.openxmlformats.org/officeDocument/2006/relationships/slide" Target="slides/slide28.xml"/><Relationship Id="rId71" Type="http://schemas.openxmlformats.org/officeDocument/2006/relationships/slide" Target="slides/slide29.xml"/><Relationship Id="rId72" Type="http://schemas.openxmlformats.org/officeDocument/2006/relationships/slide" Target="slides/slide30.xml"/><Relationship Id="rId73" Type="http://schemas.openxmlformats.org/officeDocument/2006/relationships/slide" Target="slides/slide31.xml"/><Relationship Id="rId74" Type="http://schemas.openxmlformats.org/officeDocument/2006/relationships/slide" Target="slides/slide32.xml"/><Relationship Id="rId75" Type="http://schemas.openxmlformats.org/officeDocument/2006/relationships/slide" Target="slides/slide33.xml"/><Relationship Id="rId76" Type="http://schemas.openxmlformats.org/officeDocument/2006/relationships/slide" Target="slides/slide34.xml"/><Relationship Id="rId77" Type="http://schemas.openxmlformats.org/officeDocument/2006/relationships/slide" Target="slides/slide35.xml"/><Relationship Id="rId78" Type="http://schemas.openxmlformats.org/officeDocument/2006/relationships/slide" Target="slides/slide36.xml"/><Relationship Id="rId79" Type="http://schemas.openxmlformats.org/officeDocument/2006/relationships/slide" Target="slides/slide37.xml"/><Relationship Id="rId80" Type="http://schemas.openxmlformats.org/officeDocument/2006/relationships/slide" Target="slides/slide38.xml"/><Relationship Id="rId81" Type="http://schemas.openxmlformats.org/officeDocument/2006/relationships/slide" Target="slides/slide39.xml"/><Relationship Id="rId82" Type="http://schemas.openxmlformats.org/officeDocument/2006/relationships/slide" Target="slides/slide40.xml"/><Relationship Id="rId83" Type="http://schemas.openxmlformats.org/officeDocument/2006/relationships/slide" Target="slides/slide41.xml"/><Relationship Id="rId84" Type="http://schemas.openxmlformats.org/officeDocument/2006/relationships/slide" Target="slides/slide42.xml"/><Relationship Id="rId85" Type="http://schemas.openxmlformats.org/officeDocument/2006/relationships/slide" Target="slides/slide43.xml"/><Relationship Id="rId86" Type="http://schemas.openxmlformats.org/officeDocument/2006/relationships/slide" Target="slides/slide44.xml"/><Relationship Id="rId87" Type="http://schemas.openxmlformats.org/officeDocument/2006/relationships/slide" Target="slides/slide45.xml"/><Relationship Id="rId88" Type="http://schemas.openxmlformats.org/officeDocument/2006/relationships/slide" Target="slides/slide46.xml"/><Relationship Id="rId89" Type="http://schemas.openxmlformats.org/officeDocument/2006/relationships/slide" Target="slides/slide47.xml"/><Relationship Id="rId90" Type="http://schemas.openxmlformats.org/officeDocument/2006/relationships/slide" Target="slides/slide48.xml"/><Relationship Id="rId91" Type="http://schemas.openxmlformats.org/officeDocument/2006/relationships/slide" Target="slides/slide49.xml"/><Relationship Id="rId92" Type="http://schemas.openxmlformats.org/officeDocument/2006/relationships/slide" Target="slides/slide50.xml"/><Relationship Id="rId93" Type="http://schemas.openxmlformats.org/officeDocument/2006/relationships/slide" Target="slides/slide51.xml"/><Relationship Id="rId94" Type="http://schemas.openxmlformats.org/officeDocument/2006/relationships/slide" Target="slides/slide52.xml"/><Relationship Id="rId95" Type="http://schemas.openxmlformats.org/officeDocument/2006/relationships/slide" Target="slides/slide53.xml"/><Relationship Id="rId96" Type="http://schemas.openxmlformats.org/officeDocument/2006/relationships/slide" Target="slides/slide54.xml"/><Relationship Id="rId97" Type="http://schemas.openxmlformats.org/officeDocument/2006/relationships/slide" Target="slides/slide55.xml"/><Relationship Id="rId98" Type="http://schemas.openxmlformats.org/officeDocument/2006/relationships/slide" Target="slides/slide56.xml"/><Relationship Id="rId9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1B2D-0C9D-4A2D-930F-DECA96326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862E-531F-4DBB-BFC2-91B92EB1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9353F-3738-4D66-A95B-49D61288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E5302-91A3-4F1D-AFC4-8CD8ACE8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A1832-5F63-4091-97BB-74D354FF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D3F41-9BD7-485E-AE5A-FFFA4421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C211E-6DCC-4E5E-A0DC-7E03C746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917A5-C4B5-4EDC-8A68-1FC38E10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F76025-811A-4823-A1B1-5E96EB56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DB50E-A6B6-4B7D-9CE8-0D2A4B7B6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16113-711F-4D28-B11F-4BAA9636B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836AC2-1DF7-407A-92F4-11B34D33C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9EFF-F032-4C1B-9B24-A82B40721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F60C1-94A0-4DAF-ADD9-B1B06F6C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E4DD8-A1FD-48F4-AE2A-C88CE831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7B3F86-DFC3-4193-8040-782E8739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EF2415-2620-46FC-A50A-FE670DE5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EAA23-2403-421A-845D-1F37E902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6D5C8B-E8AC-430F-AE9B-864B17F0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71BA30-21AC-4940-868A-8BB4A13F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AB8FCF-5991-4106-9685-BB2709CB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F6E7EE-4B4D-406B-8020-BC485165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105A64-1F70-44D1-8623-ABCFB6A93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25DB-7A3E-44BE-ACE3-33A5C0EDD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10AE3B-1376-4CEC-950E-D975FF011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DBC14-69D1-49E3-9B5F-379949B5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CD947-2E29-48A9-98F9-0DDDEB00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9E98A-7464-434E-8529-01123684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268A0-1784-4FC7-A73E-79784454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47F3D-FCCE-477E-8325-84849BC7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B095C-DD0D-44E8-81FB-6EE50FD0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1418A-C247-437A-898B-E7664A6C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6EFC3-7F3E-4C35-AF54-7D45AA5B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CD970-0437-4BF1-9830-7656E5E7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0701-59A7-45E5-BC1F-58DCE7714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8F3A6-1B39-480E-B2A9-1F6DE257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3E35C-8E5B-4C3A-9862-EA3417327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F1BA71-A8BE-4072-9D52-69855D288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C93653-38CB-49A9-99CF-DA11FAC73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803D48-77F3-4391-B50C-7E87635A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73F072-2892-4025-A773-9EBC08EB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2D7C15-33B9-4CE3-9CF1-56ED429F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696124-1A11-4582-AF49-3AE1967D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84A950-F751-4441-9C77-E2A6A590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5D5930-17EF-4C2A-9B99-62EDD386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E9CB-0B6C-4D3E-9FF5-FB06D2A3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B6DD49-03A3-4FFD-84D8-E70ABD28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693E7-4298-4AEE-B6EB-7F8366A3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58EB24-9950-4900-80B7-AF7B0F95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821BF-90B5-45C3-ABBA-5B5152424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7B09A-3D48-48F1-8C5E-AE36E2F82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2920A9-FC54-4C7D-AD9D-59F1C0CA0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A60B9C-6EB4-439B-AAF1-D71D18B9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204A2A-F1A6-49FD-A4C0-A8E6BE5B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3C82F2-63E7-415A-88B5-00546975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6F3F37-3A8C-49F2-9565-81C6AB1F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7B80-21B0-458C-90FD-8E0B6E26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6C8D99-562F-4361-9302-9154B2D4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5DCDCE-64BF-4A30-A9F1-75AACDDF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C65FFF-2C49-4357-B8A9-CD853E7D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736C37-4EB2-4B75-ACAA-7F8EF2EC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1FBFB1-28F8-4453-83E0-9027EBD4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38A7B1-2330-41CA-BE51-67744DBBD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0E94B4-9254-4C26-8D98-49DE21AC8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3115B3-8069-47B7-A74B-230BE0339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ACA561-B8C2-4F5F-8E46-96D30DF8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4C0261-119A-489E-933B-01DD523F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6A3B-FBEF-4043-BF7E-F874BCDF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CFDE56-AE98-44A4-BC03-15CF6E15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F81B99-5977-4FD3-86C4-45A6BF61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189428-8EBE-47BC-925E-98001DA3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F6B2F2-1865-43F7-A878-92A802A1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0E5E6E-BE0E-4626-A0AB-B4A52235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7250DD-8146-4A45-82BE-EEB300C9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7B2AF1-64EC-4E72-B064-D10CD93D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1AB88B-CAC9-4E8C-B2F8-ED94E2DB9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ED4B55-F063-42DA-8DDA-1AEDCA1B4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845BCC-98F6-4A21-98DD-9EF4F5168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D245-15B8-417D-81B0-7108DF50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070604-7A44-43A8-9458-C52C9EAE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73F5FF-C215-4F09-A8D0-B6B7DBD2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79D1C9-F3B8-445E-8184-CA60CF45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4335B9-14D5-4403-BE77-5D81C915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068B6B-F313-4CC2-AF43-0EF1C6C8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DD0878-74F2-4452-BD08-E7F1315C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251127-05E6-4104-80C2-8B6DC4F4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E92DB2-0AD0-47C7-8F5B-A66176D7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82EE1E-FDDD-40DC-9AE5-E6880264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F30446-CB89-4D19-9B4F-BA32A9927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3870-7966-4171-B518-3B841B89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F0ACA2-A223-4A36-9280-C60C80BB4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D35FE1-FEDF-4C07-B837-14F368C5D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75812F-F2D7-4E2A-BA69-7F99C55F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1D9085-D769-4922-BE85-499A6FFD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44F115-E216-497F-A1C2-02C3D38A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F64D33-439A-4EFC-A0E1-93BA5F20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A3DFB3-B72A-492B-B508-057B9A70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3A3083-58D5-4DA9-B1FA-3873137A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2B7A3C-664D-4DB6-91ED-6A51E6C9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CDE28C-F15D-4AE2-86A9-842D0384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E1F8-98D9-4265-8838-7C038FC2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ED9879-B16A-4EE7-A127-7FA3741D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2D97FA-BD79-459B-BA85-99006D31E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706C7A-A32C-4317-BCEF-A9E1A4600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E68E33-70E4-49C3-9CA8-212951CFE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74772A-E284-4F15-8073-B5286495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16D664-091F-4727-8493-83A7FBD5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D13D30-F32E-4850-9DEB-6167E2C8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FEDF61-5697-4DD7-A16A-963A1C87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26EE68-5228-48AA-A843-A2DE827B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23810B-712F-4960-8DA1-D2B160CA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D2BD-2601-4E60-B9B4-1F616628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9168-5623-4018-9EE3-73AA7832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30438B-56C5-4549-8D42-1B002CBE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199057-5D07-4D4E-9B15-059F0CAD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DD6722-5E22-413B-8E8B-FAD79A6C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797C26-F13A-4122-981C-591277525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FFDBB2-1EFD-49F4-9AFB-52B15AE7A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B44047-F7AE-4314-8809-CDFFD1619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9DDA06-63B1-4905-8AD8-2F5A056C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8B95B2-B7D9-4C1F-BADF-B9162974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107546-EFED-4E10-9940-420D734E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964BBA-36CD-47EF-A023-81D78866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455F-0931-4736-B88E-DE570446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C3DBC5-A501-4AFD-BF26-53C229ED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5DA7E0-D876-4739-8484-DDE6D207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EBED0E-A880-441A-8DEA-4B8FE59B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20124A-BD02-413C-9BF6-84DE20D8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A97001-FA1C-4D2D-B1EB-0748F4AB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E6367A-2B24-4B63-986D-A8FB4316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4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5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0EAC61-A4EA-4DEE-9541-918DC381F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E21B83-5790-4E9D-A48C-4A1DFD117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FD3BD4-552E-416E-8555-375DE535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F77000-B934-4755-8170-6306DDE6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2A75-9CBF-4887-811D-B1DE68F3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4FD609-E9B0-4BD8-9469-F61C5078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64B752-2254-4BEC-A177-0B93930D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185E3B-3F41-4AC9-897A-347368B8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DE7D84-9386-4C3B-9BEF-1DF6552F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777E4D-00BF-4820-B0F5-96F2F5F6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1F78C2-8A05-4A06-8A34-39B00C3C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00ED9C-E885-45F3-9923-0583FC35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5A185C-0684-4107-AD39-D542DDA8A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16986D-1C93-495F-8026-3C687F919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A46C7D-0B5C-4288-AA51-9046EA270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1CE3-BC3E-4316-BCCC-96AA6CE7C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20D1B3-967E-4EFF-BE40-979E350D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832935-8644-45BD-9131-1250490B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285985-DEC1-46E8-883B-AF18528F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122D93-0171-4738-B8BA-6526CD99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F5C5BF-2BE4-4199-B416-75257D53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301766-44DA-4F8C-B805-60D0AFBA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5B853A-2FAA-4374-8E0E-3FC1E7AD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B1D23E-5C5B-4B81-8F38-E3615A7F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BB8341-F35B-4ECD-9995-2F837A4B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910D39-906F-457F-88CD-1C5BD1D8E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A314-A51E-451C-B582-73176C5B0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1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2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E0A663-F62E-4958-BE3A-D2436D4FB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114A33-F4CF-422E-BC60-21A2CDE8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92083E-6840-4696-B06C-5428DB51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0369AB-2004-42D1-A4FC-EF5EAE93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758DEF-E94F-410A-9381-886498D1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CAB8B5-4508-4F78-A37E-FDBD553B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6B2937-61C2-4515-AAC6-37CEA6A1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11D9EC-0AEE-485A-A0CF-02C7AAD0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7BCC8A-68FB-4C9B-B54A-A96E7141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C0E79B-37CD-41FA-8CEA-6F87E130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8B52D-350B-41CD-A93B-ADD6603F9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165262-9AB1-452C-A1D0-08C83956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DC1468-B662-4159-87F4-4151A6C09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4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5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961214-2D2D-4D75-912B-98A3A1E76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EDBC77-2B39-484E-9967-830F67DA9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8EF5A8-C994-4A84-A2F7-D74DB3EA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A43C3C-88A7-412D-AB81-B5F060A1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9FE614-1444-4082-A886-8C47D4FB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678D14-75F1-43AB-9E8E-72F6A3FC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173198-F62C-4A45-B332-9AB06278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02A11E-6FB6-46F6-87C7-166A0226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954FF-0E77-4191-A328-DC804853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2840C7-6C6D-4575-BD32-57C7AD18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F5CB1F-1B7E-4253-9F22-3810E9F4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412234-3728-4730-A54F-C51456F9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2E8F39-8DCF-44DA-AA99-D0D3B445B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242479-D9AB-4EB6-A1C6-8D9C05E19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1573AE-290C-41B0-9BCA-DC2AAA647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4E733B-7D61-4088-9CF2-9B0E31F6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A378FC-6489-410C-B930-208E7FB5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75F986-5C2A-4B24-BDC3-22611849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8C0475-1ED5-4D8D-9DB0-EA9CF23D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22F5B-8586-40C2-98C1-1EFC05CA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38E70D-5CA7-40BF-8AE0-7E1AC6D8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2C76B7-2EEE-437C-9671-433BD173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858477-E134-4092-BAFA-F808D2F8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B745CA-82E2-46A3-83FE-AA9CB781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6F08F3-68D0-4AED-9589-D2DEAD7C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59B87A-DC84-4485-B200-2897F6B07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968B49-A264-47B7-AE13-98F1CDBE3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FE41EE-F836-44C6-B382-C48E4ECF0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3CB320-BAFC-48FC-A82A-BC37CBCF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5DC920-9DB8-45DB-8FCD-D8C159C7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B4D76-AAFC-4276-A020-D7A2149E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7BB0F9-68E0-440F-B4AD-FD277AF4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94CF06-7B99-427C-B5E4-6263374E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855FAD-F218-4F21-86F1-53FAD462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1A1001-222E-4338-85D2-A546F6CF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D3A901-64D1-482F-BB0A-6B3691A2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483A3A-DA66-4062-AD27-AF88D584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3F1D75-6AB8-4CF3-8E1C-E23B2CAF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76257C-9A15-4396-A398-5B1F763C5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4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059BD6-63C4-45CA-A73E-BB73DCB5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40B529-60A8-45A7-BC54-4223039F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79335-42B1-4B3C-A908-454A8A3D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0013D6-F012-49ED-B11F-50001F9A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8638BB9-D11E-4B37-A9C4-C70C631C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5D5F099-35A9-44DD-8AC9-39F8ECDA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CF1D49A-990B-4809-B039-621A70E8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5E9AC3E-08D4-4829-ACE5-9A9FB238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81A561-E730-46BC-89F8-84A3DFAE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426357-DBC9-48C7-8A2D-A8683EC0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A170F1-FDEE-4D86-AB40-A477A30F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331D7C6-0AC5-4C0E-83B6-6CAF6552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55F511-52AC-4B6D-8B3A-566797BD6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0074-6D38-404A-910F-900DC029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BF278-9321-4C23-9DEE-0493904E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1173D7-80D9-495D-A970-47E56B542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939EAF3-7B36-438A-BD01-650044E98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6BE9CF-8F93-4AA9-BFB4-58E02E06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9F80A0-EE84-449D-BAE5-05A6FCCE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FC8C2E9-DB78-41CD-BE3D-71DB975C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FED2496-9BA8-4E78-9CB7-705EF95F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72A4EF-B551-4EE6-99BB-2BB490E3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8B9A71-E452-4673-9D71-4B885831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8E9F346-A479-40E9-AEEE-7D515974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7192D9-62D0-4FFE-B646-BC98D5D6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28D08-E82A-4946-A9AC-6310145E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982501-1089-42A0-95C8-19EB9DBC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979637-77F0-4879-90B5-27CF54D2C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928012-7CA4-436C-A053-5D9E241F0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06592E-1E33-4567-A81F-D71A240C2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11D3DA-90A0-4F87-B452-89413F7E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6C64CE0-6B99-48C5-9903-880E68C3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8235C81-391B-4FD9-ADC4-D584D608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AD9EEE3-F54C-4F37-80F9-505E1FF6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A52D3E-6842-436B-A04F-C950874D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A0EB404-3513-450E-891F-F2BD4E32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E227E-29C0-4DF3-A7A2-34950DB3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DC2D882-3A65-443E-94AA-29451609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FE979B0-453F-46FC-BFFB-943DE1C7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A8F124C-1D8E-4548-9678-0036F066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6705E7D-5C44-4CAC-97ED-E2E4DC43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3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4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1A47BE8-7AAE-4F07-B509-B280E167F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AF66A28-5B40-40A8-8DDE-16B3006C3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1614815-7D98-48B1-A996-115BD0B7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B9E7FB8-3D74-409C-8F6A-8ED63CFD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F4A97A5-68D6-425A-87D7-A90BDEB2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FDF39F9-DA16-46F6-9D2A-9D3F96D2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475EF-EAE1-4692-9786-13C45251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F8C8478-7D07-4ED1-A85C-C2A067D9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4FBB8BB-3959-4188-A144-9C0B2F18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8F970EB-234F-4C4C-BC6F-BCA9A97A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FBECA6C-565B-4336-9828-94A0CB29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28ACFEC-5749-4A03-8820-FE190956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0B5618B-B098-4341-86DA-38459375C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7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8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0DE3002-0E5E-46D3-A103-C481813AE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F5A0458-6035-4B7A-96F2-EE5A50B0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DD5ADF2-E76F-4B8D-BDC0-1A2F165B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9241BA5-8C6F-414F-8EB8-200CCA54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AE037-D938-4664-BE3B-F90D2BBC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81965B9-8DE6-4C2C-AEDE-E0D327F0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39F0AC3-F014-4110-AF73-64175DCA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E76A718-2C23-4F40-B397-49D67403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EC19392-9BB3-43BA-B433-AB20A668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39942E0-313A-4541-BF08-98B2ABC8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5D22E00-C271-47BC-BD3E-9F66718B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D7C7D00-19B5-424B-8E32-E47907CA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EC15CE4-C714-4F54-A383-9A318E5F6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0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1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0A3D397-34D0-4C14-AD57-ACFF4739D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8321C32-66FC-4C2E-8003-3EAB6BD4D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0D22A-826E-4978-BE6C-FB0DA7A27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A1BA9DC-7B49-4417-AD06-32FD17F2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62EC130-059B-4167-AC10-EC6A3190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D2FBB3C-F720-4F0A-BCC5-A3190F48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B8AD02C-8DB0-4E95-8269-8CF6E55C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EF862E0-6578-437C-B175-DAA2B3D0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7A6507E-1D16-4955-99B8-8A59DC45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B36F21C-C095-4AC2-98B3-D82BA116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3D48671-28E9-488E-9FB7-27878750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4DFD109-6AFA-4130-A8D1-6254B5E4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0342850-4DA2-4C34-BDBE-337A43E47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18AA1-20F0-4674-AC5F-5E6C19389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512E248-CB9C-4399-98B5-06E81087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42A25AC-BADD-4E2F-B8E6-E8F5EA54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9703520-D83C-43E8-A878-6C21628D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B54A6F4-EF2A-4DCF-B29B-5706B6D8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F486E2D-0E63-40B9-AE06-7610D82A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F8F0527-7534-4616-AB2A-6AA5E68A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E64F344-7E53-4ABC-959D-4D50A4A9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5285F2E-B311-4A81-9679-DDFA4993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028D222-BAF2-417E-86EB-676FFD6E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26AB699-0913-4850-9005-4CE96EDE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0F8B9-F4F3-4442-BADA-AF66D6016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7F9CE16-DB5A-4BA9-9646-752E224A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078D02F-B804-41DE-9BFF-BC80BE82D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9E2B54D-DAE2-4725-972F-342DC641A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A424F71-8511-44F7-AD4D-8AC94B93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067EE38-1722-4653-9FF9-005F13C9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32D37C5-1BEB-4F50-8639-E096DFCC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40B4EDA-5537-44B3-B805-30DA3988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D7797C9-A62B-4F27-A4B5-E3D22BC7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3AFF14D-C6B0-4B46-8EA9-5D07E3DC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3BD0F14-2A46-4DA6-A74B-8E0FDA0E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3643E-B019-463B-8B92-F0AFA193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55A4B99-3CCC-4DAB-8FE1-45C03C77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65BC93A-F98C-4EE4-8529-12C91ED9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8A8A984-8E69-41F6-AD6C-F539025B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11698AA-F4A4-4871-AD91-2324F14A3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0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1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23DEC81-7089-4323-9AA0-231AA89CB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F5582DB-E8DB-45A5-857D-15A70CCC8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64FD71E-5126-47B6-8FAF-2D4AA17B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FD8C512-F6D6-4D39-B398-522EA086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8C82285-DA78-4F06-9001-09F04774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A6796E4-3155-4F28-A6BA-109CD63F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257E5-E966-4207-A0E2-4F399194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148DCEF-09A6-47B5-A982-41CB9715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A61D842-EC68-4816-A53D-20D0247F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43E43F1-F4FD-4957-9AF3-2BDE09FE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93F44B3-0825-42C9-B0D3-91FC4AC9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1DA1D85-051F-4F3E-8232-8E1CD8A0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CF93F78-3089-4DFB-A23D-A27331E70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3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4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EB97AAC-5379-4B0D-907D-1F770772B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460237E-06EE-4C81-AB1F-9E7368686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1F3F335-A8B9-479B-A026-9930301A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67199CE-67E2-49D8-BF13-3DBD86AA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6A2D-F29B-42C0-9339-9866BFEE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FDB6E-CF16-497B-8AC8-8D4CF0A1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B3D2DD3-C918-4AA5-B702-761EBFFF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D7FBA11-39A7-46FA-B6DB-5167E9E5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D2E485E-54D8-40E5-8EFE-BE4D820E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B1A7E65-DE0A-40BD-975B-944D0D0D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558A740-9CAB-4034-8A08-3FF10820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190B695-39C9-45F8-9BB2-0BF59C07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4A84351-B122-47A3-A331-0DA82DF0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33AC4A8-48A9-44AF-8CB3-01C4B408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6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7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21160EF-7BAE-4224-A359-1577571AB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839FFC3-E3A7-4D86-A473-0D9516BFE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60D09-584A-45A9-9DD3-AC4080A0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58C154D-62E5-48BC-9CAB-55E4E024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C397779-89E6-48F6-996B-12DB36E2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F26F85A-472F-4573-94E2-874FD9FD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A49C118-66F2-425B-A4D6-8BA0A860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BBD2CB6-08E1-40A7-8180-7E8810D1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4CF4123-6317-4EA6-A6E6-5E623E1F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E582155-848A-403A-AED4-96627E84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8421E57-1FD8-4F09-8659-18F08F53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432145A-5AC8-4079-899F-1A5610ED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2D065D7-080A-4A85-BFF1-D9E1625C3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9F024-5857-4E44-B7B6-48E53616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8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9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0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0565342-F80F-4C0E-AAFD-F086E497F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DF4EB79-A2E1-495C-ABBC-826D816D3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9222EF1-6FAA-472E-A38D-CD63D5EA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46FF33F-CD18-4F10-B517-5D13D713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56E9DB3-C77C-4554-9D82-E602D999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44BE257-B339-4763-AB22-7BD79F27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FEF8AB1-1B48-4E02-BD26-99B288B5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02194F7-B725-4B39-AB95-7BACE76B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3CD1771-D56C-459F-A5CB-99AF9653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9FB0065-8247-46AD-8CD6-54F03C53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499DB-74B5-45E0-8088-9579194B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35D0F88-3EC6-40C4-9336-D9D16A80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A7A3C84-E124-4ED7-8152-7C83EF713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85435AB-95AF-4048-AB19-7187B4090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5A1DF2B-07B2-4A6C-94C9-FEBF69744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7EE8513-ABF6-42C3-8808-0F938C03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3FE3085-6C0C-4AB7-B0A7-9E00E1C4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6AF84E7-926E-4544-A55A-9CF18491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48B1DAA-CB7B-4AAA-A161-C6CF2493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8FE6BAC-F02F-485D-B057-50CF02B2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54F921F-9A72-40D1-B63D-5A98A0DE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6F834-7C0C-41AE-A4F0-FE894EA9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AFD0D62-CEEF-4F59-8010-2BADE06E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A4DAB5A-391C-4E8B-828B-34256BFD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5AAF8EA-DD07-4A5C-8DCE-90DCC091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9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C715147-25C9-4617-A9E5-5898D8932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4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5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6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E7CE805-DE57-4C22-A50F-C35A82502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28A01A5-8716-4A3C-8299-ED5FC66DF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D193995-3390-4EC6-9BF4-716BDE2A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8829165-C3F4-4D65-8547-222653F3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9B110E6-4553-4533-8947-920DBEC1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E510112-6820-424C-8C88-5F15BE5B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9F819-4B9D-45E8-A5C5-DEEB362C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AB628E0-E58C-4B15-BC3A-5F2FC5F3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BD63AC8-8184-463E-9E9B-0297FE90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4F0D6CA-9D1A-4B0A-A001-4C9155C8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2BA7E6E-655C-4E5B-89EB-19D05AF2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EA06355-3B31-4F3A-B7CD-AFDFFBA5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3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3FE480F-CCDD-4223-822A-7A952E677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9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0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9797365-46C2-4189-9A6F-4682979A3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C0AC084-A811-4A78-8546-9E94036DD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5063AFA-6216-4483-B6A7-98563E5A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F31BBF5-C4F4-48D8-9251-9627D5B7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CD2F8-3B74-4CA4-865D-6E7DF0B7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0535EAE-D943-42DB-B385-4AC7D31F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98EE0C5-6159-484F-B157-707C3356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18A3F1E-9CB5-46F5-8187-A5732EA6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1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DC6CF31-517C-4360-865E-ACFE2C4A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355833E-B0EE-46A0-97DE-E3272604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760CD38-1F56-40FD-AE32-AB85A72B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7281820-CE4E-41E3-ABBE-6118BC86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7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CDA5F8E-862B-4EEE-AF57-D85111134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2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3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4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7274E03-0CC4-412B-98C0-B57FFEBD4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D34846C-F635-4DC0-9757-D51C0CD8A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66E75-8B94-43BF-B05A-6E2A3CCF1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B501155-7CEE-4BE8-A181-CD626946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92D6848-C166-47E1-AA01-D908CEC5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324D716-A7C4-41C1-841B-B556CD58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F2B6784-EA86-4A90-83A4-F610C046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9E65625-7A40-42DB-8CDB-FE3005C1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A8DCF3B-2E85-4481-8E0F-AF8B57A1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82C6CF4-5F97-418E-8E9E-AE37F31F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1EA676C-6323-48E1-BEAE-57E9BB56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640EAC6-A36F-44A3-BB64-41B3FA19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0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2FAF84E-8D17-4312-B5F1-3FCAA5D38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9A86A-AF93-464C-ACB7-9E973DE3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6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7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1CE3CD3-1842-4D8C-A9FA-DC6DDDE72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4CA7B7A-A2B7-4D05-AA30-5D14BF7F3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CC1F138-573B-46AD-81B2-85F12626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A69352D-53FD-46B6-983E-2DC8AABF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65CB023-52B0-4554-8964-370DBF8A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9E55C9B-99D8-4056-B345-921E5E08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99D8FDA-5730-4388-A3B4-3FAB1CAB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8A23219-9175-44F5-B1E5-F0CBE49B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09E36DF-5879-46E3-B904-DC8E7934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DD458A6-FF63-412C-A6CA-16A65DDF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5B7C4-0C1A-43EB-8D20-58C5D8E7F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D95077C-A7B8-4194-95C1-30E36C99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3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FD5351D-FB12-415A-B0AA-B1FAA23E4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8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9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0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5363156-54BD-411B-B883-171B563D9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5C96-7609-4D48-8669-A49EAA64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BE17C-91F9-40A7-8525-86630165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48DE0-F0ED-43A9-89A2-75698FFB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F1A8F-12CD-4024-9845-128F64DD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2B419-EE45-42F5-8F17-D56EF142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C5DD6-D7F5-4567-8D12-19B11322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9EF50-E003-4892-A25F-67DBDA32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B1745-7E6A-4AA4-8E7D-63B80109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FA1C0-2D4F-4E60-A889-8880BC66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FE05C-8614-48B8-AA38-1C5FFED4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A10A1-8860-4F1A-A713-2AE926F63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AEE5-4383-4155-8497-C44EE58B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E93E0-D8C6-4DFE-BB50-A5E2CFCFE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B2BA1-9DF9-4D19-955D-BC142C570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91FC3-7ADA-4715-AB9D-10772981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36804-32EB-414E-8E23-5909D5C1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A96D4-5007-488D-A365-4A1DE33E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C2F15-EE71-4184-BB9F-7D3925F4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4E141-7299-480D-BF18-260FAC8E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4EF9B-800B-4E3D-8380-0517F677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F5246-2664-46DB-9852-F61D5C17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019CE-BF6B-4FE4-AF22-4D61719B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7504-A22B-4803-85BF-B500946D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3A02C-5A2C-4B20-92DB-39CF29B2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25290-83BF-4F24-9FA1-1AB44CB1B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560BE-768B-473A-9BE4-88AF00757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C1018-7FCF-4947-A5D8-D56CB803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83514-C1CC-4635-9FD0-B8B5DC25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1A7AC-C41A-45A1-BF36-5E58446D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E4459-053F-4027-9D4A-D6AE31D5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9D168-FE70-4C3F-8708-9B790529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B307D-487F-4018-BD75-96E579EC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6A6F5-0F9F-4E24-B581-EA858846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CDC9-8E55-4C70-8203-C2144BEB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0267C-EBA2-4C90-8946-21F2E4D9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B3C9A-DA1F-4EC7-9525-4951E0AF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10BD9-05F9-409E-BAEE-684341DF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6892C-8780-4289-A9B4-99EDC4077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CC938-C106-472F-86DD-21BA681F9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B55A8-497C-4521-9581-90304A642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EAC1C-0142-45EC-9150-53E88DB5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D2D87-C14F-4E7F-86D2-2C413AAE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0D5C8-D4E6-4602-894B-69452CBD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78BEA-99FF-48A1-A980-E5F6D3CD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B036-D7B1-4B45-B590-F44501AF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BE2B9-1E73-4B01-858C-0677E5A9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22972-9E80-4757-8C4F-9D415D21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13F62-4B99-4F3B-A67F-9985679A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C255C-79F0-41A5-9D43-2E0BCF87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73255-3F6C-4707-987E-530FE67E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47842-C77E-4F12-AAE6-29BB6F746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D778A-13CF-46B6-A57F-095E048AE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EDC00-E874-4BA0-8D26-4F830D504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B17D3-7AB2-45EE-9D53-EB5F23AE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676C91-E9DB-4C39-805A-2CBA5DB1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E89A8F-BFE1-45BB-A0F5-843D034484CB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8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9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0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D54E81-76A8-4878-AE0F-12EC0690013C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b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reeform 6"/>
          <p:cNvSpPr/>
          <p:nvPr/>
        </p:nvSpPr>
        <p:spPr>
          <a:xfrm>
            <a:off x="8151840" y="1685880"/>
            <a:ext cx="327672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Freeform 7"/>
          <p:cNvSpPr/>
          <p:nvPr/>
        </p:nvSpPr>
        <p:spPr>
          <a:xfrm>
            <a:off x="8151840" y="1685880"/>
            <a:ext cx="327672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efede3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>
            <a:off x="738000" y="6453360"/>
            <a:ext cx="1623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efede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efede3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>
            <a:off x="9829440" y="6453360"/>
            <a:ext cx="15987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efede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4C8BD5-994F-4C66-B2BA-F8A6E3585712}" type="slidenum">
              <a:rPr b="0" lang="ru-RU" sz="1000" spc="-1" strike="noStrike">
                <a:solidFill>
                  <a:srgbClr val="efede3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4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5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6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3C8219-A5AC-49F9-B45C-C19F7532189E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37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38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39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5D36CB-7577-4C09-8229-81FD44D4FBE3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0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dt" idx="40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ftr" idx="41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sldNum" idx="42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363B0D-4A7C-47F4-A43F-9324565BA98E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3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43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ftr" idx="44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sldNum" idx="45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3CBB1B-BEAB-4A2A-96FA-4AC0BE3F4744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6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7" name="Rectangle 10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46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47"/>
          </p:nvPr>
        </p:nvSpPr>
        <p:spPr>
          <a:xfrm>
            <a:off x="2204640" y="6453360"/>
            <a:ext cx="237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48"/>
          </p:nvPr>
        </p:nvSpPr>
        <p:spPr>
          <a:xfrm>
            <a:off x="988236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302057-0BCD-4397-98B5-F5D7422F884C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0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1" name="Rectangle 10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dt" idx="49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ftr" idx="50"/>
          </p:nvPr>
        </p:nvSpPr>
        <p:spPr>
          <a:xfrm>
            <a:off x="2204640" y="6453360"/>
            <a:ext cx="237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sldNum" idx="51"/>
          </p:nvPr>
        </p:nvSpPr>
        <p:spPr>
          <a:xfrm>
            <a:off x="988236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2207AC-12DB-4E29-B674-4FD0BB38E614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4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dt" idx="52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 type="ftr" idx="53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 type="sldNum" idx="54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AB73FE-075F-4ACE-8FC3-ED24ED0B0BC2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7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5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6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7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ADC2E1-7B71-4DFE-82F5-0FF58E9A8B8C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91b0e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91b0e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7479-663A-49BD-8FA0-9A2451167DDC}" type="slidenum">
              <a:rPr b="0" lang="ru-RU" sz="1000" spc="-1" strike="noStrike">
                <a:solidFill>
                  <a:srgbClr val="191b0e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9" name="Group 7"/>
          <p:cNvGrpSpPr/>
          <p:nvPr/>
        </p:nvGrpSpPr>
        <p:grpSpPr>
          <a:xfrm>
            <a:off x="754200" y="744120"/>
            <a:ext cx="10674360" cy="5350320"/>
            <a:chOff x="754200" y="744120"/>
            <a:chExt cx="10674360" cy="5350320"/>
          </a:xfrm>
        </p:grpSpPr>
        <p:sp>
          <p:nvSpPr>
            <p:cNvPr id="850" name="Freeform 6"/>
            <p:cNvSpPr/>
            <p:nvPr/>
          </p:nvSpPr>
          <p:spPr>
            <a:xfrm>
              <a:off x="8153640" y="1685520"/>
              <a:ext cx="3274920" cy="4408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8761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9357"/>
                  </a:lnTo>
                  <a:lnTo>
                    <a:pt x="8761" y="9357"/>
                  </a:lnTo>
                  <a:lnTo>
                    <a:pt x="8761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851" name="Freeform 6"/>
            <p:cNvSpPr/>
            <p:nvPr/>
          </p:nvSpPr>
          <p:spPr>
            <a:xfrm flipH="1" flipV="1">
              <a:off x="753840" y="743760"/>
              <a:ext cx="3275280" cy="4408920"/>
            </a:xfrm>
            <a:custGeom>
              <a:avLst/>
              <a:gdLst/>
              <a:ahLst/>
              <a:rect l="l" t="t" r="r" b="b"/>
              <a:pathLst>
                <a:path w="10001" h="10000">
                  <a:moveTo>
                    <a:pt x="8762" y="0"/>
                  </a:moveTo>
                  <a:lnTo>
                    <a:pt x="10001" y="0"/>
                  </a:lnTo>
                  <a:lnTo>
                    <a:pt x="10001" y="10000"/>
                  </a:lnTo>
                  <a:lnTo>
                    <a:pt x="1" y="10000"/>
                  </a:lnTo>
                  <a:cubicBezTo>
                    <a:pt x="-2" y="9766"/>
                    <a:pt x="4" y="9586"/>
                    <a:pt x="1" y="9352"/>
                  </a:cubicBezTo>
                  <a:lnTo>
                    <a:pt x="8762" y="9346"/>
                  </a:lnTo>
                  <a:lnTo>
                    <a:pt x="8762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dt" idx="58"/>
          </p:nvPr>
        </p:nvSpPr>
        <p:spPr>
          <a:xfrm>
            <a:off x="754200" y="6453360"/>
            <a:ext cx="1606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 type="ftr" idx="59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 type="sldNum" idx="60"/>
          </p:nvPr>
        </p:nvSpPr>
        <p:spPr>
          <a:xfrm>
            <a:off x="9829440" y="6453360"/>
            <a:ext cx="15987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839892-2BF4-47B1-B64B-9748875DD72C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4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 type="dt" idx="61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 type="ftr" idx="62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 type="sldNum" idx="63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EEB33F-14FF-4AE6-9877-06C3AD6D6585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b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Freeform 6"/>
          <p:cNvSpPr/>
          <p:nvPr/>
        </p:nvSpPr>
        <p:spPr>
          <a:xfrm>
            <a:off x="8151840" y="1685880"/>
            <a:ext cx="327672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7" name="Freeform 7"/>
          <p:cNvSpPr/>
          <p:nvPr/>
        </p:nvSpPr>
        <p:spPr>
          <a:xfrm>
            <a:off x="8151840" y="1685880"/>
            <a:ext cx="327672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efede3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 type="dt" idx="64"/>
          </p:nvPr>
        </p:nvSpPr>
        <p:spPr>
          <a:xfrm>
            <a:off x="738000" y="6453360"/>
            <a:ext cx="1623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efede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efede3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 type="ftr" idx="65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 type="sldNum" idx="66"/>
          </p:nvPr>
        </p:nvSpPr>
        <p:spPr>
          <a:xfrm>
            <a:off x="9829440" y="6453360"/>
            <a:ext cx="15987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efede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C032A2-1C67-4002-A510-9B7116E0592B}" type="slidenum">
              <a:rPr b="0" lang="ru-RU" sz="1000" spc="-1" strike="noStrike">
                <a:solidFill>
                  <a:srgbClr val="efede3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0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7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8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9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0AE07E-33DB-4B9B-9C71-67AE85458676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3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 type="dt" idx="70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 type="ftr" idx="71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 type="sldNum" idx="72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496493-33FF-44FB-8E53-E8A55A48A9D8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6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dt" idx="73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ftr" idx="74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sldNum" idx="75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1A1E6F-8B2E-4AC2-A8CA-EB849646EEAC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9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6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77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78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418747-5DA4-4491-A956-EAD0E04B33A7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2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3" name="Rectangle 10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 type="dt" idx="79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 type="ftr" idx="80"/>
          </p:nvPr>
        </p:nvSpPr>
        <p:spPr>
          <a:xfrm>
            <a:off x="2204640" y="6453360"/>
            <a:ext cx="237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 type="sldNum" idx="81"/>
          </p:nvPr>
        </p:nvSpPr>
        <p:spPr>
          <a:xfrm>
            <a:off x="988236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9C49C5-B203-48C1-A626-5E81AE576CA8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6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7" name="Rectangle 10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 type="dt" idx="82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 type="ftr" idx="83"/>
          </p:nvPr>
        </p:nvSpPr>
        <p:spPr>
          <a:xfrm>
            <a:off x="2204640" y="6453360"/>
            <a:ext cx="237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 type="sldNum" idx="84"/>
          </p:nvPr>
        </p:nvSpPr>
        <p:spPr>
          <a:xfrm>
            <a:off x="988236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322E95-243A-448E-A783-84C63958D3C0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0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 type="dt" idx="85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 type="ftr" idx="86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 type="sldNum" idx="87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3DE0CD-4AE8-49A7-A58A-4FF7FCB09AF4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91b0e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91b0e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5405-A0D8-4DF6-AF0D-DAA158730E89}" type="slidenum">
              <a:rPr b="0" lang="ru-RU" sz="1000" spc="-1" strike="noStrike">
                <a:solidFill>
                  <a:srgbClr val="191b0e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3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8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9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90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E42428-606D-43AE-AB4B-FB248DA8CA1A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5" name="Group 7"/>
          <p:cNvGrpSpPr/>
          <p:nvPr/>
        </p:nvGrpSpPr>
        <p:grpSpPr>
          <a:xfrm>
            <a:off x="754200" y="744120"/>
            <a:ext cx="10674360" cy="5350320"/>
            <a:chOff x="754200" y="744120"/>
            <a:chExt cx="10674360" cy="5350320"/>
          </a:xfrm>
        </p:grpSpPr>
        <p:sp>
          <p:nvSpPr>
            <p:cNvPr id="1326" name="Freeform 6"/>
            <p:cNvSpPr/>
            <p:nvPr/>
          </p:nvSpPr>
          <p:spPr>
            <a:xfrm>
              <a:off x="8153640" y="1685520"/>
              <a:ext cx="3274920" cy="4408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8761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9357"/>
                  </a:lnTo>
                  <a:lnTo>
                    <a:pt x="8761" y="9357"/>
                  </a:lnTo>
                  <a:lnTo>
                    <a:pt x="8761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327" name="Freeform 6"/>
            <p:cNvSpPr/>
            <p:nvPr/>
          </p:nvSpPr>
          <p:spPr>
            <a:xfrm flipH="1" flipV="1">
              <a:off x="753840" y="743760"/>
              <a:ext cx="3275280" cy="4408920"/>
            </a:xfrm>
            <a:custGeom>
              <a:avLst/>
              <a:gdLst/>
              <a:ahLst/>
              <a:rect l="l" t="t" r="r" b="b"/>
              <a:pathLst>
                <a:path w="10001" h="10000">
                  <a:moveTo>
                    <a:pt x="8762" y="0"/>
                  </a:moveTo>
                  <a:lnTo>
                    <a:pt x="10001" y="0"/>
                  </a:lnTo>
                  <a:lnTo>
                    <a:pt x="10001" y="10000"/>
                  </a:lnTo>
                  <a:lnTo>
                    <a:pt x="1" y="10000"/>
                  </a:lnTo>
                  <a:cubicBezTo>
                    <a:pt x="-2" y="9766"/>
                    <a:pt x="4" y="9586"/>
                    <a:pt x="1" y="9352"/>
                  </a:cubicBezTo>
                  <a:lnTo>
                    <a:pt x="8762" y="9346"/>
                  </a:lnTo>
                  <a:lnTo>
                    <a:pt x="8762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91"/>
          </p:nvPr>
        </p:nvSpPr>
        <p:spPr>
          <a:xfrm>
            <a:off x="754200" y="6453360"/>
            <a:ext cx="1606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92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3"/>
          </p:nvPr>
        </p:nvSpPr>
        <p:spPr>
          <a:xfrm>
            <a:off x="9829440" y="6453360"/>
            <a:ext cx="15987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E774C9-223C-4D98-BA87-F1D35A8769EC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0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 type="dt" idx="94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 type="ftr" idx="95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 type="sldNum" idx="96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F5DFC2-69F9-4ED4-9612-B4EFCA68AAA8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b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Freeform 6"/>
          <p:cNvSpPr/>
          <p:nvPr/>
        </p:nvSpPr>
        <p:spPr>
          <a:xfrm>
            <a:off x="8151840" y="1685880"/>
            <a:ext cx="327672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3" name="Freeform 7"/>
          <p:cNvSpPr/>
          <p:nvPr/>
        </p:nvSpPr>
        <p:spPr>
          <a:xfrm>
            <a:off x="8151840" y="1685880"/>
            <a:ext cx="327672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efede3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 type="dt" idx="97"/>
          </p:nvPr>
        </p:nvSpPr>
        <p:spPr>
          <a:xfrm>
            <a:off x="738000" y="6453360"/>
            <a:ext cx="1623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efede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efede3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 type="ftr" idx="98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 type="sldNum" idx="99"/>
          </p:nvPr>
        </p:nvSpPr>
        <p:spPr>
          <a:xfrm>
            <a:off x="9829440" y="6453360"/>
            <a:ext cx="15987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efede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E13028-4415-4151-9F79-70DAEE49BE32}" type="slidenum">
              <a:rPr b="0" lang="ru-RU" sz="1000" spc="-1" strike="noStrike">
                <a:solidFill>
                  <a:srgbClr val="efede3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6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 type="dt" idx="100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 type="ftr" idx="101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 type="sldNum" idx="102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D3A618-CEE3-434E-A0B9-A263A665667E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9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 type="dt" idx="103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 type="ftr" idx="104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 type="sldNum" idx="105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307078-B984-4851-BA71-C1A6AB6C1002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2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 type="dt" idx="106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 type="ftr" idx="107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7" name="PlaceHolder 5"/>
          <p:cNvSpPr>
            <a:spLocks noGrp="1"/>
          </p:cNvSpPr>
          <p:nvPr>
            <p:ph type="sldNum" idx="108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A3D4D3-C580-4EFE-AE0D-DE5D9B47D21A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5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dt" idx="109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 type="ftr" idx="110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 type="sldNum" idx="111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177A53-D155-4B41-B9C8-0C9C67EB0C5C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8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9" name="Rectangle 10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 type="dt" idx="112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 type="ftr" idx="113"/>
          </p:nvPr>
        </p:nvSpPr>
        <p:spPr>
          <a:xfrm>
            <a:off x="2204640" y="6453360"/>
            <a:ext cx="237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4" name="PlaceHolder 5"/>
          <p:cNvSpPr>
            <a:spLocks noGrp="1"/>
          </p:cNvSpPr>
          <p:nvPr>
            <p:ph type="sldNum" idx="114"/>
          </p:nvPr>
        </p:nvSpPr>
        <p:spPr>
          <a:xfrm>
            <a:off x="988236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CB7711-EE0B-4776-BDC1-51A2D1C1DACD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2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3" name="Rectangle 10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 type="dt" idx="115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 type="ftr" idx="116"/>
          </p:nvPr>
        </p:nvSpPr>
        <p:spPr>
          <a:xfrm>
            <a:off x="2204640" y="6453360"/>
            <a:ext cx="237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 type="sldNum" idx="117"/>
          </p:nvPr>
        </p:nvSpPr>
        <p:spPr>
          <a:xfrm>
            <a:off x="988236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845E74-73D1-40D5-BBDB-015D410741F4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91b0e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91b0e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8296-F12B-4ECA-84CB-572A0808CDDE}" type="slidenum">
              <a:rPr b="0" lang="ru-RU" sz="1000" spc="-1" strike="noStrike">
                <a:solidFill>
                  <a:srgbClr val="191b0e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6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 type="dt" idx="118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 type="ftr" idx="119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 type="sldNum" idx="120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3D957C-059D-43BF-8DDA-18B4581492B7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9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 type="dt" idx="121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3" name="PlaceHolder 4"/>
          <p:cNvSpPr>
            <a:spLocks noGrp="1"/>
          </p:cNvSpPr>
          <p:nvPr>
            <p:ph type="ftr" idx="122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4" name="PlaceHolder 5"/>
          <p:cNvSpPr>
            <a:spLocks noGrp="1"/>
          </p:cNvSpPr>
          <p:nvPr>
            <p:ph type="sldNum" idx="123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898C49-EA6F-4F85-BFF4-0F4A6D536A61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18"/>
          <p:cNvGrpSpPr/>
          <p:nvPr/>
        </p:nvGrpSpPr>
        <p:grpSpPr>
          <a:xfrm>
            <a:off x="546120" y="-4680"/>
            <a:ext cx="5014800" cy="6862680"/>
            <a:chOff x="546120" y="-4680"/>
            <a:chExt cx="5014800" cy="6862680"/>
          </a:xfrm>
        </p:grpSpPr>
        <p:sp>
          <p:nvSpPr>
            <p:cNvPr id="178" name="Freeform 6"/>
            <p:cNvSpPr/>
            <p:nvPr/>
          </p:nvSpPr>
          <p:spPr>
            <a:xfrm>
              <a:off x="984240" y="-4680"/>
              <a:ext cx="1063440" cy="2782800"/>
            </a:xfrm>
            <a:custGeom>
              <a:avLst/>
              <a:gdLst/>
              <a:ahLst/>
              <a:rect l="l" t="t" r="r" b="b"/>
              <a:pathLst>
                <a:path w="670" h="1753">
                  <a:moveTo>
                    <a:pt x="0" y="1696"/>
                  </a:moveTo>
                  <a:lnTo>
                    <a:pt x="225" y="1753"/>
                  </a:lnTo>
                  <a:lnTo>
                    <a:pt x="670" y="0"/>
                  </a:lnTo>
                  <a:lnTo>
                    <a:pt x="430" y="0"/>
                  </a:lnTo>
                  <a:lnTo>
                    <a:pt x="0" y="1696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79" name="Freeform 7"/>
            <p:cNvSpPr/>
            <p:nvPr/>
          </p:nvSpPr>
          <p:spPr>
            <a:xfrm>
              <a:off x="546120" y="-4680"/>
              <a:ext cx="1035000" cy="2673360"/>
            </a:xfrm>
            <a:custGeom>
              <a:avLst/>
              <a:gdLst/>
              <a:ahLst/>
              <a:rect l="l" t="t" r="r" b="b"/>
              <a:pathLst>
                <a:path w="652" h="1684">
                  <a:moveTo>
                    <a:pt x="225" y="1684"/>
                  </a:moveTo>
                  <a:lnTo>
                    <a:pt x="652" y="0"/>
                  </a:lnTo>
                  <a:lnTo>
                    <a:pt x="411" y="0"/>
                  </a:lnTo>
                  <a:lnTo>
                    <a:pt x="0" y="1627"/>
                  </a:lnTo>
                  <a:lnTo>
                    <a:pt x="219" y="1681"/>
                  </a:lnTo>
                  <a:lnTo>
                    <a:pt x="225" y="1684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80" name="Freeform 9"/>
            <p:cNvSpPr/>
            <p:nvPr/>
          </p:nvSpPr>
          <p:spPr>
            <a:xfrm>
              <a:off x="546120" y="2583000"/>
              <a:ext cx="2693880" cy="4275000"/>
            </a:xfrm>
            <a:custGeom>
              <a:avLst/>
              <a:gdLst/>
              <a:ahLst/>
              <a:rect l="l" t="t" r="r" b="b"/>
              <a:pathLst>
                <a:path w="1697" h="2693">
                  <a:moveTo>
                    <a:pt x="0" y="0"/>
                  </a:moveTo>
                  <a:lnTo>
                    <a:pt x="1622" y="2693"/>
                  </a:lnTo>
                  <a:lnTo>
                    <a:pt x="1697" y="26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81" name="Freeform 10"/>
            <p:cNvSpPr/>
            <p:nvPr/>
          </p:nvSpPr>
          <p:spPr>
            <a:xfrm>
              <a:off x="988920" y="2692440"/>
              <a:ext cx="3332160" cy="4165560"/>
            </a:xfrm>
            <a:custGeom>
              <a:avLst/>
              <a:gdLst/>
              <a:ahLst/>
              <a:rect l="l" t="t" r="r" b="b"/>
              <a:pathLst>
                <a:path w="2099" h="2624">
                  <a:moveTo>
                    <a:pt x="2099" y="2624"/>
                  </a:moveTo>
                  <a:lnTo>
                    <a:pt x="0" y="0"/>
                  </a:lnTo>
                  <a:lnTo>
                    <a:pt x="2021" y="2624"/>
                  </a:lnTo>
                  <a:lnTo>
                    <a:pt x="2099" y="2624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82" name="Freeform 11"/>
            <p:cNvSpPr/>
            <p:nvPr/>
          </p:nvSpPr>
          <p:spPr>
            <a:xfrm>
              <a:off x="984240" y="2687760"/>
              <a:ext cx="4576680" cy="4170240"/>
            </a:xfrm>
            <a:custGeom>
              <a:avLst/>
              <a:gdLst/>
              <a:ahLst/>
              <a:rect l="l" t="t" r="r" b="b"/>
              <a:pathLst>
                <a:path w="2883" h="2627">
                  <a:moveTo>
                    <a:pt x="0" y="0"/>
                  </a:moveTo>
                  <a:lnTo>
                    <a:pt x="3" y="3"/>
                  </a:lnTo>
                  <a:lnTo>
                    <a:pt x="2102" y="2627"/>
                  </a:lnTo>
                  <a:lnTo>
                    <a:pt x="2883" y="2627"/>
                  </a:lnTo>
                  <a:lnTo>
                    <a:pt x="225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83" name="Freeform 12"/>
            <p:cNvSpPr/>
            <p:nvPr/>
          </p:nvSpPr>
          <p:spPr>
            <a:xfrm>
              <a:off x="546120" y="2577960"/>
              <a:ext cx="3584520" cy="4280040"/>
            </a:xfrm>
            <a:custGeom>
              <a:avLst/>
              <a:gdLst/>
              <a:ahLst/>
              <a:rect l="l" t="t" r="r" b="b"/>
              <a:pathLst>
                <a:path w="2258" h="2696">
                  <a:moveTo>
                    <a:pt x="2258" y="2696"/>
                  </a:moveTo>
                  <a:lnTo>
                    <a:pt x="264" y="111"/>
                  </a:lnTo>
                  <a:lnTo>
                    <a:pt x="228" y="60"/>
                  </a:lnTo>
                  <a:lnTo>
                    <a:pt x="225" y="57"/>
                  </a:lnTo>
                  <a:lnTo>
                    <a:pt x="0" y="0"/>
                  </a:lnTo>
                  <a:lnTo>
                    <a:pt x="0" y="3"/>
                  </a:lnTo>
                  <a:lnTo>
                    <a:pt x="1697" y="2696"/>
                  </a:lnTo>
                  <a:lnTo>
                    <a:pt x="2258" y="269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332320" y="5882760"/>
            <a:ext cx="43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CEAD34-50C1-4BE2-A93F-85E363BB42E0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226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27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28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29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30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31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10952280" y="586692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35BF31-A02B-4B3D-BC17-E9391508C41B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274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75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76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77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78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79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80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FDF7B2-9FBF-4CE2-9A5B-67018ADA2A74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324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25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26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27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28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29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330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2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3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4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DE119E-67E2-450B-8E1E-D23328F811D3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Group 7"/>
          <p:cNvGrpSpPr/>
          <p:nvPr/>
        </p:nvGrpSpPr>
        <p:grpSpPr>
          <a:xfrm>
            <a:off x="754200" y="744120"/>
            <a:ext cx="10674360" cy="5350320"/>
            <a:chOff x="754200" y="744120"/>
            <a:chExt cx="10674360" cy="5350320"/>
          </a:xfrm>
        </p:grpSpPr>
        <p:sp>
          <p:nvSpPr>
            <p:cNvPr id="374" name="Freeform 6"/>
            <p:cNvSpPr/>
            <p:nvPr/>
          </p:nvSpPr>
          <p:spPr>
            <a:xfrm>
              <a:off x="8153640" y="1685520"/>
              <a:ext cx="3274920" cy="4408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8761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9357"/>
                  </a:lnTo>
                  <a:lnTo>
                    <a:pt x="8761" y="9357"/>
                  </a:lnTo>
                  <a:lnTo>
                    <a:pt x="8761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75" name="Freeform 6"/>
            <p:cNvSpPr/>
            <p:nvPr/>
          </p:nvSpPr>
          <p:spPr>
            <a:xfrm flipH="1" flipV="1">
              <a:off x="753840" y="743760"/>
              <a:ext cx="3275280" cy="4408920"/>
            </a:xfrm>
            <a:custGeom>
              <a:avLst/>
              <a:gdLst/>
              <a:ahLst/>
              <a:rect l="l" t="t" r="r" b="b"/>
              <a:pathLst>
                <a:path w="10001" h="10000">
                  <a:moveTo>
                    <a:pt x="8762" y="0"/>
                  </a:moveTo>
                  <a:lnTo>
                    <a:pt x="10001" y="0"/>
                  </a:lnTo>
                  <a:lnTo>
                    <a:pt x="10001" y="10000"/>
                  </a:lnTo>
                  <a:lnTo>
                    <a:pt x="1" y="10000"/>
                  </a:lnTo>
                  <a:cubicBezTo>
                    <a:pt x="-2" y="9766"/>
                    <a:pt x="4" y="9586"/>
                    <a:pt x="1" y="9352"/>
                  </a:cubicBezTo>
                  <a:lnTo>
                    <a:pt x="8762" y="9346"/>
                  </a:lnTo>
                  <a:lnTo>
                    <a:pt x="8762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754200" y="6453360"/>
            <a:ext cx="1606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9829440" y="6453360"/>
            <a:ext cx="15987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8B0C73-748B-4F8C-918E-09FEB45C82A5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1" name="Picture 2" descr="L:\001-ОДКБ\МИНЗДРАВ КУЗ\КМИАЦ\заставка КМИАЦ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Прямоугольник 1"/>
          <p:cNvSpPr/>
          <p:nvPr/>
        </p:nvSpPr>
        <p:spPr>
          <a:xfrm>
            <a:off x="1817640" y="563400"/>
            <a:ext cx="986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БРАТИТЕ ВНИМАНИЕ ПРИ ЗАПОЛНЕНИИ Т. 2000!!!</a:t>
            </a:r>
            <a:r>
              <a:rPr b="1" lang="ru-RU" sz="24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7" name="Прямоугольник 2"/>
          <p:cNvSpPr/>
          <p:nvPr/>
        </p:nvSpPr>
        <p:spPr>
          <a:xfrm>
            <a:off x="1817640" y="1501920"/>
            <a:ext cx="10104480" cy="28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едует проводить контроль числа заболеваний по каждой строке в таблице между графами, а также между разделами А. Взрослые (18 лет и более) и Б. Взрослые старше трудоспособного возраста по всем строкам и графа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едует проводить контроль числа «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чих»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болеваний по каждому классу болезней между разделами А. Взрослые (18 лет и более) и Б. Взрослые старше трудоспособного возраста по всем строкам и графа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обходимо указывать корректное число проведенных выписанными пациентами койко-дней. Средний койко-день не может быть менее 1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1757160" y="185400"/>
            <a:ext cx="989964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БРАТИТЕ ВНИМАНИЕ ПРИ ЗАПОЛНЕНИИ Т. 2000!!!</a:t>
            </a:r>
            <a:r>
              <a:rPr b="1" lang="ru-RU" sz="24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9" name=""/>
          <p:cNvSpPr txBox="1"/>
          <p:nvPr/>
        </p:nvSpPr>
        <p:spPr>
          <a:xfrm>
            <a:off x="1890720" y="1066320"/>
            <a:ext cx="9561600" cy="513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9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Обратить внимание на строку 15.10 «расстройства менструаций» у лиц старше трудоспособного возраста.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ких пациентов в этой возрастной группе должно быть небольшое количество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 графы 4,13,22 «выписано, всего»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должны включаться умершие пациенты и пациенты переведенные в другие стационары, также как и в графы 7,16,26 «проведено выписанными койко-дней» не должны показываться койко-дни умерших пациентов и переведенных в другие стационар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азделе В. Дети (в возрасте 0-17 лет включительно) возможные ошибки связаны с графами 25 (выписано детей до 1 года) и 27 (проведено койко-дней в возрасте до 1 года). 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Обратите внимание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что не могут быть одинаковыми числа по выписанным детям до 1 года и проведенным ими койко-дням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1528560" y="239760"/>
            <a:ext cx="1001844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№210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1" name=""/>
          <p:cNvSpPr txBox="1"/>
          <p:nvPr/>
        </p:nvSpPr>
        <p:spPr>
          <a:xfrm>
            <a:off x="1636560" y="1523880"/>
            <a:ext cx="10018800" cy="37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выписанных пациентов направлено в организации медицинской реабилитации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________ 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анатории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________ 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путать сведения в таблице с переведенными пациентами в другие медицинские организации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c8c8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2234880" y="106200"/>
            <a:ext cx="883908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2200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из общего числа умерших, умерло новорожденных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823" name=""/>
          <p:cNvGraphicFramePr/>
          <p:nvPr/>
        </p:nvGraphicFramePr>
        <p:xfrm>
          <a:off x="2914560" y="1074600"/>
          <a:ext cx="7480440" cy="2535480"/>
        </p:xfrm>
        <a:graphic>
          <a:graphicData uri="http://schemas.openxmlformats.org/drawingml/2006/table">
            <a:tbl>
              <a:tblPr/>
              <a:tblGrid>
                <a:gridCol w="5954760"/>
                <a:gridCol w="468360"/>
                <a:gridCol w="1057320"/>
              </a:tblGrid>
              <a:tr h="630360">
                <a:tc>
                  <a:txBody>
                    <a:bodyPr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умерших (т. 2000 стр.1 гр. 33) умерло новорожденных в первые 168 часов жиз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</a:tr>
              <a:tr h="387360">
                <a:tc>
                  <a:txBody>
                    <a:bodyPr lIns="27432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в первые 24 часа после поступления в стационар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27432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</a:tr>
              <a:tr h="496800">
                <a:tc>
                  <a:txBody>
                    <a:bodyPr lIns="27432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 возрасте 0 - 24 часа после рож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27432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</a:tr>
              <a:tr h="344520">
                <a:tc>
                  <a:txBody>
                    <a:bodyPr lIns="3657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едонош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3657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</a:tr>
              <a:tr h="345960">
                <a:tc>
                  <a:txBody>
                    <a:bodyPr lIns="27432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 1 года (без умерших в первые 24 часа после рожден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27432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</a:tr>
              <a:tr h="330480">
                <a:tc>
                  <a:txBody>
                    <a:bodyPr lIns="3657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от пневмо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3657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24" name="Прямоугольник 4"/>
          <p:cNvSpPr/>
          <p:nvPr/>
        </p:nvSpPr>
        <p:spPr>
          <a:xfrm>
            <a:off x="1697040" y="3703680"/>
            <a:ext cx="101696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- показываются все умершие в стационаре новорожденные в первые 168 часов после рождения независимо от того в каком отделении наступила смерть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1287c3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2 - показываются дети, умершие в первые 24 часа после поступления в стационар в возрасте 0-24 часа после рождения в акушерских, гинекологических и других отделениях, а также поступившие и умершие в отделениях реанимации или отделениях недоношенных, т.е. во всех отделениях, независимо от того, откуда дети переведены или поступили, или ниоткуда не поступали, так как родились там же, где умерли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1287c3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3 - заполняется из строки 2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1287c3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4 - показываются дети, умершие в первые 24 часа после поступления в стационар в возрасте до 1 года,  без учета новорожденных в возрасте 0-24 часа, умерших в первые сутки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1287c3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5 - заполняется из строки 4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1544400" y="304920"/>
            <a:ext cx="1001844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2300 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поступило пациентов с инфарктом миокарда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6" name=""/>
          <p:cNvSpPr txBox="1"/>
          <p:nvPr/>
        </p:nvSpPr>
        <p:spPr>
          <a:xfrm>
            <a:off x="1604880" y="1770120"/>
            <a:ext cx="10018800" cy="32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4 «проведена тромболитическая терапия» показываются все случаи тромболизиса, выполненного пациентам с инфарктом миокарда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шей медицинской организацие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госпитальном этапе с учетом и тех пациентов, которые в дальнейшем были направлены на стентирова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ромболизисы, проводимые на догоспитальном этапе, в данной строке не показывать.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5 «стентирование» и строка 6 «тромболитическая терапия с последующим стентированием»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олняются только региональными сосудистыми центрам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1517400" y="329760"/>
            <a:ext cx="10018440" cy="97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2700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из общего числа отказов в госпитализации)</a:t>
            </a:r>
            <a:r>
              <a:rPr b="1" lang="ru-RU" sz="2500" spc="-1" strike="noStrike">
                <a:solidFill>
                  <a:srgbClr val="191b0e"/>
                </a:solidFill>
                <a:latin typeface="Corbel"/>
                <a:ea typeface="Times New Roman"/>
              </a:rPr>
              <a:t>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8" name=""/>
          <p:cNvSpPr txBox="1"/>
          <p:nvPr/>
        </p:nvSpPr>
        <p:spPr>
          <a:xfrm>
            <a:off x="1778040" y="1307880"/>
            <a:ext cx="9499680" cy="53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тказы в госпитализац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Отсутствие показаний к госпитализаци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Медицинская помощь оказана амбулаторно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Направлен в другой стационар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Отказ пациента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нечеткая ориентация (информированность) пациента врачом, направившим на госпитализацию («вас там посмотрят и отпустят»)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по семейным обстоятельствам (надежда на выздоровление в домашних условиях)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боязнь госпитализации (боязнь возможного инфицирования, желание получить только разъяснения и т.п.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1908000" y="339840"/>
            <a:ext cx="9639360" cy="19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2800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замещение жизненно важных функций (искусственная вентиляция легких, экстракорпоральные методы лечения, экстракорпоральная мембранная оксигенация и др.) в отделениях анестезиологии и реанимац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830" name=""/>
          <p:cNvGraphicFramePr/>
          <p:nvPr/>
        </p:nvGraphicFramePr>
        <p:xfrm>
          <a:off x="2441520" y="2422440"/>
          <a:ext cx="8580600" cy="2789280"/>
        </p:xfrm>
        <a:graphic>
          <a:graphicData uri="http://schemas.openxmlformats.org/drawingml/2006/table">
            <a:tbl>
              <a:tblPr/>
              <a:tblGrid>
                <a:gridCol w="6343560"/>
                <a:gridCol w="905040"/>
                <a:gridCol w="1332000"/>
              </a:tblGrid>
              <a:tr h="1379520">
                <a:tc>
                  <a:txBody>
                    <a:bodyPr rIns="7560" tIns="75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щение жизненно важных функций (искусственная вентиляция лёгких, экстракорпоральные методы лечения, экстракорпоральная мембранная оксигенация, контрпульсация, прессорная поддержка и др.)  в отделениях анестезиологии и реани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9144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282240">
                <a:tc>
                  <a:txBody>
                    <a:bodyPr lIns="18288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 су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18288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282240">
                <a:tc>
                  <a:txBody>
                    <a:bodyPr lIns="18288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 су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18288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282240">
                <a:tc>
                  <a:txBody>
                    <a:bodyPr lIns="18288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суток и бол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18288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282240">
                <a:tc>
                  <a:txBody>
                    <a:bodyPr lIns="27432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- в течение 1 ча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27432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282240">
                <a:tc>
                  <a:txBody>
                    <a:bodyPr lIns="73152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1 су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73152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</a:tr>
            </a:tbl>
          </a:graphicData>
        </a:graphic>
      </p:graphicFrame>
      <p:sp>
        <p:nvSpPr>
          <p:cNvPr id="1831" name="Прямоугольник 4"/>
          <p:cNvSpPr/>
          <p:nvPr/>
        </p:nvSpPr>
        <p:spPr>
          <a:xfrm>
            <a:off x="2436840" y="5315040"/>
            <a:ext cx="85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Times New Roman"/>
                <a:ea typeface="Calibri"/>
              </a:rPr>
              <a:t>При распределении замещения жизненно важных функций организма в отделениях реанимации по суткам, пациент должен показываться один раз в строке по времени замещения, если замещение длится 30 суток и более, то отмечается только в этой строке и т. д. Такое же распределение и по умершим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1484280" y="379440"/>
            <a:ext cx="10018800" cy="139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2801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в том числе, из таблицы 2800 экстракорпоральная мембранная оксигенация)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833" name=""/>
          <p:cNvGraphicFramePr/>
          <p:nvPr/>
        </p:nvGraphicFramePr>
        <p:xfrm>
          <a:off x="2233440" y="1776240"/>
          <a:ext cx="8593200" cy="2603520"/>
        </p:xfrm>
        <a:graphic>
          <a:graphicData uri="http://schemas.openxmlformats.org/drawingml/2006/table">
            <a:tbl>
              <a:tblPr/>
              <a:tblGrid>
                <a:gridCol w="5794560"/>
                <a:gridCol w="1085760"/>
                <a:gridCol w="1712880"/>
              </a:tblGrid>
              <a:tr h="67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6fd"/>
                    </a:solidFill>
                  </a:tcPr>
                </a:tc>
              </a:tr>
              <a:tr h="385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 су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6fd"/>
                    </a:solidFill>
                  </a:tcPr>
                </a:tc>
              </a:tr>
              <a:tr h="385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 су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6fd"/>
                    </a:solidFill>
                  </a:tcPr>
                </a:tc>
              </a:tr>
              <a:tr h="385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суток и бол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6fd"/>
                    </a:solidFill>
                  </a:tcPr>
                </a:tc>
              </a:tr>
              <a:tr h="385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: в течение 1 ча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6fd"/>
                    </a:solidFill>
                  </a:tcPr>
                </a:tc>
              </a:tr>
              <a:tr h="385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1 су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6fd"/>
                    </a:solidFill>
                  </a:tcPr>
                </a:tc>
              </a:tr>
            </a:tbl>
          </a:graphicData>
        </a:graphic>
      </p:graphicFrame>
      <p:sp>
        <p:nvSpPr>
          <p:cNvPr id="1834" name="Прямоугольник 4"/>
          <p:cNvSpPr/>
          <p:nvPr/>
        </p:nvSpPr>
        <p:spPr>
          <a:xfrm>
            <a:off x="2087640" y="4475160"/>
            <a:ext cx="9101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Times New Roman"/>
                <a:ea typeface="Calibri"/>
              </a:rPr>
              <a:t>При проведении экстракорпоральной мембранной оксигенации, по суткам пациент должен показываться один раз в строке по времени замещения (Например: если пациент находится на экстракорпоральной мембранной оксигенации в пределах 1 суток, то отмечается только в этой строке и т. д.) Такое же распределение и по умершим во время проведения экстракорпоральной мембранной оксигенаци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1769760" y="409680"/>
            <a:ext cx="95346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№290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6" name=""/>
          <p:cNvSpPr txBox="1"/>
          <p:nvPr/>
        </p:nvSpPr>
        <p:spPr>
          <a:xfrm>
            <a:off x="1769760" y="1509480"/>
            <a:ext cx="98838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44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у необходимо включать все случаи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ломов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ксимального отдела бедренной кости у пациентов старше трудоспособного возраста, из числа выписанных пациентов старше трудоспособного возраста (т.2000, строка 20.0, графа 13) с кодами по МКБ-1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.0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.1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.2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44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448920" algn="just"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3 «эндопротезирование» показывается из строки 2 «получили медицинскую помощь в форме хирургического вмешательства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1493640" y="178920"/>
            <a:ext cx="1001844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291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838" name=""/>
          <p:cNvGraphicFramePr/>
          <p:nvPr/>
        </p:nvGraphicFramePr>
        <p:xfrm>
          <a:off x="1668600" y="915840"/>
          <a:ext cx="10209240" cy="5222880"/>
        </p:xfrm>
        <a:graphic>
          <a:graphicData uri="http://schemas.openxmlformats.org/drawingml/2006/table">
            <a:tbl>
              <a:tblPr/>
              <a:tblGrid>
                <a:gridCol w="1539720"/>
                <a:gridCol w="569880"/>
                <a:gridCol w="465120"/>
                <a:gridCol w="493920"/>
                <a:gridCol w="484200"/>
                <a:gridCol w="466560"/>
                <a:gridCol w="474840"/>
                <a:gridCol w="502920"/>
                <a:gridCol w="493920"/>
                <a:gridCol w="466560"/>
                <a:gridCol w="522360"/>
                <a:gridCol w="465120"/>
                <a:gridCol w="484200"/>
                <a:gridCol w="504720"/>
                <a:gridCol w="466920"/>
                <a:gridCol w="563400"/>
                <a:gridCol w="565200"/>
                <a:gridCol w="679680"/>
              </a:tblGrid>
              <a:tr h="25920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о МКБ-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 gridSpan="16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 (из табл. 2000 гр.4 и гр.22) в возраст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-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-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-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-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-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-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-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-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-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-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 и старш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</a:tr>
              <a:tr h="42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арный диабет (из стр. 5.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10-Е11, Е13-Е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</a:tr>
              <a:tr h="928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, характеризующиеся повышенным кровяным давлением (из стр. 10.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10-I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</a:tr>
              <a:tr h="59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ническая ишемическая болезнь сердца (стр.  10.4.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</a:tr>
              <a:tr h="59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хит хронический и неуточненный, эмфизема (стр.11.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40-J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</a:tr>
              <a:tr h="761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ая хроническая обструктивная легочная болезнь (стр.11.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</a:tr>
              <a:tr h="42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хоэктатическая болезнь (стр.11.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</a:tr>
              <a:tr h="42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ма; астматический статус (стр. 11.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45, J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2" name="Заголовок 1" descr=""/>
          <p:cNvPicPr/>
          <p:nvPr/>
        </p:nvPicPr>
        <p:blipFill>
          <a:blip r:embed="rId1"/>
          <a:stretch/>
        </p:blipFill>
        <p:spPr>
          <a:xfrm>
            <a:off x="1560600" y="1090440"/>
            <a:ext cx="1040580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1693800" y="105840"/>
            <a:ext cx="100188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2910 продолжени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840" name=""/>
          <p:cNvGraphicFramePr/>
          <p:nvPr/>
        </p:nvGraphicFramePr>
        <p:xfrm>
          <a:off x="1484280" y="657360"/>
          <a:ext cx="10437840" cy="5068800"/>
        </p:xfrm>
        <a:graphic>
          <a:graphicData uri="http://schemas.openxmlformats.org/drawingml/2006/table">
            <a:tbl>
              <a:tblPr/>
              <a:tblGrid>
                <a:gridCol w="1747800"/>
                <a:gridCol w="655560"/>
                <a:gridCol w="524160"/>
                <a:gridCol w="461880"/>
                <a:gridCol w="461880"/>
                <a:gridCol w="390600"/>
                <a:gridCol w="496800"/>
                <a:gridCol w="506520"/>
                <a:gridCol w="541440"/>
                <a:gridCol w="496800"/>
                <a:gridCol w="531720"/>
                <a:gridCol w="523800"/>
                <a:gridCol w="435240"/>
                <a:gridCol w="434880"/>
                <a:gridCol w="523800"/>
                <a:gridCol w="444600"/>
                <a:gridCol w="541080"/>
                <a:gridCol w="719280"/>
              </a:tblGrid>
              <a:tr h="25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о МКБ-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 gridSpan="16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ациентов (из табл. 2000 гр.8 и гр.28) в возраст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-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-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-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-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-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-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-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-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-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-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 и старш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</a:tr>
              <a:tr h="42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арный диабет (из стр. 5.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10-Е11, Е13-Е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</a:tr>
              <a:tr h="761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, характеризующиеся повышенным кровяным давлением (из стр. 10.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10-I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</a:tr>
              <a:tr h="59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ническая ишемическая болезнь сердца (стр.  10.4.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</a:tr>
              <a:tr h="59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хит хронический и неуточненный, эмфизема (стр.11.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40-J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</a:tr>
              <a:tr h="59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ая хроническая обструктивная легочная болезнь (стр.11.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</a:tr>
              <a:tr h="42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хоэктатическая болезнь (стр.11.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</a:tr>
              <a:tr h="42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ма; астматический статус (стр. 11.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45, J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41" name="Прямоугольник 1"/>
          <p:cNvSpPr/>
          <p:nvPr/>
        </p:nvSpPr>
        <p:spPr>
          <a:xfrm>
            <a:off x="2157480" y="5784840"/>
            <a:ext cx="976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Обратите внимание!!! что в программе Медстат, выписанные и умершие пациенты заполняются в одной таблице. (только в печатном варианте таблица выходит в виде отдельных таблиц по выписанным и умершим)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1695240" y="479160"/>
            <a:ext cx="944244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3000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Состав новорожденных с заболеваниями, поступивших в возрасте 0-6 дней жизни, и исходы их лечения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3" name=""/>
          <p:cNvSpPr txBox="1"/>
          <p:nvPr/>
        </p:nvSpPr>
        <p:spPr>
          <a:xfrm>
            <a:off x="2058480" y="2048040"/>
            <a:ext cx="9542520" cy="400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just"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10000"/>
              </a:lnSpc>
              <a:spcBef>
                <a:spcPts val="476"/>
              </a:spcBef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10000"/>
              </a:lnSpc>
              <a:spcBef>
                <a:spcPts val="476"/>
              </a:spcBef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заполняется только теми медицинскими организациями, в которые поступили новорожденные указанного возраста </a:t>
            </a:r>
            <a:r>
              <a:rPr b="1" lang="ru-RU" sz="1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 других медицинских организаций и в данной организации есть койки для выхаживания недоношенных и патологии новорожденных! (Перинатальные центры показывают только детей,  поступивших из других медицинских организаций на лечение. Переводы между отделениями одной организации не показывать)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10000"/>
              </a:lnSpc>
              <a:spcBef>
                <a:spcPts val="476"/>
              </a:spcBef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9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В таблицу </a:t>
            </a:r>
            <a:r>
              <a:rPr b="1" lang="ru-RU" sz="1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включаются </a:t>
            </a:r>
            <a:r>
              <a:rPr b="1" lang="ru-RU" sz="19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сведения о больных и заболевших детях (плодах), оставленных в палатах новорожденных мед. организаций (отделений) родовспоможения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10000"/>
              </a:lnSpc>
              <a:spcBef>
                <a:spcPts val="476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1550880" y="157320"/>
            <a:ext cx="100173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4000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Хирургическая работа организации)</a:t>
            </a:r>
            <a:br>
              <a:rPr sz="2400"/>
            </a:b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5" name=""/>
          <p:cNvSpPr txBox="1"/>
          <p:nvPr/>
        </p:nvSpPr>
        <p:spPr>
          <a:xfrm>
            <a:off x="2049120" y="1508040"/>
            <a:ext cx="9410760" cy="506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just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Если одному и тому же пациенту произведено несколько операций, то он будет показан в таблице столько раз, сколько операций ему произведено, независимо от того, одномоментно или в разные сроки были произведены эти операци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Операция, произведенная в несколько этапов, в случае если пациент не выписывался из стационара в промежутки между этапами операции, учитывается как одна операция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Операции на сосудах  (строка 8) и операции на нервной системе (строка 2)  не должны дублироватьс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Если данные операции подходят как для строки 8, так и для строки 2, следует  отметить их только в одной строке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c5a82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Calibri"/>
              </a:rPr>
              <a:t>Строка 8 «Операции на сосудах» равна сумме строк 8.1. «Операции на артериях» и 8.2. «Операции на венах» по всем графам!!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материалы в ходе операции по внематочной беременности должны в 100% направляться на морфологическое исследование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2058840" y="168120"/>
            <a:ext cx="929016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4000 (Хирургическая работа организации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должение)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7" name=""/>
          <p:cNvSpPr txBox="1"/>
          <p:nvPr/>
        </p:nvSpPr>
        <p:spPr>
          <a:xfrm>
            <a:off x="1828800" y="976320"/>
            <a:ext cx="10182240" cy="55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spcBef>
                <a:spcPts val="575"/>
              </a:spcBef>
              <a:spcAft>
                <a:spcPts val="6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В графе «умерло оперированных в стационаре» указывается число умерших оперированных пациентов, независимо от того, что послужило причиной смерти: заболевание, по поводу которого была произведена операция, осложнение при или после операции или другие заболевани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spcAft>
                <a:spcPts val="6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c5a82"/>
                </a:solidFill>
                <a:latin typeface="Times New Roman"/>
                <a:ea typeface="Times New Roman"/>
              </a:rPr>
              <a:t>Например. </a:t>
            </a:r>
            <a:r>
              <a:rPr b="1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Случаи, когда пациент, оперированный по поводу катаракты,   аппендицита, грыжи и т. д., умер от инфаркта миокарда, инсульта и т. д.,  развившихся после операци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В случае смерти пациента, перенесшего несколько операций, как умершего его следуют показывать лишь по одной операции (наиболее серьезной и радикальной)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графе 28 необходимо указывать число направленных материалов на морфологическое исследование </a:t>
            </a:r>
            <a:r>
              <a:rPr b="1" lang="ru-RU" sz="2000" spc="-1" strike="noStrike" u="sng">
                <a:solidFill>
                  <a:srgbClr val="a50021"/>
                </a:solidFill>
                <a:uFillTx/>
                <a:latin typeface="Times New Roman"/>
              </a:rPr>
              <a:t>по числу операций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З РФ от 24 марта 2016 г. № 179Н) </a:t>
            </a:r>
            <a:r>
              <a:rPr b="1" i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Не забывайте заполнять графу 28!!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ить расшифровку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рочих» операци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 вошедших в предлагаемый  перечен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Прямоугольник 1"/>
          <p:cNvSpPr/>
          <p:nvPr/>
        </p:nvSpPr>
        <p:spPr>
          <a:xfrm>
            <a:off x="2192400" y="152280"/>
            <a:ext cx="855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4001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Хирургическая работа организац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старше трудоспособного возраста)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9" name="Прямоугольник 2"/>
          <p:cNvSpPr/>
          <p:nvPr/>
        </p:nvSpPr>
        <p:spPr>
          <a:xfrm>
            <a:off x="1589040" y="2251080"/>
            <a:ext cx="9917280" cy="11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7000"/>
              </a:lnSpc>
              <a:spcAft>
                <a:spcPts val="799"/>
              </a:spcAft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ебования к заполнению т.4001 точно такие же, как и к заполнению т.4000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just">
              <a:lnSpc>
                <a:spcPct val="107000"/>
              </a:lnSpc>
              <a:spcAft>
                <a:spcPts val="799"/>
              </a:spcAft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следует забывать, что сведения в т.4001 следуют из т.4000 и необходимо принимать во внимание заложенные для этого контроли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4110 (виды анестезий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1" name=""/>
          <p:cNvSpPr txBox="1"/>
          <p:nvPr/>
        </p:nvSpPr>
        <p:spPr>
          <a:xfrm>
            <a:off x="1623960" y="1294920"/>
            <a:ext cx="10136160" cy="372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ную анестезию в данную таблицу не включать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0 равна сумме строк с 1 по 9 включительно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«умерло пациентов» указываются данные только по умершим от проводимой анестези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1484280" y="163440"/>
            <a:ext cx="10018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4201 (проведено трансплантаций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3" name=""/>
          <p:cNvSpPr txBox="1"/>
          <p:nvPr/>
        </p:nvSpPr>
        <p:spPr>
          <a:xfrm>
            <a:off x="1614240" y="828360"/>
            <a:ext cx="10018440" cy="585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just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у вносится информация о пересадке органов, а из тканей – только о костном мозг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пересадке тканей (роговицы, свободного кожного лоскута и т.д.)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вносятс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у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показываютс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нструктивно-пластические операции с использованием аутотрансплантатов органов или тканей человека, а также с использованием медицинских изделий, полученных из органов или тканей человек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братить внимание, что строка 1 равна сумме строк 2-9 по всем графам. Строка 10 не суммируетс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в т. 4201 по числу проведенных трансплантаций должны соответствовать данным из формы №63 «Сведения о донорстве органов и тканей и трансплантации в медицинских организациях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каз МЗ РФ от 8 июня 2016 г. № 355н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9 необходимо указывать число направленных материалов на морфологическое исследование </a:t>
            </a:r>
            <a:r>
              <a:rPr b="1" lang="ru-RU" sz="20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по числу трансплантаций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З РФ от 24 марта 2016 г. № 179Н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1739880" y="431280"/>
            <a:ext cx="94680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КОТОРЫЕ УСЛОВИЯ КОНТРОЛЯ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Таблица 2000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5" name=""/>
          <p:cNvSpPr txBox="1"/>
          <p:nvPr/>
        </p:nvSpPr>
        <p:spPr>
          <a:xfrm>
            <a:off x="1510920" y="1460160"/>
            <a:ext cx="9893160" cy="458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just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ШЕМИЧЕСКИЕ БОЛЕЗНИ СЕРДЦ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: СТРОКА 10.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графам 4-12, 13-21, 22-33 должна быть равна сумме строк: 10.4.1 + 10.4.2 + 10.4.3 +10.4.4 +10.4.5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0.4.1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а быть равна «0» по графам 8-12,17-21,28-33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РЕБРОВАСКУЛЯРНЫЕ БОЛЕЗН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: СТРОКА 10.7 </a:t>
            </a:r>
            <a:r>
              <a:rPr b="0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по графам 4-7, 13-16, 22-27 должна быть строго равна сумме строк: 10.7.1 + 10.7.2 + 10.7.3 + 10.7.4 + 10.7.5 + 10.7.6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: СТРОКА 10.7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графам 8-12, 17-21, 28-33 может быть больше суммы строк: 10.7.1 + 10.7.2 + 10.7.3 + 10.7.4 + 10.7.5 + 10.7.6 за счет рубрики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69 </a:t>
            </a:r>
            <a:r>
              <a:rPr b="0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«Последствия цереброваскулярных болезней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2198520" y="190440"/>
            <a:ext cx="919656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КОТОРЫЕ УСЛОВИЯ КОНТРОЛЯ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продолжение) (Таблица 2000 – ДЕТИ*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7" name="Прямоугольник 5"/>
          <p:cNvSpPr/>
          <p:nvPr/>
        </p:nvSpPr>
        <p:spPr>
          <a:xfrm>
            <a:off x="2320920" y="6451560"/>
            <a:ext cx="898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*Эти диагнозы не могут быть причиной болезни детей в возрасте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до 1 год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858" name=""/>
          <p:cNvGraphicFramePr/>
          <p:nvPr/>
        </p:nvGraphicFramePr>
        <p:xfrm>
          <a:off x="2198520" y="957240"/>
          <a:ext cx="9196560" cy="5486400"/>
        </p:xfrm>
        <a:graphic>
          <a:graphicData uri="http://schemas.openxmlformats.org/drawingml/2006/table">
            <a:tbl>
              <a:tblPr/>
              <a:tblGrid>
                <a:gridCol w="4519800"/>
                <a:gridCol w="1474920"/>
                <a:gridCol w="1449360"/>
                <a:gridCol w="1752480"/>
              </a:tblGrid>
              <a:tr h="809640">
                <a:tc>
                  <a:txBody>
                    <a:bodyPr lIns="90000" rIns="90000" anchor="ctr">
                      <a:noAutofit/>
                    </a:bodyPr>
                    <a:p>
                      <a:pPr marL="345960" indent="-34596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д п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КБ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возрасте до 1 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</a:tr>
              <a:tr h="808200">
                <a:tc>
                  <a:txBody>
                    <a:bodyPr lIns="90000" rIns="90000" anchor="ctr">
                      <a:noAutofit/>
                    </a:bodyPr>
                    <a:p>
                      <a:pPr marL="345960" indent="-34596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хит хронический и  неуточненный, эмфизе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40-J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</a:tr>
              <a:tr h="809640">
                <a:tc>
                  <a:txBody>
                    <a:bodyPr lIns="90000" rIns="90000" anchor="ctr">
                      <a:noAutofit/>
                    </a:bodyPr>
                    <a:p>
                      <a:pPr marL="345960" indent="-34596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ая хроническая обструктивная  легочная болезн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448920">
                <a:tc>
                  <a:txBody>
                    <a:bodyPr lIns="90000" rIns="90000" anchor="ctr">
                      <a:noAutofit/>
                    </a:bodyPr>
                    <a:p>
                      <a:pPr marL="345960" indent="-34596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хоэктатическая болез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</a:tr>
              <a:tr h="451080">
                <a:tc>
                  <a:txBody>
                    <a:bodyPr lIns="90000" rIns="90000" anchor="ctr">
                      <a:noAutofit/>
                    </a:bodyPr>
                    <a:p>
                      <a:pPr marL="345960" indent="-34596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функция яич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449280">
                <a:tc>
                  <a:txBody>
                    <a:bodyPr lIns="90000" rIns="90000" anchor="ctr">
                      <a:noAutofit/>
                    </a:bodyPr>
                    <a:p>
                      <a:pPr marL="345960" indent="-34596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функция яич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</a:tr>
              <a:tr h="450720">
                <a:tc>
                  <a:txBody>
                    <a:bodyPr lIns="90000" rIns="90000" anchor="ctr">
                      <a:noAutofit/>
                    </a:bodyPr>
                    <a:p>
                      <a:pPr marL="345960" indent="-34596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ройства менструа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91-N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449280">
                <a:tc>
                  <a:txBody>
                    <a:bodyPr lIns="90000" rIns="90000" anchor="ctr">
                      <a:noAutofit/>
                    </a:bodyPr>
                    <a:p>
                      <a:pPr marL="345960" indent="-34596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ое бесплод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</a:tr>
              <a:tr h="809640">
                <a:tc>
                  <a:txBody>
                    <a:bodyPr lIns="90000" rIns="90000" anchor="ctr">
                      <a:noAutofit/>
                    </a:bodyPr>
                    <a:p>
                      <a:pPr marL="345960" indent="-34596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1704600" y="279360"/>
            <a:ext cx="9575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УТРИФОРМЕННЫЙ КОНТРОЛ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0" name=""/>
          <p:cNvSpPr txBox="1"/>
          <p:nvPr/>
        </p:nvSpPr>
        <p:spPr>
          <a:xfrm>
            <a:off x="1968120" y="1193400"/>
            <a:ext cx="9194760" cy="231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Количество умерших новорожденных, указанных в </a:t>
            </a:r>
            <a:r>
              <a:rPr b="1" lang="ru-RU" sz="20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таб. 2200 «Из общего числа умерших (стр.1) </a:t>
            </a:r>
            <a:r>
              <a:rPr b="1" lang="ru-RU" sz="2000" spc="-1" strike="noStrike" u="sng">
                <a:solidFill>
                  <a:srgbClr val="7d5013"/>
                </a:solidFill>
                <a:uFillTx/>
                <a:latin typeface="Times New Roman"/>
                <a:ea typeface="Times New Roman"/>
              </a:rPr>
              <a:t>умерло новорожденных в первые 168 часов жизни</a:t>
            </a:r>
            <a:r>
              <a:rPr b="0" lang="ru-RU" sz="20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»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не должно превышать число, указанное в </a:t>
            </a:r>
            <a:r>
              <a:rPr b="1" lang="ru-RU" sz="20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табл. 2000 «дети от 0-17 лет», гр. </a:t>
            </a:r>
            <a:r>
              <a:rPr b="1" lang="en-US" sz="20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33</a:t>
            </a:r>
            <a:r>
              <a:rPr b="1" lang="ru-RU" sz="20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 «</a:t>
            </a:r>
            <a:r>
              <a:rPr b="1" lang="ru-RU" sz="2000" spc="-1" strike="noStrike" u="sng">
                <a:solidFill>
                  <a:srgbClr val="7d5013"/>
                </a:solidFill>
                <a:uFillTx/>
                <a:latin typeface="Times New Roman"/>
                <a:ea typeface="Times New Roman"/>
              </a:rPr>
              <a:t>Умерло в возрасте до 1 года</a:t>
            </a:r>
            <a:r>
              <a:rPr b="0" lang="ru-RU" sz="20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861" name="Прямоугольник 3"/>
          <p:cNvGrpSpPr/>
          <p:nvPr/>
        </p:nvGrpSpPr>
        <p:grpSpPr>
          <a:xfrm>
            <a:off x="1785960" y="3395520"/>
            <a:ext cx="9504360" cy="2401920"/>
            <a:chOff x="1785960" y="3395520"/>
            <a:chExt cx="9504360" cy="2401920"/>
          </a:xfrm>
        </p:grpSpPr>
        <p:pic>
          <p:nvPicPr>
            <p:cNvPr id="1862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785960" y="3395520"/>
              <a:ext cx="950436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3" name=""/>
            <p:cNvSpPr/>
            <p:nvPr/>
          </p:nvSpPr>
          <p:spPr>
            <a:xfrm>
              <a:off x="1968480" y="3505320"/>
              <a:ext cx="9194760" cy="21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200)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Из общего числа умерших (стр.1) </a:t>
              </a:r>
              <a:r>
                <a:rPr b="0" lang="ru-RU" sz="2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умерло новорожденных в первые 168 часов жизни </a:t>
              </a:r>
              <a:r>
                <a:rPr b="1" lang="ru-RU" sz="2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1 _______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мерло в первые 24 часа после поступления в стационар: в возрасте 0 - 24 часа после рождения 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________ ,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них недоношенных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 _______ ,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 1 года (без умерших в первые 24 часа после рождения)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 ______ ,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том числе от пневмонии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 ________ .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864" name="Line 9"/>
          <p:cNvSpPr/>
          <p:nvPr/>
        </p:nvSpPr>
        <p:spPr>
          <a:xfrm>
            <a:off x="2967120" y="2108160"/>
            <a:ext cx="1371600" cy="2247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1579320" y="499680"/>
            <a:ext cx="100184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ЫДЕРЖКА ИЗ УКАЗАНИЯ ПО ЗАПОЛНЕНИЮ ФОРМЫ ФЕДЕРАЛЬНОГО СТАТИСТИЧЕСКОГО НАБЛЮДЕ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4" name=""/>
          <p:cNvSpPr txBox="1"/>
          <p:nvPr/>
        </p:nvSpPr>
        <p:spPr>
          <a:xfrm>
            <a:off x="1788840" y="1996560"/>
            <a:ext cx="9599400" cy="358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федерального статистического наблюдения №14 была утверждена приказом Росстата от 25.12.2023 №681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44928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федерального статистического наблюдения №14 «Сведения о деятельности подразделений медицинской организации, оказывающих медицинскую помощь в стационарных условиях», составляется всеми медицинскими организациями - юридическими лицами, оказывающими медицинскую помощь в стационарных условиях (Приказ Минздрава России от 6 августа 2013г. №529н « Об утверждении номенклатуры медицинских организаций», зарегистрирован Минюстом России 13 сентября 2013г. №29950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1484280" y="368280"/>
            <a:ext cx="100188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УТРИФОРМЕННЫЙ КОНТРОЛЬ (продолжени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6" name=""/>
          <p:cNvSpPr txBox="1"/>
          <p:nvPr/>
        </p:nvSpPr>
        <p:spPr>
          <a:xfrm>
            <a:off x="1777680" y="1549440"/>
            <a:ext cx="93726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2000" spc="-1" strike="noStrike" u="sng">
                <a:solidFill>
                  <a:srgbClr val="7d5013"/>
                </a:solidFill>
                <a:uFillTx/>
                <a:latin typeface="Times New Roman"/>
                <a:ea typeface="Times New Roman"/>
              </a:rPr>
              <a:t>умерших беременных, рожениц и родильниц</a:t>
            </a:r>
            <a:r>
              <a:rPr b="1" lang="ru-RU" sz="20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,</a:t>
            </a:r>
            <a:r>
              <a:rPr b="0" lang="ru-RU" sz="20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указанных </a:t>
            </a:r>
            <a:r>
              <a:rPr b="1" lang="ru-RU" sz="2000" spc="-1" strike="noStrike" u="sng">
                <a:solidFill>
                  <a:srgbClr val="7d5013"/>
                </a:solidFill>
                <a:uFillTx/>
                <a:latin typeface="Times New Roman"/>
                <a:ea typeface="Times New Roman"/>
              </a:rPr>
              <a:t>в табл. 2400 </a:t>
            </a:r>
            <a:r>
              <a:rPr b="0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не должно быть больше, чем в </a:t>
            </a:r>
            <a:r>
              <a:rPr b="1" lang="ru-RU" sz="20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табл. 2000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867" name="Скругленный прямоугольник 3"/>
          <p:cNvGrpSpPr/>
          <p:nvPr/>
        </p:nvGrpSpPr>
        <p:grpSpPr>
          <a:xfrm>
            <a:off x="1798560" y="3170160"/>
            <a:ext cx="9472680" cy="2859120"/>
            <a:chOff x="1798560" y="3170160"/>
            <a:chExt cx="9472680" cy="2859120"/>
          </a:xfrm>
        </p:grpSpPr>
        <p:pic>
          <p:nvPicPr>
            <p:cNvPr id="1868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798560" y="3170160"/>
              <a:ext cx="9472680" cy="28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9" name=""/>
            <p:cNvSpPr/>
            <p:nvPr/>
          </p:nvSpPr>
          <p:spPr>
            <a:xfrm>
              <a:off x="2044800" y="3403440"/>
              <a:ext cx="8978760" cy="23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ru-RU" sz="2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2400)</a:t>
              </a:r>
              <a:r>
                <a:rPr b="0" lang="ru-RU" sz="2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Умерло беременных, рожениц и родильниц (при сроке беременности 22 недель и более)  </a:t>
              </a:r>
              <a:r>
                <a:rPr b="1" lang="ru-RU" sz="2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1 __________ , </a:t>
              </a:r>
              <a:r>
                <a:rPr b="0" lang="ru-RU" sz="2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из них умерло от заболеваний, осложнивших беременность и роды </a:t>
              </a:r>
              <a:r>
                <a:rPr b="1" lang="ru-RU" sz="2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2 ________ .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870" name="Line 9"/>
          <p:cNvSpPr/>
          <p:nvPr/>
        </p:nvSpPr>
        <p:spPr>
          <a:xfrm>
            <a:off x="4175280" y="2303640"/>
            <a:ext cx="801360" cy="2336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1484280" y="177840"/>
            <a:ext cx="10018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УТРИФОРМЕННЫЙ КОНТРОЛЬ (продолжени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2" name=""/>
          <p:cNvSpPr txBox="1"/>
          <p:nvPr/>
        </p:nvSpPr>
        <p:spPr>
          <a:xfrm>
            <a:off x="1752120" y="1308240"/>
            <a:ext cx="9512280" cy="14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20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умерших от инфаркта миокарда  (таб. 2000, стр. 10.4.2 + стр. 10.4.3)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не должно быть меньше числа </a:t>
            </a:r>
            <a:r>
              <a:rPr b="1" lang="ru-RU" sz="20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умерших от инфаркта миокарда (стр. 10.4.2 + стр. 10.4.3) в первые 24 часа после поступления в стационар (таб. 2300, гр.5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873" name="Скругленный прямоугольник 3"/>
          <p:cNvGrpSpPr/>
          <p:nvPr/>
        </p:nvGrpSpPr>
        <p:grpSpPr>
          <a:xfrm>
            <a:off x="1785960" y="2517840"/>
            <a:ext cx="9472680" cy="4084560"/>
            <a:chOff x="1785960" y="2517840"/>
            <a:chExt cx="9472680" cy="4084560"/>
          </a:xfrm>
        </p:grpSpPr>
        <p:pic>
          <p:nvPicPr>
            <p:cNvPr id="1874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785960" y="2517840"/>
              <a:ext cx="9472680" cy="40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5" name=""/>
            <p:cNvSpPr/>
            <p:nvPr/>
          </p:nvSpPr>
          <p:spPr>
            <a:xfrm>
              <a:off x="2092320" y="2816280"/>
              <a:ext cx="8858160" cy="34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2300)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Поступило пациентов с инфарктом миокарда в стационар в первые сутки от начала заболевания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_______ ,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том числе в первые 12 часов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_______ ,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них проведена тромболитическая терапия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 ______ ,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ентирование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 _______ ; </a:t>
              </a:r>
              <a:r>
                <a:rPr b="0" lang="ru-RU" sz="2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из общего числа умерших умерло пациентов с инфарктом миокарда (стр. 10.4.2+10.4.3) в первые 24 часа после поступления в стационар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5 ______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,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том числе в возрасте до 65 лет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6 _______ ,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числа умерших в первые в 24 часа поступления в стационар пациентов с инфарктом миокарда проведена тромболитическая терапия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 ________ ,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ентирование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 ________ . 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876" name="Line 9"/>
          <p:cNvSpPr/>
          <p:nvPr/>
        </p:nvSpPr>
        <p:spPr>
          <a:xfrm>
            <a:off x="2592360" y="2147760"/>
            <a:ext cx="541440" cy="2957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93218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УТРИФОРМЕННЫЙ КОНТРОЛЬ (продолжени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8" name=""/>
          <p:cNvSpPr txBox="1"/>
          <p:nvPr/>
        </p:nvSpPr>
        <p:spPr>
          <a:xfrm>
            <a:off x="1904760" y="1510920"/>
            <a:ext cx="9219960" cy="17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Необходимо проводить сверку числа </a:t>
            </a:r>
            <a:r>
              <a:rPr b="1" lang="ru-RU" sz="20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«умерших в первые 24 часа после поступления в стационар»: «детей (0-17 лет вкл.)» </a:t>
            </a:r>
            <a:r>
              <a:rPr b="0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и пациентов </a:t>
            </a:r>
            <a:r>
              <a:rPr b="1" lang="ru-RU" sz="20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«в возрасте от 18 до 65 лет»</a:t>
            </a:r>
            <a:r>
              <a:rPr b="0" lang="ru-RU" sz="20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с таблицей </a:t>
            </a:r>
            <a:r>
              <a:rPr b="1" lang="ru-RU" sz="20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2000, гр. «умерло»</a:t>
            </a:r>
            <a:r>
              <a:rPr b="0" lang="ru-RU" sz="20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879" name="Прямоугольник 3"/>
          <p:cNvGrpSpPr/>
          <p:nvPr/>
        </p:nvGrpSpPr>
        <p:grpSpPr>
          <a:xfrm>
            <a:off x="1706400" y="3230640"/>
            <a:ext cx="9552240" cy="1731960"/>
            <a:chOff x="1706400" y="3230640"/>
            <a:chExt cx="9552240" cy="1731960"/>
          </a:xfrm>
        </p:grpSpPr>
        <p:pic>
          <p:nvPicPr>
            <p:cNvPr id="1880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706400" y="3230640"/>
              <a:ext cx="95522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1" name=""/>
            <p:cNvSpPr/>
            <p:nvPr/>
          </p:nvSpPr>
          <p:spPr>
            <a:xfrm>
              <a:off x="1905120" y="3378240"/>
              <a:ext cx="921996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500)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общего числа умерших (стр.1) умерло в первые 24 часа после поступления в стационар: </a:t>
              </a:r>
              <a:r>
                <a:rPr b="0" lang="ru-RU" sz="2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детей в возрасте 0-17 лет включительно </a:t>
              </a:r>
              <a:r>
                <a:rPr b="1" lang="ru-RU" sz="2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1 _________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ациентов </a:t>
              </a:r>
              <a:r>
                <a:rPr b="0" lang="ru-RU" sz="2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в возрасте от 18 до 65 лет </a:t>
              </a:r>
              <a:r>
                <a:rPr b="1" lang="ru-RU" sz="2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2 _______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,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них пациентов с острыми цереброваскулярными болезнями  (стр. 10.7.1-10.7.4)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 _________ .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882" name="Line 9"/>
          <p:cNvSpPr/>
          <p:nvPr/>
        </p:nvSpPr>
        <p:spPr>
          <a:xfrm>
            <a:off x="6684840" y="2230560"/>
            <a:ext cx="3641760" cy="1788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3" name="Line 9"/>
          <p:cNvSpPr/>
          <p:nvPr/>
        </p:nvSpPr>
        <p:spPr>
          <a:xfrm>
            <a:off x="2725560" y="2476440"/>
            <a:ext cx="3789720" cy="1816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1714680" y="558360"/>
            <a:ext cx="952488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УТРИФОРМЕННЫЙ КОНТРОЛЬ (продолжени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5" name=""/>
          <p:cNvSpPr txBox="1"/>
          <p:nvPr/>
        </p:nvSpPr>
        <p:spPr>
          <a:xfrm>
            <a:off x="1714680" y="1371240"/>
            <a:ext cx="9423360" cy="255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20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умерших</a:t>
            </a:r>
            <a:r>
              <a:rPr b="0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пациентов </a:t>
            </a:r>
            <a:r>
              <a:rPr b="1" lang="ru-RU" sz="20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в таб. 2000</a:t>
            </a:r>
            <a:r>
              <a:rPr b="0" lang="ru-RU" sz="20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с острыми цереброваскулярными болезнями  (стр. 10.7.1-10.7.4)  </a:t>
            </a:r>
            <a:r>
              <a:rPr b="0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не должно быть меньше числа </a:t>
            </a:r>
            <a:r>
              <a:rPr b="1" lang="ru-RU" sz="20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умерших</a:t>
            </a:r>
            <a:r>
              <a:rPr b="0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пациентов </a:t>
            </a:r>
            <a:r>
              <a:rPr b="1" lang="ru-RU" sz="20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в первые 24 часа после поступления в стационар в возрасте от 18 до 65 лет с острыми цереброваскулярными болезнями (стр. 10.7.1-10.7.4), указанных в  таб. 2500, гр.3</a:t>
            </a:r>
            <a:r>
              <a:rPr b="0" lang="ru-RU" sz="20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886" name="Скругленный прямоугольник 4"/>
          <p:cNvGrpSpPr/>
          <p:nvPr/>
        </p:nvGrpSpPr>
        <p:grpSpPr>
          <a:xfrm>
            <a:off x="2090880" y="3584520"/>
            <a:ext cx="8772480" cy="2719440"/>
            <a:chOff x="2090880" y="3584520"/>
            <a:chExt cx="8772480" cy="2719440"/>
          </a:xfrm>
        </p:grpSpPr>
        <p:pic>
          <p:nvPicPr>
            <p:cNvPr id="1887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2090880" y="3584520"/>
              <a:ext cx="8772480" cy="27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8" name=""/>
            <p:cNvSpPr/>
            <p:nvPr/>
          </p:nvSpPr>
          <p:spPr>
            <a:xfrm>
              <a:off x="2332080" y="3813120"/>
              <a:ext cx="8289720" cy="22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rbel"/>
                </a:rPr>
                <a:t>(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500)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общего числа умерших (стр.1) умерло в первые 24 часа после поступления в стационар: детей в возрасте 0-17 лет включительно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_________, </a:t>
              </a:r>
              <a:r>
                <a:rPr b="0" lang="ru-RU" sz="2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ациентов в возрасте от 18 до 65 лет </a:t>
              </a:r>
              <a:r>
                <a:rPr b="1" lang="ru-RU" sz="2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2 _______ , </a:t>
              </a:r>
              <a:r>
                <a:rPr b="0" lang="ru-RU" sz="2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из них пациентов с острыми цереброваскулярными болезнями  (стр. 10.7.1-10.7.4) 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3 _________ .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cxnSp>
        <p:nvCxnSpPr>
          <p:cNvPr id="1889" name="Прямая со стрелкой 5"/>
          <p:cNvCxnSpPr/>
          <p:nvPr/>
        </p:nvCxnSpPr>
        <p:spPr>
          <a:xfrm>
            <a:off x="2743200" y="3165120"/>
            <a:ext cx="835920" cy="2615400"/>
          </a:xfrm>
          <a:prstGeom prst="straightConnector1">
            <a:avLst/>
          </a:prstGeom>
          <a:ln cap="sq" w="12600">
            <a:solidFill>
              <a:srgbClr val="d64a3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1765440" y="291960"/>
            <a:ext cx="96012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УТРИФОРМЕННЫЙ КОНТРОЛЬ (продолжени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1" name=""/>
          <p:cNvSpPr txBox="1"/>
          <p:nvPr/>
        </p:nvSpPr>
        <p:spPr>
          <a:xfrm>
            <a:off x="1765080" y="1181160"/>
            <a:ext cx="9093240" cy="355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82680" indent="-382680" algn="just">
              <a:lnSpc>
                <a:spcPct val="9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Сумма числа </a:t>
            </a:r>
            <a:r>
              <a:rPr b="1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умерших взрослых в возрасте до 65 лет от инфаркта миокарда</a:t>
            </a:r>
            <a:r>
              <a:rPr b="0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(стр. 10.4.2 +10.4.3)  в первые 24 часа после поступления в стационар (таб. 2300, гр. 6) и </a:t>
            </a:r>
            <a:r>
              <a:rPr b="1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пациентов с острыми ЦВБ</a:t>
            </a:r>
            <a:r>
              <a:rPr b="0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(из табл. 2000 стр. 10.7.1-10.7.4) также умерших в первые 24 часа после поступления в стационар в возрасте от 18 до 65 лет (таб. 2500, гр.3), </a:t>
            </a:r>
            <a:r>
              <a:rPr b="1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не должно быть больше</a:t>
            </a:r>
            <a:r>
              <a:rPr b="0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исла умерших в первые 24 часа после поступления в стационар в возрасте от 18 до 65 лет</a:t>
            </a:r>
            <a:r>
              <a:rPr b="0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, указанного в таб. 2500, гр. 2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82680" indent="-3826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2" name="Стрелка вниз 3"/>
          <p:cNvSpPr/>
          <p:nvPr/>
        </p:nvSpPr>
        <p:spPr>
          <a:xfrm>
            <a:off x="5446800" y="4444920"/>
            <a:ext cx="1728720" cy="165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8c8c8"/>
          </a:solidFill>
          <a:ln w="34920">
            <a:solidFill>
              <a:srgbClr val="656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1665360" y="343080"/>
            <a:ext cx="9634320" cy="72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Таб. 2300, гр. 7 + таб. 2500, гр.3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&lt;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или =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таб. 2500, гр. 2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894" name="Скругленный прямоугольник 3"/>
          <p:cNvGrpSpPr/>
          <p:nvPr/>
        </p:nvGrpSpPr>
        <p:grpSpPr>
          <a:xfrm>
            <a:off x="1359000" y="957240"/>
            <a:ext cx="10064520" cy="3859200"/>
            <a:chOff x="1359000" y="957240"/>
            <a:chExt cx="10064520" cy="3859200"/>
          </a:xfrm>
        </p:grpSpPr>
        <p:pic>
          <p:nvPicPr>
            <p:cNvPr id="1895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359000" y="957240"/>
              <a:ext cx="10064520" cy="38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6" name=""/>
            <p:cNvSpPr/>
            <p:nvPr/>
          </p:nvSpPr>
          <p:spPr>
            <a:xfrm>
              <a:off x="1660680" y="1243080"/>
              <a:ext cx="9462960" cy="32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300)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Поступило пациентов с инфарктом миокарда в стационар в первые сутки от начала заболевания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_______ ,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том числе в первые 12 часов 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_______ ,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них в первые 2 часа 3 ________из них проведена тромболитическая терапия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 ______ ,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ентирование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 _______ ,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ромболтитическая терапия с последующим стентированием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________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общего числа умерших </a:t>
              </a:r>
              <a:r>
                <a:rPr b="0" lang="ru-RU" sz="2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умерло пациентов с инфарктом миокарда (стр. 10.4.2+10.4.3) в первые 24 часа после поступления в стационар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______ , </a:t>
              </a:r>
              <a:r>
                <a:rPr b="0" lang="ru-RU" sz="2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в том числе в возрасте до 65 лет</a:t>
              </a:r>
              <a:r>
                <a:rPr b="1" lang="ru-RU" sz="2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8_______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числа умерших в первые в 24 часа поступления в стационар пациентов с инфарктом миокарда проведена тромболитическая терапия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 ________ ,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ентирование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 ________ </a:t>
              </a: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1897" name="Скругленный прямоугольник 4"/>
          <p:cNvGrpSpPr/>
          <p:nvPr/>
        </p:nvGrpSpPr>
        <p:grpSpPr>
          <a:xfrm>
            <a:off x="2530440" y="4834080"/>
            <a:ext cx="8893080" cy="2157120"/>
            <a:chOff x="2530440" y="4834080"/>
            <a:chExt cx="8893080" cy="2157120"/>
          </a:xfrm>
        </p:grpSpPr>
        <p:pic>
          <p:nvPicPr>
            <p:cNvPr id="1898" name="Скругленный 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2530440" y="4834080"/>
              <a:ext cx="8893080" cy="21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9" name=""/>
            <p:cNvSpPr/>
            <p:nvPr/>
          </p:nvSpPr>
          <p:spPr>
            <a:xfrm>
              <a:off x="2747880" y="5035680"/>
              <a:ext cx="8458200" cy="17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500)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общего числа умерших (стр.1) </a:t>
              </a:r>
              <a:r>
                <a:rPr b="0" lang="ru-RU" sz="2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умерло в первые 24 часа после поступления в стационар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детей в возрасте 0-17 лет включительно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_________, </a:t>
              </a:r>
              <a:r>
                <a:rPr b="1" lang="ru-RU" sz="2000" spc="-1" strike="noStrike">
                  <a:solidFill>
                    <a:srgbClr val="003300"/>
                  </a:solidFill>
                  <a:latin typeface="Times New Roman"/>
                  <a:ea typeface="Times New Roman"/>
                </a:rPr>
                <a:t>пациентов в возрасте от 18 до 65 лет 2 _______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них </a:t>
              </a:r>
              <a:r>
                <a:rPr b="0" lang="ru-RU" sz="2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ациентов с острыми цереброваскулярными болезнями  (стр. 10.7.1-10.7.4) </a:t>
              </a:r>
              <a:r>
                <a:rPr b="1" lang="ru-RU" sz="2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3 _________ .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900" name="Line 9"/>
          <p:cNvSpPr/>
          <p:nvPr/>
        </p:nvSpPr>
        <p:spPr>
          <a:xfrm>
            <a:off x="3238560" y="944640"/>
            <a:ext cx="1677960" cy="23335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1" name="Line 9"/>
          <p:cNvSpPr/>
          <p:nvPr/>
        </p:nvSpPr>
        <p:spPr>
          <a:xfrm flipH="1">
            <a:off x="3948120" y="944640"/>
            <a:ext cx="2262240" cy="5581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2" name="Line 9"/>
          <p:cNvSpPr/>
          <p:nvPr/>
        </p:nvSpPr>
        <p:spPr>
          <a:xfrm>
            <a:off x="8993160" y="906480"/>
            <a:ext cx="98280" cy="5002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1994040" y="418680"/>
            <a:ext cx="9169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УТРИФОРМЕННЫЙ КОНТРОЛЬ (продолжени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4" name=""/>
          <p:cNvSpPr txBox="1"/>
          <p:nvPr/>
        </p:nvSpPr>
        <p:spPr>
          <a:xfrm>
            <a:off x="1841400" y="1180800"/>
            <a:ext cx="93218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операций, указанных в таб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0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лжно превышать число операций в таб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, гр.3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видам (на органе зрения, на ухе, на желудке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905" name=""/>
          <p:cNvGraphicFramePr/>
          <p:nvPr/>
        </p:nvGraphicFramePr>
        <p:xfrm>
          <a:off x="2374920" y="2863800"/>
          <a:ext cx="8253360" cy="3638520"/>
        </p:xfrm>
        <a:graphic>
          <a:graphicData uri="http://schemas.openxmlformats.org/drawingml/2006/table">
            <a:tbl>
              <a:tblPr/>
              <a:tblGrid>
                <a:gridCol w="5295960"/>
                <a:gridCol w="990360"/>
                <a:gridCol w="863640"/>
                <a:gridCol w="11034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у де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органе зрения (из стр. 4 табл. 4000)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0101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01010"/>
                          </a:solidFill>
                          <a:latin typeface="Times New Roman"/>
                          <a:ea typeface="Times New Roman"/>
                        </a:rPr>
                        <a:t>………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0101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01010"/>
                          </a:solidFill>
                          <a:latin typeface="Times New Roman"/>
                          <a:ea typeface="Times New Roman"/>
                        </a:rPr>
                        <a:t>на ухе (стр.5.1 табл. 4000) - слухоулучшающ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0101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01010"/>
                          </a:solidFill>
                          <a:latin typeface="Times New Roman"/>
                          <a:ea typeface="Times New Roman"/>
                        </a:rPr>
                        <a:t>из них кохлеарная имплант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01010"/>
                          </a:solidFill>
                          <a:latin typeface="Times New Roman"/>
                          <a:ea typeface="Times New Roman"/>
                        </a:rPr>
                        <a:t>3.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желудке по поводу язвенной болезни (стр.9.1 табл..4000) – органосохраняющ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0101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6" name="Прямоугольник 4"/>
          <p:cNvSpPr/>
          <p:nvPr/>
        </p:nvSpPr>
        <p:spPr>
          <a:xfrm>
            <a:off x="2227680" y="2343240"/>
            <a:ext cx="63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Таблица 4200 «Из общего числа операций  (единиц)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1907" name="Прямая со стрелкой 5"/>
          <p:cNvCxnSpPr/>
          <p:nvPr/>
        </p:nvCxnSpPr>
        <p:spPr>
          <a:xfrm flipH="1">
            <a:off x="6752880" y="1942920"/>
            <a:ext cx="1451520" cy="1803960"/>
          </a:xfrm>
          <a:prstGeom prst="straightConnector1">
            <a:avLst/>
          </a:prstGeom>
          <a:ln cap="sq" w="9360">
            <a:solidFill>
              <a:srgbClr val="c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1484280" y="256680"/>
            <a:ext cx="10018800" cy="48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ru-RU" sz="26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9" name="Содержимое 2"/>
          <p:cNvSpPr/>
          <p:nvPr/>
        </p:nvSpPr>
        <p:spPr>
          <a:xfrm>
            <a:off x="2535120" y="855720"/>
            <a:ext cx="8209080" cy="457200"/>
          </a:xfrm>
          <a:prstGeom prst="rect">
            <a:avLst/>
          </a:prstGeom>
          <a:solidFill>
            <a:srgbClr val="adc7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4440" indent="-51444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По числу</a:t>
            </a:r>
            <a:r>
              <a:rPr b="1" lang="en-US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выписанных, умерших всего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0" name="Прямоугольник 9"/>
          <p:cNvSpPr/>
          <p:nvPr/>
        </p:nvSpPr>
        <p:spPr>
          <a:xfrm>
            <a:off x="1771560" y="1411200"/>
            <a:ext cx="9731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сло выбывших пациентов (выписанные+умершие) в форме №14 должно быть меньше числа выбывших из формы №30 за счет переводных пациенто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исло умерших пациентов в форме №14 должно быть равно числу умерших пациентов в форме №30 !!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911" name=""/>
          <p:cNvGraphicFramePr/>
          <p:nvPr/>
        </p:nvGraphicFramePr>
        <p:xfrm>
          <a:off x="2079720" y="3114720"/>
          <a:ext cx="9013680" cy="2077920"/>
        </p:xfrm>
        <a:graphic>
          <a:graphicData uri="http://schemas.openxmlformats.org/drawingml/2006/table">
            <a:tbl>
              <a:tblPr/>
              <a:tblGrid>
                <a:gridCol w="4092480"/>
                <a:gridCol w="797040"/>
                <a:gridCol w="4124160"/>
              </a:tblGrid>
              <a:tr h="5000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Форма №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Форма №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7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. 2000 стр.1 гр. 8 (умерло взрослы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. 2000 стр. 1 гр. 28 (умерло дет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. 3100 стр. 1 гр. 13 (умерл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. 3100 стр. 78 «кроме того больные новорожденные» гр. 13 (умерло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2" name=""/>
          <p:cNvGraphicFramePr/>
          <p:nvPr/>
        </p:nvGraphicFramePr>
        <p:xfrm>
          <a:off x="2238480" y="1089000"/>
          <a:ext cx="8173800" cy="335160"/>
        </p:xfrm>
        <a:graphic>
          <a:graphicData uri="http://schemas.openxmlformats.org/drawingml/2006/table">
            <a:tbl>
              <a:tblPr/>
              <a:tblGrid>
                <a:gridCol w="4232160"/>
                <a:gridCol w="574560"/>
                <a:gridCol w="3367080"/>
              </a:tblGrid>
              <a:tr h="33516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Arial"/>
                        </a:rPr>
                        <a:t>Форма  № 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5760" marR="95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Arial"/>
                        </a:rPr>
                        <a:t>Форма  № 3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5760" marR="95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13" name=""/>
          <p:cNvGraphicFramePr/>
          <p:nvPr/>
        </p:nvGraphicFramePr>
        <p:xfrm>
          <a:off x="2203560" y="1832040"/>
          <a:ext cx="8208720" cy="2365200"/>
        </p:xfrm>
        <a:graphic>
          <a:graphicData uri="http://schemas.openxmlformats.org/drawingml/2006/table">
            <a:tbl>
              <a:tblPr/>
              <a:tblGrid>
                <a:gridCol w="4295520"/>
                <a:gridCol w="538200"/>
                <a:gridCol w="3375000"/>
              </a:tblGrid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Arial"/>
                        </a:rPr>
                        <a:t>Всего: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2000 «Взрослые» стр.1, гр. 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+ т. 2000 «Дети от 0-17 лет»  стр. 1, гр. 29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5503 гр. 3, стр. 1.1 - гр. 9, стр. 1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Arial"/>
                        </a:rPr>
                        <a:t>Взрослые: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2000 «Взрослые» стр.1, гр. 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5503 гр. 3, (стр. 1.1 - стр.1.1.1)  - гр. 9, (стр. 1.1 – стр. 1.1.1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Arial"/>
                        </a:rPr>
                        <a:t>Дети: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2000  стр. 1, гр. 2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5503 гр. 3, стр.1.1.1  - гр. 9,  стр. 1.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Arial"/>
                        </a:rPr>
                        <a:t>Старше трудоспособ.: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2000 стр. 1, гр.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5503 гр. 3, стр.1.1.3 - гр. 9,  стр. 1.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4" name="Прямоугольник 3"/>
          <p:cNvSpPr/>
          <p:nvPr/>
        </p:nvSpPr>
        <p:spPr>
          <a:xfrm>
            <a:off x="3095640" y="25884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МЕЖФОРМЕННЫЙ КОНТРОЛЬ (продолжение)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5" name="Rectangle 37"/>
          <p:cNvSpPr/>
          <p:nvPr/>
        </p:nvSpPr>
        <p:spPr>
          <a:xfrm>
            <a:off x="2695680" y="4197240"/>
            <a:ext cx="7140600" cy="916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 количеству умерших новорожденных в первые 168 часов жизни в стационаре и вскрытиям новорожденных умерших в первые 0-6 суток жизн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916" name=""/>
          <p:cNvGraphicFramePr/>
          <p:nvPr/>
        </p:nvGraphicFramePr>
        <p:xfrm>
          <a:off x="2203560" y="5113440"/>
          <a:ext cx="8208720" cy="1363680"/>
        </p:xfrm>
        <a:graphic>
          <a:graphicData uri="http://schemas.openxmlformats.org/drawingml/2006/table">
            <a:tbl>
              <a:tblPr/>
              <a:tblGrid>
                <a:gridCol w="4219560"/>
                <a:gridCol w="538200"/>
                <a:gridCol w="3450960"/>
              </a:tblGrid>
              <a:tr h="136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 2200 гр. 1 «умерло новорожденных в первые 168 ч. жизн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быть больше, так как не всегда дети вскрываются (например, по религиозным взглядам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 5503 гр. 3,  стр.4  - гр. 9, стр.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скрыто новорожденных умерших в </a:t>
                      </a: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ервые 0-6 суток (168 ч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7" name="Rectangle 50"/>
          <p:cNvSpPr/>
          <p:nvPr/>
        </p:nvSpPr>
        <p:spPr>
          <a:xfrm>
            <a:off x="2695680" y="1442880"/>
            <a:ext cx="714060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 патологоанатомическим вскрытиям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Rectangle 2"/>
          <p:cNvSpPr/>
          <p:nvPr/>
        </p:nvSpPr>
        <p:spPr>
          <a:xfrm>
            <a:off x="2427120" y="490680"/>
            <a:ext cx="82296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МЕЖФОРМЕННЫЙ КОНТРОЛЬ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919" name=""/>
          <p:cNvGraphicFramePr/>
          <p:nvPr/>
        </p:nvGraphicFramePr>
        <p:xfrm>
          <a:off x="2279520" y="1235160"/>
          <a:ext cx="8367840" cy="365040"/>
        </p:xfrm>
        <a:graphic>
          <a:graphicData uri="http://schemas.openxmlformats.org/drawingml/2006/table">
            <a:tbl>
              <a:tblPr/>
              <a:tblGrid>
                <a:gridCol w="3486240"/>
                <a:gridCol w="620640"/>
                <a:gridCol w="4260960"/>
              </a:tblGrid>
              <a:tr h="36504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Arial"/>
                        </a:rPr>
                        <a:t>Форма  № 1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Arial"/>
                        </a:rPr>
                        <a:t>Форма  № 3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0" name="Rectangle 23"/>
          <p:cNvSpPr/>
          <p:nvPr/>
        </p:nvSpPr>
        <p:spPr>
          <a:xfrm>
            <a:off x="2351160" y="1700280"/>
            <a:ext cx="8367480" cy="703800"/>
          </a:xfrm>
          <a:prstGeom prst="rect">
            <a:avLst/>
          </a:prstGeom>
          <a:solidFill>
            <a:srgbClr val="adc7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о количеству умерших новорожденных в первые 168 часов жизни в стационар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921" name=""/>
          <p:cNvGraphicFramePr/>
          <p:nvPr/>
        </p:nvGraphicFramePr>
        <p:xfrm>
          <a:off x="2279520" y="2508120"/>
          <a:ext cx="8439120" cy="2957760"/>
        </p:xfrm>
        <a:graphic>
          <a:graphicData uri="http://schemas.openxmlformats.org/drawingml/2006/table">
            <a:tbl>
              <a:tblPr/>
              <a:tblGrid>
                <a:gridCol w="3562560"/>
                <a:gridCol w="609480"/>
                <a:gridCol w="4267080"/>
              </a:tblGrid>
              <a:tr h="2962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2200 гр. 1, (умерло  новорожденных в первые 168 часов жизн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Arial"/>
                        </a:rPr>
                        <a:t>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2250 стр. 1, гр.6 «умерло новорожденных в возрасте 0-6 дней жизни» + т. 2260 стр. 1, гр.8 «умерло новорожденных в возрасте 0-6 дней жизн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учитываются только новорожденные, умершие  в родильных отделениях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2" name="Rectangle 43"/>
          <p:cNvSpPr/>
          <p:nvPr/>
        </p:nvSpPr>
        <p:spPr>
          <a:xfrm>
            <a:off x="2427120" y="566244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G Times"/>
                <a:ea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.к. умирают не только в учреждениях родовспоможения, но и в других учреждениях на детских койках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3" name="AutoShape 71"/>
          <p:cNvSpPr/>
          <p:nvPr/>
        </p:nvSpPr>
        <p:spPr>
          <a:xfrm>
            <a:off x="5938920" y="3816360"/>
            <a:ext cx="485640" cy="1087560"/>
          </a:xfrm>
          <a:prstGeom prst="downArrow">
            <a:avLst>
              <a:gd name="adj1" fmla="val 50000"/>
              <a:gd name="adj2" fmla="val 61450"/>
            </a:avLst>
          </a:prstGeom>
          <a:solidFill>
            <a:srgbClr val="8c8d8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"/>
          <p:cNvSpPr txBox="1"/>
          <p:nvPr/>
        </p:nvSpPr>
        <p:spPr>
          <a:xfrm>
            <a:off x="1527120" y="851040"/>
            <a:ext cx="9725040" cy="572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чет включаются сведения о числе койко-дней, проведенных пациентами в круглосуточном стационаре, о числе и составе пациентов, исходах их лечения и об объеме хирургической помощи (экстренной и плановой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чете отражаются  сведения о числе операций, независимо от профиля, вида, метода проведения, выполненных пациентам, выбывшим из стационара, либо умершим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проведенных в стационаре операций выделяется число операций, при которых наблюдались осложнени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ставлении Формы для отнесения заболеваний к той или иной нозологической форме или классу заболеваний, следует руководствоваться 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заключительным клиническим диагнозом, а в случае смерти – первоначальной причиной смерти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у включаются только те заболевания, которые выставлены в качестве «основного заболевания». Если состояния, указанные в строках 10.6.5, 10.6.6 и 10.6.7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ердно-желудочковая (атриовентрикулярная) блока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удочковая тахикардия, фибрилляция и трепетание предсерди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ются осложнением «основного заболевания», они в Форму не включаются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Rectangle 2"/>
          <p:cNvSpPr/>
          <p:nvPr/>
        </p:nvSpPr>
        <p:spPr>
          <a:xfrm>
            <a:off x="213516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МЕЖФОРМЕННЫЙ КОНТРОЛЬ (продолжение)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925" name=""/>
          <p:cNvGraphicFramePr/>
          <p:nvPr/>
        </p:nvGraphicFramePr>
        <p:xfrm>
          <a:off x="2006640" y="692280"/>
          <a:ext cx="8750160" cy="365040"/>
        </p:xfrm>
        <a:graphic>
          <a:graphicData uri="http://schemas.openxmlformats.org/drawingml/2006/table">
            <a:tbl>
              <a:tblPr/>
              <a:tblGrid>
                <a:gridCol w="4172040"/>
                <a:gridCol w="571320"/>
                <a:gridCol w="4006800"/>
              </a:tblGrid>
              <a:tr h="36504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Форма  № 1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Форма  № 1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6" name="Rectangle 13"/>
          <p:cNvSpPr/>
          <p:nvPr/>
        </p:nvSpPr>
        <p:spPr>
          <a:xfrm>
            <a:off x="3648240" y="3284640"/>
            <a:ext cx="590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927" name=""/>
          <p:cNvGraphicFramePr/>
          <p:nvPr/>
        </p:nvGraphicFramePr>
        <p:xfrm>
          <a:off x="2006640" y="1511280"/>
          <a:ext cx="8750160" cy="3187800"/>
        </p:xfrm>
        <a:graphic>
          <a:graphicData uri="http://schemas.openxmlformats.org/drawingml/2006/table">
            <a:tbl>
              <a:tblPr/>
              <a:tblGrid>
                <a:gridCol w="4172040"/>
                <a:gridCol w="571320"/>
                <a:gridCol w="4006800"/>
              </a:tblGrid>
              <a:tr h="97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4000 стр. 14.6, гр. 3 (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0-O07)</a:t>
                      </a:r>
                      <a:r>
                        <a:rPr b="0" lang="ru-RU" sz="1800" spc="-1" strike="noStrike">
                          <a:solidFill>
                            <a:srgbClr val="77a2bb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Arial"/>
                        </a:rPr>
                        <a:t>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1000 стр. 1, гр.4 (аборты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 12 нед.)+ т. 2000 стр. 1, гр.4 (аборты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т 12 нед. до 22 нед.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4000 стр. 14.6, «аборт» гр. 19 (умерло оперированных в стационаре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Arial"/>
                        </a:rPr>
                        <a:t>&lt;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3000 гр.4, стр.1 (умерло от беременности с  абортивным исходо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4000 гр.11, стр.1 «Число операций, при которых наблюдались осложнен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Arial"/>
                        </a:rPr>
                        <a:t>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1105 +2105 «Осложнения, вызванные абор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8" name="Rectangle 36"/>
          <p:cNvSpPr/>
          <p:nvPr/>
        </p:nvSpPr>
        <p:spPr>
          <a:xfrm>
            <a:off x="2006640" y="4843440"/>
            <a:ext cx="87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проводится контроль по количеству выполненных акушерских операций в форме №14 т.4000 с вкладышем к форме №32. Должно быть равно (кесарево в зависимости от срока беременности)!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9" name="Rectangle 47"/>
          <p:cNvSpPr/>
          <p:nvPr/>
        </p:nvSpPr>
        <p:spPr>
          <a:xfrm>
            <a:off x="2006640" y="1052640"/>
            <a:ext cx="8750160" cy="368280"/>
          </a:xfrm>
          <a:prstGeom prst="rect">
            <a:avLst/>
          </a:prstGeom>
          <a:solidFill>
            <a:srgbClr val="adc7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 количеству выполненных абортов, осложнений и смертей вызванных абортом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Прямоугольник 1"/>
          <p:cNvSpPr/>
          <p:nvPr/>
        </p:nvSpPr>
        <p:spPr>
          <a:xfrm>
            <a:off x="1749600" y="1724040"/>
            <a:ext cx="94629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Некоторые аспекты кодирования по МКБ-10 основного заболевания и первоначальной причины смерти пациенто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Прямоугольник 1"/>
          <p:cNvSpPr/>
          <p:nvPr/>
        </p:nvSpPr>
        <p:spPr>
          <a:xfrm>
            <a:off x="2014560" y="1109520"/>
            <a:ext cx="909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ая ошибка </a:t>
            </a:r>
            <a:r>
              <a:rPr b="1" lang="ru-RU" sz="2000" spc="-1" strike="noStrike">
                <a:solidFill>
                  <a:srgbClr val="0c0472"/>
                </a:solidFill>
                <a:latin typeface="Times New Roman"/>
                <a:ea typeface="Times New Roman"/>
              </a:rPr>
              <a:t>при кодировании летальных исходов – в качестве первоначальной причины смерти используют непосредственную причину смерт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2" name="Прямоугольник 2"/>
          <p:cNvSpPr/>
          <p:nvPr/>
        </p:nvSpPr>
        <p:spPr>
          <a:xfrm>
            <a:off x="2014560" y="2701800"/>
            <a:ext cx="902016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воначальной причиной смерти</a:t>
            </a: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являются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Times New Roman"/>
                <a:ea typeface="Times New Roman"/>
              </a:rPr>
              <a:t>болезнь или травма, вызвавшая цепь событий, непосредственно приведших к смерти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обстоятельства несчастного случая или акта насилия, которые вызвали смертельную травму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Заголовок 1"/>
          <p:cNvSpPr/>
          <p:nvPr/>
        </p:nvSpPr>
        <p:spPr>
          <a:xfrm>
            <a:off x="1778040" y="257040"/>
            <a:ext cx="100188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51a42"/>
                </a:solidFill>
                <a:latin typeface="Times New Roman"/>
                <a:ea typeface="Times New Roman"/>
              </a:rPr>
              <a:t>ОСОБЕННОСТИ КОДИРОВАНИЯ ПРИЧИН СМЕРТ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4" name="Объект 2"/>
          <p:cNvSpPr/>
          <p:nvPr/>
        </p:nvSpPr>
        <p:spPr>
          <a:xfrm>
            <a:off x="1671480" y="1055520"/>
            <a:ext cx="100188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псис (А40-41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сепсиса в качестве первоначальной причины смерти является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шибочным!!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псис является осложнением обширных гнойных процессов (одонтогенных, остеогенных, отогенных, тонзиллогенных, риногенных, генитальных, урогенных, раневых и т.д.) или следствием болезней, приводящих к нарушению иммунной системы, изнуряющих болезней, вызывающих паралич, тяжелых травм (злокачественные новообразования нарушения питания, инсульты, ВИЧ-инфекция и т.д.) и не может быть первоначальной причиной смерти в стационар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честве первоначальной причины смерти выбирается основное заболевание, то есть очаг инфекции, приведший к развитию сепсис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крайне редких случая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гда причину сепсиса установить не удается, он носит название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иптогенног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кодируется как самостоятельная нозологическая форма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2311200" y="219240"/>
            <a:ext cx="9248760" cy="112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ласс «Новообразования (С00-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8) кодирование основного состояния и первоначальной причины смерти при различных вариантах течения злокачественных новообразований в статистике заболеваемости и смертност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936" name=""/>
          <p:cNvGraphicFramePr/>
          <p:nvPr/>
        </p:nvGraphicFramePr>
        <p:xfrm>
          <a:off x="2327400" y="1482840"/>
          <a:ext cx="9213840" cy="5119560"/>
        </p:xfrm>
        <a:graphic>
          <a:graphicData uri="http://schemas.openxmlformats.org/drawingml/2006/table">
            <a:tbl>
              <a:tblPr/>
              <a:tblGrid>
                <a:gridCol w="2303280"/>
                <a:gridCol w="2303640"/>
                <a:gridCol w="2303280"/>
                <a:gridCol w="2303640"/>
              </a:tblGrid>
              <a:tr h="1369800"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 пациента подозрение на злокачественное ново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 пациента прогрессирующее злокачественное новообразование или рецидив после проведенного ле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ациенту проводится курс лечения злокачественного ново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ациент находится под диспансерным наблюдением после радикального лечения и отсутствия рецид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39960" rIns="39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1200">
                <a:tc>
                  <a:txBody>
                    <a:bodyPr lIns="39960" rIns="39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качестве основного состояния выбирается подозрение на злокачественное новообразование –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качестве основного состояния выбирается злокачественное новообразование – С00-С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качестве основного состояния выбирается курс лечения –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1.0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качестве основного состояния выбираются состояния –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4.1-2,7;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39960" rIns="39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6440">
                <a:tc>
                  <a:txBody>
                    <a:bodyPr lIns="39960" rIns="39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случае летального исхода в качестве первоначальной причины смерти – подозрение –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3.1 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не выбирается. Необходимо провести вскрыт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случае летального исхода в качестве первоначальной причины смерти выбирается злокачественное новообразование – С00-С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случае летального исхода в качестве первоначальной причины смерти выбирается злокачественное новообразование – С00-С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случае летального исхода в качестве первоначальной причины смерти состояния –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4.1-2,7;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5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 не выбираются. Необходимо провести вскрыт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937" name="Прямая со стрелкой 5"/>
          <p:cNvCxnSpPr/>
          <p:nvPr/>
        </p:nvCxnSpPr>
        <p:spPr>
          <a:xfrm>
            <a:off x="3433320" y="2844360"/>
            <a:ext cx="1080" cy="568800"/>
          </a:xfrm>
          <a:prstGeom prst="straightConnector1">
            <a:avLst/>
          </a:prstGeom>
          <a:ln cap="rnd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8" name="Прямая со стрелкой 14"/>
          <p:cNvCxnSpPr/>
          <p:nvPr/>
        </p:nvCxnSpPr>
        <p:spPr>
          <a:xfrm>
            <a:off x="5719320" y="2844360"/>
            <a:ext cx="1080" cy="568800"/>
          </a:xfrm>
          <a:prstGeom prst="straightConnector1">
            <a:avLst/>
          </a:prstGeom>
          <a:ln cap="rnd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9" name="Прямая со стрелкой 15"/>
          <p:cNvCxnSpPr/>
          <p:nvPr/>
        </p:nvCxnSpPr>
        <p:spPr>
          <a:xfrm>
            <a:off x="8067240" y="2844360"/>
            <a:ext cx="1080" cy="568800"/>
          </a:xfrm>
          <a:prstGeom prst="straightConnector1">
            <a:avLst/>
          </a:prstGeom>
          <a:ln cap="rnd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0" name="Прямая со стрелкой 16"/>
          <p:cNvCxnSpPr/>
          <p:nvPr/>
        </p:nvCxnSpPr>
        <p:spPr>
          <a:xfrm>
            <a:off x="10434240" y="2844360"/>
            <a:ext cx="1080" cy="568800"/>
          </a:xfrm>
          <a:prstGeom prst="straightConnector1">
            <a:avLst/>
          </a:prstGeom>
          <a:ln cap="rnd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1" name="Прямая со стрелкой 29"/>
          <p:cNvCxnSpPr/>
          <p:nvPr/>
        </p:nvCxnSpPr>
        <p:spPr>
          <a:xfrm>
            <a:off x="3433320" y="4562280"/>
            <a:ext cx="1080" cy="425880"/>
          </a:xfrm>
          <a:prstGeom prst="straightConnector1">
            <a:avLst/>
          </a:prstGeom>
          <a:ln cap="rnd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2" name="Прямая со стрелкой 30"/>
          <p:cNvCxnSpPr/>
          <p:nvPr/>
        </p:nvCxnSpPr>
        <p:spPr>
          <a:xfrm>
            <a:off x="5719320" y="4562280"/>
            <a:ext cx="1080" cy="425880"/>
          </a:xfrm>
          <a:prstGeom prst="straightConnector1">
            <a:avLst/>
          </a:prstGeom>
          <a:ln cap="rnd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3" name="Прямая со стрелкой 31"/>
          <p:cNvCxnSpPr/>
          <p:nvPr/>
        </p:nvCxnSpPr>
        <p:spPr>
          <a:xfrm>
            <a:off x="8067240" y="4562280"/>
            <a:ext cx="1080" cy="425880"/>
          </a:xfrm>
          <a:prstGeom prst="straightConnector1">
            <a:avLst/>
          </a:prstGeom>
          <a:ln cap="rnd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4" name="Прямая со стрелкой 32"/>
          <p:cNvCxnSpPr/>
          <p:nvPr/>
        </p:nvCxnSpPr>
        <p:spPr>
          <a:xfrm flipH="1">
            <a:off x="10422720" y="4562280"/>
            <a:ext cx="11880" cy="425880"/>
          </a:xfrm>
          <a:prstGeom prst="straightConnector1">
            <a:avLst/>
          </a:prstGeom>
          <a:ln cap="rnd"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Заголовок 1"/>
          <p:cNvSpPr/>
          <p:nvPr/>
        </p:nvSpPr>
        <p:spPr>
          <a:xfrm>
            <a:off x="1484280" y="222120"/>
            <a:ext cx="10018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51a42"/>
                </a:solidFill>
                <a:latin typeface="Times New Roman"/>
                <a:ea typeface="Times New Roman"/>
              </a:rPr>
              <a:t>ОСОБЕННОСТИ КОДИРОВАНИЯ ПРИЧИН СМЕРТ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6" name="Объект 2"/>
          <p:cNvSpPr/>
          <p:nvPr/>
        </p:nvSpPr>
        <p:spPr>
          <a:xfrm>
            <a:off x="1596960" y="915840"/>
            <a:ext cx="10244160" cy="50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277200" indent="-277200" algn="just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ческие расстройства и расстройства поведения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01-F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трока 6.0) – 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данные рубрики не используются для кодирования причины смерти, если известно первоначальное соматическое состояни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брика F01(сосудистая деменция) 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иногд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рименяться в качестве                          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начальной причины при упоминании о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енерализованном и неуточненном атеросклерозе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70.1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ребральном атеросклерозе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67.2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33cc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четании психических расстройств, вызванных употреблением алкоголя, и заболеваний , вызванных употреблением алкоголя в качестве первоначальной причины смерти выбирают заболевания, 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ызванные употреблением алкогол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33cc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четании психических расстройств, вызванных употреблением алкоголя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1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с заболеваниями печени в качестве первоначальной причины смерти 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ыбирают заболевания печен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1458720" y="169920"/>
            <a:ext cx="1001844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емии, ожирени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8" name=""/>
          <p:cNvSpPr txBox="1"/>
          <p:nvPr/>
        </p:nvSpPr>
        <p:spPr>
          <a:xfrm>
            <a:off x="1652400" y="1127160"/>
            <a:ext cx="10018440" cy="494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емии (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50-53,D55-59, D60-64)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, Ожирение (Е66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емии, как правило не выбираются в качестве первоначальной причины смерти, а чаще всего записываются как непосредственная причина смерти в логической последовательности патогенеза умирани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емии чаще являются вторичными состояниями, поэтому первоначальной причиной смерти выбирают первичные состояния  которые послужили причиной возникновения анемий (хронические болезни, сопровождающиеся развитием вторичных анемий)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206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жирение (Е66, строка 5.11) – в статистике смертности могут иметь место летальные случаи только от крайней степени ожирения (синдром Пиквика Е66.2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1674720" y="236520"/>
            <a:ext cx="100188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олезни кожи и подкожной клетчатк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0" name=""/>
          <p:cNvSpPr txBox="1"/>
          <p:nvPr/>
        </p:nvSpPr>
        <p:spPr>
          <a:xfrm>
            <a:off x="1674720" y="1422360"/>
            <a:ext cx="10018800" cy="376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и кожи и подкожной клетчатки редко выбирают в качестве первоначальной причины смерт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тяжелые инфекции кожи могут являться первоначальной причиной смерти и осложняться сепсисо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тяжелые заболевания кожи, как например,токсический эпидермальный некролиз (синдром Лайелл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51.2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нгренозная пиодерми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88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 могут выбираться первоначальной причины смерт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и кожи могут являться осложнением, например, сахарного диабета.  В этих случаях первоначальной причиной смерти выбирается сахарный диабет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Заголовок 1"/>
          <p:cNvSpPr/>
          <p:nvPr/>
        </p:nvSpPr>
        <p:spPr>
          <a:xfrm>
            <a:off x="1562040" y="233280"/>
            <a:ext cx="10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ОБХОДИМО ПРЕДОСТАВИТЬ ПОДТВЕРЖДЕНИЯ НА СЛЕДУЮЩИЕ СЛУЧАИ СМЕРТИ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2" name="Объект 2"/>
          <p:cNvSpPr/>
          <p:nvPr/>
        </p:nvSpPr>
        <p:spPr>
          <a:xfrm>
            <a:off x="1562040" y="1157400"/>
            <a:ext cx="10420560" cy="51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277200" indent="-27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псис (А40-41, строка 2.4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мии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50-D64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трока 4.1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рение (Е66, строка 5.11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ческие расстройства и расстройства поведения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01-F99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трока 6.0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 algn="just">
              <a:lnSpc>
                <a:spcPct val="100000"/>
              </a:lnSpc>
              <a:buClr>
                <a:srgbClr val="0000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ые респираторные  инфекции верхних дыхательных путей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00-J06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трок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1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 algn="just">
              <a:lnSpc>
                <a:spcPct val="100000"/>
              </a:lnSpc>
              <a:buClr>
                <a:srgbClr val="0000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трит и дуоденит (К29, строка 12.2) – для взрослых 18 лет и старш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 algn="just">
              <a:lnSpc>
                <a:spcPct val="100000"/>
              </a:lnSpc>
              <a:buClr>
                <a:srgbClr val="0000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и кожи и подкожной клетчатки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00-L98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 algn="just">
              <a:lnSpc>
                <a:spcPct val="100000"/>
              </a:lnSpc>
              <a:buClr>
                <a:srgbClr val="0000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случаи смерти женщин (от внематочной беременности, аборта, беременных, рожениц и родильниц) (О00-О99, строка 16.0)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!!!Каждый случай летального исхода при этих состояниях должен быть подтвержден документами (копией медицинского свидетельства о смерти,  копией протокола патолого-анатомического исследования или судебно-медицинского исследования) при сдаче годового отчета с указанием кода по МКБ-10 о первоначальной причине смерт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анные документы необходимо прислать по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ipNet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 адрес 42(Кем) КОМИАЦ СТАТ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 algn="just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Прямоугольник 2"/>
          <p:cNvSpPr/>
          <p:nvPr/>
        </p:nvSpPr>
        <p:spPr>
          <a:xfrm>
            <a:off x="1722600" y="182520"/>
            <a:ext cx="963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дирование ишемических болезней сердца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4" name="Прямоугольник 4"/>
          <p:cNvSpPr/>
          <p:nvPr/>
        </p:nvSpPr>
        <p:spPr>
          <a:xfrm>
            <a:off x="1849320" y="820800"/>
            <a:ext cx="9906120" cy="59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смерти от острого инфаркта миокарда следует помнить, что не все случаи инфарктов миокарда выбираются первоначальной причиной смерти: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убрика </a:t>
            </a:r>
            <a:r>
              <a:rPr b="1" lang="en-US" sz="1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22 </a:t>
            </a:r>
            <a:r>
              <a:rPr b="1" lang="ru-RU" sz="1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ключена из статистики смертности, вместо нее используют рубрику острого инфаркта миокарда- </a:t>
            </a:r>
            <a:r>
              <a:rPr b="1" lang="en-US" sz="1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21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четании </a:t>
            </a:r>
            <a:r>
              <a:rPr b="1" lang="ru-RU" sz="1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трого инфаркта миокарда со злокачественным новообразованием, сахарным диабетом или бронхиальной астмой первоначальной причиной смерти считают эти заболевания, а инфаркт миокарда – их осложнениями (МКБ-10, т. 2, стр. 75),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сочетания должны быть правильно отражены в заключительном посмертном диагнозе, промежуток времени сохраняется – не позднее 28 дней от начала возникновения инфаркта или в пределах эпизода оказания медицинской помощи;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 остром или повторном инфаркте миокарда в случае отсутствия других заболеваний первоначальной причиной смерти следует считать острый инфаркт миокард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д I21) в промежуток времени до 28 дней или в пределах эпизода оказания медицинской помощи;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четании острого и повторного инфаркта миокарда, возникших в промежуток времени до 28 дней или в пределах эпизода оказания медицинской помощи, даже если эпизод закончился позже 28 дней, первоначальной причиной смерти следует считать острый инфаркт миокарда (код I21) 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диагноз </a:t>
            </a:r>
            <a:r>
              <a:rPr b="1" lang="ru-RU" sz="1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фаркта миокарда был установлен после 28 дней от  его возникновения, первоначальной причиной смерти следует считать постинфарктный кардиосклероз, код I25.8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КБ-10, т. 1, ч. 1, стр. 492)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c5a82"/>
                </a:solidFill>
                <a:latin typeface="Times New Roman"/>
                <a:ea typeface="Times New Roman"/>
              </a:rPr>
              <a:t>ИСТОЧНИКОМ ИНФОРМАЦИИ ПРИ СОСТАВЛЕНИИ ФОРМЫ ЯВЛЯЮТСЯ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7" name=""/>
          <p:cNvSpPr txBox="1"/>
          <p:nvPr/>
        </p:nvSpPr>
        <p:spPr>
          <a:xfrm>
            <a:off x="1484280" y="1432080"/>
            <a:ext cx="10018800" cy="472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280080" indent="-280080" algn="just">
              <a:lnSpc>
                <a:spcPct val="90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SzPct val="145000"/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форма №066/у «Статистическая карта выбывшего из медицинской организации, оказывающей медицинскую помощь в стационарных условиях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условиях дневного стационар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 algn="just">
              <a:lnSpc>
                <a:spcPct val="90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SzPct val="145000"/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форма №016/у «Сводная ведомость учета движения пациентов и коечного фонда медицинской организации, оказывающей медицинскую помощь в стационарных условиях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условиях дневного стационара</a:t>
            </a:r>
            <a:r>
              <a:rPr b="1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»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 algn="just">
              <a:lnSpc>
                <a:spcPct val="90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SzPct val="145000"/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форма №001/у «Журнал учета приема пациентов и отказов в оказании медицинской помощи в стационарных условиях, в условиях дневного стационара»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 algn="just">
              <a:lnSpc>
                <a:spcPct val="90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SzPct val="145000"/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Форма 008/у «Журнал учета оперативных вмешательств (операций) в медицинской  организации, оказывающей медицинскую помощ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тационарных условиях, в условиях дневного стационара»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106/у «Медицинское свидетельство о смерти» и форма 106-2/у «Медицинское свидетельство о перинатальной смерти»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З РФ от 15.04.2021 №352н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Прямоугольник 2"/>
          <p:cNvSpPr/>
          <p:nvPr/>
        </p:nvSpPr>
        <p:spPr>
          <a:xfrm>
            <a:off x="2770200" y="287280"/>
            <a:ext cx="69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дирование ишемических болезней сердца (продолжение)</a:t>
            </a:r>
            <a:r>
              <a:rPr b="1" lang="ru-RU" sz="1800" spc="-1" strike="noStrike">
                <a:solidFill>
                  <a:srgbClr val="6d2f39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6" name="Прямоугольник 4"/>
          <p:cNvSpPr/>
          <p:nvPr/>
        </p:nvSpPr>
        <p:spPr>
          <a:xfrm>
            <a:off x="1946160" y="1017720"/>
            <a:ext cx="9577440" cy="50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четании </a:t>
            </a:r>
            <a:r>
              <a:rPr b="1" lang="ru-RU" sz="1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трого или повторного инфаркта миокарда с тяжелыми системными заболеваниями соединительной ткани (код М30-М36) первоначальной причиной смерти следует считать эти тяжелый заболевания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острый инфаркт их осложнением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д I25.2 в качестве первоначальной причины смерти не применяется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анное состояние обозначает инфаркт миокарда, перенесенный в прошлом и диагностированный по ЭКГ, в текущий период – бессимптомный. При наличии в первичной медицинской документации записи о перенесенном в прошлом инфаркте миокарда как единичном состоянии и отсутствии диагнозов других заболеваний, первоначальной причиной смерти следует считать постинфарктный кардиосклероз, код I25.8;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ды I23 и I24.0 в качестве первоначальной причины смерти также не применяются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обходимо использовать код I21 (МКБ-10, т. 2, стр. 61);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</a:t>
            </a:r>
            <a:r>
              <a:rPr b="1" lang="ru-RU" sz="1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мерти больного, поступившего с диагнозом Стенокардия (Нестабильная стенокардия) используется код </a:t>
            </a:r>
            <a:r>
              <a:rPr b="1" lang="en-US" sz="1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25</a:t>
            </a:r>
            <a:r>
              <a:rPr b="1" lang="ru-RU" sz="1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–Хроническая ишемическая болезнь сердц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рока 10.4.5, графа 8 (17);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четании инфаркта миокарда (острого или повторного) с болезнями, характеризующимися повышенным кровяным давлением, приоритет при выборе первоначальной причины смерти всегда отдается инфаркту миокарда (МКБ-10, т. 2, стр. 59-61).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1733400" y="190080"/>
            <a:ext cx="100188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дирование ишемических болезней сердца (продолжение)</a:t>
            </a:r>
            <a:r>
              <a:rPr b="1" lang="ru-RU" sz="2400" spc="-1" strike="noStrike">
                <a:solidFill>
                  <a:srgbClr val="6d2f3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8" name=""/>
          <p:cNvSpPr txBox="1"/>
          <p:nvPr/>
        </p:nvSpPr>
        <p:spPr>
          <a:xfrm>
            <a:off x="1552320" y="1554120"/>
            <a:ext cx="1001844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ронические формы ишемических болезней сердца могут являться первоначальной причиной смерти только в случаях обострения, присоединения нарушений ритма, тромбоэмболических и других осложнений.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ая логическая последовательность обязательно указывается в медицинском свидетельстве о смерти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пускается запись хронической формы ишемической болезни сердца одной строкой без указания логической последовательности.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состояния как </a:t>
            </a:r>
            <a:r>
              <a:rPr b="1" lang="ru-RU" sz="1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рдечная, сердечно-сосудистая, дыхательная недостаточность не должны включаться в медицинское свидетельство о  смерти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к как они являются элементом механизма смерти и встречаются у всех умерших.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9" name="Рисунок 2" descr=""/>
          <p:cNvPicPr/>
          <p:nvPr/>
        </p:nvPicPr>
        <p:blipFill>
          <a:blip r:embed="rId1"/>
          <a:stretch/>
        </p:blipFill>
        <p:spPr>
          <a:xfrm>
            <a:off x="8772480" y="3081240"/>
            <a:ext cx="1146240" cy="482760"/>
          </a:xfrm>
          <a:prstGeom prst="rect">
            <a:avLst/>
          </a:prstGeom>
          <a:ln w="0">
            <a:noFill/>
          </a:ln>
        </p:spPr>
      </p:pic>
      <p:pic>
        <p:nvPicPr>
          <p:cNvPr id="1960" name="Схема 4" descr=""/>
          <p:cNvPicPr/>
          <p:nvPr/>
        </p:nvPicPr>
        <p:blipFill>
          <a:blip r:embed="rId2"/>
          <a:stretch/>
        </p:blipFill>
        <p:spPr>
          <a:xfrm>
            <a:off x="1371600" y="433440"/>
            <a:ext cx="9777240" cy="64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Прямоугольник 2"/>
          <p:cNvSpPr/>
          <p:nvPr/>
        </p:nvSpPr>
        <p:spPr>
          <a:xfrm>
            <a:off x="2548080" y="158760"/>
            <a:ext cx="80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дирование цереброваскулярных болезней</a:t>
            </a:r>
            <a:r>
              <a:rPr b="1" lang="ru-RU" sz="1800" spc="-1" strike="noStrike">
                <a:solidFill>
                  <a:srgbClr val="6d2f39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2" name="Прямоугольник 4"/>
          <p:cNvSpPr/>
          <p:nvPr/>
        </p:nvSpPr>
        <p:spPr>
          <a:xfrm>
            <a:off x="1762200" y="527040"/>
            <a:ext cx="10169280" cy="67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ают острые формы цереброваскулярных болезней продолжительностью до 30 дней (приказ  Минздравсоцразвития России от 01.08.2007 № 513) – рубрики I60-I66; хронические формы, классифицированы в рубрике I67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ствия цереброваскулярных болезней (рубрика I69) используются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олько для регистрации летальных исходов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ствия цереброваскулярных болезней существуют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течение года и более с момента возникновения острой формы заболевания,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ют в себя различные состояния, классифицированные в других рубриках (МКБ-10, т. 1, ч. 1, стр. 512)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тистике заболеваемости не следует использовать рубрику последствий (I69), а необходимо указывать конкретные состояния, которые явились следствием острых форм цереброваскулярных болезней, например, энцефалопатия, паралич и т.д. (МКБ-10, т. 2, стр.115-116). При этом минимальный промежуток времени не установлен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еделах эпизода оказания медицинской помощи, если диагноз эпизода или госпитализации установлен до 30 дней от начала заболевания, то регистрируют острые формы цереброваскулярных болезней, независимо от продолжительности эпизода или госпитализации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, в пределах 30 дней закончилась первая госпитализация и началась вторая, то при второй госпитализации регистрируют  хроническую форму, классифицированную в рубрике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67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одно из состояний в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убриках конкретных неврологических расстройств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эпизод начался позже 30 дней, то регистрируют  хронические формы, классифицированные в рубрике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67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состояния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рубриках конкретных неврологических расстройств, но не последствия цереброваскулярных болезней (рубрика I69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Прямоугольник 2"/>
          <p:cNvSpPr/>
          <p:nvPr/>
        </p:nvSpPr>
        <p:spPr>
          <a:xfrm>
            <a:off x="2805120" y="311040"/>
            <a:ext cx="73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дирование цереброваскулярных болезней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Times New Roman"/>
                <a:ea typeface="Times New Roman"/>
              </a:rPr>
              <a:t>(Продолжение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4" name="Прямоугольник 5"/>
          <p:cNvSpPr/>
          <p:nvPr/>
        </p:nvSpPr>
        <p:spPr>
          <a:xfrm>
            <a:off x="1687680" y="1160640"/>
            <a:ext cx="9835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смерти от острых форм цереброваскулярных болезней следует помнить, что не все эти случаи кодируются  I60-I64: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сочетании острых форм цереброваскулярных болезней со злокачественным новообразованием, сахарным диабетом или бронхиальной астмой первоначальной причиной смерти считают эти заболевания, а острые формы цереброваскулярных болезней – их осложнениями (МКБ-10, т. 2, стр. 75), данные сочетания должны быть правильно отражены в заключительном посмертном диагнозе, промежуток времени сохраняется – не позднее 30 дней от начала возникновения заболевания или в пределах эпизода оказания медицинской помощи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остальных случаях первоначальной причиной смерти следует считать острые формы цереброваскулярных болезней (коды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60-I64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в промежуток времени до 30 дней или в пределах эпизода оказания медицинской помощи (даже, если он закончился позже);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сли диагноз установлен после 30 дней от возникновения заболевания, первоначальной причиной смерти следует считать хронические формы, классифицированные в рубрике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67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последствия цереброваскулярных болезней (рубрика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69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ды I65 и I66 в качестве первоначальной причины смерти не применяются, необходимо использовать коды I63 (МКБ-10, т. 2, стр. 62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5" name="Схема 2" descr=""/>
          <p:cNvPicPr/>
          <p:nvPr/>
        </p:nvPicPr>
        <p:blipFill>
          <a:blip r:embed="rId1"/>
          <a:stretch/>
        </p:blipFill>
        <p:spPr>
          <a:xfrm>
            <a:off x="1968480" y="536400"/>
            <a:ext cx="9412200" cy="56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Rectangle 2"/>
          <p:cNvSpPr/>
          <p:nvPr/>
        </p:nvSpPr>
        <p:spPr>
          <a:xfrm>
            <a:off x="2401920" y="2413080"/>
            <a:ext cx="8710560" cy="785880"/>
          </a:xfrm>
          <a:prstGeom prst="rect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БЛАГОДАРЮ ЗА ВНИМАНИЕ !!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7" name="Прямоугольник 1"/>
          <p:cNvSpPr/>
          <p:nvPr/>
        </p:nvSpPr>
        <p:spPr>
          <a:xfrm>
            <a:off x="2568600" y="362916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рач-статистик отдела мед. статистики и анализа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АУЗ КОМИАЦ им. Р.М. Зелькович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рзакова Наталья Владиславовн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. почт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nv@kuzdrav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тел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(384)2-68-05-0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доб.4083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1717560" y="384120"/>
            <a:ext cx="100188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c5a82"/>
                </a:solidFill>
                <a:latin typeface="Times New Roman"/>
                <a:ea typeface="Times New Roman"/>
              </a:rPr>
              <a:t>Определение лиц старше трудоспособного возраст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9" name=""/>
          <p:cNvSpPr txBox="1"/>
          <p:nvPr/>
        </p:nvSpPr>
        <p:spPr>
          <a:xfrm>
            <a:off x="1717560" y="179496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риказом Росстата от 17.07.2019 №409 «Об утверждении методики определении возрастных групп населения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4 и 2025 годах к лицам старше трудоспособного возраста будут относиться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ужчины с 63 лет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Женщины с 58 лет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1617480" y="149040"/>
            <a:ext cx="9885240" cy="12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2000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 ПАЦИЕНТОВ В СТАЦИОНАРЕ, СРОКИ И ИСХОДЫ ЛЕЧЕ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1" name=""/>
          <p:cNvSpPr txBox="1"/>
          <p:nvPr/>
        </p:nvSpPr>
        <p:spPr>
          <a:xfrm>
            <a:off x="1617480" y="1449360"/>
            <a:ext cx="10018440" cy="479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у включаются сведения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сех выписанных пациентах изо всех стационаров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доставленных по экстренным показаниям, в том числе СМП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роведенных койко-днях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мерших во всех стационарах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числе вскрытий (патологоанатомических и судебно-медицинских) и числе расхождений диагнозов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данную таблицу не включаются сведения!!!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числе переведенных пациентов в другие стационары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койко-днях умерших и переведенных пациентов в другие стационары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562040" y="376200"/>
            <a:ext cx="100188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2000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 ПАЦИЕНТОВ В СТАЦИОНАРЕ, СРОКИ И ИСХОДЫ ЛЕЧЕ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3" name=""/>
          <p:cNvSpPr txBox="1"/>
          <p:nvPr/>
        </p:nvSpPr>
        <p:spPr>
          <a:xfrm>
            <a:off x="1787400" y="1302840"/>
            <a:ext cx="9793440" cy="530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4000"/>
          </a:bodyPr>
          <a:p>
            <a:pPr marL="239760" indent="-239760"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39760" indent="-239760"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39760" indent="-239760"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39760" indent="-239760"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39760" indent="-239760"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исле умерших беременных, а также женщин, умерших в течение 42 дней после окончания беременности независимо от ее продолжительности и локализации от какой-либо причины, связанной с беременностью, отягощенной ею или ее ведением, но не от несчастного случая или случайно возникшей причины, в соответствии с критериями ВОЗ, включаются в строку 16.0 «Беременность, роды и послеродовый период»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39760" indent="-239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39760" indent="-239760"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 случаях смерти женщин по истечении 42 дней после беременности показываются в форме на общих основаниях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39760" indent="-239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39760" indent="-239760"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и смерти пациента, оставленного для стационарного лечения в приемном отделении, следует рассматривать как смерть в стационаре. (заполняется: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16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форма №001/у «Журнал учета приема пациентов и отказов в оказании медицинской помощи в стационарных условиях, в условиях дневного стационара»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39760" indent="-239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    </a:t>
            </a:r>
            <a:r>
              <a:rPr b="1" lang="ru-RU" sz="16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- форма №001/у  «Медицинская карта стационарного больного»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39760" indent="-239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    </a:t>
            </a:r>
            <a:r>
              <a:rPr b="1" lang="ru-RU" sz="16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- форма №066/у «Статистическая карта выбывшего из медицинской организации, оказывающей   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39760" indent="-239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      </a:t>
            </a:r>
            <a:r>
              <a:rPr b="1" lang="ru-RU" sz="16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медицинскую помощь в стационарных условиях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условиях дневного стационар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39760" indent="-239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      </a:t>
            </a:r>
            <a:r>
              <a:rPr b="1" lang="ru-RU" sz="16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Такой умерший пациент учитывается за отделением, куда бы поступил, если бы не умер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39760" indent="-239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39760" indent="-239760"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39760" indent="-2397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2025360" y="215640"/>
            <a:ext cx="918828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2000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 ПАЦИЕНТОВ В СТАЦИОНАРЕ, СРОКИ И ИСХОДЫ ЛЕЧЕ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5" name=""/>
          <p:cNvSpPr txBox="1"/>
          <p:nvPr/>
        </p:nvSpPr>
        <p:spPr>
          <a:xfrm>
            <a:off x="1854000" y="1625760"/>
            <a:ext cx="9878760" cy="523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включает в себя сумму строк со 2 по 21 включительно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е 17 «Отдельные состояния, возникающие в перинатальном периоде» коды по МКБ-10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00-Р04 по графам с 4 по 21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05-Р96 по графам с 22 по 33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брики Р00-Р04 характеризуют состояния матери, оказавшие влияние на новорожденного или плод, и не применяются у детей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плода или новорожденного кодируют рубриками Р05-Р96 (Перинатальные состояния) ил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00-Q96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рожденные аномалии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7 у взрослых заполняется в том случае, если основное заболевание новорожденного (в возрасте 0-6 дней) или первоначальна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а смерти новорожденного или плода кодируются рубриками Р00-Р04. В остальных случаях заполняется строка 17 у дете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4T05:34:41Z</dcterms:created>
  <dc:creator>Пользователь</dc:creator>
  <dc:description/>
  <dc:language>en-US</dc:language>
  <cp:lastModifiedBy>Карзакова Наталья Владиславовна</cp:lastModifiedBy>
  <cp:lastPrinted>2023-12-11T04:24:47Z</cp:lastPrinted>
  <dcterms:modified xsi:type="dcterms:W3CDTF">2024-12-16T06:41:11Z</dcterms:modified>
  <cp:revision>681</cp:revision>
  <dc:subject/>
  <dc:title>СВЕДЕНИЯ О ДЕЯТЕЛЬНОСТИ  ПОДРАЗДЕЛЕНИЙ МЕДИЦИНСКОЙ ОРГАНИЗАЦИИ, ОКАЗЫВАЮЩИХ МЕДИЦИНСКУЮ ПОМОЩЬ В СТАЦИОНАРНЫХ УСЛОВИЯХ за 2016 год Форма №14</dc:title>
</cp:coreProperties>
</file>