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255D-7961-426B-838B-6A85623940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F944-5AF5-4F75-BB23-40541CE29C8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EE4-4603-4556-BCAD-24556D15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0BF-D026-4989-B4C8-6061F85A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9FD4-5839-4081-94CF-5B02F14A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977-5FCB-4DCA-A861-3D5B8BF45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58D1-43AB-4F28-9A7B-E27D3864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EAE9-F054-46A0-ADAC-E91BC315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1A52-E3FE-4AD6-98F0-06ACA2EE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D5FA-2502-4EC9-8FBF-85E24050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49E5-4062-44F4-B181-9D3A6E6D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FA41-827C-4B0A-B863-06908D12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1D35-9A9C-40CB-8AA2-3477A9C8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041-8389-41BA-8F35-2DCBFCC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CCA2-F991-4155-89E3-95ECC94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BCE7-524D-4C92-AD72-523CB70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0FBE-77D1-4EA7-885B-B5808B8A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B5EC-4F14-4B5F-BA6A-B47F5379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3C39-3996-4814-8B15-EB9F63FC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09E0-79D2-43DF-A1B5-7CEBF1D9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D838-704E-4C9A-AF76-F6C04997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7B169-1DD5-4650-9D50-054312EC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8AA23-ADA1-426D-8810-F9762642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0D79-C521-4521-89E1-ED351E08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90C-0460-41E7-B374-D76C66B4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0C99D-AC72-43E9-90D8-43494FCD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CAD82-ABDE-481B-BD32-1ED0CA5E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9F65-ED2C-4108-B2FC-B4D24857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09BE3-AACE-4729-9B74-1691FCAD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CE2ED-353E-4E6F-AE9B-026169E9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3C84F-B365-4515-BD6B-9CDAA082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EAC6-C456-4DC4-B38B-41DA2772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A1671-4EAE-4A31-8A72-BD07AAE0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D6F6-96D8-4BFC-BF8A-BE106868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D40D-3212-48A1-932B-18F6FD94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D11-99C7-4A94-ACD5-9A001775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87293-CA4D-458F-B233-AC0E1313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96E2B-6DA8-4935-8FB9-EFF7AECC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FEE59-9AB6-4664-B783-29551A4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1D28-0293-45A4-BD27-062AE28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6F9E4-23C4-4042-8150-E74A041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7F4C5-47EF-4231-9D0F-9E1FE115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1A9D-019D-4EFD-A90E-54282203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C5BD-02FD-4733-B4EE-72935926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B828-AF09-4A39-A2AB-10093D33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5E7-8942-46D9-9B31-ABCBE32A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4AF-12CC-4898-91B6-E0C48C79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CDD-BAE5-4777-A1B9-19B108A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B85-E64F-45D3-ADDA-A271143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E24-4937-4CFE-ACA4-40F2993C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9BDC-DDCC-4472-A902-67D8A5C36B5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0F5-5F34-4207-9E01-6E55E79EA03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B613-AA5B-47BE-AC87-15B93FD935C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144-C205-4F19-89DA-31EF689D244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71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 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аналитической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КС штаба ВСМК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332920" cy="2255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3" name="Таблица 6" descr=""/>
          <p:cNvPicPr/>
          <p:nvPr/>
        </p:nvPicPr>
        <p:blipFill>
          <a:blip r:embed="rId1"/>
          <a:stretch/>
        </p:blipFill>
        <p:spPr>
          <a:xfrm>
            <a:off x="378000" y="695160"/>
            <a:ext cx="5510160" cy="392616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8" name="Таблица 4" descr=""/>
          <p:cNvPicPr/>
          <p:nvPr/>
        </p:nvPicPr>
        <p:blipFill>
          <a:blip r:embed="rId1"/>
          <a:stretch/>
        </p:blipFill>
        <p:spPr>
          <a:xfrm>
            <a:off x="225360" y="781200"/>
            <a:ext cx="8680680" cy="452916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0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2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3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12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2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3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12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4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0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8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1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8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5" dur="2000" fill="hold"/>
                                        <p:tgtEl>
                                          <p:spTgt spid="2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0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2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8" dur="1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5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1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7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0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19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0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2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0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125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0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0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5"/>
          <p:cNvSpPr/>
          <p:nvPr/>
        </p:nvSpPr>
        <p:spPr>
          <a:xfrm>
            <a:off x="1676520" y="1676520"/>
            <a:ext cx="53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№№ 55 и 56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914400" y="2895480"/>
            <a:ext cx="7238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СТАВИТЬ В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Х ЭКЗЕМПЛЯРАХ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144360" y="5029200"/>
            <a:ext cx="7739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и информационно-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тической обработки ЦУКС Штаба ВСМК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25360" y="1689120"/>
            <a:ext cx="8693280" cy="17733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81160" y="2073240"/>
            <a:ext cx="8691480" cy="17668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7880" y="1639800"/>
            <a:ext cx="8205840" cy="31813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83808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504800"/>
          <a:ext cx="8458200" cy="2333880"/>
        </p:xfrm>
        <a:graphic>
          <a:graphicData uri="http://schemas.openxmlformats.org/drawingml/2006/table">
            <a:tbl>
              <a:tblPr/>
              <a:tblGrid>
                <a:gridCol w="1447920"/>
                <a:gridCol w="457200"/>
                <a:gridCol w="914400"/>
                <a:gridCol w="762120"/>
                <a:gridCol w="609480"/>
                <a:gridCol w="609480"/>
                <a:gridCol w="990720"/>
                <a:gridCol w="838080"/>
                <a:gridCol w="1041480"/>
                <a:gridCol w="787320"/>
              </a:tblGrid>
              <a:tr h="41148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380880" y="38862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43434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295280" y="579132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Магазейщикова Наталья Геннадиевна</cp:lastModifiedBy>
  <cp:lastPrinted>2016-12-07T09:58:05Z</cp:lastPrinted>
  <dcterms:modified xsi:type="dcterms:W3CDTF">2019-12-03T12:19:28Z</dcterms:modified>
  <cp:revision>5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