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3872-A8AE-48A5-9D4B-A38F1619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1BF0-9555-4C62-90A2-009C735148F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0EE7-F582-439B-B614-9AC5791302E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A22C-5398-428D-A265-BAC35C953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D85-3420-428A-8BB4-4A2CE5AC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2DD-D073-4305-BE29-7CB2FB56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8E09-9B7D-4845-A6B3-F615C39D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604-B109-4EFA-8993-33B0F640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698F-5AF9-49AA-88D6-49858F65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A046-EA5C-4662-9831-072488BB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8676-2DAC-4614-8646-A1B6EA9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B2D9-B8DC-4658-A9A0-47009D1F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BABF-AFB7-4615-B8B1-CF07459B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D9BB-9041-4582-9638-A8CAD87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CC12-D446-4100-89EB-5EBE82B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C62-C91F-44BB-8E31-112F1422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3F51-929E-4FD1-AA19-2BA3D33A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C68-60D8-431F-9682-798B393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953D-61B7-4F59-8E64-02D79DDC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FDC-BE55-4343-A24A-3D2CBD66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DBAC-464D-4BD4-A524-A93EC581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274-6A82-4E46-92E1-0695D541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AF9-1798-4400-84C5-98FE4037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FC7-E383-44CD-A5BA-83B95AF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07720" y="628560"/>
            <a:ext cx="79088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50B-43F3-4C97-ADAE-5F9C785A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7A0-0FE6-41ED-9D33-0B5A665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09F-A2EA-4739-8A12-2480D531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084-F65F-4603-8808-8AE03A1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2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5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928-2D4F-49BD-8964-DC5F31A2F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0" descr="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7"/>
          <p:cNvGrpSpPr/>
          <p:nvPr/>
        </p:nvGrpSpPr>
        <p:grpSpPr>
          <a:xfrm>
            <a:off x="6692760" y="228600"/>
            <a:ext cx="2451240" cy="4038480"/>
            <a:chOff x="6692760" y="228600"/>
            <a:chExt cx="2451240" cy="4038480"/>
          </a:xfrm>
        </p:grpSpPr>
        <p:pic>
          <p:nvPicPr>
            <p:cNvPr id="57" name="Picture 24" descr="11"/>
            <p:cNvPicPr/>
            <p:nvPr/>
          </p:nvPicPr>
          <p:blipFill>
            <a:blip r:embed="rId3"/>
            <a:stretch/>
          </p:blipFill>
          <p:spPr>
            <a:xfrm>
              <a:off x="6692760" y="228600"/>
              <a:ext cx="245124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5" descr="12"/>
            <p:cNvPicPr/>
            <p:nvPr/>
          </p:nvPicPr>
          <p:blipFill>
            <a:blip r:embed="rId4"/>
            <a:stretch/>
          </p:blipFill>
          <p:spPr>
            <a:xfrm>
              <a:off x="6958440" y="817200"/>
              <a:ext cx="1919880" cy="238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44"/>
          <p:cNvGrpSpPr/>
          <p:nvPr/>
        </p:nvGrpSpPr>
        <p:grpSpPr>
          <a:xfrm>
            <a:off x="-19080" y="-57240"/>
            <a:ext cx="9182160" cy="1349640"/>
            <a:chOff x="-19080" y="-57240"/>
            <a:chExt cx="9182160" cy="1349640"/>
          </a:xfrm>
        </p:grpSpPr>
        <p:sp>
          <p:nvSpPr>
            <p:cNvPr id="60" name="Freeform 14"/>
            <p:cNvSpPr/>
            <p:nvPr/>
          </p:nvSpPr>
          <p:spPr>
            <a:xfrm flipH="1">
              <a:off x="-9720" y="-15480"/>
              <a:ext cx="9172440" cy="1307880"/>
            </a:xfrm>
            <a:custGeom>
              <a:avLst/>
              <a:gdLst/>
              <a:ahLst/>
              <a:rect l="l" t="t" r="r" b="b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00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-19080" y="-57240"/>
              <a:ext cx="9167760" cy="1265040"/>
            </a:xfrm>
            <a:custGeom>
              <a:avLst/>
              <a:gdLst/>
              <a:ahLst/>
              <a:rect l="l" t="t" r="r" b="b"/>
              <a:pathLst>
                <a:path w="5783" h="1176">
                  <a:moveTo>
                    <a:pt x="0" y="496"/>
                  </a:moveTo>
                  <a:cubicBezTo>
                    <a:pt x="1405" y="0"/>
                    <a:pt x="2961" y="600"/>
                    <a:pt x="3148" y="662"/>
                  </a:cubicBezTo>
                  <a:cubicBezTo>
                    <a:pt x="3335" y="724"/>
                    <a:pt x="4732" y="1176"/>
                    <a:pt x="5783" y="614"/>
                  </a:cubicBezTo>
                  <a:cubicBezTo>
                    <a:pt x="5783" y="614"/>
                    <a:pt x="5783" y="328"/>
                    <a:pt x="5783" y="42"/>
                  </a:cubicBezTo>
                  <a:cubicBezTo>
                    <a:pt x="2891" y="42"/>
                    <a:pt x="0" y="42"/>
                    <a:pt x="0" y="42"/>
                  </a:cubicBezTo>
                  <a:cubicBezTo>
                    <a:pt x="0" y="269"/>
                    <a:pt x="0" y="269"/>
                    <a:pt x="0" y="496"/>
                  </a:cubicBezTo>
                  <a:close/>
                </a:path>
              </a:pathLst>
            </a:custGeom>
            <a:solidFill>
              <a:srgbClr val="ea8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2505240" y="200880"/>
              <a:ext cx="6643440" cy="1006920"/>
            </a:xfrm>
            <a:custGeom>
              <a:avLst/>
              <a:gdLst/>
              <a:ahLst/>
              <a:rect l="l" t="t" r="r" b="b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5285160" y="-12600"/>
              <a:ext cx="3862440" cy="1177560"/>
            </a:xfrm>
            <a:custGeom>
              <a:avLst/>
              <a:gdLst/>
              <a:ahLst/>
              <a:rect l="l" t="t" r="r" b="b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5d2100">
                    <a:alpha val="0"/>
                  </a:srgbClr>
                </a:gs>
                <a:gs pos="100000">
                  <a:srgbClr val="c847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45" descr="8"/>
          <p:cNvPicPr/>
          <p:nvPr/>
        </p:nvPicPr>
        <p:blipFill>
          <a:blip r:embed="rId5"/>
          <a:stretch/>
        </p:blipFill>
        <p:spPr>
          <a:xfrm>
            <a:off x="7227720" y="878040"/>
            <a:ext cx="1751040" cy="53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13"/>
          <p:cNvPicPr/>
          <p:nvPr/>
        </p:nvPicPr>
        <p:blipFill>
          <a:blip r:embed="rId6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15"/>
          <p:cNvPicPr/>
          <p:nvPr/>
        </p:nvPicPr>
        <p:blipFill>
          <a:blip r:embed="rId7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7" descr="logo(trasparance)2"/>
          <p:cNvPicPr/>
          <p:nvPr/>
        </p:nvPicPr>
        <p:blipFill>
          <a:blip r:embed="rId8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8" descr="15"/>
          <p:cNvPicPr/>
          <p:nvPr/>
        </p:nvPicPr>
        <p:blipFill>
          <a:blip r:embed="rId9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1107720" y="628560"/>
            <a:ext cx="79088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Trebuchet MS"/>
                <a:ea typeface="Trebuchet MS"/>
              </a:defRPr>
            </a:lvl1pPr>
          </a:lstStyle>
          <a:p>
            <a:pPr marL="25560" indent="0" algn="r">
              <a:lnSpc>
                <a:spcPts val="1236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91D9-1BE7-41C5-9647-8D999783536D}" type="slidenum">
              <a:rPr b="0" lang="en-US" sz="1200" spc="-1" strike="noStrike">
                <a:solidFill>
                  <a:srgbClr val="888888"/>
                </a:solidFill>
                <a:latin typeface="Trebuchet MS"/>
                <a:ea typeface="Trebuchet MS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79"/>
          <p:cNvSpPr/>
          <p:nvPr/>
        </p:nvSpPr>
        <p:spPr>
          <a:xfrm>
            <a:off x="141120" y="384120"/>
            <a:ext cx="8655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Форма №</a:t>
            </a:r>
            <a:r>
              <a:rPr b="1" lang="en-US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0</a:t>
            </a: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Сведения о медицинской организации»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дзаголовок 2"/>
          <p:cNvSpPr/>
          <p:nvPr/>
        </p:nvSpPr>
        <p:spPr>
          <a:xfrm>
            <a:off x="4883040" y="1946160"/>
            <a:ext cx="39942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РАЗДЕЛ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ДЕЯТЕЛЬНОСТЬ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МЕДИЦИНСКОЙ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ОРГАНИЗАЦИИ </a:t>
            </a:r>
            <a:br>
              <a:rPr sz="2400"/>
            </a:b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ПО ОКАЗАНИЮ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МЕДИЦИНСКОЙ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 ПОМОЩИ В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АМБУЛАТОРНЫХ </a:t>
            </a:r>
            <a:r>
              <a:rPr b="1" i="1" lang="en-US" sz="2400" spc="-1" strike="noStrike">
                <a:solidFill>
                  <a:srgbClr val="7545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754500"/>
                </a:solidFill>
                <a:latin typeface="Times New Roman"/>
              </a:rPr>
              <a:t> УСЛОВИЯХ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141120" y="1946160"/>
            <a:ext cx="508824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5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697"/>
          <p:cNvSpPr/>
          <p:nvPr/>
        </p:nvSpPr>
        <p:spPr>
          <a:xfrm>
            <a:off x="4414680" y="3695760"/>
            <a:ext cx="4496040" cy="274644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троке 15 "мобильная медицинская бригада"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 указываются выполненные врачебные посещения бригадой, если она выезжала не на мобильном медицинском комплексе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троке 16 "мобильный медицинский комплекс"</a:t>
            </a:r>
            <a:r>
              <a:rPr b="1" i="1" lang="ru-RU" sz="1800" spc="-1" strike="noStrike">
                <a:solidFill>
                  <a:srgbClr val="754500"/>
                </a:solidFill>
                <a:latin typeface="Times New Roman"/>
                <a:ea typeface="Times New Roman"/>
              </a:rPr>
              <a:t> указываются посещения, выполненные мобильной медицинской бригадой с использованием мобильного медицинского комплекс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03"/>
          <p:cNvSpPr/>
          <p:nvPr/>
        </p:nvSpPr>
        <p:spPr>
          <a:xfrm>
            <a:off x="4419720" y="1866960"/>
            <a:ext cx="4491000" cy="18781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26"/>
          <p:cNvSpPr/>
          <p:nvPr/>
        </p:nvSpPr>
        <p:spPr>
          <a:xfrm>
            <a:off x="7141680" y="403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697"/>
          <p:cNvSpPr/>
          <p:nvPr/>
        </p:nvSpPr>
        <p:spPr>
          <a:xfrm>
            <a:off x="4419720" y="3505320"/>
            <a:ext cx="4495680" cy="16891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афа 3 – графа 4 = городские жители всего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Графа 5 – графа 6 = городские жители де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</a:rPr>
              <a:t>!!!Всего не должно быть больше чем дети по всем строк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26"/>
          <p:cNvSpPr/>
          <p:nvPr/>
        </p:nvSpPr>
        <p:spPr>
          <a:xfrm>
            <a:off x="7141680" y="403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03"/>
          <p:cNvSpPr/>
          <p:nvPr/>
        </p:nvSpPr>
        <p:spPr>
          <a:xfrm>
            <a:off x="1676520" y="3276720"/>
            <a:ext cx="6324480" cy="243360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посещения учитываются  по установленному порядку: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Все посещения по поводу диспансерного наблюдения указываются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азовые посещения по поводу заболевания у стоматологов учитываются соответственно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8 «комплексный медицинский осмотр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9 «из них в центрах здоровь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84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c847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0720" y="635040"/>
            <a:ext cx="70102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ая таблиц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6560" y="1467000"/>
          <a:ext cx="8239320" cy="1981080"/>
        </p:xfrm>
        <a:graphic>
          <a:graphicData uri="http://schemas.openxmlformats.org/drawingml/2006/table">
            <a:tbl>
              <a:tblPr/>
              <a:tblGrid>
                <a:gridCol w="8239320"/>
              </a:tblGrid>
              <a:tr h="1986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2107) 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бота медицинских организаций и их подразделений, оказывающих медицинскую помощь в амбулаторных условиях, участвующих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оздании и тиражировании «Новой модел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 посещения: к врачам, всего 1 __________, из них: сельских жителей 2 _________, к среднему медицинскому персоналу 3 ________, из них: сельских жителей 4 ________.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00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1520"/>
          <p:cNvSpPr/>
          <p:nvPr/>
        </p:nvSpPr>
        <p:spPr>
          <a:xfrm>
            <a:off x="152280" y="4629240"/>
            <a:ext cx="8763120" cy="131436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абсолютных значен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710. Работа врачей-стоматолог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*  Первичным считается первое посещение за стоматологической помощью в отчетном году по любому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ffbc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95280" y="129240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основного, фонового, конкурирующего 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обследование, а также результаты обследования и  динамического наблю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2"/>
          <p:cNvSpPr/>
          <p:nvPr/>
        </p:nvSpPr>
        <p:spPr>
          <a:xfrm>
            <a:off x="701640" y="2254320"/>
            <a:ext cx="831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ЛЕЧЕБНО-ВСПОМОГАТЕЛЬНЫХ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400"/>
            </a:b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oup 54" descr=""/>
          <p:cNvPicPr/>
          <p:nvPr/>
        </p:nvPicPr>
        <p:blipFill>
          <a:blip r:embed="rId1"/>
          <a:stretch/>
        </p:blipFill>
        <p:spPr>
          <a:xfrm>
            <a:off x="122400" y="1968480"/>
            <a:ext cx="8735760" cy="31701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"/>
          <p:cNvSpPr/>
          <p:nvPr/>
        </p:nvSpPr>
        <p:spPr>
          <a:xfrm>
            <a:off x="554040" y="360360"/>
            <a:ext cx="779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Деятельность физиотерапевтического отделения (кабинета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658800" y="14428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блица 4601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3"/>
          <p:cNvSpPr/>
          <p:nvPr/>
        </p:nvSpPr>
        <p:spPr>
          <a:xfrm>
            <a:off x="5052960" y="3897360"/>
            <a:ext cx="3721320" cy="1133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2 из строки 1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2 из строки 2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1042920" y="57456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Деятельность кабинета ЛФК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793800" y="11444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блица 4701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Таблица 3" descr=""/>
          <p:cNvPicPr/>
          <p:nvPr/>
        </p:nvPicPr>
        <p:blipFill>
          <a:blip r:embed="rId1"/>
          <a:stretch/>
        </p:blipFill>
        <p:spPr>
          <a:xfrm>
            <a:off x="371520" y="1974960"/>
            <a:ext cx="8454960" cy="343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53"/>
          <p:cNvSpPr/>
          <p:nvPr/>
        </p:nvSpPr>
        <p:spPr>
          <a:xfrm>
            <a:off x="5154480" y="3887640"/>
            <a:ext cx="3657600" cy="12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.2 из строки 1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.2 из строки 2.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" descr=""/>
          <p:cNvPicPr/>
          <p:nvPr/>
        </p:nvPicPr>
        <p:blipFill>
          <a:blip r:embed="rId1"/>
          <a:stretch/>
        </p:blipFill>
        <p:spPr>
          <a:xfrm>
            <a:off x="-371520" y="2122560"/>
            <a:ext cx="10001160" cy="16923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2"/>
          <p:cNvSpPr/>
          <p:nvPr/>
        </p:nvSpPr>
        <p:spPr>
          <a:xfrm>
            <a:off x="979560" y="1523880"/>
            <a:ext cx="46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аблица 4804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05"/>
          <p:cNvSpPr/>
          <p:nvPr/>
        </p:nvSpPr>
        <p:spPr>
          <a:xfrm>
            <a:off x="203040" y="573120"/>
            <a:ext cx="8560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7. Логопедическая помощ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53"/>
          <p:cNvSpPr/>
          <p:nvPr/>
        </p:nvSpPr>
        <p:spPr>
          <a:xfrm>
            <a:off x="285840" y="4027320"/>
            <a:ext cx="8686800" cy="1219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заполняется на основании сведений, указанных в медицинской карте пациента, получающего медицинскую помощь в амбулаторных условиях (ф. 025/у) и истории развития ребенка (ф. 112/у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ются по всем пациентам, закончившим занятия с логопедо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53"/>
          <p:cNvSpPr/>
          <p:nvPr/>
        </p:nvSpPr>
        <p:spPr>
          <a:xfrm>
            <a:off x="5273640" y="5340240"/>
            <a:ext cx="3276720" cy="1295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может быть больше суммы строк 2+3 за счет пациентов в возрасте 18 лет и старше, закончивших занятия с логопедо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05"/>
          <p:cNvSpPr/>
          <p:nvPr/>
        </p:nvSpPr>
        <p:spPr>
          <a:xfrm>
            <a:off x="22860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marL="762480" indent="-762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. Деятельность отделения гемосорбции и гравитационной хирургии кров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228600" y="1219320"/>
            <a:ext cx="19810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5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15800" y="1523880"/>
          <a:ext cx="8499600" cy="3916440"/>
        </p:xfrm>
        <a:graphic>
          <a:graphicData uri="http://schemas.openxmlformats.org/drawingml/2006/table">
            <a:tbl>
              <a:tblPr/>
              <a:tblGrid>
                <a:gridCol w="3481560"/>
                <a:gridCol w="685800"/>
                <a:gridCol w="682560"/>
                <a:gridCol w="2594160"/>
                <a:gridCol w="1055520"/>
              </a:tblGrid>
              <a:tr h="324000"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дневного стационар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мест в отделен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роцедур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гемосорбц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змаферезов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зерного облучения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ого облучения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озонотерапии кров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Rectangle 453"/>
          <p:cNvSpPr/>
          <p:nvPr/>
        </p:nvSpPr>
        <p:spPr>
          <a:xfrm>
            <a:off x="4867200" y="3198960"/>
            <a:ext cx="3657600" cy="838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может быть больше суммы строк с 3 по 7 на прочие процедуры, которые необходимо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53"/>
          <p:cNvSpPr/>
          <p:nvPr/>
        </p:nvSpPr>
        <p:spPr>
          <a:xfrm>
            <a:off x="4876920" y="4495680"/>
            <a:ext cx="36576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 + 5 за счет процедур, выполненных в стационарных условиях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05"/>
          <p:cNvSpPr/>
          <p:nvPr/>
        </p:nvSpPr>
        <p:spPr>
          <a:xfrm>
            <a:off x="2286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0. Деятельность отделения (кабинета) медицинской профилак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228600" y="990720"/>
            <a:ext cx="1752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4809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440" y="1468440"/>
          <a:ext cx="8871120" cy="3610080"/>
        </p:xfrm>
        <a:graphic>
          <a:graphicData uri="http://schemas.openxmlformats.org/drawingml/2006/table">
            <a:tbl>
              <a:tblPr/>
              <a:tblGrid>
                <a:gridCol w="7188480"/>
                <a:gridCol w="765000"/>
                <a:gridCol w="917640"/>
              </a:tblGrid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е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лиц, обученных основам здорового образа жизн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медицинских работников, обученных методике профилактики заболеваний и укрепления здоровья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пациентов обученных в “школах”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том числе: школе для беремен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коле для пациентов с сердечной недостаточность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школе для пациентов на хроническом диализ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чих школа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проведенных массовых мероприятий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лиц, участвующих в мероприят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школ для родителей, дети которых больны хроническими заболевани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ля родителей детей в возрасте 0-2 года 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тей, родители (законные представители) которых прошли обучение в «школах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в возрасте 0-2 года включительн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80880" y="19051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РАБОТА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ДИАГНОСТИЧЕСКИХ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ОТДЕЛЕНИЙ (КАБИНЕТОВ)</a:t>
            </a:r>
            <a:br>
              <a:rPr sz="2800"/>
            </a:b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52280" y="1371600"/>
            <a:ext cx="88394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данного раздела заполняют в медицинских организациях, имеющих соответствующие диагностические службы. Включаются сведения об исследованиях, проведенных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льк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тделениях (кабинетах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н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включают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анализах и исследованиях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ых в других организациях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ам, обслуживаемым данной организацие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иагностические отделения данной организации оказывают помощь не только своим пациентам, но и пациентам, направленным другими организациями, в сведения о работе диагностического отделения включаетс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ой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зависимо от того, каким пациентам была оказана помощь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1860480" y="390600"/>
            <a:ext cx="526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 5100 «Рентгенодиагностические исследования (без профилактических исследований)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Таблица 9" descr=""/>
          <p:cNvPicPr/>
          <p:nvPr/>
        </p:nvPicPr>
        <p:blipFill>
          <a:blip r:embed="rId1"/>
          <a:stretch/>
        </p:blipFill>
        <p:spPr>
          <a:xfrm>
            <a:off x="360360" y="1359000"/>
            <a:ext cx="8551800" cy="5310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53"/>
          <p:cNvSpPr/>
          <p:nvPr/>
        </p:nvSpPr>
        <p:spPr>
          <a:xfrm>
            <a:off x="3668760" y="2503440"/>
            <a:ext cx="5195880" cy="12700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ся рентгенологические диагностические исследования за исключением: профилактических (таб. 5114), интервенционных (таб. 5111) и компьютерно-томографических исследований (таб. 5113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3"/>
          <p:cNvSpPr/>
          <p:nvPr/>
        </p:nvSpPr>
        <p:spPr>
          <a:xfrm>
            <a:off x="3683160" y="3860640"/>
            <a:ext cx="5181480" cy="53352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должна быть равна сумме строк 2+3+4+5+6+7+8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53"/>
          <p:cNvSpPr/>
          <p:nvPr/>
        </p:nvSpPr>
        <p:spPr>
          <a:xfrm>
            <a:off x="3683160" y="4500720"/>
            <a:ext cx="525780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больше суммы граф 11+12 за счет исследований, выполненных пациентам, получавшим медицинскую помощь в стационарных услов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Скругленная прямоугольная выноска 2"/>
          <p:cNvSpPr/>
          <p:nvPr/>
        </p:nvSpPr>
        <p:spPr>
          <a:xfrm>
            <a:off x="179280" y="74520"/>
            <a:ext cx="4114800" cy="2521080"/>
          </a:xfrm>
          <a:prstGeom prst="wedgeRoundRectCallout">
            <a:avLst>
              <a:gd name="adj1" fmla="val 34842"/>
              <a:gd name="adj2" fmla="val 108407"/>
              <a:gd name="adj3" fmla="val 16667"/>
            </a:avLst>
          </a:prstGeom>
          <a:solidFill>
            <a:srgbClr val="5bff21">
              <a:alpha val="8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ВНИМАНИЕ!!!!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сследования, которые выполняются совместно с хирургами, урологами, гинекологами и т.д.,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обходимо показывать в таблице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511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ая прямоугольная выноска 3"/>
          <p:cNvSpPr/>
          <p:nvPr/>
        </p:nvSpPr>
        <p:spPr>
          <a:xfrm>
            <a:off x="5029200" y="4272120"/>
            <a:ext cx="4114800" cy="2520720"/>
          </a:xfrm>
          <a:prstGeom prst="wedgeRoundRectCallout">
            <a:avLst>
              <a:gd name="adj1" fmla="val 7837"/>
              <a:gd name="adj2" fmla="val -86222"/>
              <a:gd name="adj3" fmla="val 16667"/>
            </a:avLst>
          </a:prstGeom>
          <a:solidFill>
            <a:srgbClr val="5bff21">
              <a:alpha val="86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ВНИМАНИЕ!!!!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з контрастирования рентгенографии брюшной полости делают при подозрен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кишечную непроходимость;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перфорацию полого орган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наличие инородного тел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320" y="1066680"/>
          <a:ext cx="8839080" cy="5183280"/>
        </p:xfrm>
        <a:graphic>
          <a:graphicData uri="http://schemas.openxmlformats.org/drawingml/2006/table">
            <a:tbl>
              <a:tblPr/>
              <a:tblGrid>
                <a:gridCol w="1379520"/>
                <a:gridCol w="52524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ой патронажной службой для оказания паллиативной медицинской помощи на дому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694"/>
          <p:cNvSpPr/>
          <p:nvPr/>
        </p:nvSpPr>
        <p:spPr>
          <a:xfrm>
            <a:off x="2133720" y="3435480"/>
            <a:ext cx="6781680" cy="5522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троку 60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«по паллиативной медицинской помощи» включаются посещени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98"/>
          <p:cNvSpPr/>
          <p:nvPr/>
        </p:nvSpPr>
        <p:spPr>
          <a:xfrm>
            <a:off x="2019240" y="4064040"/>
            <a:ext cx="6896160" cy="18399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ку 124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25 строк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азании паллиативной медицинской помощи патронажными службами на дому.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ещения указываются только с профилактической целью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>
            <a:off x="1398600" y="4535640"/>
            <a:ext cx="557280" cy="1714320"/>
          </a:xfrm>
          <a:custGeom>
            <a:avLst/>
            <a:gdLst>
              <a:gd name="textAreaLeft" fmla="*/ 27000 w 557280"/>
              <a:gd name="textAreaRight" fmla="*/ 530280 w 557280"/>
              <a:gd name="textAreaTop" fmla="*/ 27000 h 1714320"/>
              <a:gd name="textAreaBottom" fmla="*/ 1687320 h 1714320"/>
            </a:gdLst>
            <a:ahLst/>
            <a:rect l="textAreaLeft" t="textAreaTop" r="textAreaRight" b="textAreaBottom"/>
            <a:pathLst>
              <a:path w="21600" h="66418">
                <a:moveTo>
                  <a:pt x="3600" y="0"/>
                </a:moveTo>
                <a:arcTo wR="3600" hR="3600" stAng="16200000" swAng="-5400000"/>
                <a:lnTo>
                  <a:pt x="0" y="62818"/>
                </a:lnTo>
                <a:arcTo wR="3600" hR="3600" stAng="10800000" swAng="-5400000"/>
                <a:lnTo>
                  <a:pt x="18000" y="66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94"/>
          <p:cNvSpPr/>
          <p:nvPr/>
        </p:nvSpPr>
        <p:spPr>
          <a:xfrm>
            <a:off x="2019240" y="5973840"/>
            <a:ext cx="6896160" cy="5522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троки 124 и 125: Приказ Минздрава России №345н и Минтруда и соцзащиты России №372н от 31.05.2019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object 2"/>
          <p:cNvSpPr/>
          <p:nvPr/>
        </p:nvSpPr>
        <p:spPr>
          <a:xfrm>
            <a:off x="684360" y="2560680"/>
            <a:ext cx="360" cy="108000"/>
          </a:xfrm>
          <a:custGeom>
            <a:avLst/>
            <a:gdLst/>
            <a:ahLst/>
            <a:rect l="l" t="t" r="r" b="b"/>
            <a:pathLst>
              <a:path w="0" h="108585">
                <a:moveTo>
                  <a:pt x="0" y="0"/>
                </a:moveTo>
                <a:lnTo>
                  <a:pt x="0" y="108267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ject 3"/>
          <p:cNvSpPr/>
          <p:nvPr/>
        </p:nvSpPr>
        <p:spPr>
          <a:xfrm>
            <a:off x="684360" y="282420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ject 4"/>
          <p:cNvSpPr/>
          <p:nvPr/>
        </p:nvSpPr>
        <p:spPr>
          <a:xfrm>
            <a:off x="684360" y="299232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bject 5"/>
          <p:cNvSpPr/>
          <p:nvPr/>
        </p:nvSpPr>
        <p:spPr>
          <a:xfrm>
            <a:off x="684360" y="315900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bject 6"/>
          <p:cNvSpPr/>
          <p:nvPr/>
        </p:nvSpPr>
        <p:spPr>
          <a:xfrm>
            <a:off x="684360" y="3327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bject 7"/>
          <p:cNvSpPr/>
          <p:nvPr/>
        </p:nvSpPr>
        <p:spPr>
          <a:xfrm>
            <a:off x="684360" y="349560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ject 8"/>
          <p:cNvSpPr/>
          <p:nvPr/>
        </p:nvSpPr>
        <p:spPr>
          <a:xfrm>
            <a:off x="684360" y="366228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bject 9"/>
          <p:cNvSpPr/>
          <p:nvPr/>
        </p:nvSpPr>
        <p:spPr>
          <a:xfrm>
            <a:off x="684360" y="3830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bject 10"/>
          <p:cNvSpPr/>
          <p:nvPr/>
        </p:nvSpPr>
        <p:spPr>
          <a:xfrm>
            <a:off x="684360" y="399744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ject 11"/>
          <p:cNvSpPr/>
          <p:nvPr/>
        </p:nvSpPr>
        <p:spPr>
          <a:xfrm>
            <a:off x="684360" y="416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bject 12"/>
          <p:cNvSpPr/>
          <p:nvPr/>
        </p:nvSpPr>
        <p:spPr>
          <a:xfrm>
            <a:off x="684360" y="433404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bject 13"/>
          <p:cNvSpPr/>
          <p:nvPr/>
        </p:nvSpPr>
        <p:spPr>
          <a:xfrm>
            <a:off x="684360" y="450072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bject 14"/>
          <p:cNvSpPr/>
          <p:nvPr/>
        </p:nvSpPr>
        <p:spPr>
          <a:xfrm>
            <a:off x="684360" y="466884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bject 15"/>
          <p:cNvSpPr/>
          <p:nvPr/>
        </p:nvSpPr>
        <p:spPr>
          <a:xfrm>
            <a:off x="684360" y="483552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bject 16"/>
          <p:cNvSpPr/>
          <p:nvPr/>
        </p:nvSpPr>
        <p:spPr>
          <a:xfrm>
            <a:off x="684360" y="50036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bject 17"/>
          <p:cNvSpPr/>
          <p:nvPr/>
        </p:nvSpPr>
        <p:spPr>
          <a:xfrm>
            <a:off x="684360" y="517212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bject 18"/>
          <p:cNvSpPr/>
          <p:nvPr/>
        </p:nvSpPr>
        <p:spPr>
          <a:xfrm>
            <a:off x="684360" y="533880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bject 19"/>
          <p:cNvSpPr/>
          <p:nvPr/>
        </p:nvSpPr>
        <p:spPr>
          <a:xfrm>
            <a:off x="684360" y="550692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217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bject 20"/>
          <p:cNvSpPr/>
          <p:nvPr/>
        </p:nvSpPr>
        <p:spPr>
          <a:xfrm>
            <a:off x="684360" y="567360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46440" y="246960"/>
            <a:ext cx="5473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6" name="object 23"/>
          <p:cNvSpPr/>
          <p:nvPr/>
        </p:nvSpPr>
        <p:spPr>
          <a:xfrm>
            <a:off x="2587680" y="936720"/>
            <a:ext cx="403848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3 «Компьютерная томография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ject 24"/>
          <p:cNvSpPr/>
          <p:nvPr/>
        </p:nvSpPr>
        <p:spPr>
          <a:xfrm>
            <a:off x="3724200" y="1262160"/>
            <a:ext cx="360" cy="4755960"/>
          </a:xfrm>
          <a:custGeom>
            <a:avLst/>
            <a:gdLst/>
            <a:ahLst/>
            <a:rect l="l" t="t" r="r" b="b"/>
            <a:pathLst>
              <a:path w="0" h="4755515">
                <a:moveTo>
                  <a:pt x="0" y="0"/>
                </a:moveTo>
                <a:lnTo>
                  <a:pt x="0" y="47550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ject 25"/>
          <p:cNvSpPr/>
          <p:nvPr/>
        </p:nvSpPr>
        <p:spPr>
          <a:xfrm>
            <a:off x="4268880" y="1262160"/>
            <a:ext cx="360" cy="4755960"/>
          </a:xfrm>
          <a:custGeom>
            <a:avLst/>
            <a:gdLst/>
            <a:ahLst/>
            <a:rect l="l" t="t" r="r" b="b"/>
            <a:pathLst>
              <a:path w="0" h="4755515">
                <a:moveTo>
                  <a:pt x="0" y="0"/>
                </a:moveTo>
                <a:lnTo>
                  <a:pt x="0" y="47550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ject 26"/>
          <p:cNvSpPr/>
          <p:nvPr/>
        </p:nvSpPr>
        <p:spPr>
          <a:xfrm>
            <a:off x="4981680" y="1262160"/>
            <a:ext cx="360" cy="4755960"/>
          </a:xfrm>
          <a:custGeom>
            <a:avLst/>
            <a:gdLst/>
            <a:ahLst/>
            <a:rect l="l" t="t" r="r" b="b"/>
            <a:pathLst>
              <a:path w="0" h="4755515">
                <a:moveTo>
                  <a:pt x="0" y="0"/>
                </a:moveTo>
                <a:lnTo>
                  <a:pt x="0" y="47550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ject 27"/>
          <p:cNvSpPr/>
          <p:nvPr/>
        </p:nvSpPr>
        <p:spPr>
          <a:xfrm>
            <a:off x="6369120" y="1477800"/>
            <a:ext cx="360" cy="4540320"/>
          </a:xfrm>
          <a:custGeom>
            <a:avLst/>
            <a:gdLst/>
            <a:ahLst/>
            <a:rect l="l" t="t" r="r" b="b"/>
            <a:pathLst>
              <a:path w="0" h="4539615">
                <a:moveTo>
                  <a:pt x="0" y="0"/>
                </a:moveTo>
                <a:lnTo>
                  <a:pt x="0" y="45390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ject 28"/>
          <p:cNvSpPr/>
          <p:nvPr/>
        </p:nvSpPr>
        <p:spPr>
          <a:xfrm>
            <a:off x="7689960" y="1477800"/>
            <a:ext cx="360" cy="4540320"/>
          </a:xfrm>
          <a:custGeom>
            <a:avLst/>
            <a:gdLst/>
            <a:ahLst/>
            <a:rect l="l" t="t" r="r" b="b"/>
            <a:pathLst>
              <a:path w="0" h="4539615">
                <a:moveTo>
                  <a:pt x="0" y="0"/>
                </a:moveTo>
                <a:lnTo>
                  <a:pt x="0" y="45390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ject 29"/>
          <p:cNvSpPr/>
          <p:nvPr/>
        </p:nvSpPr>
        <p:spPr>
          <a:xfrm>
            <a:off x="4975200" y="1484280"/>
            <a:ext cx="3924360" cy="360"/>
          </a:xfrm>
          <a:custGeom>
            <a:avLst/>
            <a:gdLst/>
            <a:ahLst/>
            <a:rect l="l" t="t" r="r" b="b"/>
            <a:pathLst>
              <a:path w="3923029" h="0">
                <a:moveTo>
                  <a:pt x="0" y="0"/>
                </a:moveTo>
                <a:lnTo>
                  <a:pt x="392290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ject 30"/>
          <p:cNvSpPr/>
          <p:nvPr/>
        </p:nvSpPr>
        <p:spPr>
          <a:xfrm>
            <a:off x="388800" y="249084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ject 31"/>
          <p:cNvSpPr/>
          <p:nvPr/>
        </p:nvSpPr>
        <p:spPr>
          <a:xfrm>
            <a:off x="388800" y="265752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ject 32"/>
          <p:cNvSpPr/>
          <p:nvPr/>
        </p:nvSpPr>
        <p:spPr>
          <a:xfrm>
            <a:off x="388800" y="282564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ject 33"/>
          <p:cNvSpPr/>
          <p:nvPr/>
        </p:nvSpPr>
        <p:spPr>
          <a:xfrm>
            <a:off x="388800" y="299412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bject 34"/>
          <p:cNvSpPr/>
          <p:nvPr/>
        </p:nvSpPr>
        <p:spPr>
          <a:xfrm>
            <a:off x="388800" y="316080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ject 35"/>
          <p:cNvSpPr/>
          <p:nvPr/>
        </p:nvSpPr>
        <p:spPr>
          <a:xfrm>
            <a:off x="388800" y="332892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ject 36"/>
          <p:cNvSpPr/>
          <p:nvPr/>
        </p:nvSpPr>
        <p:spPr>
          <a:xfrm>
            <a:off x="388800" y="349560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bject 37"/>
          <p:cNvSpPr/>
          <p:nvPr/>
        </p:nvSpPr>
        <p:spPr>
          <a:xfrm>
            <a:off x="388800" y="383220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bject 38"/>
          <p:cNvSpPr/>
          <p:nvPr/>
        </p:nvSpPr>
        <p:spPr>
          <a:xfrm>
            <a:off x="388800" y="399888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bject 39"/>
          <p:cNvSpPr/>
          <p:nvPr/>
        </p:nvSpPr>
        <p:spPr>
          <a:xfrm>
            <a:off x="388800" y="433404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bject 40"/>
          <p:cNvSpPr/>
          <p:nvPr/>
        </p:nvSpPr>
        <p:spPr>
          <a:xfrm>
            <a:off x="388800" y="450216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bject 41"/>
          <p:cNvSpPr/>
          <p:nvPr/>
        </p:nvSpPr>
        <p:spPr>
          <a:xfrm>
            <a:off x="388800" y="467028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bject 42"/>
          <p:cNvSpPr/>
          <p:nvPr/>
        </p:nvSpPr>
        <p:spPr>
          <a:xfrm>
            <a:off x="388800" y="483696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bject 43"/>
          <p:cNvSpPr/>
          <p:nvPr/>
        </p:nvSpPr>
        <p:spPr>
          <a:xfrm>
            <a:off x="388800" y="500544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bject 44"/>
          <p:cNvSpPr/>
          <p:nvPr/>
        </p:nvSpPr>
        <p:spPr>
          <a:xfrm>
            <a:off x="388800" y="517212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bject 45"/>
          <p:cNvSpPr/>
          <p:nvPr/>
        </p:nvSpPr>
        <p:spPr>
          <a:xfrm>
            <a:off x="388800" y="550872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ject 46"/>
          <p:cNvSpPr/>
          <p:nvPr/>
        </p:nvSpPr>
        <p:spPr>
          <a:xfrm>
            <a:off x="388800" y="567540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ject 47"/>
          <p:cNvSpPr/>
          <p:nvPr/>
        </p:nvSpPr>
        <p:spPr>
          <a:xfrm>
            <a:off x="388800" y="584352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bject 48"/>
          <p:cNvSpPr/>
          <p:nvPr/>
        </p:nvSpPr>
        <p:spPr>
          <a:xfrm>
            <a:off x="395280" y="1262160"/>
            <a:ext cx="360" cy="4755960"/>
          </a:xfrm>
          <a:custGeom>
            <a:avLst/>
            <a:gdLst/>
            <a:ahLst/>
            <a:rect l="l" t="t" r="r" b="b"/>
            <a:pathLst>
              <a:path w="0" h="4755515">
                <a:moveTo>
                  <a:pt x="0" y="0"/>
                </a:moveTo>
                <a:lnTo>
                  <a:pt x="0" y="47550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bject 49"/>
          <p:cNvSpPr/>
          <p:nvPr/>
        </p:nvSpPr>
        <p:spPr>
          <a:xfrm>
            <a:off x="8893080" y="1262160"/>
            <a:ext cx="360" cy="4755960"/>
          </a:xfrm>
          <a:custGeom>
            <a:avLst/>
            <a:gdLst/>
            <a:ahLst/>
            <a:rect l="l" t="t" r="r" b="b"/>
            <a:pathLst>
              <a:path w="0" h="4755515">
                <a:moveTo>
                  <a:pt x="0" y="0"/>
                </a:moveTo>
                <a:lnTo>
                  <a:pt x="0" y="47550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bject 50"/>
          <p:cNvSpPr/>
          <p:nvPr/>
        </p:nvSpPr>
        <p:spPr>
          <a:xfrm>
            <a:off x="388800" y="126828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bject 51"/>
          <p:cNvSpPr/>
          <p:nvPr/>
        </p:nvSpPr>
        <p:spPr>
          <a:xfrm>
            <a:off x="388800" y="6010200"/>
            <a:ext cx="8510760" cy="360"/>
          </a:xfrm>
          <a:custGeom>
            <a:avLst/>
            <a:gdLst/>
            <a:ahLst/>
            <a:rect l="l" t="t" r="r" b="b"/>
            <a:pathLst>
              <a:path w="8510270" h="0">
                <a:moveTo>
                  <a:pt x="0" y="0"/>
                </a:moveTo>
                <a:lnTo>
                  <a:pt x="850969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bject 52"/>
          <p:cNvSpPr/>
          <p:nvPr/>
        </p:nvSpPr>
        <p:spPr>
          <a:xfrm>
            <a:off x="1622520" y="1722600"/>
            <a:ext cx="88740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я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bject 53"/>
          <p:cNvSpPr/>
          <p:nvPr/>
        </p:nvSpPr>
        <p:spPr>
          <a:xfrm>
            <a:off x="1547640" y="1890720"/>
            <a:ext cx="105732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ов и систем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bject 54"/>
          <p:cNvSpPr/>
          <p:nvPr/>
        </p:nvSpPr>
        <p:spPr>
          <a:xfrm>
            <a:off x="3929040" y="1722600"/>
            <a:ext cx="14760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bject 55"/>
          <p:cNvSpPr/>
          <p:nvPr/>
        </p:nvSpPr>
        <p:spPr>
          <a:xfrm>
            <a:off x="3790800" y="1890720"/>
            <a:ext cx="4208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bject 56"/>
          <p:cNvSpPr/>
          <p:nvPr/>
        </p:nvSpPr>
        <p:spPr>
          <a:xfrm>
            <a:off x="4451400" y="1806480"/>
            <a:ext cx="358560" cy="15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bject 57"/>
          <p:cNvSpPr/>
          <p:nvPr/>
        </p:nvSpPr>
        <p:spPr>
          <a:xfrm>
            <a:off x="6564240" y="1278000"/>
            <a:ext cx="7574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 (гр. 3):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bject 58"/>
          <p:cNvSpPr/>
          <p:nvPr/>
        </p:nvSpPr>
        <p:spPr>
          <a:xfrm>
            <a:off x="5119560" y="1830240"/>
            <a:ext cx="1148040" cy="30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внутривенного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bject 59"/>
          <p:cNvSpPr/>
          <p:nvPr/>
        </p:nvSpPr>
        <p:spPr>
          <a:xfrm>
            <a:off x="5130720" y="1998720"/>
            <a:ext cx="1087560" cy="155520"/>
          </a:xfrm>
          <a:custGeom>
            <a:avLst/>
            <a:gdLst/>
            <a:ahLst/>
            <a:rect l="l" t="t" r="r" b="b"/>
            <a:pathLst>
              <a:path w="1087120" h="155575">
                <a:moveTo>
                  <a:pt x="0" y="155448"/>
                </a:moveTo>
                <a:lnTo>
                  <a:pt x="1086612" y="155448"/>
                </a:lnTo>
                <a:lnTo>
                  <a:pt x="1086612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bject 60"/>
          <p:cNvSpPr/>
          <p:nvPr/>
        </p:nvSpPr>
        <p:spPr>
          <a:xfrm>
            <a:off x="5119560" y="1971720"/>
            <a:ext cx="11480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астирования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bject 61"/>
          <p:cNvSpPr/>
          <p:nvPr/>
        </p:nvSpPr>
        <p:spPr>
          <a:xfrm>
            <a:off x="6543720" y="1830240"/>
            <a:ext cx="1004760" cy="30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внутривенным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bject 62"/>
          <p:cNvSpPr/>
          <p:nvPr/>
        </p:nvSpPr>
        <p:spPr>
          <a:xfrm>
            <a:off x="6442200" y="1998720"/>
            <a:ext cx="1185840" cy="30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21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астированием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ject 63"/>
          <p:cNvSpPr/>
          <p:nvPr/>
        </p:nvSpPr>
        <p:spPr>
          <a:xfrm>
            <a:off x="7745400" y="1495440"/>
            <a:ext cx="1119240" cy="155520"/>
          </a:xfrm>
          <a:custGeom>
            <a:avLst/>
            <a:gdLst/>
            <a:ahLst/>
            <a:rect l="l" t="t" r="r" b="b"/>
            <a:pathLst>
              <a:path w="1120140" h="155575">
                <a:moveTo>
                  <a:pt x="0" y="155448"/>
                </a:moveTo>
                <a:lnTo>
                  <a:pt x="1120140" y="155448"/>
                </a:lnTo>
                <a:lnTo>
                  <a:pt x="112014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ject 64"/>
          <p:cNvSpPr/>
          <p:nvPr/>
        </p:nvSpPr>
        <p:spPr>
          <a:xfrm>
            <a:off x="7734240" y="1468440"/>
            <a:ext cx="11145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дразделениях,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bject 65"/>
          <p:cNvSpPr/>
          <p:nvPr/>
        </p:nvSpPr>
        <p:spPr>
          <a:xfrm>
            <a:off x="7870680" y="1663560"/>
            <a:ext cx="870120" cy="155880"/>
          </a:xfrm>
          <a:custGeom>
            <a:avLst/>
            <a:gdLst/>
            <a:ahLst/>
            <a:rect l="l" t="t" r="r" b="b"/>
            <a:pathLst>
              <a:path w="868679" h="155575">
                <a:moveTo>
                  <a:pt x="0" y="155448"/>
                </a:moveTo>
                <a:lnTo>
                  <a:pt x="868679" y="155448"/>
                </a:lnTo>
                <a:lnTo>
                  <a:pt x="868679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bject 66"/>
          <p:cNvSpPr/>
          <p:nvPr/>
        </p:nvSpPr>
        <p:spPr>
          <a:xfrm>
            <a:off x="7859880" y="1635120"/>
            <a:ext cx="86328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азывающих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ject 67"/>
          <p:cNvSpPr/>
          <p:nvPr/>
        </p:nvSpPr>
        <p:spPr>
          <a:xfrm>
            <a:off x="7877160" y="1830240"/>
            <a:ext cx="860400" cy="155880"/>
          </a:xfrm>
          <a:custGeom>
            <a:avLst/>
            <a:gdLst/>
            <a:ahLst/>
            <a:rect l="l" t="t" r="r" b="b"/>
            <a:pathLst>
              <a:path w="859790" h="155575">
                <a:moveTo>
                  <a:pt x="0" y="155448"/>
                </a:moveTo>
                <a:lnTo>
                  <a:pt x="859536" y="155448"/>
                </a:lnTo>
                <a:lnTo>
                  <a:pt x="859536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bject 68"/>
          <p:cNvSpPr/>
          <p:nvPr/>
        </p:nvSpPr>
        <p:spPr>
          <a:xfrm>
            <a:off x="7866000" y="1803240"/>
            <a:ext cx="8524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ую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bject 69"/>
          <p:cNvSpPr/>
          <p:nvPr/>
        </p:nvSpPr>
        <p:spPr>
          <a:xfrm>
            <a:off x="8004240" y="1998720"/>
            <a:ext cx="609480" cy="155520"/>
          </a:xfrm>
          <a:custGeom>
            <a:avLst/>
            <a:gdLst/>
            <a:ahLst/>
            <a:rect l="l" t="t" r="r" b="b"/>
            <a:pathLst>
              <a:path w="609600" h="155575">
                <a:moveTo>
                  <a:pt x="0" y="155448"/>
                </a:moveTo>
                <a:lnTo>
                  <a:pt x="609600" y="155448"/>
                </a:lnTo>
                <a:lnTo>
                  <a:pt x="60960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bject 70"/>
          <p:cNvSpPr/>
          <p:nvPr/>
        </p:nvSpPr>
        <p:spPr>
          <a:xfrm>
            <a:off x="7993080" y="1971720"/>
            <a:ext cx="5983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ощь в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bject 71"/>
          <p:cNvSpPr/>
          <p:nvPr/>
        </p:nvSpPr>
        <p:spPr>
          <a:xfrm>
            <a:off x="7858080" y="2165400"/>
            <a:ext cx="897120" cy="155520"/>
          </a:xfrm>
          <a:custGeom>
            <a:avLst/>
            <a:gdLst/>
            <a:ahLst/>
            <a:rect l="l" t="t" r="r" b="b"/>
            <a:pathLst>
              <a:path w="896620" h="155575">
                <a:moveTo>
                  <a:pt x="0" y="155448"/>
                </a:moveTo>
                <a:lnTo>
                  <a:pt x="896111" y="155448"/>
                </a:lnTo>
                <a:lnTo>
                  <a:pt x="896111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bject 72"/>
          <p:cNvSpPr/>
          <p:nvPr/>
        </p:nvSpPr>
        <p:spPr>
          <a:xfrm>
            <a:off x="8018640" y="2333520"/>
            <a:ext cx="577800" cy="155520"/>
          </a:xfrm>
          <a:custGeom>
            <a:avLst/>
            <a:gdLst/>
            <a:ahLst/>
            <a:rect l="l" t="t" r="r" b="b"/>
            <a:pathLst>
              <a:path w="579120" h="155575">
                <a:moveTo>
                  <a:pt x="0" y="155448"/>
                </a:moveTo>
                <a:lnTo>
                  <a:pt x="579120" y="155448"/>
                </a:lnTo>
                <a:lnTo>
                  <a:pt x="57912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bject 73"/>
          <p:cNvSpPr/>
          <p:nvPr/>
        </p:nvSpPr>
        <p:spPr>
          <a:xfrm>
            <a:off x="7846920" y="2138400"/>
            <a:ext cx="8892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71360" indent="-1587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  условиях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ject 74"/>
          <p:cNvSpPr/>
          <p:nvPr/>
        </p:nvSpPr>
        <p:spPr>
          <a:xfrm>
            <a:off x="2058840" y="25020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ject 75"/>
          <p:cNvSpPr/>
          <p:nvPr/>
        </p:nvSpPr>
        <p:spPr>
          <a:xfrm>
            <a:off x="2011320" y="247320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bject 76"/>
          <p:cNvSpPr/>
          <p:nvPr/>
        </p:nvSpPr>
        <p:spPr>
          <a:xfrm>
            <a:off x="3995640" y="25020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bject 77"/>
          <p:cNvSpPr/>
          <p:nvPr/>
        </p:nvSpPr>
        <p:spPr>
          <a:xfrm>
            <a:off x="3948120" y="247320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ject 78"/>
          <p:cNvSpPr/>
          <p:nvPr/>
        </p:nvSpPr>
        <p:spPr>
          <a:xfrm>
            <a:off x="4626000" y="25020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ject 79"/>
          <p:cNvSpPr/>
          <p:nvPr/>
        </p:nvSpPr>
        <p:spPr>
          <a:xfrm>
            <a:off x="4578480" y="247320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bject 80"/>
          <p:cNvSpPr/>
          <p:nvPr/>
        </p:nvSpPr>
        <p:spPr>
          <a:xfrm>
            <a:off x="5675400" y="25020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bject 81"/>
          <p:cNvSpPr/>
          <p:nvPr/>
        </p:nvSpPr>
        <p:spPr>
          <a:xfrm>
            <a:off x="5629320" y="2473200"/>
            <a:ext cx="950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ject 82"/>
          <p:cNvSpPr/>
          <p:nvPr/>
        </p:nvSpPr>
        <p:spPr>
          <a:xfrm>
            <a:off x="7029360" y="25020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ject 83"/>
          <p:cNvSpPr/>
          <p:nvPr/>
        </p:nvSpPr>
        <p:spPr>
          <a:xfrm>
            <a:off x="6983280" y="2473200"/>
            <a:ext cx="9540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ject 84"/>
          <p:cNvSpPr/>
          <p:nvPr/>
        </p:nvSpPr>
        <p:spPr>
          <a:xfrm>
            <a:off x="8290080" y="25020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ject 85"/>
          <p:cNvSpPr/>
          <p:nvPr/>
        </p:nvSpPr>
        <p:spPr>
          <a:xfrm>
            <a:off x="8244000" y="247320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ject 86"/>
          <p:cNvSpPr/>
          <p:nvPr/>
        </p:nvSpPr>
        <p:spPr>
          <a:xfrm>
            <a:off x="439560" y="2668680"/>
            <a:ext cx="1204920" cy="155520"/>
          </a:xfrm>
          <a:custGeom>
            <a:avLst/>
            <a:gdLst/>
            <a:ahLst/>
            <a:rect l="l" t="t" r="r" b="b"/>
            <a:pathLst>
              <a:path w="1203960" h="155575">
                <a:moveTo>
                  <a:pt x="0" y="155448"/>
                </a:moveTo>
                <a:lnTo>
                  <a:pt x="1203960" y="155448"/>
                </a:lnTo>
                <a:lnTo>
                  <a:pt x="120396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bject 87"/>
          <p:cNvSpPr/>
          <p:nvPr/>
        </p:nvSpPr>
        <p:spPr>
          <a:xfrm>
            <a:off x="428760" y="2641680"/>
            <a:ext cx="122868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исследований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ject 88"/>
          <p:cNvSpPr/>
          <p:nvPr/>
        </p:nvSpPr>
        <p:spPr>
          <a:xfrm>
            <a:off x="3995640" y="266868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bject 89"/>
          <p:cNvSpPr/>
          <p:nvPr/>
        </p:nvSpPr>
        <p:spPr>
          <a:xfrm>
            <a:off x="3948120" y="264168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bject 90"/>
          <p:cNvSpPr/>
          <p:nvPr/>
        </p:nvSpPr>
        <p:spPr>
          <a:xfrm>
            <a:off x="439560" y="2836800"/>
            <a:ext cx="1382760" cy="155520"/>
          </a:xfrm>
          <a:custGeom>
            <a:avLst/>
            <a:gdLst/>
            <a:ahLst/>
            <a:rect l="l" t="t" r="r" b="b"/>
            <a:pathLst>
              <a:path w="1382395" h="155575">
                <a:moveTo>
                  <a:pt x="0" y="155448"/>
                </a:moveTo>
                <a:lnTo>
                  <a:pt x="1382267" y="155448"/>
                </a:lnTo>
                <a:lnTo>
                  <a:pt x="1382267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ject 91"/>
          <p:cNvSpPr/>
          <p:nvPr/>
        </p:nvSpPr>
        <p:spPr>
          <a:xfrm>
            <a:off x="428760" y="2809800"/>
            <a:ext cx="14065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. ч.: головного мозга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bject 92"/>
          <p:cNvSpPr/>
          <p:nvPr/>
        </p:nvSpPr>
        <p:spPr>
          <a:xfrm>
            <a:off x="3995640" y="28368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bject 93"/>
          <p:cNvSpPr/>
          <p:nvPr/>
        </p:nvSpPr>
        <p:spPr>
          <a:xfrm>
            <a:off x="3948120" y="280980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bject 94"/>
          <p:cNvSpPr/>
          <p:nvPr/>
        </p:nvSpPr>
        <p:spPr>
          <a:xfrm>
            <a:off x="641520" y="300348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bject 95"/>
          <p:cNvSpPr/>
          <p:nvPr/>
        </p:nvSpPr>
        <p:spPr>
          <a:xfrm>
            <a:off x="849240" y="3003480"/>
            <a:ext cx="1220760" cy="155520"/>
          </a:xfrm>
          <a:custGeom>
            <a:avLst/>
            <a:gdLst/>
            <a:ahLst/>
            <a:rect l="l" t="t" r="r" b="b"/>
            <a:pathLst>
              <a:path w="1221105" h="155575">
                <a:moveTo>
                  <a:pt x="0" y="155448"/>
                </a:moveTo>
                <a:lnTo>
                  <a:pt x="1220723" y="155448"/>
                </a:lnTo>
                <a:lnTo>
                  <a:pt x="1220723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bject 96"/>
          <p:cNvSpPr/>
          <p:nvPr/>
        </p:nvSpPr>
        <p:spPr>
          <a:xfrm>
            <a:off x="836640" y="2976480"/>
            <a:ext cx="12463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олоносовых пазух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bject 97"/>
          <p:cNvSpPr/>
          <p:nvPr/>
        </p:nvSpPr>
        <p:spPr>
          <a:xfrm>
            <a:off x="3995640" y="300348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ject 98"/>
          <p:cNvSpPr/>
          <p:nvPr/>
        </p:nvSpPr>
        <p:spPr>
          <a:xfrm>
            <a:off x="3948120" y="297648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bject 99"/>
          <p:cNvSpPr/>
          <p:nvPr/>
        </p:nvSpPr>
        <p:spPr>
          <a:xfrm>
            <a:off x="641520" y="317196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bject 100"/>
          <p:cNvSpPr/>
          <p:nvPr/>
        </p:nvSpPr>
        <p:spPr>
          <a:xfrm>
            <a:off x="849240" y="3171960"/>
            <a:ext cx="935280" cy="155520"/>
          </a:xfrm>
          <a:custGeom>
            <a:avLst/>
            <a:gdLst/>
            <a:ahLst/>
            <a:rect l="l" t="t" r="r" b="b"/>
            <a:pathLst>
              <a:path w="934719" h="155575">
                <a:moveTo>
                  <a:pt x="0" y="155448"/>
                </a:moveTo>
                <a:lnTo>
                  <a:pt x="934211" y="155448"/>
                </a:lnTo>
                <a:lnTo>
                  <a:pt x="934211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bject 101"/>
          <p:cNvSpPr/>
          <p:nvPr/>
        </p:nvSpPr>
        <p:spPr>
          <a:xfrm>
            <a:off x="836640" y="3144960"/>
            <a:ext cx="96048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сочной кости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bject 102"/>
          <p:cNvSpPr/>
          <p:nvPr/>
        </p:nvSpPr>
        <p:spPr>
          <a:xfrm>
            <a:off x="3995640" y="317196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bject 103"/>
          <p:cNvSpPr/>
          <p:nvPr/>
        </p:nvSpPr>
        <p:spPr>
          <a:xfrm>
            <a:off x="3948120" y="314496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bject 104"/>
          <p:cNvSpPr/>
          <p:nvPr/>
        </p:nvSpPr>
        <p:spPr>
          <a:xfrm>
            <a:off x="641520" y="334008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ject 105"/>
          <p:cNvSpPr/>
          <p:nvPr/>
        </p:nvSpPr>
        <p:spPr>
          <a:xfrm>
            <a:off x="849240" y="3340080"/>
            <a:ext cx="2336760" cy="155520"/>
          </a:xfrm>
          <a:custGeom>
            <a:avLst/>
            <a:gdLst/>
            <a:ahLst/>
            <a:rect l="l" t="t" r="r" b="b"/>
            <a:pathLst>
              <a:path w="2336800" h="155575">
                <a:moveTo>
                  <a:pt x="0" y="155448"/>
                </a:moveTo>
                <a:lnTo>
                  <a:pt x="2336292" y="155448"/>
                </a:lnTo>
                <a:lnTo>
                  <a:pt x="2336292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bject 106"/>
          <p:cNvSpPr/>
          <p:nvPr/>
        </p:nvSpPr>
        <p:spPr>
          <a:xfrm>
            <a:off x="836640" y="3313080"/>
            <a:ext cx="236232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асти шеи, гортани и гортаноглотки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bject 107"/>
          <p:cNvSpPr/>
          <p:nvPr/>
        </p:nvSpPr>
        <p:spPr>
          <a:xfrm>
            <a:off x="3995640" y="334008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bject 108"/>
          <p:cNvSpPr/>
          <p:nvPr/>
        </p:nvSpPr>
        <p:spPr>
          <a:xfrm>
            <a:off x="3948120" y="3313080"/>
            <a:ext cx="96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bject 109"/>
          <p:cNvSpPr/>
          <p:nvPr/>
        </p:nvSpPr>
        <p:spPr>
          <a:xfrm>
            <a:off x="641520" y="350676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bject 110"/>
          <p:cNvSpPr/>
          <p:nvPr/>
        </p:nvSpPr>
        <p:spPr>
          <a:xfrm>
            <a:off x="849240" y="3506760"/>
            <a:ext cx="2455920" cy="155520"/>
          </a:xfrm>
          <a:custGeom>
            <a:avLst/>
            <a:gdLst/>
            <a:ahLst/>
            <a:rect l="l" t="t" r="r" b="b"/>
            <a:pathLst>
              <a:path w="2456815" h="155575">
                <a:moveTo>
                  <a:pt x="0" y="155448"/>
                </a:moveTo>
                <a:lnTo>
                  <a:pt x="2456688" y="155448"/>
                </a:lnTo>
                <a:lnTo>
                  <a:pt x="2456688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bject 111"/>
          <p:cNvSpPr/>
          <p:nvPr/>
        </p:nvSpPr>
        <p:spPr>
          <a:xfrm>
            <a:off x="836640" y="3479760"/>
            <a:ext cx="2451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ласти груди (без сердца и коронарных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bject 112"/>
          <p:cNvSpPr/>
          <p:nvPr/>
        </p:nvSpPr>
        <p:spPr>
          <a:xfrm>
            <a:off x="3322800" y="350676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ject 113"/>
          <p:cNvSpPr/>
          <p:nvPr/>
        </p:nvSpPr>
        <p:spPr>
          <a:xfrm>
            <a:off x="641520" y="367524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7"/>
                </a:moveTo>
                <a:lnTo>
                  <a:pt x="207264" y="155447"/>
                </a:lnTo>
                <a:lnTo>
                  <a:pt x="207264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bject 114"/>
          <p:cNvSpPr/>
          <p:nvPr/>
        </p:nvSpPr>
        <p:spPr>
          <a:xfrm>
            <a:off x="849240" y="3675240"/>
            <a:ext cx="471600" cy="155520"/>
          </a:xfrm>
          <a:custGeom>
            <a:avLst/>
            <a:gdLst/>
            <a:ahLst/>
            <a:rect l="l" t="t" r="r" b="b"/>
            <a:pathLst>
              <a:path w="471169" h="155575">
                <a:moveTo>
                  <a:pt x="0" y="155447"/>
                </a:moveTo>
                <a:lnTo>
                  <a:pt x="470916" y="155447"/>
                </a:lnTo>
                <a:lnTo>
                  <a:pt x="470916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bject 115"/>
          <p:cNvSpPr/>
          <p:nvPr/>
        </p:nvSpPr>
        <p:spPr>
          <a:xfrm>
            <a:off x="1343160" y="367524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7"/>
                </a:lnTo>
              </a:path>
            </a:pathLst>
          </a:custGeom>
          <a:noFill/>
          <a:ln w="47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bject 116"/>
          <p:cNvSpPr/>
          <p:nvPr/>
        </p:nvSpPr>
        <p:spPr>
          <a:xfrm>
            <a:off x="836640" y="3648240"/>
            <a:ext cx="542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удов)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bject 117"/>
          <p:cNvSpPr/>
          <p:nvPr/>
        </p:nvSpPr>
        <p:spPr>
          <a:xfrm>
            <a:off x="3995640" y="367524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7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ject 118"/>
          <p:cNvSpPr/>
          <p:nvPr/>
        </p:nvSpPr>
        <p:spPr>
          <a:xfrm>
            <a:off x="3948120" y="3648240"/>
            <a:ext cx="96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ject 119"/>
          <p:cNvSpPr/>
          <p:nvPr/>
        </p:nvSpPr>
        <p:spPr>
          <a:xfrm>
            <a:off x="641520" y="384192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bject 120"/>
          <p:cNvSpPr/>
          <p:nvPr/>
        </p:nvSpPr>
        <p:spPr>
          <a:xfrm>
            <a:off x="849240" y="3841920"/>
            <a:ext cx="1774800" cy="155520"/>
          </a:xfrm>
          <a:custGeom>
            <a:avLst/>
            <a:gdLst/>
            <a:ahLst/>
            <a:rect l="l" t="t" r="r" b="b"/>
            <a:pathLst>
              <a:path w="1775460" h="155575">
                <a:moveTo>
                  <a:pt x="0" y="155448"/>
                </a:moveTo>
                <a:lnTo>
                  <a:pt x="1775460" y="155448"/>
                </a:lnTo>
                <a:lnTo>
                  <a:pt x="177546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bject 121"/>
          <p:cNvSpPr/>
          <p:nvPr/>
        </p:nvSpPr>
        <p:spPr>
          <a:xfrm>
            <a:off x="836640" y="3814920"/>
            <a:ext cx="180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дца и коронарных сосудов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bject 122"/>
          <p:cNvSpPr/>
          <p:nvPr/>
        </p:nvSpPr>
        <p:spPr>
          <a:xfrm>
            <a:off x="3995640" y="384192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ject 123"/>
          <p:cNvSpPr/>
          <p:nvPr/>
        </p:nvSpPr>
        <p:spPr>
          <a:xfrm>
            <a:off x="3948120" y="3814920"/>
            <a:ext cx="96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bject 124"/>
          <p:cNvSpPr/>
          <p:nvPr/>
        </p:nvSpPr>
        <p:spPr>
          <a:xfrm>
            <a:off x="641520" y="401004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bject 125"/>
          <p:cNvSpPr/>
          <p:nvPr/>
        </p:nvSpPr>
        <p:spPr>
          <a:xfrm>
            <a:off x="849240" y="4010040"/>
            <a:ext cx="2871720" cy="155520"/>
          </a:xfrm>
          <a:custGeom>
            <a:avLst/>
            <a:gdLst/>
            <a:ahLst/>
            <a:rect l="l" t="t" r="r" b="b"/>
            <a:pathLst>
              <a:path w="2872740" h="155575">
                <a:moveTo>
                  <a:pt x="0" y="155448"/>
                </a:moveTo>
                <a:lnTo>
                  <a:pt x="2872714" y="155448"/>
                </a:lnTo>
                <a:lnTo>
                  <a:pt x="287271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bject 126"/>
          <p:cNvSpPr/>
          <p:nvPr/>
        </p:nvSpPr>
        <p:spPr>
          <a:xfrm>
            <a:off x="836640" y="3983040"/>
            <a:ext cx="2827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ов брюшной полости (печень, селезенка,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bject 127"/>
          <p:cNvSpPr/>
          <p:nvPr/>
        </p:nvSpPr>
        <p:spPr>
          <a:xfrm>
            <a:off x="641520" y="4178160"/>
            <a:ext cx="207720" cy="15588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ject 128"/>
          <p:cNvSpPr/>
          <p:nvPr/>
        </p:nvSpPr>
        <p:spPr>
          <a:xfrm>
            <a:off x="849240" y="4178160"/>
            <a:ext cx="1419120" cy="155880"/>
          </a:xfrm>
          <a:custGeom>
            <a:avLst/>
            <a:gdLst/>
            <a:ahLst/>
            <a:rect l="l" t="t" r="r" b="b"/>
            <a:pathLst>
              <a:path w="1419225" h="155575">
                <a:moveTo>
                  <a:pt x="0" y="155448"/>
                </a:moveTo>
                <a:lnTo>
                  <a:pt x="1418844" y="155448"/>
                </a:lnTo>
                <a:lnTo>
                  <a:pt x="141884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bject 129"/>
          <p:cNvSpPr/>
          <p:nvPr/>
        </p:nvSpPr>
        <p:spPr>
          <a:xfrm>
            <a:off x="836640" y="4151160"/>
            <a:ext cx="1442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желудочная железа)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bject 130"/>
          <p:cNvSpPr/>
          <p:nvPr/>
        </p:nvSpPr>
        <p:spPr>
          <a:xfrm>
            <a:off x="3995640" y="4178160"/>
            <a:ext cx="360" cy="15588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bject 131"/>
          <p:cNvSpPr/>
          <p:nvPr/>
        </p:nvSpPr>
        <p:spPr>
          <a:xfrm>
            <a:off x="3948120" y="4151160"/>
            <a:ext cx="96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ject 132"/>
          <p:cNvSpPr/>
          <p:nvPr/>
        </p:nvSpPr>
        <p:spPr>
          <a:xfrm>
            <a:off x="641520" y="4344840"/>
            <a:ext cx="207720" cy="15588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bject 133"/>
          <p:cNvSpPr/>
          <p:nvPr/>
        </p:nvSpPr>
        <p:spPr>
          <a:xfrm>
            <a:off x="849240" y="4344840"/>
            <a:ext cx="1386000" cy="155880"/>
          </a:xfrm>
          <a:custGeom>
            <a:avLst/>
            <a:gdLst/>
            <a:ahLst/>
            <a:rect l="l" t="t" r="r" b="b"/>
            <a:pathLst>
              <a:path w="1386839" h="155575">
                <a:moveTo>
                  <a:pt x="0" y="155448"/>
                </a:moveTo>
                <a:lnTo>
                  <a:pt x="1386840" y="155448"/>
                </a:lnTo>
                <a:lnTo>
                  <a:pt x="138684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bject 134"/>
          <p:cNvSpPr/>
          <p:nvPr/>
        </p:nvSpPr>
        <p:spPr>
          <a:xfrm>
            <a:off x="836640" y="4317840"/>
            <a:ext cx="141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к и мочевых путей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bject 135"/>
          <p:cNvSpPr/>
          <p:nvPr/>
        </p:nvSpPr>
        <p:spPr>
          <a:xfrm>
            <a:off x="3995640" y="4344840"/>
            <a:ext cx="360" cy="15588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ject 136"/>
          <p:cNvSpPr/>
          <p:nvPr/>
        </p:nvSpPr>
        <p:spPr>
          <a:xfrm>
            <a:off x="3948120" y="4317840"/>
            <a:ext cx="9684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ject 137"/>
          <p:cNvSpPr/>
          <p:nvPr/>
        </p:nvSpPr>
        <p:spPr>
          <a:xfrm>
            <a:off x="641520" y="451332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7"/>
                </a:moveTo>
                <a:lnTo>
                  <a:pt x="207264" y="155447"/>
                </a:lnTo>
                <a:lnTo>
                  <a:pt x="207264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ject 138"/>
          <p:cNvSpPr/>
          <p:nvPr/>
        </p:nvSpPr>
        <p:spPr>
          <a:xfrm>
            <a:off x="849240" y="4513320"/>
            <a:ext cx="1198800" cy="155520"/>
          </a:xfrm>
          <a:custGeom>
            <a:avLst/>
            <a:gdLst/>
            <a:ahLst/>
            <a:rect l="l" t="t" r="r" b="b"/>
            <a:pathLst>
              <a:path w="1199514" h="155575">
                <a:moveTo>
                  <a:pt x="0" y="155447"/>
                </a:moveTo>
                <a:lnTo>
                  <a:pt x="1199387" y="155447"/>
                </a:lnTo>
                <a:lnTo>
                  <a:pt x="1199387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ject 139"/>
          <p:cNvSpPr/>
          <p:nvPr/>
        </p:nvSpPr>
        <p:spPr>
          <a:xfrm>
            <a:off x="836640" y="4486320"/>
            <a:ext cx="12254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ов малого таза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ject 140"/>
          <p:cNvSpPr/>
          <p:nvPr/>
        </p:nvSpPr>
        <p:spPr>
          <a:xfrm>
            <a:off x="3925800" y="4513320"/>
            <a:ext cx="139680" cy="155520"/>
          </a:xfrm>
          <a:custGeom>
            <a:avLst/>
            <a:gdLst/>
            <a:ahLst/>
            <a:rect l="l" t="t" r="r" b="b"/>
            <a:pathLst>
              <a:path w="140335" h="155575">
                <a:moveTo>
                  <a:pt x="0" y="155447"/>
                </a:moveTo>
                <a:lnTo>
                  <a:pt x="140208" y="155447"/>
                </a:lnTo>
                <a:lnTo>
                  <a:pt x="140208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ject 141"/>
          <p:cNvSpPr/>
          <p:nvPr/>
        </p:nvSpPr>
        <p:spPr>
          <a:xfrm>
            <a:off x="3913200" y="4486320"/>
            <a:ext cx="166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ject 142"/>
          <p:cNvSpPr/>
          <p:nvPr/>
        </p:nvSpPr>
        <p:spPr>
          <a:xfrm>
            <a:off x="641520" y="468000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ject 143"/>
          <p:cNvSpPr/>
          <p:nvPr/>
        </p:nvSpPr>
        <p:spPr>
          <a:xfrm>
            <a:off x="849240" y="4680000"/>
            <a:ext cx="1370160" cy="155520"/>
          </a:xfrm>
          <a:custGeom>
            <a:avLst/>
            <a:gdLst/>
            <a:ahLst/>
            <a:rect l="l" t="t" r="r" b="b"/>
            <a:pathLst>
              <a:path w="1370330" h="155575">
                <a:moveTo>
                  <a:pt x="0" y="155448"/>
                </a:moveTo>
                <a:lnTo>
                  <a:pt x="1370075" y="155448"/>
                </a:lnTo>
                <a:lnTo>
                  <a:pt x="1370075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bject 144"/>
          <p:cNvSpPr/>
          <p:nvPr/>
        </p:nvSpPr>
        <p:spPr>
          <a:xfrm>
            <a:off x="836640" y="4654440"/>
            <a:ext cx="1393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воночника, из него: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bject 145"/>
          <p:cNvSpPr/>
          <p:nvPr/>
        </p:nvSpPr>
        <p:spPr>
          <a:xfrm>
            <a:off x="3925800" y="4680000"/>
            <a:ext cx="139680" cy="155520"/>
          </a:xfrm>
          <a:custGeom>
            <a:avLst/>
            <a:gdLst/>
            <a:ahLst/>
            <a:rect l="l" t="t" r="r" b="b"/>
            <a:pathLst>
              <a:path w="140335" h="155575">
                <a:moveTo>
                  <a:pt x="0" y="155448"/>
                </a:moveTo>
                <a:lnTo>
                  <a:pt x="140208" y="155448"/>
                </a:lnTo>
                <a:lnTo>
                  <a:pt x="140208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bject 146"/>
          <p:cNvSpPr/>
          <p:nvPr/>
        </p:nvSpPr>
        <p:spPr>
          <a:xfrm>
            <a:off x="3913200" y="4654440"/>
            <a:ext cx="166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ject 147"/>
          <p:cNvSpPr/>
          <p:nvPr/>
        </p:nvSpPr>
        <p:spPr>
          <a:xfrm>
            <a:off x="641520" y="484812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bject 148"/>
          <p:cNvSpPr/>
          <p:nvPr/>
        </p:nvSpPr>
        <p:spPr>
          <a:xfrm>
            <a:off x="849240" y="4848120"/>
            <a:ext cx="1849680" cy="155520"/>
          </a:xfrm>
          <a:custGeom>
            <a:avLst/>
            <a:gdLst/>
            <a:ahLst/>
            <a:rect l="l" t="t" r="r" b="b"/>
            <a:pathLst>
              <a:path w="1849120" h="155575">
                <a:moveTo>
                  <a:pt x="0" y="155448"/>
                </a:moveTo>
                <a:lnTo>
                  <a:pt x="1848612" y="155448"/>
                </a:lnTo>
                <a:lnTo>
                  <a:pt x="1848612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bject 149"/>
          <p:cNvSpPr/>
          <p:nvPr/>
        </p:nvSpPr>
        <p:spPr>
          <a:xfrm>
            <a:off x="836640" y="4821120"/>
            <a:ext cx="1841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воночника (шейный отдел)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bject 150"/>
          <p:cNvSpPr/>
          <p:nvPr/>
        </p:nvSpPr>
        <p:spPr>
          <a:xfrm>
            <a:off x="3871800" y="4848120"/>
            <a:ext cx="246240" cy="155520"/>
          </a:xfrm>
          <a:custGeom>
            <a:avLst/>
            <a:gdLst/>
            <a:ahLst/>
            <a:rect l="l" t="t" r="r" b="b"/>
            <a:pathLst>
              <a:path w="245745" h="155575">
                <a:moveTo>
                  <a:pt x="0" y="155448"/>
                </a:moveTo>
                <a:lnTo>
                  <a:pt x="245363" y="155448"/>
                </a:lnTo>
                <a:lnTo>
                  <a:pt x="245363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ject 151"/>
          <p:cNvSpPr/>
          <p:nvPr/>
        </p:nvSpPr>
        <p:spPr>
          <a:xfrm>
            <a:off x="3860640" y="4821120"/>
            <a:ext cx="271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bject 152"/>
          <p:cNvSpPr/>
          <p:nvPr/>
        </p:nvSpPr>
        <p:spPr>
          <a:xfrm>
            <a:off x="641520" y="501660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bject 153"/>
          <p:cNvSpPr/>
          <p:nvPr/>
        </p:nvSpPr>
        <p:spPr>
          <a:xfrm>
            <a:off x="849240" y="5016600"/>
            <a:ext cx="1816200" cy="155520"/>
          </a:xfrm>
          <a:custGeom>
            <a:avLst/>
            <a:gdLst/>
            <a:ahLst/>
            <a:rect l="l" t="t" r="r" b="b"/>
            <a:pathLst>
              <a:path w="1816735" h="155575">
                <a:moveTo>
                  <a:pt x="0" y="155448"/>
                </a:moveTo>
                <a:lnTo>
                  <a:pt x="1816608" y="155448"/>
                </a:lnTo>
                <a:lnTo>
                  <a:pt x="1816608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bject 154"/>
          <p:cNvSpPr/>
          <p:nvPr/>
        </p:nvSpPr>
        <p:spPr>
          <a:xfrm>
            <a:off x="836640" y="4989600"/>
            <a:ext cx="1841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воночника (грудной отдел)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ject 155"/>
          <p:cNvSpPr/>
          <p:nvPr/>
        </p:nvSpPr>
        <p:spPr>
          <a:xfrm>
            <a:off x="3871800" y="5016600"/>
            <a:ext cx="246240" cy="155520"/>
          </a:xfrm>
          <a:custGeom>
            <a:avLst/>
            <a:gdLst/>
            <a:ahLst/>
            <a:rect l="l" t="t" r="r" b="b"/>
            <a:pathLst>
              <a:path w="245745" h="155575">
                <a:moveTo>
                  <a:pt x="0" y="155448"/>
                </a:moveTo>
                <a:lnTo>
                  <a:pt x="245363" y="155448"/>
                </a:lnTo>
                <a:lnTo>
                  <a:pt x="245363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bject 156"/>
          <p:cNvSpPr/>
          <p:nvPr/>
        </p:nvSpPr>
        <p:spPr>
          <a:xfrm>
            <a:off x="3860640" y="4989600"/>
            <a:ext cx="271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2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bject 157"/>
          <p:cNvSpPr/>
          <p:nvPr/>
        </p:nvSpPr>
        <p:spPr>
          <a:xfrm>
            <a:off x="641520" y="518328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8"/>
                </a:moveTo>
                <a:lnTo>
                  <a:pt x="207264" y="155448"/>
                </a:lnTo>
                <a:lnTo>
                  <a:pt x="207264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bject 158"/>
          <p:cNvSpPr/>
          <p:nvPr/>
        </p:nvSpPr>
        <p:spPr>
          <a:xfrm>
            <a:off x="849240" y="5183280"/>
            <a:ext cx="2560680" cy="155520"/>
          </a:xfrm>
          <a:custGeom>
            <a:avLst/>
            <a:gdLst/>
            <a:ahLst/>
            <a:rect l="l" t="t" r="r" b="b"/>
            <a:pathLst>
              <a:path w="2560320" h="155575">
                <a:moveTo>
                  <a:pt x="0" y="155448"/>
                </a:moveTo>
                <a:lnTo>
                  <a:pt x="2560320" y="155448"/>
                </a:lnTo>
                <a:lnTo>
                  <a:pt x="2560320" y="0"/>
                </a:lnTo>
                <a:lnTo>
                  <a:pt x="0" y="0"/>
                </a:lnTo>
                <a:lnTo>
                  <a:pt x="0" y="1554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bject 159"/>
          <p:cNvSpPr/>
          <p:nvPr/>
        </p:nvSpPr>
        <p:spPr>
          <a:xfrm>
            <a:off x="836640" y="5156280"/>
            <a:ext cx="2516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воночника (поясничный и крестцовый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ject 160"/>
          <p:cNvSpPr/>
          <p:nvPr/>
        </p:nvSpPr>
        <p:spPr>
          <a:xfrm>
            <a:off x="3427560" y="518328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ject 161"/>
          <p:cNvSpPr/>
          <p:nvPr/>
        </p:nvSpPr>
        <p:spPr>
          <a:xfrm>
            <a:off x="641520" y="535140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7"/>
                </a:moveTo>
                <a:lnTo>
                  <a:pt x="207264" y="155447"/>
                </a:lnTo>
                <a:lnTo>
                  <a:pt x="207264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bject 162"/>
          <p:cNvSpPr/>
          <p:nvPr/>
        </p:nvSpPr>
        <p:spPr>
          <a:xfrm>
            <a:off x="849240" y="5351400"/>
            <a:ext cx="430200" cy="155520"/>
          </a:xfrm>
          <a:custGeom>
            <a:avLst/>
            <a:gdLst/>
            <a:ahLst/>
            <a:rect l="l" t="t" r="r" b="b"/>
            <a:pathLst>
              <a:path w="429894" h="155575">
                <a:moveTo>
                  <a:pt x="0" y="155447"/>
                </a:moveTo>
                <a:lnTo>
                  <a:pt x="429768" y="155447"/>
                </a:lnTo>
                <a:lnTo>
                  <a:pt x="429768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bject 163"/>
          <p:cNvSpPr/>
          <p:nvPr/>
        </p:nvSpPr>
        <p:spPr>
          <a:xfrm>
            <a:off x="1301760" y="5351400"/>
            <a:ext cx="360" cy="155520"/>
          </a:xfrm>
          <a:custGeom>
            <a:avLst/>
            <a:gdLst/>
            <a:ahLst/>
            <a:rect l="l" t="t" r="r" b="b"/>
            <a:pathLst>
              <a:path w="0" h="155575">
                <a:moveTo>
                  <a:pt x="0" y="0"/>
                </a:moveTo>
                <a:lnTo>
                  <a:pt x="0" y="155447"/>
                </a:lnTo>
              </a:path>
            </a:pathLst>
          </a:custGeom>
          <a:noFill/>
          <a:ln w="47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bject 164"/>
          <p:cNvSpPr/>
          <p:nvPr/>
        </p:nvSpPr>
        <p:spPr>
          <a:xfrm>
            <a:off x="836640" y="5324400"/>
            <a:ext cx="5014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делы)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bject 165"/>
          <p:cNvSpPr/>
          <p:nvPr/>
        </p:nvSpPr>
        <p:spPr>
          <a:xfrm>
            <a:off x="3871800" y="5351400"/>
            <a:ext cx="246240" cy="155520"/>
          </a:xfrm>
          <a:custGeom>
            <a:avLst/>
            <a:gdLst/>
            <a:ahLst/>
            <a:rect l="l" t="t" r="r" b="b"/>
            <a:pathLst>
              <a:path w="245745" h="155575">
                <a:moveTo>
                  <a:pt x="0" y="155447"/>
                </a:moveTo>
                <a:lnTo>
                  <a:pt x="245363" y="155447"/>
                </a:lnTo>
                <a:lnTo>
                  <a:pt x="245363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bject 166"/>
          <p:cNvSpPr/>
          <p:nvPr/>
        </p:nvSpPr>
        <p:spPr>
          <a:xfrm>
            <a:off x="3860640" y="5324400"/>
            <a:ext cx="271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3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ject 167"/>
          <p:cNvSpPr/>
          <p:nvPr/>
        </p:nvSpPr>
        <p:spPr>
          <a:xfrm>
            <a:off x="641520" y="551808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7"/>
                </a:moveTo>
                <a:lnTo>
                  <a:pt x="207264" y="155447"/>
                </a:lnTo>
                <a:lnTo>
                  <a:pt x="207264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ject 168"/>
          <p:cNvSpPr/>
          <p:nvPr/>
        </p:nvSpPr>
        <p:spPr>
          <a:xfrm>
            <a:off x="849240" y="5518080"/>
            <a:ext cx="2806920" cy="155520"/>
          </a:xfrm>
          <a:custGeom>
            <a:avLst/>
            <a:gdLst/>
            <a:ahLst/>
            <a:rect l="l" t="t" r="r" b="b"/>
            <a:pathLst>
              <a:path w="2807335" h="155575">
                <a:moveTo>
                  <a:pt x="0" y="155447"/>
                </a:moveTo>
                <a:lnTo>
                  <a:pt x="2807208" y="155447"/>
                </a:lnTo>
                <a:lnTo>
                  <a:pt x="2807208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bject 169"/>
          <p:cNvSpPr/>
          <p:nvPr/>
        </p:nvSpPr>
        <p:spPr>
          <a:xfrm>
            <a:off x="836640" y="5492880"/>
            <a:ext cx="2801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стей, суставов и мягких тканей конечностей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bject 170"/>
          <p:cNvSpPr/>
          <p:nvPr/>
        </p:nvSpPr>
        <p:spPr>
          <a:xfrm>
            <a:off x="3925800" y="5518080"/>
            <a:ext cx="139680" cy="155520"/>
          </a:xfrm>
          <a:custGeom>
            <a:avLst/>
            <a:gdLst/>
            <a:ahLst/>
            <a:rect l="l" t="t" r="r" b="b"/>
            <a:pathLst>
              <a:path w="140335" h="155575">
                <a:moveTo>
                  <a:pt x="0" y="155447"/>
                </a:moveTo>
                <a:lnTo>
                  <a:pt x="140208" y="155447"/>
                </a:lnTo>
                <a:lnTo>
                  <a:pt x="140208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bject 171"/>
          <p:cNvSpPr/>
          <p:nvPr/>
        </p:nvSpPr>
        <p:spPr>
          <a:xfrm>
            <a:off x="3913200" y="5492880"/>
            <a:ext cx="166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ject 172"/>
          <p:cNvSpPr/>
          <p:nvPr/>
        </p:nvSpPr>
        <p:spPr>
          <a:xfrm>
            <a:off x="641520" y="5686560"/>
            <a:ext cx="207720" cy="155520"/>
          </a:xfrm>
          <a:custGeom>
            <a:avLst/>
            <a:gdLst/>
            <a:ahLst/>
            <a:rect l="l" t="t" r="r" b="b"/>
            <a:pathLst>
              <a:path w="207644" h="155575">
                <a:moveTo>
                  <a:pt x="0" y="155447"/>
                </a:moveTo>
                <a:lnTo>
                  <a:pt x="207264" y="155447"/>
                </a:lnTo>
                <a:lnTo>
                  <a:pt x="207264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bject 173"/>
          <p:cNvSpPr/>
          <p:nvPr/>
        </p:nvSpPr>
        <p:spPr>
          <a:xfrm>
            <a:off x="849240" y="5686560"/>
            <a:ext cx="1490760" cy="155520"/>
          </a:xfrm>
          <a:custGeom>
            <a:avLst/>
            <a:gdLst/>
            <a:ahLst/>
            <a:rect l="l" t="t" r="r" b="b"/>
            <a:pathLst>
              <a:path w="1490980" h="155575">
                <a:moveTo>
                  <a:pt x="0" y="155447"/>
                </a:moveTo>
                <a:lnTo>
                  <a:pt x="1490472" y="155447"/>
                </a:lnTo>
                <a:lnTo>
                  <a:pt x="1490472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bject 174"/>
          <p:cNvSpPr/>
          <p:nvPr/>
        </p:nvSpPr>
        <p:spPr>
          <a:xfrm>
            <a:off x="836640" y="5659560"/>
            <a:ext cx="1515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х органов и систем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bject 175"/>
          <p:cNvSpPr/>
          <p:nvPr/>
        </p:nvSpPr>
        <p:spPr>
          <a:xfrm>
            <a:off x="3925800" y="5686560"/>
            <a:ext cx="139680" cy="155520"/>
          </a:xfrm>
          <a:custGeom>
            <a:avLst/>
            <a:gdLst/>
            <a:ahLst/>
            <a:rect l="l" t="t" r="r" b="b"/>
            <a:pathLst>
              <a:path w="140335" h="155575">
                <a:moveTo>
                  <a:pt x="0" y="155447"/>
                </a:moveTo>
                <a:lnTo>
                  <a:pt x="140208" y="155447"/>
                </a:lnTo>
                <a:lnTo>
                  <a:pt x="140208" y="0"/>
                </a:lnTo>
                <a:lnTo>
                  <a:pt x="0" y="0"/>
                </a:lnTo>
                <a:lnTo>
                  <a:pt x="0" y="15544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ject 176"/>
          <p:cNvSpPr/>
          <p:nvPr/>
        </p:nvSpPr>
        <p:spPr>
          <a:xfrm>
            <a:off x="3913200" y="5659560"/>
            <a:ext cx="1666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bject 177"/>
          <p:cNvSpPr/>
          <p:nvPr/>
        </p:nvSpPr>
        <p:spPr>
          <a:xfrm>
            <a:off x="500040" y="5853240"/>
            <a:ext cx="1500120" cy="139680"/>
          </a:xfrm>
          <a:custGeom>
            <a:avLst/>
            <a:gdLst/>
            <a:ahLst/>
            <a:rect l="l" t="t" r="r" b="b"/>
            <a:pathLst>
              <a:path w="1499870" h="140335">
                <a:moveTo>
                  <a:pt x="0" y="140208"/>
                </a:moveTo>
                <a:lnTo>
                  <a:pt x="1499616" y="140208"/>
                </a:lnTo>
                <a:lnTo>
                  <a:pt x="1499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bject 178"/>
          <p:cNvSpPr/>
          <p:nvPr/>
        </p:nvSpPr>
        <p:spPr>
          <a:xfrm>
            <a:off x="487440" y="5827680"/>
            <a:ext cx="152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гиография иных сосудо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bject 179"/>
          <p:cNvSpPr/>
          <p:nvPr/>
        </p:nvSpPr>
        <p:spPr>
          <a:xfrm>
            <a:off x="3930480" y="5867280"/>
            <a:ext cx="12888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7"/>
                </a:moveTo>
                <a:lnTo>
                  <a:pt x="128015" y="140207"/>
                </a:lnTo>
                <a:lnTo>
                  <a:pt x="128015" y="0"/>
                </a:lnTo>
                <a:lnTo>
                  <a:pt x="0" y="0"/>
                </a:lnTo>
                <a:lnTo>
                  <a:pt x="0" y="14020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ject 180"/>
          <p:cNvSpPr/>
          <p:nvPr/>
        </p:nvSpPr>
        <p:spPr>
          <a:xfrm>
            <a:off x="3919680" y="5842080"/>
            <a:ext cx="153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bject 181"/>
          <p:cNvSpPr/>
          <p:nvPr/>
        </p:nvSpPr>
        <p:spPr>
          <a:xfrm>
            <a:off x="5613480" y="5827680"/>
            <a:ext cx="12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bject 182"/>
          <p:cNvSpPr/>
          <p:nvPr/>
        </p:nvSpPr>
        <p:spPr>
          <a:xfrm>
            <a:off x="6967440" y="5827680"/>
            <a:ext cx="1270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1" i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Rectangle 453" descr=""/>
          <p:cNvPicPr/>
          <p:nvPr/>
        </p:nvPicPr>
        <p:blipFill>
          <a:blip r:embed="rId1"/>
          <a:stretch/>
        </p:blipFill>
        <p:spPr>
          <a:xfrm>
            <a:off x="4552920" y="2736720"/>
            <a:ext cx="4524480" cy="2159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53"/>
          <p:cNvSpPr/>
          <p:nvPr/>
        </p:nvSpPr>
        <p:spPr>
          <a:xfrm>
            <a:off x="4560840" y="5070600"/>
            <a:ext cx="4114800" cy="3808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1 равна сумме строк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2-14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53"/>
          <p:cNvSpPr/>
          <p:nvPr/>
        </p:nvSpPr>
        <p:spPr>
          <a:xfrm>
            <a:off x="4572000" y="5638680"/>
            <a:ext cx="4114800" cy="49212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мма граф 4 + 5 равна графе 3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роме строки 14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object 2"/>
          <p:cNvSpPr/>
          <p:nvPr/>
        </p:nvSpPr>
        <p:spPr>
          <a:xfrm>
            <a:off x="684360" y="2560680"/>
            <a:ext cx="360" cy="33120"/>
          </a:xfrm>
          <a:custGeom>
            <a:avLst/>
            <a:gdLst/>
            <a:ahLst/>
            <a:rect l="l" t="t" r="r" b="b"/>
            <a:pathLst>
              <a:path w="0" h="33655">
                <a:moveTo>
                  <a:pt x="0" y="0"/>
                </a:moveTo>
                <a:lnTo>
                  <a:pt x="0" y="-31945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bject 3"/>
          <p:cNvSpPr/>
          <p:nvPr/>
        </p:nvSpPr>
        <p:spPr>
          <a:xfrm>
            <a:off x="684360" y="2763720"/>
            <a:ext cx="360" cy="14400"/>
          </a:xfrm>
          <a:custGeom>
            <a:avLst/>
            <a:gdLst/>
            <a:ahLst/>
            <a:rect l="l" t="t" r="r" b="b"/>
            <a:pathLst>
              <a:path w="0" h="13969">
                <a:moveTo>
                  <a:pt x="0" y="0"/>
                </a:moveTo>
                <a:lnTo>
                  <a:pt x="0" y="13716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bject 4"/>
          <p:cNvSpPr/>
          <p:nvPr/>
        </p:nvSpPr>
        <p:spPr>
          <a:xfrm>
            <a:off x="684360" y="2946240"/>
            <a:ext cx="360" cy="14400"/>
          </a:xfrm>
          <a:custGeom>
            <a:avLst/>
            <a:gdLst/>
            <a:ahLst/>
            <a:rect l="l" t="t" r="r" b="b"/>
            <a:pathLst>
              <a:path w="0" h="13969">
                <a:moveTo>
                  <a:pt x="0" y="0"/>
                </a:moveTo>
                <a:lnTo>
                  <a:pt x="0" y="13715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bject 5"/>
          <p:cNvSpPr/>
          <p:nvPr/>
        </p:nvSpPr>
        <p:spPr>
          <a:xfrm>
            <a:off x="684360" y="3129120"/>
            <a:ext cx="360" cy="928440"/>
          </a:xfrm>
          <a:custGeom>
            <a:avLst/>
            <a:gdLst/>
            <a:ahLst/>
            <a:rect l="l" t="t" r="r" b="b"/>
            <a:pathLst>
              <a:path w="0" h="928370">
                <a:moveTo>
                  <a:pt x="0" y="0"/>
                </a:moveTo>
                <a:lnTo>
                  <a:pt x="0" y="928116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ject 6"/>
          <p:cNvSpPr/>
          <p:nvPr/>
        </p:nvSpPr>
        <p:spPr>
          <a:xfrm>
            <a:off x="684360" y="4226040"/>
            <a:ext cx="360" cy="14040"/>
          </a:xfrm>
          <a:custGeom>
            <a:avLst/>
            <a:gdLst/>
            <a:ahLst/>
            <a:rect l="l" t="t" r="r" b="b"/>
            <a:pathLst>
              <a:path w="0" h="13970">
                <a:moveTo>
                  <a:pt x="0" y="0"/>
                </a:moveTo>
                <a:lnTo>
                  <a:pt x="0" y="13716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ject 7"/>
          <p:cNvSpPr/>
          <p:nvPr/>
        </p:nvSpPr>
        <p:spPr>
          <a:xfrm>
            <a:off x="684360" y="4410000"/>
            <a:ext cx="360" cy="1386000"/>
          </a:xfrm>
          <a:custGeom>
            <a:avLst/>
            <a:gdLst/>
            <a:ahLst/>
            <a:rect l="l" t="t" r="r" b="b"/>
            <a:pathLst>
              <a:path w="0" h="1386839">
                <a:moveTo>
                  <a:pt x="0" y="0"/>
                </a:moveTo>
                <a:lnTo>
                  <a:pt x="0" y="1386649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46440" y="246960"/>
            <a:ext cx="5473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26" name="object 10"/>
          <p:cNvSpPr/>
          <p:nvPr/>
        </p:nvSpPr>
        <p:spPr>
          <a:xfrm>
            <a:off x="619200" y="936720"/>
            <a:ext cx="8015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4 «Рентгенологические профилактические (скрининговые) обследования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ject 11"/>
          <p:cNvSpPr/>
          <p:nvPr/>
        </p:nvSpPr>
        <p:spPr>
          <a:xfrm>
            <a:off x="5286240" y="1262160"/>
            <a:ext cx="360" cy="4435200"/>
          </a:xfrm>
          <a:custGeom>
            <a:avLst/>
            <a:gdLst/>
            <a:ahLst/>
            <a:rect l="l" t="t" r="r" b="b"/>
            <a:pathLst>
              <a:path w="0" h="4435475">
                <a:moveTo>
                  <a:pt x="0" y="0"/>
                </a:moveTo>
                <a:lnTo>
                  <a:pt x="0" y="44349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ject 12"/>
          <p:cNvSpPr/>
          <p:nvPr/>
        </p:nvSpPr>
        <p:spPr>
          <a:xfrm>
            <a:off x="5748480" y="1262160"/>
            <a:ext cx="360" cy="4435200"/>
          </a:xfrm>
          <a:custGeom>
            <a:avLst/>
            <a:gdLst/>
            <a:ahLst/>
            <a:rect l="l" t="t" r="r" b="b"/>
            <a:pathLst>
              <a:path w="0" h="4435475">
                <a:moveTo>
                  <a:pt x="0" y="0"/>
                </a:moveTo>
                <a:lnTo>
                  <a:pt x="0" y="44349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ject 13"/>
          <p:cNvSpPr/>
          <p:nvPr/>
        </p:nvSpPr>
        <p:spPr>
          <a:xfrm>
            <a:off x="6440400" y="1262160"/>
            <a:ext cx="360" cy="4435200"/>
          </a:xfrm>
          <a:custGeom>
            <a:avLst/>
            <a:gdLst/>
            <a:ahLst/>
            <a:rect l="l" t="t" r="r" b="b"/>
            <a:pathLst>
              <a:path w="0" h="4435475">
                <a:moveTo>
                  <a:pt x="0" y="0"/>
                </a:moveTo>
                <a:lnTo>
                  <a:pt x="0" y="44349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ject 14"/>
          <p:cNvSpPr/>
          <p:nvPr/>
        </p:nvSpPr>
        <p:spPr>
          <a:xfrm>
            <a:off x="7594560" y="1477800"/>
            <a:ext cx="360" cy="4219560"/>
          </a:xfrm>
          <a:custGeom>
            <a:avLst/>
            <a:gdLst/>
            <a:ahLst/>
            <a:rect l="l" t="t" r="r" b="b"/>
            <a:pathLst>
              <a:path w="0" h="4219575">
                <a:moveTo>
                  <a:pt x="0" y="0"/>
                </a:moveTo>
                <a:lnTo>
                  <a:pt x="0" y="42189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ject 15"/>
          <p:cNvSpPr/>
          <p:nvPr/>
        </p:nvSpPr>
        <p:spPr>
          <a:xfrm>
            <a:off x="6434280" y="1484280"/>
            <a:ext cx="2320920" cy="360"/>
          </a:xfrm>
          <a:custGeom>
            <a:avLst/>
            <a:gdLst/>
            <a:ahLst/>
            <a:rect l="l" t="t" r="r" b="b"/>
            <a:pathLst>
              <a:path w="2320925" h="0">
                <a:moveTo>
                  <a:pt x="0" y="0"/>
                </a:moveTo>
                <a:lnTo>
                  <a:pt x="23206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ject 16"/>
          <p:cNvSpPr/>
          <p:nvPr/>
        </p:nvSpPr>
        <p:spPr>
          <a:xfrm>
            <a:off x="604800" y="203364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bject 17"/>
          <p:cNvSpPr/>
          <p:nvPr/>
        </p:nvSpPr>
        <p:spPr>
          <a:xfrm>
            <a:off x="604800" y="221616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bject 18"/>
          <p:cNvSpPr/>
          <p:nvPr/>
        </p:nvSpPr>
        <p:spPr>
          <a:xfrm>
            <a:off x="604800" y="258120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ject 19"/>
          <p:cNvSpPr/>
          <p:nvPr/>
        </p:nvSpPr>
        <p:spPr>
          <a:xfrm>
            <a:off x="604800" y="276552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bject 20"/>
          <p:cNvSpPr/>
          <p:nvPr/>
        </p:nvSpPr>
        <p:spPr>
          <a:xfrm>
            <a:off x="604800" y="313056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bject 21"/>
          <p:cNvSpPr/>
          <p:nvPr/>
        </p:nvSpPr>
        <p:spPr>
          <a:xfrm>
            <a:off x="604800" y="331308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ject 22"/>
          <p:cNvSpPr/>
          <p:nvPr/>
        </p:nvSpPr>
        <p:spPr>
          <a:xfrm>
            <a:off x="604800" y="367992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bject 23"/>
          <p:cNvSpPr/>
          <p:nvPr/>
        </p:nvSpPr>
        <p:spPr>
          <a:xfrm>
            <a:off x="604800" y="386244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bject 24"/>
          <p:cNvSpPr/>
          <p:nvPr/>
        </p:nvSpPr>
        <p:spPr>
          <a:xfrm>
            <a:off x="604800" y="404496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bject 25"/>
          <p:cNvSpPr/>
          <p:nvPr/>
        </p:nvSpPr>
        <p:spPr>
          <a:xfrm>
            <a:off x="604800" y="441000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bject 26"/>
          <p:cNvSpPr/>
          <p:nvPr/>
        </p:nvSpPr>
        <p:spPr>
          <a:xfrm>
            <a:off x="604800" y="459432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ject 27"/>
          <p:cNvSpPr/>
          <p:nvPr/>
        </p:nvSpPr>
        <p:spPr>
          <a:xfrm>
            <a:off x="604800" y="514188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bject 28"/>
          <p:cNvSpPr/>
          <p:nvPr/>
        </p:nvSpPr>
        <p:spPr>
          <a:xfrm>
            <a:off x="604800" y="550872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bject 29"/>
          <p:cNvSpPr/>
          <p:nvPr/>
        </p:nvSpPr>
        <p:spPr>
          <a:xfrm>
            <a:off x="611280" y="1262160"/>
            <a:ext cx="360" cy="4435200"/>
          </a:xfrm>
          <a:custGeom>
            <a:avLst/>
            <a:gdLst/>
            <a:ahLst/>
            <a:rect l="l" t="t" r="r" b="b"/>
            <a:pathLst>
              <a:path w="0" h="4435475">
                <a:moveTo>
                  <a:pt x="0" y="0"/>
                </a:moveTo>
                <a:lnTo>
                  <a:pt x="0" y="44349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bject 30"/>
          <p:cNvSpPr/>
          <p:nvPr/>
        </p:nvSpPr>
        <p:spPr>
          <a:xfrm>
            <a:off x="8748720" y="1262160"/>
            <a:ext cx="360" cy="4435200"/>
          </a:xfrm>
          <a:custGeom>
            <a:avLst/>
            <a:gdLst/>
            <a:ahLst/>
            <a:rect l="l" t="t" r="r" b="b"/>
            <a:pathLst>
              <a:path w="0" h="4435475">
                <a:moveTo>
                  <a:pt x="0" y="0"/>
                </a:moveTo>
                <a:lnTo>
                  <a:pt x="0" y="44349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ject 31"/>
          <p:cNvSpPr/>
          <p:nvPr/>
        </p:nvSpPr>
        <p:spPr>
          <a:xfrm>
            <a:off x="604800" y="126828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ject 32"/>
          <p:cNvSpPr/>
          <p:nvPr/>
        </p:nvSpPr>
        <p:spPr>
          <a:xfrm>
            <a:off x="604800" y="5691240"/>
            <a:ext cx="8150400" cy="360"/>
          </a:xfrm>
          <a:custGeom>
            <a:avLst/>
            <a:gdLst/>
            <a:ahLst/>
            <a:rect l="l" t="t" r="r" b="b"/>
            <a:pathLst>
              <a:path w="8150225" h="0">
                <a:moveTo>
                  <a:pt x="0" y="0"/>
                </a:moveTo>
                <a:lnTo>
                  <a:pt x="814966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bject 33"/>
          <p:cNvSpPr/>
          <p:nvPr/>
        </p:nvSpPr>
        <p:spPr>
          <a:xfrm>
            <a:off x="2473200" y="1571760"/>
            <a:ext cx="987480" cy="3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bject 34"/>
          <p:cNvSpPr/>
          <p:nvPr/>
        </p:nvSpPr>
        <p:spPr>
          <a:xfrm>
            <a:off x="5445000" y="1389240"/>
            <a:ext cx="182520" cy="1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bject 35"/>
          <p:cNvSpPr/>
          <p:nvPr/>
        </p:nvSpPr>
        <p:spPr>
          <a:xfrm>
            <a:off x="5335560" y="1571760"/>
            <a:ext cx="376200" cy="3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bject 36"/>
          <p:cNvSpPr/>
          <p:nvPr/>
        </p:nvSpPr>
        <p:spPr>
          <a:xfrm>
            <a:off x="5516640" y="1754280"/>
            <a:ext cx="360" cy="16992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82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ject 37"/>
          <p:cNvSpPr/>
          <p:nvPr/>
        </p:nvSpPr>
        <p:spPr>
          <a:xfrm>
            <a:off x="5464080" y="1725480"/>
            <a:ext cx="1065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bject 38"/>
          <p:cNvSpPr/>
          <p:nvPr/>
        </p:nvSpPr>
        <p:spPr>
          <a:xfrm>
            <a:off x="5908680" y="1571760"/>
            <a:ext cx="384120" cy="1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bject 39"/>
          <p:cNvSpPr/>
          <p:nvPr/>
        </p:nvSpPr>
        <p:spPr>
          <a:xfrm>
            <a:off x="7373880" y="1281240"/>
            <a:ext cx="420840" cy="169560"/>
          </a:xfrm>
          <a:custGeom>
            <a:avLst/>
            <a:gdLst/>
            <a:ahLst/>
            <a:rect l="l" t="t" r="r" b="b"/>
            <a:pathLst>
              <a:path w="421004" h="169544">
                <a:moveTo>
                  <a:pt x="0" y="169163"/>
                </a:moveTo>
                <a:lnTo>
                  <a:pt x="420624" y="169163"/>
                </a:lnTo>
                <a:lnTo>
                  <a:pt x="420624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bject 40"/>
          <p:cNvSpPr/>
          <p:nvPr/>
        </p:nvSpPr>
        <p:spPr>
          <a:xfrm>
            <a:off x="7794720" y="1347840"/>
            <a:ext cx="20520" cy="85680"/>
          </a:xfrm>
          <a:custGeom>
            <a:avLst/>
            <a:gdLst/>
            <a:ahLst/>
            <a:rect l="l" t="t" r="r" b="b"/>
            <a:pathLst>
              <a:path w="21590" h="85725">
                <a:moveTo>
                  <a:pt x="0" y="85344"/>
                </a:moveTo>
                <a:lnTo>
                  <a:pt x="21335" y="85344"/>
                </a:lnTo>
                <a:lnTo>
                  <a:pt x="21335" y="0"/>
                </a:lnTo>
                <a:lnTo>
                  <a:pt x="0" y="0"/>
                </a:lnTo>
                <a:lnTo>
                  <a:pt x="0" y="853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bject 41"/>
          <p:cNvSpPr/>
          <p:nvPr/>
        </p:nvSpPr>
        <p:spPr>
          <a:xfrm>
            <a:off x="7361280" y="1252440"/>
            <a:ext cx="4683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</a:t>
            </a:r>
            <a:r>
              <a:rPr b="1" i="1" lang="en-US" sz="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1" i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ject 42"/>
          <p:cNvSpPr/>
          <p:nvPr/>
        </p:nvSpPr>
        <p:spPr>
          <a:xfrm>
            <a:off x="6502320" y="1589040"/>
            <a:ext cx="1028880" cy="3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2840">
              <a:lnSpc>
                <a:spcPts val="13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ям 0-17 ле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bject 43"/>
          <p:cNvSpPr/>
          <p:nvPr/>
        </p:nvSpPr>
        <p:spPr>
          <a:xfrm>
            <a:off x="6502320" y="1771560"/>
            <a:ext cx="1028880" cy="169920"/>
          </a:xfrm>
          <a:custGeom>
            <a:avLst/>
            <a:gdLst/>
            <a:ahLst/>
            <a:rect l="l" t="t" r="r" b="b"/>
            <a:pathLst>
              <a:path w="1028700" h="169544">
                <a:moveTo>
                  <a:pt x="0" y="169163"/>
                </a:moveTo>
                <a:lnTo>
                  <a:pt x="1028700" y="169163"/>
                </a:lnTo>
                <a:lnTo>
                  <a:pt x="102870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bject 44"/>
          <p:cNvSpPr/>
          <p:nvPr/>
        </p:nvSpPr>
        <p:spPr>
          <a:xfrm>
            <a:off x="6502320" y="1743120"/>
            <a:ext cx="1030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ключительно)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bject 45"/>
          <p:cNvSpPr/>
          <p:nvPr/>
        </p:nvSpPr>
        <p:spPr>
          <a:xfrm>
            <a:off x="7719840" y="1496880"/>
            <a:ext cx="944640" cy="169920"/>
          </a:xfrm>
          <a:custGeom>
            <a:avLst/>
            <a:gdLst/>
            <a:ahLst/>
            <a:rect l="l" t="t" r="r" b="b"/>
            <a:pathLst>
              <a:path w="944879" h="169544">
                <a:moveTo>
                  <a:pt x="0" y="169163"/>
                </a:moveTo>
                <a:lnTo>
                  <a:pt x="944879" y="169163"/>
                </a:lnTo>
                <a:lnTo>
                  <a:pt x="944879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ject 46"/>
          <p:cNvSpPr/>
          <p:nvPr/>
        </p:nvSpPr>
        <p:spPr>
          <a:xfrm>
            <a:off x="7709040" y="1468440"/>
            <a:ext cx="928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цам старш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bject 47"/>
          <p:cNvSpPr/>
          <p:nvPr/>
        </p:nvSpPr>
        <p:spPr>
          <a:xfrm>
            <a:off x="7655040" y="1679400"/>
            <a:ext cx="1031760" cy="169920"/>
          </a:xfrm>
          <a:custGeom>
            <a:avLst/>
            <a:gdLst/>
            <a:ahLst/>
            <a:rect l="l" t="t" r="r" b="b"/>
            <a:pathLst>
              <a:path w="1030604" h="169544">
                <a:moveTo>
                  <a:pt x="0" y="169163"/>
                </a:moveTo>
                <a:lnTo>
                  <a:pt x="1030224" y="169163"/>
                </a:lnTo>
                <a:lnTo>
                  <a:pt x="1030224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bject 48"/>
          <p:cNvSpPr/>
          <p:nvPr/>
        </p:nvSpPr>
        <p:spPr>
          <a:xfrm>
            <a:off x="7643880" y="1650960"/>
            <a:ext cx="1058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оспособног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bject 49"/>
          <p:cNvSpPr/>
          <p:nvPr/>
        </p:nvSpPr>
        <p:spPr>
          <a:xfrm>
            <a:off x="7839000" y="1862280"/>
            <a:ext cx="665280" cy="169560"/>
          </a:xfrm>
          <a:custGeom>
            <a:avLst/>
            <a:gdLst/>
            <a:ahLst/>
            <a:rect l="l" t="t" r="r" b="b"/>
            <a:pathLst>
              <a:path w="666115" h="169544">
                <a:moveTo>
                  <a:pt x="0" y="169163"/>
                </a:moveTo>
                <a:lnTo>
                  <a:pt x="665988" y="169163"/>
                </a:lnTo>
                <a:lnTo>
                  <a:pt x="665988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bject 50"/>
          <p:cNvSpPr/>
          <p:nvPr/>
        </p:nvSpPr>
        <p:spPr>
          <a:xfrm>
            <a:off x="7826400" y="1833480"/>
            <a:ext cx="6922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возраста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ject 51"/>
          <p:cNvSpPr/>
          <p:nvPr/>
        </p:nvSpPr>
        <p:spPr>
          <a:xfrm>
            <a:off x="2949480" y="2046240"/>
            <a:ext cx="360" cy="16848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ject 52"/>
          <p:cNvSpPr/>
          <p:nvPr/>
        </p:nvSpPr>
        <p:spPr>
          <a:xfrm>
            <a:off x="2898720" y="201600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bject 53"/>
          <p:cNvSpPr/>
          <p:nvPr/>
        </p:nvSpPr>
        <p:spPr>
          <a:xfrm>
            <a:off x="5516640" y="2046240"/>
            <a:ext cx="360" cy="16848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bject 54"/>
          <p:cNvSpPr/>
          <p:nvPr/>
        </p:nvSpPr>
        <p:spPr>
          <a:xfrm>
            <a:off x="5467320" y="201600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bject 55"/>
          <p:cNvSpPr/>
          <p:nvPr/>
        </p:nvSpPr>
        <p:spPr>
          <a:xfrm>
            <a:off x="6094440" y="2046240"/>
            <a:ext cx="360" cy="16848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ject 56"/>
          <p:cNvSpPr/>
          <p:nvPr/>
        </p:nvSpPr>
        <p:spPr>
          <a:xfrm>
            <a:off x="6045120" y="201600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57"/>
          <p:cNvSpPr/>
          <p:nvPr/>
        </p:nvSpPr>
        <p:spPr>
          <a:xfrm>
            <a:off x="7016760" y="2046240"/>
            <a:ext cx="360" cy="16848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58"/>
          <p:cNvSpPr/>
          <p:nvPr/>
        </p:nvSpPr>
        <p:spPr>
          <a:xfrm>
            <a:off x="6967440" y="201600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59"/>
          <p:cNvSpPr/>
          <p:nvPr/>
        </p:nvSpPr>
        <p:spPr>
          <a:xfrm>
            <a:off x="8170920" y="2046240"/>
            <a:ext cx="360" cy="16848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60"/>
          <p:cNvSpPr/>
          <p:nvPr/>
        </p:nvSpPr>
        <p:spPr>
          <a:xfrm>
            <a:off x="8121600" y="201600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61"/>
          <p:cNvSpPr/>
          <p:nvPr/>
        </p:nvSpPr>
        <p:spPr>
          <a:xfrm>
            <a:off x="655560" y="2228760"/>
            <a:ext cx="3583080" cy="169920"/>
          </a:xfrm>
          <a:custGeom>
            <a:avLst/>
            <a:gdLst/>
            <a:ahLst/>
            <a:rect l="l" t="t" r="r" b="b"/>
            <a:pathLst>
              <a:path w="3583304" h="169544">
                <a:moveTo>
                  <a:pt x="0" y="169163"/>
                </a:moveTo>
                <a:lnTo>
                  <a:pt x="3582924" y="169163"/>
                </a:lnTo>
                <a:lnTo>
                  <a:pt x="3582924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62"/>
          <p:cNvSpPr/>
          <p:nvPr/>
        </p:nvSpPr>
        <p:spPr>
          <a:xfrm>
            <a:off x="642960" y="2200320"/>
            <a:ext cx="36050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рентгеновских профилактических исследовани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63"/>
          <p:cNvSpPr/>
          <p:nvPr/>
        </p:nvSpPr>
        <p:spPr>
          <a:xfrm>
            <a:off x="673200" y="2411280"/>
            <a:ext cx="360" cy="16992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64"/>
          <p:cNvSpPr/>
          <p:nvPr/>
        </p:nvSpPr>
        <p:spPr>
          <a:xfrm>
            <a:off x="692280" y="2411280"/>
            <a:ext cx="3520800" cy="169920"/>
          </a:xfrm>
          <a:custGeom>
            <a:avLst/>
            <a:gdLst/>
            <a:ahLst/>
            <a:rect l="l" t="t" r="r" b="b"/>
            <a:pathLst>
              <a:path w="3520440" h="169544">
                <a:moveTo>
                  <a:pt x="0" y="169163"/>
                </a:moveTo>
                <a:lnTo>
                  <a:pt x="3520440" y="169163"/>
                </a:lnTo>
                <a:lnTo>
                  <a:pt x="352044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65"/>
          <p:cNvSpPr/>
          <p:nvPr/>
        </p:nvSpPr>
        <p:spPr>
          <a:xfrm>
            <a:off x="679320" y="2382840"/>
            <a:ext cx="34689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ов грудной клетки, всего,</a:t>
            </a: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 выполнено: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66"/>
          <p:cNvSpPr/>
          <p:nvPr/>
        </p:nvSpPr>
        <p:spPr>
          <a:xfrm>
            <a:off x="5516640" y="2319480"/>
            <a:ext cx="360" cy="16956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67"/>
          <p:cNvSpPr/>
          <p:nvPr/>
        </p:nvSpPr>
        <p:spPr>
          <a:xfrm>
            <a:off x="5467320" y="229068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68"/>
          <p:cNvSpPr/>
          <p:nvPr/>
        </p:nvSpPr>
        <p:spPr>
          <a:xfrm>
            <a:off x="655560" y="2593800"/>
            <a:ext cx="417600" cy="169920"/>
          </a:xfrm>
          <a:custGeom>
            <a:avLst/>
            <a:gdLst/>
            <a:ahLst/>
            <a:rect l="l" t="t" r="r" b="b"/>
            <a:pathLst>
              <a:path w="417830" h="169544">
                <a:moveTo>
                  <a:pt x="0" y="169163"/>
                </a:moveTo>
                <a:lnTo>
                  <a:pt x="417576" y="169163"/>
                </a:lnTo>
                <a:lnTo>
                  <a:pt x="4175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69"/>
          <p:cNvSpPr/>
          <p:nvPr/>
        </p:nvSpPr>
        <p:spPr>
          <a:xfrm>
            <a:off x="1073160" y="2593800"/>
            <a:ext cx="939960" cy="169920"/>
          </a:xfrm>
          <a:custGeom>
            <a:avLst/>
            <a:gdLst/>
            <a:ahLst/>
            <a:rect l="l" t="t" r="r" b="b"/>
            <a:pathLst>
              <a:path w="940435" h="169544">
                <a:moveTo>
                  <a:pt x="0" y="169163"/>
                </a:moveTo>
                <a:lnTo>
                  <a:pt x="940308" y="169163"/>
                </a:lnTo>
                <a:lnTo>
                  <a:pt x="940308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70"/>
          <p:cNvSpPr/>
          <p:nvPr/>
        </p:nvSpPr>
        <p:spPr>
          <a:xfrm>
            <a:off x="2013120" y="2593800"/>
            <a:ext cx="965160" cy="169920"/>
          </a:xfrm>
          <a:custGeom>
            <a:avLst/>
            <a:gdLst/>
            <a:ahLst/>
            <a:rect l="l" t="t" r="r" b="b"/>
            <a:pathLst>
              <a:path w="965200" h="169544">
                <a:moveTo>
                  <a:pt x="0" y="169163"/>
                </a:moveTo>
                <a:lnTo>
                  <a:pt x="964692" y="169163"/>
                </a:lnTo>
                <a:lnTo>
                  <a:pt x="964692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71"/>
          <p:cNvSpPr/>
          <p:nvPr/>
        </p:nvSpPr>
        <p:spPr>
          <a:xfrm>
            <a:off x="1060560" y="2565360"/>
            <a:ext cx="1930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леночных флюорографа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72"/>
          <p:cNvSpPr/>
          <p:nvPr/>
        </p:nvSpPr>
        <p:spPr>
          <a:xfrm>
            <a:off x="5516640" y="2593800"/>
            <a:ext cx="360" cy="16992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73"/>
          <p:cNvSpPr/>
          <p:nvPr/>
        </p:nvSpPr>
        <p:spPr>
          <a:xfrm>
            <a:off x="5467320" y="256536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74"/>
          <p:cNvSpPr/>
          <p:nvPr/>
        </p:nvSpPr>
        <p:spPr>
          <a:xfrm>
            <a:off x="655560" y="2776680"/>
            <a:ext cx="760320" cy="169560"/>
          </a:xfrm>
          <a:custGeom>
            <a:avLst/>
            <a:gdLst/>
            <a:ahLst/>
            <a:rect l="l" t="t" r="r" b="b"/>
            <a:pathLst>
              <a:path w="760730" h="169544">
                <a:moveTo>
                  <a:pt x="0" y="169163"/>
                </a:moveTo>
                <a:lnTo>
                  <a:pt x="760476" y="169163"/>
                </a:lnTo>
                <a:lnTo>
                  <a:pt x="7604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75"/>
          <p:cNvSpPr/>
          <p:nvPr/>
        </p:nvSpPr>
        <p:spPr>
          <a:xfrm>
            <a:off x="1415880" y="2776680"/>
            <a:ext cx="3751560" cy="169560"/>
          </a:xfrm>
          <a:custGeom>
            <a:avLst/>
            <a:gdLst/>
            <a:ahLst/>
            <a:rect l="l" t="t" r="r" b="b"/>
            <a:pathLst>
              <a:path w="3750945" h="169544">
                <a:moveTo>
                  <a:pt x="0" y="169163"/>
                </a:moveTo>
                <a:lnTo>
                  <a:pt x="3750564" y="169163"/>
                </a:lnTo>
                <a:lnTo>
                  <a:pt x="3750564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76"/>
          <p:cNvSpPr/>
          <p:nvPr/>
        </p:nvSpPr>
        <p:spPr>
          <a:xfrm>
            <a:off x="1403280" y="2747880"/>
            <a:ext cx="37353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передвижных пленочных флюорографически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77"/>
          <p:cNvSpPr/>
          <p:nvPr/>
        </p:nvSpPr>
        <p:spPr>
          <a:xfrm>
            <a:off x="5184720" y="2776680"/>
            <a:ext cx="360" cy="169560"/>
          </a:xfrm>
          <a:custGeom>
            <a:avLst/>
            <a:gdLst/>
            <a:ahLst/>
            <a:rect l="l" t="t" r="r" b="b"/>
            <a:pathLst>
              <a:path w="0" h="169544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78"/>
          <p:cNvSpPr/>
          <p:nvPr/>
        </p:nvSpPr>
        <p:spPr>
          <a:xfrm>
            <a:off x="655560" y="2960640"/>
            <a:ext cx="760320" cy="168480"/>
          </a:xfrm>
          <a:custGeom>
            <a:avLst/>
            <a:gdLst/>
            <a:ahLst/>
            <a:rect l="l" t="t" r="r" b="b"/>
            <a:pathLst>
              <a:path w="760730" h="169544">
                <a:moveTo>
                  <a:pt x="0" y="169163"/>
                </a:moveTo>
                <a:lnTo>
                  <a:pt x="760476" y="169163"/>
                </a:lnTo>
                <a:lnTo>
                  <a:pt x="7604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79"/>
          <p:cNvSpPr/>
          <p:nvPr/>
        </p:nvSpPr>
        <p:spPr>
          <a:xfrm>
            <a:off x="1415880" y="2960640"/>
            <a:ext cx="2784600" cy="168480"/>
          </a:xfrm>
          <a:custGeom>
            <a:avLst/>
            <a:gdLst/>
            <a:ahLst/>
            <a:rect l="l" t="t" r="r" b="b"/>
            <a:pathLst>
              <a:path w="2784475" h="169544">
                <a:moveTo>
                  <a:pt x="0" y="169163"/>
                </a:moveTo>
                <a:lnTo>
                  <a:pt x="2784348" y="169163"/>
                </a:lnTo>
                <a:lnTo>
                  <a:pt x="2784348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80"/>
          <p:cNvSpPr/>
          <p:nvPr/>
        </p:nvSpPr>
        <p:spPr>
          <a:xfrm>
            <a:off x="1403280" y="2930400"/>
            <a:ext cx="747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овка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81"/>
          <p:cNvSpPr/>
          <p:nvPr/>
        </p:nvSpPr>
        <p:spPr>
          <a:xfrm>
            <a:off x="5423040" y="2868480"/>
            <a:ext cx="190440" cy="169920"/>
          </a:xfrm>
          <a:custGeom>
            <a:avLst/>
            <a:gdLst/>
            <a:ahLst/>
            <a:rect l="l" t="t" r="r" b="b"/>
            <a:pathLst>
              <a:path w="190500" h="169544">
                <a:moveTo>
                  <a:pt x="0" y="169163"/>
                </a:moveTo>
                <a:lnTo>
                  <a:pt x="190500" y="169163"/>
                </a:lnTo>
                <a:lnTo>
                  <a:pt x="19050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82"/>
          <p:cNvSpPr/>
          <p:nvPr/>
        </p:nvSpPr>
        <p:spPr>
          <a:xfrm>
            <a:off x="5410080" y="2840040"/>
            <a:ext cx="216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83"/>
          <p:cNvSpPr/>
          <p:nvPr/>
        </p:nvSpPr>
        <p:spPr>
          <a:xfrm>
            <a:off x="763560" y="3143160"/>
            <a:ext cx="303120" cy="169920"/>
          </a:xfrm>
          <a:custGeom>
            <a:avLst/>
            <a:gdLst/>
            <a:ahLst/>
            <a:rect l="l" t="t" r="r" b="b"/>
            <a:pathLst>
              <a:path w="303530" h="169545">
                <a:moveTo>
                  <a:pt x="0" y="169163"/>
                </a:moveTo>
                <a:lnTo>
                  <a:pt x="303276" y="169163"/>
                </a:lnTo>
                <a:lnTo>
                  <a:pt x="3032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84"/>
          <p:cNvSpPr/>
          <p:nvPr/>
        </p:nvSpPr>
        <p:spPr>
          <a:xfrm>
            <a:off x="1066680" y="3143160"/>
            <a:ext cx="1927440" cy="169920"/>
          </a:xfrm>
          <a:custGeom>
            <a:avLst/>
            <a:gdLst/>
            <a:ahLst/>
            <a:rect l="l" t="t" r="r" b="b"/>
            <a:pathLst>
              <a:path w="1927860" h="169545">
                <a:moveTo>
                  <a:pt x="0" y="169163"/>
                </a:moveTo>
                <a:lnTo>
                  <a:pt x="1927860" y="169163"/>
                </a:lnTo>
                <a:lnTo>
                  <a:pt x="192786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ject 85"/>
          <p:cNvSpPr/>
          <p:nvPr/>
        </p:nvSpPr>
        <p:spPr>
          <a:xfrm>
            <a:off x="1054080" y="3114720"/>
            <a:ext cx="1878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цифровых флюорографа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ject 86"/>
          <p:cNvSpPr/>
          <p:nvPr/>
        </p:nvSpPr>
        <p:spPr>
          <a:xfrm>
            <a:off x="5516640" y="3143160"/>
            <a:ext cx="360" cy="169920"/>
          </a:xfrm>
          <a:custGeom>
            <a:avLst/>
            <a:gdLst/>
            <a:ahLst/>
            <a:rect l="l" t="t" r="r" b="b"/>
            <a:pathLst>
              <a:path w="0" h="169545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87"/>
          <p:cNvSpPr/>
          <p:nvPr/>
        </p:nvSpPr>
        <p:spPr>
          <a:xfrm>
            <a:off x="5467320" y="311472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88"/>
          <p:cNvSpPr/>
          <p:nvPr/>
        </p:nvSpPr>
        <p:spPr>
          <a:xfrm>
            <a:off x="763560" y="3325680"/>
            <a:ext cx="646200" cy="169920"/>
          </a:xfrm>
          <a:custGeom>
            <a:avLst/>
            <a:gdLst/>
            <a:ahLst/>
            <a:rect l="l" t="t" r="r" b="b"/>
            <a:pathLst>
              <a:path w="646430" h="169545">
                <a:moveTo>
                  <a:pt x="0" y="169163"/>
                </a:moveTo>
                <a:lnTo>
                  <a:pt x="646176" y="169163"/>
                </a:lnTo>
                <a:lnTo>
                  <a:pt x="6461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89"/>
          <p:cNvSpPr/>
          <p:nvPr/>
        </p:nvSpPr>
        <p:spPr>
          <a:xfrm>
            <a:off x="1409760" y="3325680"/>
            <a:ext cx="3698640" cy="169920"/>
          </a:xfrm>
          <a:custGeom>
            <a:avLst/>
            <a:gdLst/>
            <a:ahLst/>
            <a:rect l="l" t="t" r="r" b="b"/>
            <a:pathLst>
              <a:path w="3698875" h="169545">
                <a:moveTo>
                  <a:pt x="0" y="169163"/>
                </a:moveTo>
                <a:lnTo>
                  <a:pt x="3698748" y="169163"/>
                </a:lnTo>
                <a:lnTo>
                  <a:pt x="3698748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90"/>
          <p:cNvSpPr/>
          <p:nvPr/>
        </p:nvSpPr>
        <p:spPr>
          <a:xfrm>
            <a:off x="1397160" y="3297240"/>
            <a:ext cx="36846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передвижных цифровых флюорографически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91"/>
          <p:cNvSpPr/>
          <p:nvPr/>
        </p:nvSpPr>
        <p:spPr>
          <a:xfrm>
            <a:off x="5127480" y="3325680"/>
            <a:ext cx="360" cy="169920"/>
          </a:xfrm>
          <a:custGeom>
            <a:avLst/>
            <a:gdLst/>
            <a:ahLst/>
            <a:rect l="l" t="t" r="r" b="b"/>
            <a:pathLst>
              <a:path w="0" h="169545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92"/>
          <p:cNvSpPr/>
          <p:nvPr/>
        </p:nvSpPr>
        <p:spPr>
          <a:xfrm>
            <a:off x="763560" y="3508200"/>
            <a:ext cx="646200" cy="169920"/>
          </a:xfrm>
          <a:custGeom>
            <a:avLst/>
            <a:gdLst/>
            <a:ahLst/>
            <a:rect l="l" t="t" r="r" b="b"/>
            <a:pathLst>
              <a:path w="646430" h="169545">
                <a:moveTo>
                  <a:pt x="0" y="169164"/>
                </a:moveTo>
                <a:lnTo>
                  <a:pt x="646176" y="169164"/>
                </a:lnTo>
                <a:lnTo>
                  <a:pt x="646176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93"/>
          <p:cNvSpPr/>
          <p:nvPr/>
        </p:nvSpPr>
        <p:spPr>
          <a:xfrm>
            <a:off x="1409760" y="3508200"/>
            <a:ext cx="723960" cy="169920"/>
          </a:xfrm>
          <a:custGeom>
            <a:avLst/>
            <a:gdLst/>
            <a:ahLst/>
            <a:rect l="l" t="t" r="r" b="b"/>
            <a:pathLst>
              <a:path w="723900" h="169545">
                <a:moveTo>
                  <a:pt x="0" y="169164"/>
                </a:moveTo>
                <a:lnTo>
                  <a:pt x="723899" y="169164"/>
                </a:lnTo>
                <a:lnTo>
                  <a:pt x="723899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94"/>
          <p:cNvSpPr/>
          <p:nvPr/>
        </p:nvSpPr>
        <p:spPr>
          <a:xfrm>
            <a:off x="1397160" y="3479760"/>
            <a:ext cx="747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овка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95"/>
          <p:cNvSpPr/>
          <p:nvPr/>
        </p:nvSpPr>
        <p:spPr>
          <a:xfrm>
            <a:off x="5423040" y="3417840"/>
            <a:ext cx="190440" cy="168480"/>
          </a:xfrm>
          <a:custGeom>
            <a:avLst/>
            <a:gdLst/>
            <a:ahLst/>
            <a:rect l="l" t="t" r="r" b="b"/>
            <a:pathLst>
              <a:path w="190500" h="169545">
                <a:moveTo>
                  <a:pt x="0" y="169163"/>
                </a:moveTo>
                <a:lnTo>
                  <a:pt x="190500" y="169163"/>
                </a:lnTo>
                <a:lnTo>
                  <a:pt x="19050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96"/>
          <p:cNvSpPr/>
          <p:nvPr/>
        </p:nvSpPr>
        <p:spPr>
          <a:xfrm>
            <a:off x="5410080" y="3389400"/>
            <a:ext cx="216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97"/>
          <p:cNvSpPr/>
          <p:nvPr/>
        </p:nvSpPr>
        <p:spPr>
          <a:xfrm>
            <a:off x="763560" y="3691080"/>
            <a:ext cx="303120" cy="169560"/>
          </a:xfrm>
          <a:custGeom>
            <a:avLst/>
            <a:gdLst/>
            <a:ahLst/>
            <a:rect l="l" t="t" r="r" b="b"/>
            <a:pathLst>
              <a:path w="303530" h="169545">
                <a:moveTo>
                  <a:pt x="0" y="169163"/>
                </a:moveTo>
                <a:lnTo>
                  <a:pt x="303276" y="169163"/>
                </a:lnTo>
                <a:lnTo>
                  <a:pt x="3032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98"/>
          <p:cNvSpPr/>
          <p:nvPr/>
        </p:nvSpPr>
        <p:spPr>
          <a:xfrm>
            <a:off x="1066680" y="3691080"/>
            <a:ext cx="1716120" cy="169560"/>
          </a:xfrm>
          <a:custGeom>
            <a:avLst/>
            <a:gdLst/>
            <a:ahLst/>
            <a:rect l="l" t="t" r="r" b="b"/>
            <a:pathLst>
              <a:path w="1716405" h="169545">
                <a:moveTo>
                  <a:pt x="0" y="169163"/>
                </a:moveTo>
                <a:lnTo>
                  <a:pt x="1716024" y="169163"/>
                </a:lnTo>
                <a:lnTo>
                  <a:pt x="1716024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99"/>
          <p:cNvSpPr/>
          <p:nvPr/>
        </p:nvSpPr>
        <p:spPr>
          <a:xfrm>
            <a:off x="1054080" y="3662280"/>
            <a:ext cx="1741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нтгенографий на пленке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100"/>
          <p:cNvSpPr/>
          <p:nvPr/>
        </p:nvSpPr>
        <p:spPr>
          <a:xfrm>
            <a:off x="5516640" y="3691080"/>
            <a:ext cx="360" cy="169560"/>
          </a:xfrm>
          <a:custGeom>
            <a:avLst/>
            <a:gdLst/>
            <a:ahLst/>
            <a:rect l="l" t="t" r="r" b="b"/>
            <a:pathLst>
              <a:path w="0" h="169545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101"/>
          <p:cNvSpPr/>
          <p:nvPr/>
        </p:nvSpPr>
        <p:spPr>
          <a:xfrm>
            <a:off x="5467320" y="366228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102"/>
          <p:cNvSpPr/>
          <p:nvPr/>
        </p:nvSpPr>
        <p:spPr>
          <a:xfrm>
            <a:off x="763560" y="3875040"/>
            <a:ext cx="303120" cy="168480"/>
          </a:xfrm>
          <a:custGeom>
            <a:avLst/>
            <a:gdLst/>
            <a:ahLst/>
            <a:rect l="l" t="t" r="r" b="b"/>
            <a:pathLst>
              <a:path w="303530" h="169545">
                <a:moveTo>
                  <a:pt x="0" y="169163"/>
                </a:moveTo>
                <a:lnTo>
                  <a:pt x="303276" y="169163"/>
                </a:lnTo>
                <a:lnTo>
                  <a:pt x="30327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103"/>
          <p:cNvSpPr/>
          <p:nvPr/>
        </p:nvSpPr>
        <p:spPr>
          <a:xfrm>
            <a:off x="1066680" y="3875040"/>
            <a:ext cx="2698920" cy="168480"/>
          </a:xfrm>
          <a:custGeom>
            <a:avLst/>
            <a:gdLst/>
            <a:ahLst/>
            <a:rect l="l" t="t" r="r" b="b"/>
            <a:pathLst>
              <a:path w="2699385" h="169545">
                <a:moveTo>
                  <a:pt x="0" y="169163"/>
                </a:moveTo>
                <a:lnTo>
                  <a:pt x="2699004" y="169163"/>
                </a:lnTo>
                <a:lnTo>
                  <a:pt x="2699004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104"/>
          <p:cNvSpPr/>
          <p:nvPr/>
        </p:nvSpPr>
        <p:spPr>
          <a:xfrm>
            <a:off x="1054080" y="3846600"/>
            <a:ext cx="268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зкодозных компьютерных томографи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105"/>
          <p:cNvSpPr/>
          <p:nvPr/>
        </p:nvSpPr>
        <p:spPr>
          <a:xfrm>
            <a:off x="5516640" y="3875040"/>
            <a:ext cx="360" cy="168480"/>
          </a:xfrm>
          <a:custGeom>
            <a:avLst/>
            <a:gdLst/>
            <a:ahLst/>
            <a:rect l="l" t="t" r="r" b="b"/>
            <a:pathLst>
              <a:path w="0" h="169545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106"/>
          <p:cNvSpPr/>
          <p:nvPr/>
        </p:nvSpPr>
        <p:spPr>
          <a:xfrm>
            <a:off x="5467320" y="384660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107"/>
          <p:cNvSpPr/>
          <p:nvPr/>
        </p:nvSpPr>
        <p:spPr>
          <a:xfrm>
            <a:off x="6961320" y="3875040"/>
            <a:ext cx="110880" cy="168480"/>
          </a:xfrm>
          <a:custGeom>
            <a:avLst/>
            <a:gdLst/>
            <a:ahLst/>
            <a:rect l="l" t="t" r="r" b="b"/>
            <a:pathLst>
              <a:path w="109854" h="169545">
                <a:moveTo>
                  <a:pt x="0" y="169163"/>
                </a:moveTo>
                <a:lnTo>
                  <a:pt x="109727" y="169163"/>
                </a:lnTo>
                <a:lnTo>
                  <a:pt x="109727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108"/>
          <p:cNvSpPr/>
          <p:nvPr/>
        </p:nvSpPr>
        <p:spPr>
          <a:xfrm>
            <a:off x="6950160" y="3846600"/>
            <a:ext cx="136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109"/>
          <p:cNvSpPr/>
          <p:nvPr/>
        </p:nvSpPr>
        <p:spPr>
          <a:xfrm>
            <a:off x="655560" y="4057560"/>
            <a:ext cx="4313160" cy="169920"/>
          </a:xfrm>
          <a:custGeom>
            <a:avLst/>
            <a:gdLst/>
            <a:ahLst/>
            <a:rect l="l" t="t" r="r" b="b"/>
            <a:pathLst>
              <a:path w="4312920" h="169545">
                <a:moveTo>
                  <a:pt x="0" y="169163"/>
                </a:moveTo>
                <a:lnTo>
                  <a:pt x="4312920" y="169163"/>
                </a:lnTo>
                <a:lnTo>
                  <a:pt x="431292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110"/>
          <p:cNvSpPr/>
          <p:nvPr/>
        </p:nvSpPr>
        <p:spPr>
          <a:xfrm>
            <a:off x="642960" y="4029120"/>
            <a:ext cx="4297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исло рентгеновских профилактических исследований молочны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111"/>
          <p:cNvSpPr/>
          <p:nvPr/>
        </p:nvSpPr>
        <p:spPr>
          <a:xfrm>
            <a:off x="655560" y="4240080"/>
            <a:ext cx="376200" cy="169920"/>
          </a:xfrm>
          <a:custGeom>
            <a:avLst/>
            <a:gdLst/>
            <a:ahLst/>
            <a:rect l="l" t="t" r="r" b="b"/>
            <a:pathLst>
              <a:path w="376555" h="169545">
                <a:moveTo>
                  <a:pt x="0" y="169163"/>
                </a:moveTo>
                <a:lnTo>
                  <a:pt x="376428" y="169163"/>
                </a:lnTo>
                <a:lnTo>
                  <a:pt x="376428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112"/>
          <p:cNvSpPr/>
          <p:nvPr/>
        </p:nvSpPr>
        <p:spPr>
          <a:xfrm>
            <a:off x="642960" y="4211640"/>
            <a:ext cx="401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113"/>
          <p:cNvSpPr/>
          <p:nvPr/>
        </p:nvSpPr>
        <p:spPr>
          <a:xfrm>
            <a:off x="5516640" y="4148280"/>
            <a:ext cx="360" cy="169560"/>
          </a:xfrm>
          <a:custGeom>
            <a:avLst/>
            <a:gdLst/>
            <a:ahLst/>
            <a:rect l="l" t="t" r="r" b="b"/>
            <a:pathLst>
              <a:path w="0" h="169545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114"/>
          <p:cNvSpPr/>
          <p:nvPr/>
        </p:nvSpPr>
        <p:spPr>
          <a:xfrm>
            <a:off x="5467320" y="4119480"/>
            <a:ext cx="10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115"/>
          <p:cNvSpPr/>
          <p:nvPr/>
        </p:nvSpPr>
        <p:spPr>
          <a:xfrm>
            <a:off x="6961320" y="4240080"/>
            <a:ext cx="110880" cy="169920"/>
          </a:xfrm>
          <a:custGeom>
            <a:avLst/>
            <a:gdLst/>
            <a:ahLst/>
            <a:rect l="l" t="t" r="r" b="b"/>
            <a:pathLst>
              <a:path w="109854" h="169545">
                <a:moveTo>
                  <a:pt x="0" y="169163"/>
                </a:moveTo>
                <a:lnTo>
                  <a:pt x="109727" y="169163"/>
                </a:lnTo>
                <a:lnTo>
                  <a:pt x="109727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116"/>
          <p:cNvSpPr/>
          <p:nvPr/>
        </p:nvSpPr>
        <p:spPr>
          <a:xfrm>
            <a:off x="6950160" y="4211640"/>
            <a:ext cx="136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117"/>
          <p:cNvSpPr/>
          <p:nvPr/>
        </p:nvSpPr>
        <p:spPr>
          <a:xfrm>
            <a:off x="835200" y="4422600"/>
            <a:ext cx="2914560" cy="169920"/>
          </a:xfrm>
          <a:custGeom>
            <a:avLst/>
            <a:gdLst/>
            <a:ahLst/>
            <a:rect l="l" t="t" r="r" b="b"/>
            <a:pathLst>
              <a:path w="2914015" h="169545">
                <a:moveTo>
                  <a:pt x="0" y="169164"/>
                </a:moveTo>
                <a:lnTo>
                  <a:pt x="2913888" y="169164"/>
                </a:lnTo>
                <a:lnTo>
                  <a:pt x="2913888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118"/>
          <p:cNvSpPr/>
          <p:nvPr/>
        </p:nvSpPr>
        <p:spPr>
          <a:xfrm>
            <a:off x="822240" y="4394160"/>
            <a:ext cx="29354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 выполнено: на пленочных аппарата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119"/>
          <p:cNvSpPr/>
          <p:nvPr/>
        </p:nvSpPr>
        <p:spPr>
          <a:xfrm>
            <a:off x="5423040" y="4422600"/>
            <a:ext cx="190440" cy="169920"/>
          </a:xfrm>
          <a:custGeom>
            <a:avLst/>
            <a:gdLst/>
            <a:ahLst/>
            <a:rect l="l" t="t" r="r" b="b"/>
            <a:pathLst>
              <a:path w="190500" h="169545">
                <a:moveTo>
                  <a:pt x="0" y="169164"/>
                </a:moveTo>
                <a:lnTo>
                  <a:pt x="190500" y="169164"/>
                </a:lnTo>
                <a:lnTo>
                  <a:pt x="190500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120"/>
          <p:cNvSpPr/>
          <p:nvPr/>
        </p:nvSpPr>
        <p:spPr>
          <a:xfrm>
            <a:off x="5410080" y="4394160"/>
            <a:ext cx="216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121"/>
          <p:cNvSpPr/>
          <p:nvPr/>
        </p:nvSpPr>
        <p:spPr>
          <a:xfrm>
            <a:off x="6961320" y="4422600"/>
            <a:ext cx="110880" cy="169920"/>
          </a:xfrm>
          <a:custGeom>
            <a:avLst/>
            <a:gdLst/>
            <a:ahLst/>
            <a:rect l="l" t="t" r="r" b="b"/>
            <a:pathLst>
              <a:path w="109854" h="169545">
                <a:moveTo>
                  <a:pt x="0" y="169164"/>
                </a:moveTo>
                <a:lnTo>
                  <a:pt x="109727" y="169164"/>
                </a:lnTo>
                <a:lnTo>
                  <a:pt x="109727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122"/>
          <p:cNvSpPr/>
          <p:nvPr/>
        </p:nvSpPr>
        <p:spPr>
          <a:xfrm>
            <a:off x="6950160" y="4394160"/>
            <a:ext cx="136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123"/>
          <p:cNvSpPr/>
          <p:nvPr/>
        </p:nvSpPr>
        <p:spPr>
          <a:xfrm>
            <a:off x="835200" y="4605480"/>
            <a:ext cx="1331640" cy="169560"/>
          </a:xfrm>
          <a:custGeom>
            <a:avLst/>
            <a:gdLst/>
            <a:ahLst/>
            <a:rect l="l" t="t" r="r" b="b"/>
            <a:pathLst>
              <a:path w="1332230" h="169545">
                <a:moveTo>
                  <a:pt x="0" y="169163"/>
                </a:moveTo>
                <a:lnTo>
                  <a:pt x="1331975" y="169163"/>
                </a:lnTo>
                <a:lnTo>
                  <a:pt x="1331975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bject 124"/>
          <p:cNvSpPr/>
          <p:nvPr/>
        </p:nvSpPr>
        <p:spPr>
          <a:xfrm>
            <a:off x="2166840" y="4605480"/>
            <a:ext cx="2422800" cy="169560"/>
          </a:xfrm>
          <a:custGeom>
            <a:avLst/>
            <a:gdLst/>
            <a:ahLst/>
            <a:rect l="l" t="t" r="r" b="b"/>
            <a:pathLst>
              <a:path w="2421890" h="169545">
                <a:moveTo>
                  <a:pt x="0" y="169163"/>
                </a:moveTo>
                <a:lnTo>
                  <a:pt x="2421636" y="169163"/>
                </a:lnTo>
                <a:lnTo>
                  <a:pt x="242163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ject 125"/>
          <p:cNvSpPr/>
          <p:nvPr/>
        </p:nvSpPr>
        <p:spPr>
          <a:xfrm>
            <a:off x="2155680" y="4578480"/>
            <a:ext cx="24069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цифровых аппаратах и аппаратах,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ject 126"/>
          <p:cNvSpPr/>
          <p:nvPr/>
        </p:nvSpPr>
        <p:spPr>
          <a:xfrm>
            <a:off x="4608360" y="4605480"/>
            <a:ext cx="360" cy="169560"/>
          </a:xfrm>
          <a:custGeom>
            <a:avLst/>
            <a:gdLst/>
            <a:ahLst/>
            <a:rect l="l" t="t" r="r" b="b"/>
            <a:pathLst>
              <a:path w="0" h="169545">
                <a:moveTo>
                  <a:pt x="0" y="0"/>
                </a:moveTo>
                <a:lnTo>
                  <a:pt x="0" y="169163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127"/>
          <p:cNvSpPr/>
          <p:nvPr/>
        </p:nvSpPr>
        <p:spPr>
          <a:xfrm>
            <a:off x="835200" y="4789440"/>
            <a:ext cx="1331640" cy="168480"/>
          </a:xfrm>
          <a:custGeom>
            <a:avLst/>
            <a:gdLst/>
            <a:ahLst/>
            <a:rect l="l" t="t" r="r" b="b"/>
            <a:pathLst>
              <a:path w="1332230" h="169545">
                <a:moveTo>
                  <a:pt x="0" y="169163"/>
                </a:moveTo>
                <a:lnTo>
                  <a:pt x="1331975" y="169163"/>
                </a:lnTo>
                <a:lnTo>
                  <a:pt x="1331975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bject 128"/>
          <p:cNvSpPr/>
          <p:nvPr/>
        </p:nvSpPr>
        <p:spPr>
          <a:xfrm>
            <a:off x="2166840" y="4789440"/>
            <a:ext cx="863640" cy="168480"/>
          </a:xfrm>
          <a:custGeom>
            <a:avLst/>
            <a:gdLst/>
            <a:ahLst/>
            <a:rect l="l" t="t" r="r" b="b"/>
            <a:pathLst>
              <a:path w="862964" h="169545">
                <a:moveTo>
                  <a:pt x="0" y="169163"/>
                </a:moveTo>
                <a:lnTo>
                  <a:pt x="862583" y="169163"/>
                </a:lnTo>
                <a:lnTo>
                  <a:pt x="862583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ject 129"/>
          <p:cNvSpPr/>
          <p:nvPr/>
        </p:nvSpPr>
        <p:spPr>
          <a:xfrm>
            <a:off x="3030480" y="4789440"/>
            <a:ext cx="604800" cy="168480"/>
          </a:xfrm>
          <a:custGeom>
            <a:avLst/>
            <a:gdLst/>
            <a:ahLst/>
            <a:rect l="l" t="t" r="r" b="b"/>
            <a:pathLst>
              <a:path w="605154" h="169545">
                <a:moveTo>
                  <a:pt x="0" y="169163"/>
                </a:moveTo>
                <a:lnTo>
                  <a:pt x="605027" y="169163"/>
                </a:lnTo>
                <a:lnTo>
                  <a:pt x="605027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ject 130"/>
          <p:cNvSpPr/>
          <p:nvPr/>
        </p:nvSpPr>
        <p:spPr>
          <a:xfrm>
            <a:off x="2155680" y="4761000"/>
            <a:ext cx="1492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ащенных системо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ject 131"/>
          <p:cNvSpPr/>
          <p:nvPr/>
        </p:nvSpPr>
        <p:spPr>
          <a:xfrm>
            <a:off x="835200" y="4971960"/>
            <a:ext cx="1331640" cy="169920"/>
          </a:xfrm>
          <a:custGeom>
            <a:avLst/>
            <a:gdLst/>
            <a:ahLst/>
            <a:rect l="l" t="t" r="r" b="b"/>
            <a:pathLst>
              <a:path w="1332230" h="169545">
                <a:moveTo>
                  <a:pt x="0" y="169163"/>
                </a:moveTo>
                <a:lnTo>
                  <a:pt x="1331975" y="169163"/>
                </a:lnTo>
                <a:lnTo>
                  <a:pt x="1331975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ject 132"/>
          <p:cNvSpPr/>
          <p:nvPr/>
        </p:nvSpPr>
        <p:spPr>
          <a:xfrm>
            <a:off x="2166840" y="4971960"/>
            <a:ext cx="1909800" cy="169920"/>
          </a:xfrm>
          <a:custGeom>
            <a:avLst/>
            <a:gdLst/>
            <a:ahLst/>
            <a:rect l="l" t="t" r="r" b="b"/>
            <a:pathLst>
              <a:path w="1910079" h="169545">
                <a:moveTo>
                  <a:pt x="0" y="169163"/>
                </a:moveTo>
                <a:lnTo>
                  <a:pt x="1909571" y="169163"/>
                </a:lnTo>
                <a:lnTo>
                  <a:pt x="1909571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ject 133"/>
          <p:cNvSpPr/>
          <p:nvPr/>
        </p:nvSpPr>
        <p:spPr>
          <a:xfrm>
            <a:off x="2155680" y="4943520"/>
            <a:ext cx="1860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ой радиографии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ject 134"/>
          <p:cNvSpPr/>
          <p:nvPr/>
        </p:nvSpPr>
        <p:spPr>
          <a:xfrm>
            <a:off x="5423040" y="4789440"/>
            <a:ext cx="190440" cy="168480"/>
          </a:xfrm>
          <a:custGeom>
            <a:avLst/>
            <a:gdLst/>
            <a:ahLst/>
            <a:rect l="l" t="t" r="r" b="b"/>
            <a:pathLst>
              <a:path w="190500" h="169545">
                <a:moveTo>
                  <a:pt x="0" y="169163"/>
                </a:moveTo>
                <a:lnTo>
                  <a:pt x="190500" y="169163"/>
                </a:lnTo>
                <a:lnTo>
                  <a:pt x="19050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ject 135"/>
          <p:cNvSpPr/>
          <p:nvPr/>
        </p:nvSpPr>
        <p:spPr>
          <a:xfrm>
            <a:off x="5410080" y="4761000"/>
            <a:ext cx="216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ject 136"/>
          <p:cNvSpPr/>
          <p:nvPr/>
        </p:nvSpPr>
        <p:spPr>
          <a:xfrm>
            <a:off x="6961320" y="4971960"/>
            <a:ext cx="110880" cy="169920"/>
          </a:xfrm>
          <a:custGeom>
            <a:avLst/>
            <a:gdLst/>
            <a:ahLst/>
            <a:rect l="l" t="t" r="r" b="b"/>
            <a:pathLst>
              <a:path w="109854" h="169545">
                <a:moveTo>
                  <a:pt x="0" y="169163"/>
                </a:moveTo>
                <a:lnTo>
                  <a:pt x="109727" y="169163"/>
                </a:lnTo>
                <a:lnTo>
                  <a:pt x="109727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bject 137"/>
          <p:cNvSpPr/>
          <p:nvPr/>
        </p:nvSpPr>
        <p:spPr>
          <a:xfrm>
            <a:off x="6950160" y="4943520"/>
            <a:ext cx="136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ject 138"/>
          <p:cNvSpPr/>
          <p:nvPr/>
        </p:nvSpPr>
        <p:spPr>
          <a:xfrm>
            <a:off x="835200" y="5154480"/>
            <a:ext cx="1331640" cy="169920"/>
          </a:xfrm>
          <a:custGeom>
            <a:avLst/>
            <a:gdLst/>
            <a:ahLst/>
            <a:rect l="l" t="t" r="r" b="b"/>
            <a:pathLst>
              <a:path w="1332230" h="169545">
                <a:moveTo>
                  <a:pt x="0" y="169163"/>
                </a:moveTo>
                <a:lnTo>
                  <a:pt x="1331975" y="169163"/>
                </a:lnTo>
                <a:lnTo>
                  <a:pt x="1331975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139"/>
          <p:cNvSpPr/>
          <p:nvPr/>
        </p:nvSpPr>
        <p:spPr>
          <a:xfrm>
            <a:off x="2166840" y="5154480"/>
            <a:ext cx="1112760" cy="169920"/>
          </a:xfrm>
          <a:custGeom>
            <a:avLst/>
            <a:gdLst/>
            <a:ahLst/>
            <a:rect l="l" t="t" r="r" b="b"/>
            <a:pathLst>
              <a:path w="1112520" h="169545">
                <a:moveTo>
                  <a:pt x="0" y="169163"/>
                </a:moveTo>
                <a:lnTo>
                  <a:pt x="1112520" y="169163"/>
                </a:lnTo>
                <a:lnTo>
                  <a:pt x="111252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140"/>
          <p:cNvSpPr/>
          <p:nvPr/>
        </p:nvSpPr>
        <p:spPr>
          <a:xfrm>
            <a:off x="3279600" y="5154480"/>
            <a:ext cx="1265400" cy="169920"/>
          </a:xfrm>
          <a:custGeom>
            <a:avLst/>
            <a:gdLst/>
            <a:ahLst/>
            <a:rect l="l" t="t" r="r" b="b"/>
            <a:pathLst>
              <a:path w="1264920" h="169545">
                <a:moveTo>
                  <a:pt x="0" y="169163"/>
                </a:moveTo>
                <a:lnTo>
                  <a:pt x="1264920" y="169163"/>
                </a:lnTo>
                <a:lnTo>
                  <a:pt x="126492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141"/>
          <p:cNvSpPr/>
          <p:nvPr/>
        </p:nvSpPr>
        <p:spPr>
          <a:xfrm>
            <a:off x="2155680" y="5126040"/>
            <a:ext cx="24004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ередвижных маммографически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142"/>
          <p:cNvSpPr/>
          <p:nvPr/>
        </p:nvSpPr>
        <p:spPr>
          <a:xfrm>
            <a:off x="4545000" y="5154480"/>
            <a:ext cx="41400" cy="169920"/>
          </a:xfrm>
          <a:custGeom>
            <a:avLst/>
            <a:gdLst/>
            <a:ahLst/>
            <a:rect l="l" t="t" r="r" b="b"/>
            <a:pathLst>
              <a:path w="41275" h="169545">
                <a:moveTo>
                  <a:pt x="0" y="169163"/>
                </a:moveTo>
                <a:lnTo>
                  <a:pt x="41148" y="169163"/>
                </a:lnTo>
                <a:lnTo>
                  <a:pt x="41148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143"/>
          <p:cNvSpPr/>
          <p:nvPr/>
        </p:nvSpPr>
        <p:spPr>
          <a:xfrm>
            <a:off x="4586400" y="5154480"/>
            <a:ext cx="38160" cy="169920"/>
          </a:xfrm>
          <a:custGeom>
            <a:avLst/>
            <a:gdLst/>
            <a:ahLst/>
            <a:rect l="l" t="t" r="r" b="b"/>
            <a:pathLst>
              <a:path w="38100" h="169545">
                <a:moveTo>
                  <a:pt x="0" y="169163"/>
                </a:moveTo>
                <a:lnTo>
                  <a:pt x="38100" y="169163"/>
                </a:lnTo>
                <a:lnTo>
                  <a:pt x="3810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ject 144"/>
          <p:cNvSpPr/>
          <p:nvPr/>
        </p:nvSpPr>
        <p:spPr>
          <a:xfrm>
            <a:off x="835200" y="5337000"/>
            <a:ext cx="1331640" cy="169920"/>
          </a:xfrm>
          <a:custGeom>
            <a:avLst/>
            <a:gdLst/>
            <a:ahLst/>
            <a:rect l="l" t="t" r="r" b="b"/>
            <a:pathLst>
              <a:path w="1332230" h="169545">
                <a:moveTo>
                  <a:pt x="0" y="169164"/>
                </a:moveTo>
                <a:lnTo>
                  <a:pt x="1331975" y="169164"/>
                </a:lnTo>
                <a:lnTo>
                  <a:pt x="1331975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ject 145"/>
          <p:cNvSpPr/>
          <p:nvPr/>
        </p:nvSpPr>
        <p:spPr>
          <a:xfrm>
            <a:off x="2166840" y="5337000"/>
            <a:ext cx="765360" cy="169920"/>
          </a:xfrm>
          <a:custGeom>
            <a:avLst/>
            <a:gdLst/>
            <a:ahLst/>
            <a:rect l="l" t="t" r="r" b="b"/>
            <a:pathLst>
              <a:path w="765175" h="169545">
                <a:moveTo>
                  <a:pt x="0" y="169164"/>
                </a:moveTo>
                <a:lnTo>
                  <a:pt x="765048" y="169164"/>
                </a:lnTo>
                <a:lnTo>
                  <a:pt x="765048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ject 146"/>
          <p:cNvSpPr/>
          <p:nvPr/>
        </p:nvSpPr>
        <p:spPr>
          <a:xfrm>
            <a:off x="2155680" y="5308560"/>
            <a:ext cx="747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новка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ject 147"/>
          <p:cNvSpPr/>
          <p:nvPr/>
        </p:nvSpPr>
        <p:spPr>
          <a:xfrm>
            <a:off x="5423040" y="5246640"/>
            <a:ext cx="190440" cy="168480"/>
          </a:xfrm>
          <a:custGeom>
            <a:avLst/>
            <a:gdLst/>
            <a:ahLst/>
            <a:rect l="l" t="t" r="r" b="b"/>
            <a:pathLst>
              <a:path w="190500" h="169545">
                <a:moveTo>
                  <a:pt x="0" y="169164"/>
                </a:moveTo>
                <a:lnTo>
                  <a:pt x="190500" y="169164"/>
                </a:lnTo>
                <a:lnTo>
                  <a:pt x="190500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148"/>
          <p:cNvSpPr/>
          <p:nvPr/>
        </p:nvSpPr>
        <p:spPr>
          <a:xfrm>
            <a:off x="5410080" y="5218200"/>
            <a:ext cx="216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ject 149"/>
          <p:cNvSpPr/>
          <p:nvPr/>
        </p:nvSpPr>
        <p:spPr>
          <a:xfrm>
            <a:off x="6961320" y="5337000"/>
            <a:ext cx="110880" cy="169920"/>
          </a:xfrm>
          <a:custGeom>
            <a:avLst/>
            <a:gdLst/>
            <a:ahLst/>
            <a:rect l="l" t="t" r="r" b="b"/>
            <a:pathLst>
              <a:path w="109854" h="169545">
                <a:moveTo>
                  <a:pt x="0" y="169164"/>
                </a:moveTo>
                <a:lnTo>
                  <a:pt x="109727" y="169164"/>
                </a:lnTo>
                <a:lnTo>
                  <a:pt x="109727" y="0"/>
                </a:lnTo>
                <a:lnTo>
                  <a:pt x="0" y="0"/>
                </a:lnTo>
                <a:lnTo>
                  <a:pt x="0" y="16916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ject 150"/>
          <p:cNvSpPr/>
          <p:nvPr/>
        </p:nvSpPr>
        <p:spPr>
          <a:xfrm>
            <a:off x="6950160" y="5308560"/>
            <a:ext cx="136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151"/>
          <p:cNvSpPr/>
          <p:nvPr/>
        </p:nvSpPr>
        <p:spPr>
          <a:xfrm>
            <a:off x="835200" y="5519880"/>
            <a:ext cx="1331640" cy="169560"/>
          </a:xfrm>
          <a:custGeom>
            <a:avLst/>
            <a:gdLst/>
            <a:ahLst/>
            <a:rect l="l" t="t" r="r" b="b"/>
            <a:pathLst>
              <a:path w="1332230" h="169545">
                <a:moveTo>
                  <a:pt x="0" y="169163"/>
                </a:moveTo>
                <a:lnTo>
                  <a:pt x="1331975" y="169163"/>
                </a:lnTo>
                <a:lnTo>
                  <a:pt x="1331975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152"/>
          <p:cNvSpPr/>
          <p:nvPr/>
        </p:nvSpPr>
        <p:spPr>
          <a:xfrm>
            <a:off x="2166840" y="5519880"/>
            <a:ext cx="2468520" cy="169560"/>
          </a:xfrm>
          <a:custGeom>
            <a:avLst/>
            <a:gdLst/>
            <a:ahLst/>
            <a:rect l="l" t="t" r="r" b="b"/>
            <a:pathLst>
              <a:path w="2467610" h="169545">
                <a:moveTo>
                  <a:pt x="0" y="169163"/>
                </a:moveTo>
                <a:lnTo>
                  <a:pt x="2467356" y="169163"/>
                </a:lnTo>
                <a:lnTo>
                  <a:pt x="2467356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bject 153"/>
          <p:cNvSpPr/>
          <p:nvPr/>
        </p:nvSpPr>
        <p:spPr>
          <a:xfrm>
            <a:off x="2155680" y="5492880"/>
            <a:ext cx="2490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аппаратах с функцией томосинтеза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bject 154"/>
          <p:cNvSpPr/>
          <p:nvPr/>
        </p:nvSpPr>
        <p:spPr>
          <a:xfrm>
            <a:off x="5423040" y="5519880"/>
            <a:ext cx="190440" cy="169560"/>
          </a:xfrm>
          <a:custGeom>
            <a:avLst/>
            <a:gdLst/>
            <a:ahLst/>
            <a:rect l="l" t="t" r="r" b="b"/>
            <a:pathLst>
              <a:path w="190500" h="169545">
                <a:moveTo>
                  <a:pt x="0" y="169163"/>
                </a:moveTo>
                <a:lnTo>
                  <a:pt x="190500" y="169163"/>
                </a:lnTo>
                <a:lnTo>
                  <a:pt x="190500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bject 155"/>
          <p:cNvSpPr/>
          <p:nvPr/>
        </p:nvSpPr>
        <p:spPr>
          <a:xfrm>
            <a:off x="5410080" y="5492880"/>
            <a:ext cx="2160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bject 156"/>
          <p:cNvSpPr/>
          <p:nvPr/>
        </p:nvSpPr>
        <p:spPr>
          <a:xfrm>
            <a:off x="6961320" y="5519880"/>
            <a:ext cx="110880" cy="169560"/>
          </a:xfrm>
          <a:custGeom>
            <a:avLst/>
            <a:gdLst/>
            <a:ahLst/>
            <a:rect l="l" t="t" r="r" b="b"/>
            <a:pathLst>
              <a:path w="109854" h="169545">
                <a:moveTo>
                  <a:pt x="0" y="169163"/>
                </a:moveTo>
                <a:lnTo>
                  <a:pt x="109727" y="169163"/>
                </a:lnTo>
                <a:lnTo>
                  <a:pt x="109727" y="0"/>
                </a:lnTo>
                <a:lnTo>
                  <a:pt x="0" y="0"/>
                </a:lnTo>
                <a:lnTo>
                  <a:pt x="0" y="16916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157"/>
          <p:cNvSpPr/>
          <p:nvPr/>
        </p:nvSpPr>
        <p:spPr>
          <a:xfrm>
            <a:off x="6950160" y="5492880"/>
            <a:ext cx="1364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158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53"/>
          <p:cNvSpPr/>
          <p:nvPr/>
        </p:nvSpPr>
        <p:spPr>
          <a:xfrm>
            <a:off x="6137280" y="1960560"/>
            <a:ext cx="2759040" cy="12952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суммы граф 4+5 за счет исследований, выполненных пациентам трудоспособного возраст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53"/>
          <p:cNvSpPr/>
          <p:nvPr/>
        </p:nvSpPr>
        <p:spPr>
          <a:xfrm>
            <a:off x="6156360" y="3417840"/>
            <a:ext cx="2759040" cy="17524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троке 3 указываются сведения о цифровых флюорограммах и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ентгенограммах, выполненных на цифровых аппарата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, в том числе передвижных (стр.3.1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53"/>
          <p:cNvSpPr/>
          <p:nvPr/>
        </p:nvSpPr>
        <p:spPr>
          <a:xfrm>
            <a:off x="6100920" y="5232240"/>
            <a:ext cx="2759040" cy="129564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. 6 = стр. 6.1 + стр. 6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. 6 ≥ стр. 6.3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. 6 ≥ стр. 6.4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53"/>
          <p:cNvSpPr/>
          <p:nvPr/>
        </p:nvSpPr>
        <p:spPr>
          <a:xfrm>
            <a:off x="200160" y="5880240"/>
            <a:ext cx="2759040" cy="6570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. 1 = стр. 2 + 3 + 4 + 5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ject 5"/>
          <p:cNvSpPr/>
          <p:nvPr/>
        </p:nvSpPr>
        <p:spPr>
          <a:xfrm>
            <a:off x="684360" y="314784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bject 6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bject 7"/>
          <p:cNvSpPr/>
          <p:nvPr/>
        </p:nvSpPr>
        <p:spPr>
          <a:xfrm>
            <a:off x="684360" y="3757680"/>
            <a:ext cx="360" cy="16488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8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9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10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11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12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13"/>
          <p:cNvSpPr/>
          <p:nvPr/>
        </p:nvSpPr>
        <p:spPr>
          <a:xfrm>
            <a:off x="684360" y="4824360"/>
            <a:ext cx="360" cy="317520"/>
          </a:xfrm>
          <a:custGeom>
            <a:avLst/>
            <a:gdLst/>
            <a:ahLst/>
            <a:rect l="l" t="t" r="r" b="b"/>
            <a:pathLst>
              <a:path w="0" h="317500">
                <a:moveTo>
                  <a:pt x="0" y="0"/>
                </a:moveTo>
                <a:lnTo>
                  <a:pt x="0" y="3169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14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15"/>
          <p:cNvSpPr/>
          <p:nvPr/>
        </p:nvSpPr>
        <p:spPr>
          <a:xfrm>
            <a:off x="684360" y="5433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16"/>
          <p:cNvSpPr/>
          <p:nvPr/>
        </p:nvSpPr>
        <p:spPr>
          <a:xfrm>
            <a:off x="684360" y="5586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17"/>
          <p:cNvSpPr/>
          <p:nvPr/>
        </p:nvSpPr>
        <p:spPr>
          <a:xfrm>
            <a:off x="684360" y="5738760"/>
            <a:ext cx="360" cy="57240"/>
          </a:xfrm>
          <a:custGeom>
            <a:avLst/>
            <a:gdLst/>
            <a:ahLst/>
            <a:rect l="l" t="t" r="r" b="b"/>
            <a:pathLst>
              <a:path w="0" h="58420">
                <a:moveTo>
                  <a:pt x="0" y="0"/>
                </a:moveTo>
                <a:lnTo>
                  <a:pt x="0" y="-768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46440" y="246960"/>
            <a:ext cx="5473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96" name="object 20"/>
          <p:cNvSpPr/>
          <p:nvPr/>
        </p:nvSpPr>
        <p:spPr>
          <a:xfrm>
            <a:off x="2465280" y="936720"/>
            <a:ext cx="43214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5 «Ультразвуковые исследования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21"/>
          <p:cNvSpPr/>
          <p:nvPr/>
        </p:nvSpPr>
        <p:spPr>
          <a:xfrm>
            <a:off x="39387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22"/>
          <p:cNvSpPr/>
          <p:nvPr/>
        </p:nvSpPr>
        <p:spPr>
          <a:xfrm>
            <a:off x="44290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23"/>
          <p:cNvSpPr/>
          <p:nvPr/>
        </p:nvSpPr>
        <p:spPr>
          <a:xfrm>
            <a:off x="518004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24"/>
          <p:cNvSpPr/>
          <p:nvPr/>
        </p:nvSpPr>
        <p:spPr>
          <a:xfrm>
            <a:off x="624348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25"/>
          <p:cNvSpPr/>
          <p:nvPr/>
        </p:nvSpPr>
        <p:spPr>
          <a:xfrm>
            <a:off x="7018200" y="1467000"/>
            <a:ext cx="360" cy="4889520"/>
          </a:xfrm>
          <a:custGeom>
            <a:avLst/>
            <a:gdLst/>
            <a:ahLst/>
            <a:rect l="l" t="t" r="r" b="b"/>
            <a:pathLst>
              <a:path w="0" h="4889500">
                <a:moveTo>
                  <a:pt x="0" y="0"/>
                </a:moveTo>
                <a:lnTo>
                  <a:pt x="0" y="48895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26"/>
          <p:cNvSpPr/>
          <p:nvPr/>
        </p:nvSpPr>
        <p:spPr>
          <a:xfrm>
            <a:off x="779148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27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bject 28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29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30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bject 31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32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ject 33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bject 34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bject 35"/>
          <p:cNvSpPr/>
          <p:nvPr/>
        </p:nvSpPr>
        <p:spPr>
          <a:xfrm>
            <a:off x="461880" y="3759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bject 36"/>
          <p:cNvSpPr/>
          <p:nvPr/>
        </p:nvSpPr>
        <p:spPr>
          <a:xfrm>
            <a:off x="461880" y="3911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37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bject 38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ject 39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ject 40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bject 41"/>
          <p:cNvSpPr/>
          <p:nvPr/>
        </p:nvSpPr>
        <p:spPr>
          <a:xfrm>
            <a:off x="461880" y="4978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42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bject 43"/>
          <p:cNvSpPr/>
          <p:nvPr/>
        </p:nvSpPr>
        <p:spPr>
          <a:xfrm>
            <a:off x="461880" y="5587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ject 44"/>
          <p:cNvSpPr/>
          <p:nvPr/>
        </p:nvSpPr>
        <p:spPr>
          <a:xfrm>
            <a:off x="461880" y="5740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bject 45"/>
          <p:cNvSpPr/>
          <p:nvPr/>
        </p:nvSpPr>
        <p:spPr>
          <a:xfrm>
            <a:off x="461880" y="5892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bject 46"/>
          <p:cNvSpPr/>
          <p:nvPr/>
        </p:nvSpPr>
        <p:spPr>
          <a:xfrm>
            <a:off x="461880" y="60451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47"/>
          <p:cNvSpPr/>
          <p:nvPr/>
        </p:nvSpPr>
        <p:spPr>
          <a:xfrm>
            <a:off x="461880" y="61977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bject 48"/>
          <p:cNvSpPr/>
          <p:nvPr/>
        </p:nvSpPr>
        <p:spPr>
          <a:xfrm>
            <a:off x="46836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bject 49"/>
          <p:cNvSpPr/>
          <p:nvPr/>
        </p:nvSpPr>
        <p:spPr>
          <a:xfrm>
            <a:off x="8748720" y="1390680"/>
            <a:ext cx="360" cy="4967280"/>
          </a:xfrm>
          <a:custGeom>
            <a:avLst/>
            <a:gdLst/>
            <a:ahLst/>
            <a:rect l="l" t="t" r="r" b="b"/>
            <a:pathLst>
              <a:path w="0" h="4966970">
                <a:moveTo>
                  <a:pt x="0" y="0"/>
                </a:moveTo>
                <a:lnTo>
                  <a:pt x="0" y="49664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bject 50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bject 51"/>
          <p:cNvSpPr/>
          <p:nvPr/>
        </p:nvSpPr>
        <p:spPr>
          <a:xfrm>
            <a:off x="461880" y="6350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52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bject 53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bject 54"/>
          <p:cNvSpPr/>
          <p:nvPr/>
        </p:nvSpPr>
        <p:spPr>
          <a:xfrm>
            <a:off x="3998880" y="1978200"/>
            <a:ext cx="38088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ject 55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bject 56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57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1" i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ject 58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ject 59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bject 60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61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62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63"/>
          <p:cNvSpPr/>
          <p:nvPr/>
        </p:nvSpPr>
        <p:spPr>
          <a:xfrm>
            <a:off x="7858080" y="1876320"/>
            <a:ext cx="8272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64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65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66"/>
          <p:cNvSpPr/>
          <p:nvPr/>
        </p:nvSpPr>
        <p:spPr>
          <a:xfrm>
            <a:off x="7996320" y="2028960"/>
            <a:ext cx="552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67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68"/>
          <p:cNvSpPr/>
          <p:nvPr/>
        </p:nvSpPr>
        <p:spPr>
          <a:xfrm>
            <a:off x="7900920" y="2206800"/>
            <a:ext cx="81144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69"/>
          <p:cNvSpPr/>
          <p:nvPr/>
        </p:nvSpPr>
        <p:spPr>
          <a:xfrm>
            <a:off x="7900920" y="2359080"/>
            <a:ext cx="75096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70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71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72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73"/>
          <p:cNvSpPr/>
          <p:nvPr/>
        </p:nvSpPr>
        <p:spPr>
          <a:xfrm>
            <a:off x="5253120" y="1609560"/>
            <a:ext cx="9190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1" name="object 75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76"/>
          <p:cNvSpPr/>
          <p:nvPr/>
        </p:nvSpPr>
        <p:spPr>
          <a:xfrm>
            <a:off x="5308560" y="2219400"/>
            <a:ext cx="806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77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78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79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80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81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82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83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84"/>
          <p:cNvSpPr/>
          <p:nvPr/>
        </p:nvSpPr>
        <p:spPr>
          <a:xfrm>
            <a:off x="6313320" y="2066760"/>
            <a:ext cx="635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85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86"/>
          <p:cNvSpPr/>
          <p:nvPr/>
        </p:nvSpPr>
        <p:spPr>
          <a:xfrm>
            <a:off x="7095960" y="1533600"/>
            <a:ext cx="6177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87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88"/>
          <p:cNvSpPr/>
          <p:nvPr/>
        </p:nvSpPr>
        <p:spPr>
          <a:xfrm>
            <a:off x="7048440" y="1685880"/>
            <a:ext cx="716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89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90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91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92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bject 93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94"/>
          <p:cNvSpPr/>
          <p:nvPr/>
        </p:nvSpPr>
        <p:spPr>
          <a:xfrm>
            <a:off x="7051680" y="1838160"/>
            <a:ext cx="709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95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96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97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bject 98"/>
          <p:cNvSpPr/>
          <p:nvPr/>
        </p:nvSpPr>
        <p:spPr>
          <a:xfrm>
            <a:off x="7078680" y="1990800"/>
            <a:ext cx="655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ject 99"/>
          <p:cNvSpPr/>
          <p:nvPr/>
        </p:nvSpPr>
        <p:spPr>
          <a:xfrm>
            <a:off x="7116840" y="2168640"/>
            <a:ext cx="60804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bject 100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bject 101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102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bject 103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bject 104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bject 105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106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107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108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109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110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111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112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113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bject 114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bject 115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bject 116"/>
          <p:cNvSpPr/>
          <p:nvPr/>
        </p:nvSpPr>
        <p:spPr>
          <a:xfrm>
            <a:off x="501480" y="2701800"/>
            <a:ext cx="2060640" cy="141480"/>
          </a:xfrm>
          <a:custGeom>
            <a:avLst/>
            <a:gdLst/>
            <a:ahLst/>
            <a:rect l="l" t="t" r="r" b="b"/>
            <a:pathLst>
              <a:path w="2060575" h="140335">
                <a:moveTo>
                  <a:pt x="0" y="140208"/>
                </a:moveTo>
                <a:lnTo>
                  <a:pt x="2060448" y="140208"/>
                </a:lnTo>
                <a:lnTo>
                  <a:pt x="2060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bject 117"/>
          <p:cNvSpPr/>
          <p:nvPr/>
        </p:nvSpPr>
        <p:spPr>
          <a:xfrm>
            <a:off x="2562120" y="2701800"/>
            <a:ext cx="41400" cy="141480"/>
          </a:xfrm>
          <a:custGeom>
            <a:avLst/>
            <a:gdLst/>
            <a:ahLst/>
            <a:rect l="l" t="t" r="r" b="b"/>
            <a:pathLst>
              <a:path w="41275" h="140335">
                <a:moveTo>
                  <a:pt x="0" y="140208"/>
                </a:moveTo>
                <a:lnTo>
                  <a:pt x="41148" y="140208"/>
                </a:lnTo>
                <a:lnTo>
                  <a:pt x="411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bject 118"/>
          <p:cNvSpPr/>
          <p:nvPr/>
        </p:nvSpPr>
        <p:spPr>
          <a:xfrm>
            <a:off x="2603520" y="2701800"/>
            <a:ext cx="33480" cy="141480"/>
          </a:xfrm>
          <a:custGeom>
            <a:avLst/>
            <a:gdLst/>
            <a:ahLst/>
            <a:rect l="l" t="t" r="r" b="b"/>
            <a:pathLst>
              <a:path w="33655" h="140335">
                <a:moveTo>
                  <a:pt x="0" y="140208"/>
                </a:moveTo>
                <a:lnTo>
                  <a:pt x="33527" y="140208"/>
                </a:lnTo>
                <a:lnTo>
                  <a:pt x="335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bject 119"/>
          <p:cNvSpPr/>
          <p:nvPr/>
        </p:nvSpPr>
        <p:spPr>
          <a:xfrm>
            <a:off x="2637000" y="2701800"/>
            <a:ext cx="288720" cy="141480"/>
          </a:xfrm>
          <a:custGeom>
            <a:avLst/>
            <a:gdLst/>
            <a:ahLst/>
            <a:rect l="l" t="t" r="r" b="b"/>
            <a:pathLst>
              <a:path w="288289" h="140335">
                <a:moveTo>
                  <a:pt x="0" y="140208"/>
                </a:moveTo>
                <a:lnTo>
                  <a:pt x="288036" y="140208"/>
                </a:lnTo>
                <a:lnTo>
                  <a:pt x="2880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bject 120"/>
          <p:cNvSpPr/>
          <p:nvPr/>
        </p:nvSpPr>
        <p:spPr>
          <a:xfrm>
            <a:off x="488880" y="2676600"/>
            <a:ext cx="24480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ые исследования (УЗИ) - все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bject 121"/>
          <p:cNvSpPr/>
          <p:nvPr/>
        </p:nvSpPr>
        <p:spPr>
          <a:xfrm>
            <a:off x="4183200" y="27018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bject 122"/>
          <p:cNvSpPr/>
          <p:nvPr/>
        </p:nvSpPr>
        <p:spPr>
          <a:xfrm>
            <a:off x="4140360" y="26766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ject 123"/>
          <p:cNvSpPr/>
          <p:nvPr/>
        </p:nvSpPr>
        <p:spPr>
          <a:xfrm>
            <a:off x="501480" y="2854440"/>
            <a:ext cx="663840" cy="141120"/>
          </a:xfrm>
          <a:custGeom>
            <a:avLst/>
            <a:gdLst/>
            <a:ahLst/>
            <a:rect l="l" t="t" r="r" b="b"/>
            <a:pathLst>
              <a:path w="662940" h="140335">
                <a:moveTo>
                  <a:pt x="0" y="140208"/>
                </a:moveTo>
                <a:lnTo>
                  <a:pt x="662940" y="140208"/>
                </a:lnTo>
                <a:lnTo>
                  <a:pt x="6629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bject 124"/>
          <p:cNvSpPr/>
          <p:nvPr/>
        </p:nvSpPr>
        <p:spPr>
          <a:xfrm>
            <a:off x="488880" y="2828880"/>
            <a:ext cx="689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том числе: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bject 125"/>
          <p:cNvSpPr/>
          <p:nvPr/>
        </p:nvSpPr>
        <p:spPr>
          <a:xfrm>
            <a:off x="573120" y="3006720"/>
            <a:ext cx="276120" cy="141120"/>
          </a:xfrm>
          <a:custGeom>
            <a:avLst/>
            <a:gdLst/>
            <a:ahLst/>
            <a:rect l="l" t="t" r="r" b="b"/>
            <a:pathLst>
              <a:path w="276225" h="140335">
                <a:moveTo>
                  <a:pt x="0" y="140208"/>
                </a:moveTo>
                <a:lnTo>
                  <a:pt x="275844" y="140208"/>
                </a:lnTo>
                <a:lnTo>
                  <a:pt x="275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bject 126"/>
          <p:cNvSpPr/>
          <p:nvPr/>
        </p:nvSpPr>
        <p:spPr>
          <a:xfrm>
            <a:off x="849240" y="3006720"/>
            <a:ext cx="493920" cy="141120"/>
          </a:xfrm>
          <a:custGeom>
            <a:avLst/>
            <a:gdLst/>
            <a:ahLst/>
            <a:rect l="l" t="t" r="r" b="b"/>
            <a:pathLst>
              <a:path w="492759" h="140335">
                <a:moveTo>
                  <a:pt x="0" y="140208"/>
                </a:moveTo>
                <a:lnTo>
                  <a:pt x="492252" y="140208"/>
                </a:lnTo>
                <a:lnTo>
                  <a:pt x="4922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bject 127"/>
          <p:cNvSpPr/>
          <p:nvPr/>
        </p:nvSpPr>
        <p:spPr>
          <a:xfrm>
            <a:off x="1362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bject 128"/>
          <p:cNvSpPr/>
          <p:nvPr/>
        </p:nvSpPr>
        <p:spPr>
          <a:xfrm>
            <a:off x="1382760" y="3006720"/>
            <a:ext cx="619200" cy="141120"/>
          </a:xfrm>
          <a:custGeom>
            <a:avLst/>
            <a:gdLst/>
            <a:ahLst/>
            <a:rect l="l" t="t" r="r" b="b"/>
            <a:pathLst>
              <a:path w="619125" h="140335">
                <a:moveTo>
                  <a:pt x="0" y="140208"/>
                </a:moveTo>
                <a:lnTo>
                  <a:pt x="618744" y="140208"/>
                </a:lnTo>
                <a:lnTo>
                  <a:pt x="6187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bject 129"/>
          <p:cNvSpPr/>
          <p:nvPr/>
        </p:nvSpPr>
        <p:spPr>
          <a:xfrm>
            <a:off x="2019240" y="3006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67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ject 130"/>
          <p:cNvSpPr/>
          <p:nvPr/>
        </p:nvSpPr>
        <p:spPr>
          <a:xfrm>
            <a:off x="2038320" y="3006720"/>
            <a:ext cx="493920" cy="141120"/>
          </a:xfrm>
          <a:custGeom>
            <a:avLst/>
            <a:gdLst/>
            <a:ahLst/>
            <a:rect l="l" t="t" r="r" b="b"/>
            <a:pathLst>
              <a:path w="494030" h="140335">
                <a:moveTo>
                  <a:pt x="0" y="140208"/>
                </a:moveTo>
                <a:lnTo>
                  <a:pt x="493775" y="140208"/>
                </a:lnTo>
                <a:lnTo>
                  <a:pt x="4937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bject 131"/>
          <p:cNvSpPr/>
          <p:nvPr/>
        </p:nvSpPr>
        <p:spPr>
          <a:xfrm>
            <a:off x="2532240" y="3006720"/>
            <a:ext cx="63360" cy="141120"/>
          </a:xfrm>
          <a:custGeom>
            <a:avLst/>
            <a:gdLst/>
            <a:ahLst/>
            <a:rect l="l" t="t" r="r" b="b"/>
            <a:pathLst>
              <a:path w="64135" h="140335">
                <a:moveTo>
                  <a:pt x="0" y="140208"/>
                </a:moveTo>
                <a:lnTo>
                  <a:pt x="64007" y="140208"/>
                </a:lnTo>
                <a:lnTo>
                  <a:pt x="6400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bject 132"/>
          <p:cNvSpPr/>
          <p:nvPr/>
        </p:nvSpPr>
        <p:spPr>
          <a:xfrm>
            <a:off x="2595600" y="3006720"/>
            <a:ext cx="33480" cy="141120"/>
          </a:xfrm>
          <a:custGeom>
            <a:avLst/>
            <a:gdLst/>
            <a:ahLst/>
            <a:rect l="l" t="t" r="r" b="b"/>
            <a:pathLst>
              <a:path w="32385" h="140335">
                <a:moveTo>
                  <a:pt x="0" y="140208"/>
                </a:moveTo>
                <a:lnTo>
                  <a:pt x="32003" y="140208"/>
                </a:lnTo>
                <a:lnTo>
                  <a:pt x="320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bject 133"/>
          <p:cNvSpPr/>
          <p:nvPr/>
        </p:nvSpPr>
        <p:spPr>
          <a:xfrm>
            <a:off x="2629080" y="3006720"/>
            <a:ext cx="320400" cy="141120"/>
          </a:xfrm>
          <a:custGeom>
            <a:avLst/>
            <a:gdLst/>
            <a:ahLst/>
            <a:rect l="l" t="t" r="r" b="b"/>
            <a:pathLst>
              <a:path w="321944" h="140335">
                <a:moveTo>
                  <a:pt x="0" y="140208"/>
                </a:moveTo>
                <a:lnTo>
                  <a:pt x="321563" y="140208"/>
                </a:lnTo>
                <a:lnTo>
                  <a:pt x="3215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bject 134"/>
          <p:cNvSpPr/>
          <p:nvPr/>
        </p:nvSpPr>
        <p:spPr>
          <a:xfrm>
            <a:off x="561960" y="2981160"/>
            <a:ext cx="23670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ердечно-сосудистой системы – все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bject 135"/>
          <p:cNvSpPr/>
          <p:nvPr/>
        </p:nvSpPr>
        <p:spPr>
          <a:xfrm>
            <a:off x="4183200" y="2930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bject 136"/>
          <p:cNvSpPr/>
          <p:nvPr/>
        </p:nvSpPr>
        <p:spPr>
          <a:xfrm>
            <a:off x="4140360" y="2905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bject 137"/>
          <p:cNvSpPr/>
          <p:nvPr/>
        </p:nvSpPr>
        <p:spPr>
          <a:xfrm>
            <a:off x="682560" y="3159000"/>
            <a:ext cx="92160" cy="14148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bject 138"/>
          <p:cNvSpPr/>
          <p:nvPr/>
        </p:nvSpPr>
        <p:spPr>
          <a:xfrm>
            <a:off x="774720" y="3159000"/>
            <a:ext cx="1650960" cy="141480"/>
          </a:xfrm>
          <a:custGeom>
            <a:avLst/>
            <a:gdLst/>
            <a:ahLst/>
            <a:rect l="l" t="t" r="r" b="b"/>
            <a:pathLst>
              <a:path w="1651000" h="140335">
                <a:moveTo>
                  <a:pt x="0" y="140208"/>
                </a:moveTo>
                <a:lnTo>
                  <a:pt x="1650492" y="140208"/>
                </a:lnTo>
                <a:lnTo>
                  <a:pt x="16504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bject 139"/>
          <p:cNvSpPr/>
          <p:nvPr/>
        </p:nvSpPr>
        <p:spPr>
          <a:xfrm>
            <a:off x="762120" y="3133800"/>
            <a:ext cx="1674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исследование сосудо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ject 140"/>
          <p:cNvSpPr/>
          <p:nvPr/>
        </p:nvSpPr>
        <p:spPr>
          <a:xfrm>
            <a:off x="4102200" y="31590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bject 141"/>
          <p:cNvSpPr/>
          <p:nvPr/>
        </p:nvSpPr>
        <p:spPr>
          <a:xfrm>
            <a:off x="4091040" y="31338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bject 142"/>
          <p:cNvSpPr/>
          <p:nvPr/>
        </p:nvSpPr>
        <p:spPr>
          <a:xfrm>
            <a:off x="682560" y="3311640"/>
            <a:ext cx="282600" cy="14112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3" y="140208"/>
                </a:lnTo>
                <a:lnTo>
                  <a:pt x="2834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bject 143"/>
          <p:cNvSpPr/>
          <p:nvPr/>
        </p:nvSpPr>
        <p:spPr>
          <a:xfrm>
            <a:off x="965160" y="3311640"/>
            <a:ext cx="1417680" cy="141120"/>
          </a:xfrm>
          <a:custGeom>
            <a:avLst/>
            <a:gdLst/>
            <a:ahLst/>
            <a:rect l="l" t="t" r="r" b="b"/>
            <a:pathLst>
              <a:path w="1417320" h="140335">
                <a:moveTo>
                  <a:pt x="0" y="140208"/>
                </a:moveTo>
                <a:lnTo>
                  <a:pt x="1417320" y="140208"/>
                </a:lnTo>
                <a:lnTo>
                  <a:pt x="14173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bject 144"/>
          <p:cNvSpPr/>
          <p:nvPr/>
        </p:nvSpPr>
        <p:spPr>
          <a:xfrm>
            <a:off x="952560" y="3286080"/>
            <a:ext cx="14414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слепым доплером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bject 145"/>
          <p:cNvSpPr/>
          <p:nvPr/>
        </p:nvSpPr>
        <p:spPr>
          <a:xfrm>
            <a:off x="4056120" y="3311640"/>
            <a:ext cx="255600" cy="141120"/>
          </a:xfrm>
          <a:custGeom>
            <a:avLst/>
            <a:gdLst/>
            <a:ahLst/>
            <a:rect l="l" t="t" r="r" b="b"/>
            <a:pathLst>
              <a:path w="256539" h="140335">
                <a:moveTo>
                  <a:pt x="0" y="140208"/>
                </a:moveTo>
                <a:lnTo>
                  <a:pt x="256032" y="140208"/>
                </a:lnTo>
                <a:lnTo>
                  <a:pt x="25603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bject 146"/>
          <p:cNvSpPr/>
          <p:nvPr/>
        </p:nvSpPr>
        <p:spPr>
          <a:xfrm>
            <a:off x="4043520" y="3286080"/>
            <a:ext cx="280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1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bject 147"/>
          <p:cNvSpPr/>
          <p:nvPr/>
        </p:nvSpPr>
        <p:spPr>
          <a:xfrm>
            <a:off x="51768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0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bject 148"/>
          <p:cNvSpPr/>
          <p:nvPr/>
        </p:nvSpPr>
        <p:spPr>
          <a:xfrm>
            <a:off x="533520" y="3463920"/>
            <a:ext cx="976320" cy="141120"/>
          </a:xfrm>
          <a:custGeom>
            <a:avLst/>
            <a:gdLst/>
            <a:ahLst/>
            <a:rect l="l" t="t" r="r" b="b"/>
            <a:pathLst>
              <a:path w="977265" h="140335">
                <a:moveTo>
                  <a:pt x="0" y="140208"/>
                </a:moveTo>
                <a:lnTo>
                  <a:pt x="976883" y="140208"/>
                </a:lnTo>
                <a:lnTo>
                  <a:pt x="976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bject 149"/>
          <p:cNvSpPr/>
          <p:nvPr/>
        </p:nvSpPr>
        <p:spPr>
          <a:xfrm>
            <a:off x="520560" y="3438360"/>
            <a:ext cx="10018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хокардиографи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bject 150"/>
          <p:cNvSpPr/>
          <p:nvPr/>
        </p:nvSpPr>
        <p:spPr>
          <a:xfrm>
            <a:off x="4183200" y="34639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bject 151"/>
          <p:cNvSpPr/>
          <p:nvPr/>
        </p:nvSpPr>
        <p:spPr>
          <a:xfrm>
            <a:off x="4140360" y="34383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bject 152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bject 153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bject 154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bject 155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bject 156"/>
          <p:cNvSpPr/>
          <p:nvPr/>
        </p:nvSpPr>
        <p:spPr>
          <a:xfrm>
            <a:off x="501480" y="3616200"/>
            <a:ext cx="125640" cy="141480"/>
          </a:xfrm>
          <a:custGeom>
            <a:avLst/>
            <a:gdLst/>
            <a:ahLst/>
            <a:rect l="l" t="t" r="r" b="b"/>
            <a:pathLst>
              <a:path w="125095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bject 157"/>
          <p:cNvSpPr/>
          <p:nvPr/>
        </p:nvSpPr>
        <p:spPr>
          <a:xfrm>
            <a:off x="627120" y="3616200"/>
            <a:ext cx="2062080" cy="141480"/>
          </a:xfrm>
          <a:custGeom>
            <a:avLst/>
            <a:gdLst/>
            <a:ahLst/>
            <a:rect l="l" t="t" r="r" b="b"/>
            <a:pathLst>
              <a:path w="2062480" h="140335">
                <a:moveTo>
                  <a:pt x="0" y="140208"/>
                </a:moveTo>
                <a:lnTo>
                  <a:pt x="2061972" y="140208"/>
                </a:lnTo>
                <a:lnTo>
                  <a:pt x="2061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bject 158"/>
          <p:cNvSpPr/>
          <p:nvPr/>
        </p:nvSpPr>
        <p:spPr>
          <a:xfrm>
            <a:off x="614520" y="3591000"/>
            <a:ext cx="164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чрезпищеводная ЭХ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bject 159"/>
          <p:cNvSpPr/>
          <p:nvPr/>
        </p:nvSpPr>
        <p:spPr>
          <a:xfrm>
            <a:off x="4102200" y="36162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bject 160"/>
          <p:cNvSpPr/>
          <p:nvPr/>
        </p:nvSpPr>
        <p:spPr>
          <a:xfrm>
            <a:off x="4091040" y="35910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bject 161"/>
          <p:cNvSpPr/>
          <p:nvPr/>
        </p:nvSpPr>
        <p:spPr>
          <a:xfrm>
            <a:off x="7359480" y="36162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bject 162"/>
          <p:cNvSpPr/>
          <p:nvPr/>
        </p:nvSpPr>
        <p:spPr>
          <a:xfrm>
            <a:off x="7348680" y="35910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bject 163"/>
          <p:cNvSpPr/>
          <p:nvPr/>
        </p:nvSpPr>
        <p:spPr>
          <a:xfrm>
            <a:off x="8223120" y="36162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bject 164"/>
          <p:cNvSpPr/>
          <p:nvPr/>
        </p:nvSpPr>
        <p:spPr>
          <a:xfrm>
            <a:off x="8211960" y="35910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bject 165"/>
          <p:cNvSpPr/>
          <p:nvPr/>
        </p:nvSpPr>
        <p:spPr>
          <a:xfrm>
            <a:off x="1133640" y="3768840"/>
            <a:ext cx="633240" cy="141120"/>
          </a:xfrm>
          <a:custGeom>
            <a:avLst/>
            <a:gdLst/>
            <a:ahLst/>
            <a:rect l="l" t="t" r="r" b="b"/>
            <a:pathLst>
              <a:path w="634364" h="140335">
                <a:moveTo>
                  <a:pt x="0" y="140208"/>
                </a:moveTo>
                <a:lnTo>
                  <a:pt x="633984" y="140208"/>
                </a:lnTo>
                <a:lnTo>
                  <a:pt x="633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bject 166"/>
          <p:cNvSpPr/>
          <p:nvPr/>
        </p:nvSpPr>
        <p:spPr>
          <a:xfrm>
            <a:off x="1766880" y="3768840"/>
            <a:ext cx="344520" cy="141120"/>
          </a:xfrm>
          <a:custGeom>
            <a:avLst/>
            <a:gdLst/>
            <a:ahLst/>
            <a:rect l="l" t="t" r="r" b="b"/>
            <a:pathLst>
              <a:path w="344805" h="140335">
                <a:moveTo>
                  <a:pt x="0" y="140208"/>
                </a:moveTo>
                <a:lnTo>
                  <a:pt x="344424" y="140208"/>
                </a:lnTo>
                <a:lnTo>
                  <a:pt x="3444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bject 167"/>
          <p:cNvSpPr/>
          <p:nvPr/>
        </p:nvSpPr>
        <p:spPr>
          <a:xfrm>
            <a:off x="2131920" y="3768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bject 168"/>
          <p:cNvSpPr/>
          <p:nvPr/>
        </p:nvSpPr>
        <p:spPr>
          <a:xfrm>
            <a:off x="2152800" y="3768840"/>
            <a:ext cx="950760" cy="141120"/>
          </a:xfrm>
          <a:custGeom>
            <a:avLst/>
            <a:gdLst/>
            <a:ahLst/>
            <a:rect l="l" t="t" r="r" b="b"/>
            <a:pathLst>
              <a:path w="951230" h="140335">
                <a:moveTo>
                  <a:pt x="0" y="140208"/>
                </a:moveTo>
                <a:lnTo>
                  <a:pt x="950976" y="140208"/>
                </a:lnTo>
                <a:lnTo>
                  <a:pt x="950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bject 169"/>
          <p:cNvSpPr/>
          <p:nvPr/>
        </p:nvSpPr>
        <p:spPr>
          <a:xfrm>
            <a:off x="1754280" y="3743280"/>
            <a:ext cx="13618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сс-эхокардиографи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bject 170"/>
          <p:cNvSpPr/>
          <p:nvPr/>
        </p:nvSpPr>
        <p:spPr>
          <a:xfrm>
            <a:off x="4102200" y="376884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bject 171"/>
          <p:cNvSpPr/>
          <p:nvPr/>
        </p:nvSpPr>
        <p:spPr>
          <a:xfrm>
            <a:off x="4091040" y="374328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bject 172"/>
          <p:cNvSpPr/>
          <p:nvPr/>
        </p:nvSpPr>
        <p:spPr>
          <a:xfrm>
            <a:off x="7359480" y="37688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bject 173"/>
          <p:cNvSpPr/>
          <p:nvPr/>
        </p:nvSpPr>
        <p:spPr>
          <a:xfrm>
            <a:off x="7348680" y="3743280"/>
            <a:ext cx="1173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bject 174"/>
          <p:cNvSpPr/>
          <p:nvPr/>
        </p:nvSpPr>
        <p:spPr>
          <a:xfrm>
            <a:off x="8223120" y="37688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bject 175"/>
          <p:cNvSpPr/>
          <p:nvPr/>
        </p:nvSpPr>
        <p:spPr>
          <a:xfrm>
            <a:off x="8211960" y="37432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bject 176"/>
          <p:cNvSpPr/>
          <p:nvPr/>
        </p:nvSpPr>
        <p:spPr>
          <a:xfrm>
            <a:off x="573120" y="3921120"/>
            <a:ext cx="3284640" cy="141120"/>
          </a:xfrm>
          <a:custGeom>
            <a:avLst/>
            <a:gdLst/>
            <a:ahLst/>
            <a:rect l="l" t="t" r="r" b="b"/>
            <a:pathLst>
              <a:path w="3284220" h="140335">
                <a:moveTo>
                  <a:pt x="0" y="140208"/>
                </a:moveTo>
                <a:lnTo>
                  <a:pt x="3284220" y="140208"/>
                </a:lnTo>
                <a:lnTo>
                  <a:pt x="32842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bject 177"/>
          <p:cNvSpPr/>
          <p:nvPr/>
        </p:nvSpPr>
        <p:spPr>
          <a:xfrm>
            <a:off x="561960" y="3895560"/>
            <a:ext cx="32688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брюшной полости, включая гепатобилиарную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bject 178"/>
          <p:cNvSpPr/>
          <p:nvPr/>
        </p:nvSpPr>
        <p:spPr>
          <a:xfrm>
            <a:off x="573120" y="4073400"/>
            <a:ext cx="465120" cy="141480"/>
          </a:xfrm>
          <a:custGeom>
            <a:avLst/>
            <a:gdLst/>
            <a:ahLst/>
            <a:rect l="l" t="t" r="r" b="b"/>
            <a:pathLst>
              <a:path w="464819" h="140335">
                <a:moveTo>
                  <a:pt x="0" y="140208"/>
                </a:moveTo>
                <a:lnTo>
                  <a:pt x="464820" y="140208"/>
                </a:lnTo>
                <a:lnTo>
                  <a:pt x="4648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bject 179"/>
          <p:cNvSpPr/>
          <p:nvPr/>
        </p:nvSpPr>
        <p:spPr>
          <a:xfrm>
            <a:off x="561960" y="4048200"/>
            <a:ext cx="4888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у,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bject 180"/>
          <p:cNvSpPr/>
          <p:nvPr/>
        </p:nvSpPr>
        <p:spPr>
          <a:xfrm>
            <a:off x="573120" y="4226040"/>
            <a:ext cx="25380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bject 181"/>
          <p:cNvSpPr/>
          <p:nvPr/>
        </p:nvSpPr>
        <p:spPr>
          <a:xfrm>
            <a:off x="826920" y="4226040"/>
            <a:ext cx="2194200" cy="141120"/>
          </a:xfrm>
          <a:custGeom>
            <a:avLst/>
            <a:gdLst/>
            <a:ahLst/>
            <a:rect l="l" t="t" r="r" b="b"/>
            <a:pathLst>
              <a:path w="2194560" h="140335">
                <a:moveTo>
                  <a:pt x="0" y="140208"/>
                </a:moveTo>
                <a:lnTo>
                  <a:pt x="2194560" y="140208"/>
                </a:lnTo>
                <a:lnTo>
                  <a:pt x="219456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182"/>
          <p:cNvSpPr/>
          <p:nvPr/>
        </p:nvSpPr>
        <p:spPr>
          <a:xfrm>
            <a:off x="814320" y="4200480"/>
            <a:ext cx="22179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лезенку, мезентериальные лимфоузлы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183"/>
          <p:cNvSpPr/>
          <p:nvPr/>
        </p:nvSpPr>
        <p:spPr>
          <a:xfrm>
            <a:off x="4183200" y="40734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184"/>
          <p:cNvSpPr/>
          <p:nvPr/>
        </p:nvSpPr>
        <p:spPr>
          <a:xfrm>
            <a:off x="4140360" y="40482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185"/>
          <p:cNvSpPr/>
          <p:nvPr/>
        </p:nvSpPr>
        <p:spPr>
          <a:xfrm>
            <a:off x="501480" y="4378320"/>
            <a:ext cx="316080" cy="141120"/>
          </a:xfrm>
          <a:custGeom>
            <a:avLst/>
            <a:gdLst/>
            <a:ahLst/>
            <a:rect l="l" t="t" r="r" b="b"/>
            <a:pathLst>
              <a:path w="315594" h="140335">
                <a:moveTo>
                  <a:pt x="0" y="140208"/>
                </a:moveTo>
                <a:lnTo>
                  <a:pt x="315468" y="140208"/>
                </a:lnTo>
                <a:lnTo>
                  <a:pt x="3154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186"/>
          <p:cNvSpPr/>
          <p:nvPr/>
        </p:nvSpPr>
        <p:spPr>
          <a:xfrm>
            <a:off x="817560" y="4378320"/>
            <a:ext cx="2181240" cy="141120"/>
          </a:xfrm>
          <a:custGeom>
            <a:avLst/>
            <a:gdLst/>
            <a:ahLst/>
            <a:rect l="l" t="t" r="r" b="b"/>
            <a:pathLst>
              <a:path w="2181225" h="140335">
                <a:moveTo>
                  <a:pt x="0" y="140208"/>
                </a:moveTo>
                <a:lnTo>
                  <a:pt x="2180844" y="140208"/>
                </a:lnTo>
                <a:lnTo>
                  <a:pt x="21808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187"/>
          <p:cNvSpPr/>
          <p:nvPr/>
        </p:nvSpPr>
        <p:spPr>
          <a:xfrm>
            <a:off x="804960" y="4352760"/>
            <a:ext cx="22064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на наличие свободной жидкост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188"/>
          <p:cNvSpPr/>
          <p:nvPr/>
        </p:nvSpPr>
        <p:spPr>
          <a:xfrm>
            <a:off x="4102200" y="43783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189"/>
          <p:cNvSpPr/>
          <p:nvPr/>
        </p:nvSpPr>
        <p:spPr>
          <a:xfrm>
            <a:off x="4091040" y="43527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190"/>
          <p:cNvSpPr/>
          <p:nvPr/>
        </p:nvSpPr>
        <p:spPr>
          <a:xfrm>
            <a:off x="501480" y="4530600"/>
            <a:ext cx="708120" cy="141480"/>
          </a:xfrm>
          <a:custGeom>
            <a:avLst/>
            <a:gdLst/>
            <a:ahLst/>
            <a:rect l="l" t="t" r="r" b="b"/>
            <a:pathLst>
              <a:path w="707390" h="140335">
                <a:moveTo>
                  <a:pt x="0" y="140208"/>
                </a:moveTo>
                <a:lnTo>
                  <a:pt x="707136" y="140208"/>
                </a:lnTo>
                <a:lnTo>
                  <a:pt x="7071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191"/>
          <p:cNvSpPr/>
          <p:nvPr/>
        </p:nvSpPr>
        <p:spPr>
          <a:xfrm>
            <a:off x="1209600" y="4530600"/>
            <a:ext cx="801720" cy="141480"/>
          </a:xfrm>
          <a:custGeom>
            <a:avLst/>
            <a:gdLst/>
            <a:ahLst/>
            <a:rect l="l" t="t" r="r" b="b"/>
            <a:pathLst>
              <a:path w="802005" h="140335">
                <a:moveTo>
                  <a:pt x="0" y="140208"/>
                </a:moveTo>
                <a:lnTo>
                  <a:pt x="801623" y="140208"/>
                </a:lnTo>
                <a:lnTo>
                  <a:pt x="80162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192"/>
          <p:cNvSpPr/>
          <p:nvPr/>
        </p:nvSpPr>
        <p:spPr>
          <a:xfrm>
            <a:off x="1197000" y="4505400"/>
            <a:ext cx="826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ых органо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193"/>
          <p:cNvSpPr/>
          <p:nvPr/>
        </p:nvSpPr>
        <p:spPr>
          <a:xfrm>
            <a:off x="4102200" y="45306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194"/>
          <p:cNvSpPr/>
          <p:nvPr/>
        </p:nvSpPr>
        <p:spPr>
          <a:xfrm>
            <a:off x="4091040" y="45054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195"/>
          <p:cNvSpPr/>
          <p:nvPr/>
        </p:nvSpPr>
        <p:spPr>
          <a:xfrm>
            <a:off x="573120" y="4683240"/>
            <a:ext cx="2052720" cy="141120"/>
          </a:xfrm>
          <a:custGeom>
            <a:avLst/>
            <a:gdLst/>
            <a:ahLst/>
            <a:rect l="l" t="t" r="r" b="b"/>
            <a:pathLst>
              <a:path w="2051685" h="140335">
                <a:moveTo>
                  <a:pt x="0" y="140208"/>
                </a:moveTo>
                <a:lnTo>
                  <a:pt x="2051303" y="140208"/>
                </a:lnTo>
                <a:lnTo>
                  <a:pt x="205130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196"/>
          <p:cNvSpPr/>
          <p:nvPr/>
        </p:nvSpPr>
        <p:spPr>
          <a:xfrm>
            <a:off x="561960" y="4657680"/>
            <a:ext cx="2075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женских половых органов, все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197"/>
          <p:cNvSpPr/>
          <p:nvPr/>
        </p:nvSpPr>
        <p:spPr>
          <a:xfrm>
            <a:off x="4183200" y="46832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198"/>
          <p:cNvSpPr/>
          <p:nvPr/>
        </p:nvSpPr>
        <p:spPr>
          <a:xfrm>
            <a:off x="4140360" y="46576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199"/>
          <p:cNvSpPr/>
          <p:nvPr/>
        </p:nvSpPr>
        <p:spPr>
          <a:xfrm>
            <a:off x="682560" y="48355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200"/>
          <p:cNvSpPr/>
          <p:nvPr/>
        </p:nvSpPr>
        <p:spPr>
          <a:xfrm>
            <a:off x="774720" y="4835520"/>
            <a:ext cx="2235240" cy="141120"/>
          </a:xfrm>
          <a:custGeom>
            <a:avLst/>
            <a:gdLst/>
            <a:ahLst/>
            <a:rect l="l" t="t" r="r" b="b"/>
            <a:pathLst>
              <a:path w="2234565" h="140335">
                <a:moveTo>
                  <a:pt x="0" y="140208"/>
                </a:moveTo>
                <a:lnTo>
                  <a:pt x="2234184" y="140208"/>
                </a:lnTo>
                <a:lnTo>
                  <a:pt x="22341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201"/>
          <p:cNvSpPr/>
          <p:nvPr/>
        </p:nvSpPr>
        <p:spPr>
          <a:xfrm>
            <a:off x="762120" y="4809960"/>
            <a:ext cx="2257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вагинально не беременным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202"/>
          <p:cNvSpPr/>
          <p:nvPr/>
        </p:nvSpPr>
        <p:spPr>
          <a:xfrm>
            <a:off x="4102200" y="48355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203"/>
          <p:cNvSpPr/>
          <p:nvPr/>
        </p:nvSpPr>
        <p:spPr>
          <a:xfrm>
            <a:off x="4091040" y="48099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204"/>
          <p:cNvSpPr/>
          <p:nvPr/>
        </p:nvSpPr>
        <p:spPr>
          <a:xfrm>
            <a:off x="1133640" y="4987800"/>
            <a:ext cx="125280" cy="141480"/>
          </a:xfrm>
          <a:custGeom>
            <a:avLst/>
            <a:gdLst/>
            <a:ahLst/>
            <a:rect l="l" t="t" r="r" b="b"/>
            <a:pathLst>
              <a:path w="125094" h="140335">
                <a:moveTo>
                  <a:pt x="0" y="140208"/>
                </a:moveTo>
                <a:lnTo>
                  <a:pt x="124968" y="140208"/>
                </a:lnTo>
                <a:lnTo>
                  <a:pt x="1249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205"/>
          <p:cNvSpPr/>
          <p:nvPr/>
        </p:nvSpPr>
        <p:spPr>
          <a:xfrm>
            <a:off x="1257480" y="4987800"/>
            <a:ext cx="1842840" cy="141480"/>
          </a:xfrm>
          <a:custGeom>
            <a:avLst/>
            <a:gdLst/>
            <a:ahLst/>
            <a:rect l="l" t="t" r="r" b="b"/>
            <a:pathLst>
              <a:path w="1842770" h="140335">
                <a:moveTo>
                  <a:pt x="0" y="140208"/>
                </a:moveTo>
                <a:lnTo>
                  <a:pt x="1842515" y="140208"/>
                </a:lnTo>
                <a:lnTo>
                  <a:pt x="18425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206"/>
          <p:cNvSpPr/>
          <p:nvPr/>
        </p:nvSpPr>
        <p:spPr>
          <a:xfrm>
            <a:off x="1246320" y="4962600"/>
            <a:ext cx="18651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ремя беременности (из стр. 5)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207"/>
          <p:cNvSpPr/>
          <p:nvPr/>
        </p:nvSpPr>
        <p:spPr>
          <a:xfrm>
            <a:off x="4102200" y="4987800"/>
            <a:ext cx="160200" cy="14148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208"/>
          <p:cNvSpPr/>
          <p:nvPr/>
        </p:nvSpPr>
        <p:spPr>
          <a:xfrm>
            <a:off x="4091040" y="496260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209"/>
          <p:cNvSpPr/>
          <p:nvPr/>
        </p:nvSpPr>
        <p:spPr>
          <a:xfrm>
            <a:off x="8223120" y="49878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210"/>
          <p:cNvSpPr/>
          <p:nvPr/>
        </p:nvSpPr>
        <p:spPr>
          <a:xfrm>
            <a:off x="8211960" y="49626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211"/>
          <p:cNvSpPr/>
          <p:nvPr/>
        </p:nvSpPr>
        <p:spPr>
          <a:xfrm>
            <a:off x="573120" y="5140440"/>
            <a:ext cx="3251160" cy="141120"/>
          </a:xfrm>
          <a:custGeom>
            <a:avLst/>
            <a:gdLst/>
            <a:ahLst/>
            <a:rect l="l" t="t" r="r" b="b"/>
            <a:pathLst>
              <a:path w="3251200" h="140335">
                <a:moveTo>
                  <a:pt x="0" y="140208"/>
                </a:moveTo>
                <a:lnTo>
                  <a:pt x="3250691" y="140208"/>
                </a:lnTo>
                <a:lnTo>
                  <a:pt x="325069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212"/>
          <p:cNvSpPr/>
          <p:nvPr/>
        </p:nvSpPr>
        <p:spPr>
          <a:xfrm>
            <a:off x="561960" y="5114880"/>
            <a:ext cx="32418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очек, надпочечников, забрюшинного пространства 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213"/>
          <p:cNvSpPr/>
          <p:nvPr/>
        </p:nvSpPr>
        <p:spPr>
          <a:xfrm>
            <a:off x="573120" y="5292720"/>
            <a:ext cx="504720" cy="141120"/>
          </a:xfrm>
          <a:custGeom>
            <a:avLst/>
            <a:gdLst/>
            <a:ahLst/>
            <a:rect l="l" t="t" r="r" b="b"/>
            <a:pathLst>
              <a:path w="504825" h="140335">
                <a:moveTo>
                  <a:pt x="0" y="140208"/>
                </a:moveTo>
                <a:lnTo>
                  <a:pt x="504444" y="140208"/>
                </a:lnTo>
                <a:lnTo>
                  <a:pt x="50444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214"/>
          <p:cNvSpPr/>
          <p:nvPr/>
        </p:nvSpPr>
        <p:spPr>
          <a:xfrm>
            <a:off x="561960" y="5267160"/>
            <a:ext cx="5284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чево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215"/>
          <p:cNvSpPr/>
          <p:nvPr/>
        </p:nvSpPr>
        <p:spPr>
          <a:xfrm>
            <a:off x="573120" y="5445000"/>
            <a:ext cx="284040" cy="141480"/>
          </a:xfrm>
          <a:custGeom>
            <a:avLst/>
            <a:gdLst/>
            <a:ahLst/>
            <a:rect l="l" t="t" r="r" b="b"/>
            <a:pathLst>
              <a:path w="283844" h="140335">
                <a:moveTo>
                  <a:pt x="0" y="140208"/>
                </a:moveTo>
                <a:lnTo>
                  <a:pt x="283464" y="140208"/>
                </a:lnTo>
                <a:lnTo>
                  <a:pt x="2834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bject 216"/>
          <p:cNvSpPr/>
          <p:nvPr/>
        </p:nvSpPr>
        <p:spPr>
          <a:xfrm>
            <a:off x="857160" y="5445000"/>
            <a:ext cx="385920" cy="141480"/>
          </a:xfrm>
          <a:custGeom>
            <a:avLst/>
            <a:gdLst/>
            <a:ahLst/>
            <a:rect l="l" t="t" r="r" b="b"/>
            <a:pathLst>
              <a:path w="386080" h="140335">
                <a:moveTo>
                  <a:pt x="0" y="140208"/>
                </a:moveTo>
                <a:lnTo>
                  <a:pt x="385572" y="140208"/>
                </a:lnTo>
                <a:lnTo>
                  <a:pt x="3855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bject 217"/>
          <p:cNvSpPr/>
          <p:nvPr/>
        </p:nvSpPr>
        <p:spPr>
          <a:xfrm>
            <a:off x="844560" y="5419800"/>
            <a:ext cx="4111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зыр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bject 218"/>
          <p:cNvSpPr/>
          <p:nvPr/>
        </p:nvSpPr>
        <p:spPr>
          <a:xfrm>
            <a:off x="4183200" y="5292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219"/>
          <p:cNvSpPr/>
          <p:nvPr/>
        </p:nvSpPr>
        <p:spPr>
          <a:xfrm>
            <a:off x="4140360" y="52671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bject 220"/>
          <p:cNvSpPr/>
          <p:nvPr/>
        </p:nvSpPr>
        <p:spPr>
          <a:xfrm>
            <a:off x="573120" y="5597640"/>
            <a:ext cx="1919160" cy="141120"/>
          </a:xfrm>
          <a:custGeom>
            <a:avLst/>
            <a:gdLst/>
            <a:ahLst/>
            <a:rect l="l" t="t" r="r" b="b"/>
            <a:pathLst>
              <a:path w="1918970" h="140335">
                <a:moveTo>
                  <a:pt x="0" y="140208"/>
                </a:moveTo>
                <a:lnTo>
                  <a:pt x="1918715" y="140208"/>
                </a:lnTo>
                <a:lnTo>
                  <a:pt x="19187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bject 221"/>
          <p:cNvSpPr/>
          <p:nvPr/>
        </p:nvSpPr>
        <p:spPr>
          <a:xfrm>
            <a:off x="561960" y="5572080"/>
            <a:ext cx="1941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предстательной железы, все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bject 222"/>
          <p:cNvSpPr/>
          <p:nvPr/>
        </p:nvSpPr>
        <p:spPr>
          <a:xfrm>
            <a:off x="4183200" y="5597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bject 223"/>
          <p:cNvSpPr/>
          <p:nvPr/>
        </p:nvSpPr>
        <p:spPr>
          <a:xfrm>
            <a:off x="4140360" y="55720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bject 224"/>
          <p:cNvSpPr/>
          <p:nvPr/>
        </p:nvSpPr>
        <p:spPr>
          <a:xfrm>
            <a:off x="682560" y="5749920"/>
            <a:ext cx="92160" cy="141120"/>
          </a:xfrm>
          <a:custGeom>
            <a:avLst/>
            <a:gdLst/>
            <a:ahLst/>
            <a:rect l="l" t="t" r="r" b="b"/>
            <a:pathLst>
              <a:path w="93345" h="140335">
                <a:moveTo>
                  <a:pt x="0" y="140208"/>
                </a:moveTo>
                <a:lnTo>
                  <a:pt x="92964" y="140208"/>
                </a:lnTo>
                <a:lnTo>
                  <a:pt x="929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bject 225"/>
          <p:cNvSpPr/>
          <p:nvPr/>
        </p:nvSpPr>
        <p:spPr>
          <a:xfrm>
            <a:off x="774720" y="5749920"/>
            <a:ext cx="1262160" cy="141120"/>
          </a:xfrm>
          <a:custGeom>
            <a:avLst/>
            <a:gdLst/>
            <a:ahLst/>
            <a:rect l="l" t="t" r="r" b="b"/>
            <a:pathLst>
              <a:path w="1262380" h="140335">
                <a:moveTo>
                  <a:pt x="0" y="140208"/>
                </a:moveTo>
                <a:lnTo>
                  <a:pt x="1261872" y="140208"/>
                </a:lnTo>
                <a:lnTo>
                  <a:pt x="12618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bject 226"/>
          <p:cNvSpPr/>
          <p:nvPr/>
        </p:nvSpPr>
        <p:spPr>
          <a:xfrm>
            <a:off x="762120" y="5724360"/>
            <a:ext cx="12873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трансректальн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bject 227"/>
          <p:cNvSpPr/>
          <p:nvPr/>
        </p:nvSpPr>
        <p:spPr>
          <a:xfrm>
            <a:off x="4102200" y="5749920"/>
            <a:ext cx="160200" cy="141120"/>
          </a:xfrm>
          <a:custGeom>
            <a:avLst/>
            <a:gdLst/>
            <a:ahLst/>
            <a:rect l="l" t="t" r="r" b="b"/>
            <a:pathLst>
              <a:path w="160020" h="140335">
                <a:moveTo>
                  <a:pt x="0" y="140208"/>
                </a:moveTo>
                <a:lnTo>
                  <a:pt x="160020" y="140208"/>
                </a:lnTo>
                <a:lnTo>
                  <a:pt x="1600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bject 228"/>
          <p:cNvSpPr/>
          <p:nvPr/>
        </p:nvSpPr>
        <p:spPr>
          <a:xfrm>
            <a:off x="4091040" y="5724360"/>
            <a:ext cx="1839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229"/>
          <p:cNvSpPr/>
          <p:nvPr/>
        </p:nvSpPr>
        <p:spPr>
          <a:xfrm>
            <a:off x="573120" y="5902200"/>
            <a:ext cx="1241280" cy="141480"/>
          </a:xfrm>
          <a:custGeom>
            <a:avLst/>
            <a:gdLst/>
            <a:ahLst/>
            <a:rect l="l" t="t" r="r" b="b"/>
            <a:pathLst>
              <a:path w="1240789" h="140335">
                <a:moveTo>
                  <a:pt x="0" y="140208"/>
                </a:moveTo>
                <a:lnTo>
                  <a:pt x="1240536" y="140208"/>
                </a:lnTo>
                <a:lnTo>
                  <a:pt x="124053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230"/>
          <p:cNvSpPr/>
          <p:nvPr/>
        </p:nvSpPr>
        <p:spPr>
          <a:xfrm>
            <a:off x="561960" y="5877000"/>
            <a:ext cx="12636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олочной железы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231"/>
          <p:cNvSpPr/>
          <p:nvPr/>
        </p:nvSpPr>
        <p:spPr>
          <a:xfrm>
            <a:off x="4183200" y="59022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bject 232"/>
          <p:cNvSpPr/>
          <p:nvPr/>
        </p:nvSpPr>
        <p:spPr>
          <a:xfrm>
            <a:off x="4140360" y="587700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bject 233"/>
          <p:cNvSpPr/>
          <p:nvPr/>
        </p:nvSpPr>
        <p:spPr>
          <a:xfrm>
            <a:off x="573120" y="6054840"/>
            <a:ext cx="2359080" cy="141120"/>
          </a:xfrm>
          <a:custGeom>
            <a:avLst/>
            <a:gdLst/>
            <a:ahLst/>
            <a:rect l="l" t="t" r="r" b="b"/>
            <a:pathLst>
              <a:path w="2357755" h="140335">
                <a:moveTo>
                  <a:pt x="0" y="140208"/>
                </a:moveTo>
                <a:lnTo>
                  <a:pt x="2357628" y="140208"/>
                </a:lnTo>
                <a:lnTo>
                  <a:pt x="2357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bject 234"/>
          <p:cNvSpPr/>
          <p:nvPr/>
        </p:nvSpPr>
        <p:spPr>
          <a:xfrm>
            <a:off x="561960" y="6029280"/>
            <a:ext cx="2381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щитовидной и паращитовидной желез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bject 235"/>
          <p:cNvSpPr/>
          <p:nvPr/>
        </p:nvSpPr>
        <p:spPr>
          <a:xfrm>
            <a:off x="4183200" y="60548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bject 236"/>
          <p:cNvSpPr/>
          <p:nvPr/>
        </p:nvSpPr>
        <p:spPr>
          <a:xfrm>
            <a:off x="4140360" y="602928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bject 237"/>
          <p:cNvSpPr/>
          <p:nvPr/>
        </p:nvSpPr>
        <p:spPr>
          <a:xfrm>
            <a:off x="573120" y="6207120"/>
            <a:ext cx="644400" cy="141120"/>
          </a:xfrm>
          <a:custGeom>
            <a:avLst/>
            <a:gdLst/>
            <a:ahLst/>
            <a:rect l="l" t="t" r="r" b="b"/>
            <a:pathLst>
              <a:path w="643255" h="140335">
                <a:moveTo>
                  <a:pt x="0" y="140208"/>
                </a:moveTo>
                <a:lnTo>
                  <a:pt x="643128" y="140208"/>
                </a:lnTo>
                <a:lnTo>
                  <a:pt x="6431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bject 238"/>
          <p:cNvSpPr/>
          <p:nvPr/>
        </p:nvSpPr>
        <p:spPr>
          <a:xfrm>
            <a:off x="1238400" y="62071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bject 239"/>
          <p:cNvSpPr/>
          <p:nvPr/>
        </p:nvSpPr>
        <p:spPr>
          <a:xfrm>
            <a:off x="1257480" y="6207120"/>
            <a:ext cx="1079280" cy="141120"/>
          </a:xfrm>
          <a:custGeom>
            <a:avLst/>
            <a:gdLst/>
            <a:ahLst/>
            <a:rect l="l" t="t" r="r" b="b"/>
            <a:pathLst>
              <a:path w="1079500" h="140335">
                <a:moveTo>
                  <a:pt x="0" y="140208"/>
                </a:moveTo>
                <a:lnTo>
                  <a:pt x="1078992" y="140208"/>
                </a:lnTo>
                <a:lnTo>
                  <a:pt x="107899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bject 240"/>
          <p:cNvSpPr/>
          <p:nvPr/>
        </p:nvSpPr>
        <p:spPr>
          <a:xfrm>
            <a:off x="561960" y="6181560"/>
            <a:ext cx="1787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костно-мышечной системы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bject 241"/>
          <p:cNvSpPr/>
          <p:nvPr/>
        </p:nvSpPr>
        <p:spPr>
          <a:xfrm>
            <a:off x="4119480" y="62071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bject 242"/>
          <p:cNvSpPr/>
          <p:nvPr/>
        </p:nvSpPr>
        <p:spPr>
          <a:xfrm>
            <a:off x="4106880" y="61815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"/>
          <p:cNvSpPr/>
          <p:nvPr/>
        </p:nvSpPr>
        <p:spPr>
          <a:xfrm>
            <a:off x="4572000" y="2438280"/>
            <a:ext cx="4343400" cy="1143000"/>
          </a:xfrm>
          <a:prstGeom prst="wedgeRoundRectCallout">
            <a:avLst>
              <a:gd name="adj1" fmla="val -30453"/>
              <a:gd name="adj2" fmla="val 5124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УЗИ брюшной полости (строка 04) входят: исследования гепатобилиарной системы (печени, желчного пузыря, поджелудочной железы),  селезенки, полых органов (пищевода, желудка, кишечника)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2"/>
          <p:cNvSpPr/>
          <p:nvPr/>
        </p:nvSpPr>
        <p:spPr>
          <a:xfrm>
            <a:off x="4568760" y="4059360"/>
            <a:ext cx="4343400" cy="533160"/>
          </a:xfrm>
          <a:prstGeom prst="wedgeRoundRectCallout">
            <a:avLst>
              <a:gd name="adj1" fmla="val -38013"/>
              <a:gd name="adj2" fmla="val 42458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сследования сосудов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оказывать в строке 2.1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>
            <a:off x="4572000" y="5486400"/>
            <a:ext cx="4343400" cy="762120"/>
          </a:xfrm>
          <a:prstGeom prst="wedgeRoundRectCallout">
            <a:avLst>
              <a:gd name="adj1" fmla="val -28125"/>
              <a:gd name="adj2" fmla="val 35416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рочие УЗ-исследования (строка 19) 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АТЬ</a:t>
            </a:r>
            <a:endParaRPr b="1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object 2"/>
          <p:cNvSpPr/>
          <p:nvPr/>
        </p:nvSpPr>
        <p:spPr>
          <a:xfrm>
            <a:off x="684360" y="2560680"/>
            <a:ext cx="360" cy="142920"/>
          </a:xfrm>
          <a:custGeom>
            <a:avLst/>
            <a:gdLst/>
            <a:ahLst/>
            <a:rect l="l" t="t" r="r" b="b"/>
            <a:pathLst>
              <a:path w="0" h="142239">
                <a:moveTo>
                  <a:pt x="0" y="0"/>
                </a:moveTo>
                <a:lnTo>
                  <a:pt x="0" y="14166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bject 3"/>
          <p:cNvSpPr/>
          <p:nvPr/>
        </p:nvSpPr>
        <p:spPr>
          <a:xfrm>
            <a:off x="684360" y="28432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bject 4"/>
          <p:cNvSpPr/>
          <p:nvPr/>
        </p:nvSpPr>
        <p:spPr>
          <a:xfrm>
            <a:off x="684360" y="2995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bject 5"/>
          <p:cNvSpPr/>
          <p:nvPr/>
        </p:nvSpPr>
        <p:spPr>
          <a:xfrm>
            <a:off x="684360" y="31478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bject 6"/>
          <p:cNvSpPr/>
          <p:nvPr/>
        </p:nvSpPr>
        <p:spPr>
          <a:xfrm>
            <a:off x="684360" y="33004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bject 7"/>
          <p:cNvSpPr/>
          <p:nvPr/>
        </p:nvSpPr>
        <p:spPr>
          <a:xfrm>
            <a:off x="684360" y="34527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1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bject 8"/>
          <p:cNvSpPr/>
          <p:nvPr/>
        </p:nvSpPr>
        <p:spPr>
          <a:xfrm>
            <a:off x="684360" y="36050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bject 9"/>
          <p:cNvSpPr/>
          <p:nvPr/>
        </p:nvSpPr>
        <p:spPr>
          <a:xfrm>
            <a:off x="684360" y="37576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bject 10"/>
          <p:cNvSpPr/>
          <p:nvPr/>
        </p:nvSpPr>
        <p:spPr>
          <a:xfrm>
            <a:off x="684360" y="39099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bject 11"/>
          <p:cNvSpPr/>
          <p:nvPr/>
        </p:nvSpPr>
        <p:spPr>
          <a:xfrm>
            <a:off x="684360" y="40622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bject 12"/>
          <p:cNvSpPr/>
          <p:nvPr/>
        </p:nvSpPr>
        <p:spPr>
          <a:xfrm>
            <a:off x="684360" y="42148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bject 13"/>
          <p:cNvSpPr/>
          <p:nvPr/>
        </p:nvSpPr>
        <p:spPr>
          <a:xfrm>
            <a:off x="684360" y="43671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bject 14"/>
          <p:cNvSpPr/>
          <p:nvPr/>
        </p:nvSpPr>
        <p:spPr>
          <a:xfrm>
            <a:off x="684360" y="4519440"/>
            <a:ext cx="360" cy="1296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bject 15"/>
          <p:cNvSpPr/>
          <p:nvPr/>
        </p:nvSpPr>
        <p:spPr>
          <a:xfrm>
            <a:off x="684360" y="467208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bject 16"/>
          <p:cNvSpPr/>
          <p:nvPr/>
        </p:nvSpPr>
        <p:spPr>
          <a:xfrm>
            <a:off x="684360" y="48243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bject 17"/>
          <p:cNvSpPr/>
          <p:nvPr/>
        </p:nvSpPr>
        <p:spPr>
          <a:xfrm>
            <a:off x="684360" y="4976640"/>
            <a:ext cx="360" cy="165240"/>
          </a:xfrm>
          <a:custGeom>
            <a:avLst/>
            <a:gdLst/>
            <a:ahLst/>
            <a:rect l="l" t="t" r="r" b="b"/>
            <a:pathLst>
              <a:path w="0" h="165100">
                <a:moveTo>
                  <a:pt x="0" y="0"/>
                </a:moveTo>
                <a:lnTo>
                  <a:pt x="0" y="1645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bject 18"/>
          <p:cNvSpPr/>
          <p:nvPr/>
        </p:nvSpPr>
        <p:spPr>
          <a:xfrm>
            <a:off x="684360" y="5281560"/>
            <a:ext cx="360" cy="12600"/>
          </a:xfrm>
          <a:custGeom>
            <a:avLst/>
            <a:gdLst/>
            <a:ahLst/>
            <a:rect l="l" t="t" r="r" b="b"/>
            <a:pathLst>
              <a:path w="0" h="12700">
                <a:moveTo>
                  <a:pt x="0" y="0"/>
                </a:moveTo>
                <a:lnTo>
                  <a:pt x="0" y="12192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bject 19"/>
          <p:cNvSpPr/>
          <p:nvPr/>
        </p:nvSpPr>
        <p:spPr>
          <a:xfrm>
            <a:off x="684360" y="5433840"/>
            <a:ext cx="360" cy="362160"/>
          </a:xfrm>
          <a:custGeom>
            <a:avLst/>
            <a:gdLst/>
            <a:ahLst/>
            <a:rect l="l" t="t" r="r" b="b"/>
            <a:pathLst>
              <a:path w="0" h="363220">
                <a:moveTo>
                  <a:pt x="0" y="0"/>
                </a:moveTo>
                <a:lnTo>
                  <a:pt x="0" y="362648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846440" y="246960"/>
            <a:ext cx="5473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1" name="object 22"/>
          <p:cNvSpPr/>
          <p:nvPr/>
        </p:nvSpPr>
        <p:spPr>
          <a:xfrm>
            <a:off x="7445520" y="936720"/>
            <a:ext cx="12236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bject 23"/>
          <p:cNvSpPr/>
          <p:nvPr/>
        </p:nvSpPr>
        <p:spPr>
          <a:xfrm>
            <a:off x="39387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bject 24"/>
          <p:cNvSpPr/>
          <p:nvPr/>
        </p:nvSpPr>
        <p:spPr>
          <a:xfrm>
            <a:off x="44290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bject 25"/>
          <p:cNvSpPr/>
          <p:nvPr/>
        </p:nvSpPr>
        <p:spPr>
          <a:xfrm>
            <a:off x="518004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bject 26"/>
          <p:cNvSpPr/>
          <p:nvPr/>
        </p:nvSpPr>
        <p:spPr>
          <a:xfrm>
            <a:off x="624348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bject 27"/>
          <p:cNvSpPr/>
          <p:nvPr/>
        </p:nvSpPr>
        <p:spPr>
          <a:xfrm>
            <a:off x="7018200" y="1467000"/>
            <a:ext cx="360" cy="3975120"/>
          </a:xfrm>
          <a:custGeom>
            <a:avLst/>
            <a:gdLst/>
            <a:ahLst/>
            <a:rect l="l" t="t" r="r" b="b"/>
            <a:pathLst>
              <a:path w="0" h="3975100">
                <a:moveTo>
                  <a:pt x="0" y="0"/>
                </a:moveTo>
                <a:lnTo>
                  <a:pt x="0" y="3975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28"/>
          <p:cNvSpPr/>
          <p:nvPr/>
        </p:nvSpPr>
        <p:spPr>
          <a:xfrm>
            <a:off x="779148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29"/>
          <p:cNvSpPr/>
          <p:nvPr/>
        </p:nvSpPr>
        <p:spPr>
          <a:xfrm>
            <a:off x="5173560" y="1473120"/>
            <a:ext cx="2624400" cy="360"/>
          </a:xfrm>
          <a:custGeom>
            <a:avLst/>
            <a:gdLst/>
            <a:ahLst/>
            <a:rect l="l" t="t" r="r" b="b"/>
            <a:pathLst>
              <a:path w="2623820" h="0">
                <a:moveTo>
                  <a:pt x="0" y="0"/>
                </a:moveTo>
                <a:lnTo>
                  <a:pt x="262382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30"/>
          <p:cNvSpPr/>
          <p:nvPr/>
        </p:nvSpPr>
        <p:spPr>
          <a:xfrm>
            <a:off x="461880" y="2540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31"/>
          <p:cNvSpPr/>
          <p:nvPr/>
        </p:nvSpPr>
        <p:spPr>
          <a:xfrm>
            <a:off x="461880" y="26924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32"/>
          <p:cNvSpPr/>
          <p:nvPr/>
        </p:nvSpPr>
        <p:spPr>
          <a:xfrm>
            <a:off x="461880" y="2844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33"/>
          <p:cNvSpPr/>
          <p:nvPr/>
        </p:nvSpPr>
        <p:spPr>
          <a:xfrm>
            <a:off x="461880" y="2997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34"/>
          <p:cNvSpPr/>
          <p:nvPr/>
        </p:nvSpPr>
        <p:spPr>
          <a:xfrm>
            <a:off x="461880" y="3149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35"/>
          <p:cNvSpPr/>
          <p:nvPr/>
        </p:nvSpPr>
        <p:spPr>
          <a:xfrm>
            <a:off x="461880" y="33019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36"/>
          <p:cNvSpPr/>
          <p:nvPr/>
        </p:nvSpPr>
        <p:spPr>
          <a:xfrm>
            <a:off x="461880" y="34545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37"/>
          <p:cNvSpPr/>
          <p:nvPr/>
        </p:nvSpPr>
        <p:spPr>
          <a:xfrm>
            <a:off x="461880" y="36068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38"/>
          <p:cNvSpPr/>
          <p:nvPr/>
        </p:nvSpPr>
        <p:spPr>
          <a:xfrm>
            <a:off x="461880" y="40640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39"/>
          <p:cNvSpPr/>
          <p:nvPr/>
        </p:nvSpPr>
        <p:spPr>
          <a:xfrm>
            <a:off x="461880" y="42163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40"/>
          <p:cNvSpPr/>
          <p:nvPr/>
        </p:nvSpPr>
        <p:spPr>
          <a:xfrm>
            <a:off x="461880" y="43689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41"/>
          <p:cNvSpPr/>
          <p:nvPr/>
        </p:nvSpPr>
        <p:spPr>
          <a:xfrm>
            <a:off x="461880" y="45212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42"/>
          <p:cNvSpPr/>
          <p:nvPr/>
        </p:nvSpPr>
        <p:spPr>
          <a:xfrm>
            <a:off x="461880" y="46735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43"/>
          <p:cNvSpPr/>
          <p:nvPr/>
        </p:nvSpPr>
        <p:spPr>
          <a:xfrm>
            <a:off x="461880" y="4826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44"/>
          <p:cNvSpPr/>
          <p:nvPr/>
        </p:nvSpPr>
        <p:spPr>
          <a:xfrm>
            <a:off x="461880" y="513072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45"/>
          <p:cNvSpPr/>
          <p:nvPr/>
        </p:nvSpPr>
        <p:spPr>
          <a:xfrm>
            <a:off x="461880" y="52833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46"/>
          <p:cNvSpPr/>
          <p:nvPr/>
        </p:nvSpPr>
        <p:spPr>
          <a:xfrm>
            <a:off x="46836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47"/>
          <p:cNvSpPr/>
          <p:nvPr/>
        </p:nvSpPr>
        <p:spPr>
          <a:xfrm>
            <a:off x="8748720" y="1390680"/>
            <a:ext cx="360" cy="4052880"/>
          </a:xfrm>
          <a:custGeom>
            <a:avLst/>
            <a:gdLst/>
            <a:ahLst/>
            <a:rect l="l" t="t" r="r" b="b"/>
            <a:pathLst>
              <a:path w="0" h="4052570">
                <a:moveTo>
                  <a:pt x="0" y="0"/>
                </a:moveTo>
                <a:lnTo>
                  <a:pt x="0" y="40520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48"/>
          <p:cNvSpPr/>
          <p:nvPr/>
        </p:nvSpPr>
        <p:spPr>
          <a:xfrm>
            <a:off x="461880" y="139716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49"/>
          <p:cNvSpPr/>
          <p:nvPr/>
        </p:nvSpPr>
        <p:spPr>
          <a:xfrm>
            <a:off x="461880" y="5435640"/>
            <a:ext cx="8293320" cy="360"/>
          </a:xfrm>
          <a:custGeom>
            <a:avLst/>
            <a:gdLst/>
            <a:ahLst/>
            <a:rect l="l" t="t" r="r" b="b"/>
            <a:pathLst>
              <a:path w="8293734" h="0">
                <a:moveTo>
                  <a:pt x="0" y="0"/>
                </a:moveTo>
                <a:lnTo>
                  <a:pt x="82936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50"/>
          <p:cNvSpPr/>
          <p:nvPr/>
        </p:nvSpPr>
        <p:spPr>
          <a:xfrm>
            <a:off x="1806480" y="1901880"/>
            <a:ext cx="83052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именовани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51"/>
          <p:cNvSpPr/>
          <p:nvPr/>
        </p:nvSpPr>
        <p:spPr>
          <a:xfrm>
            <a:off x="4122720" y="1825560"/>
            <a:ext cx="152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52"/>
          <p:cNvSpPr/>
          <p:nvPr/>
        </p:nvSpPr>
        <p:spPr>
          <a:xfrm>
            <a:off x="3998880" y="1978200"/>
            <a:ext cx="38088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ок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53"/>
          <p:cNvSpPr/>
          <p:nvPr/>
        </p:nvSpPr>
        <p:spPr>
          <a:xfrm>
            <a:off x="4646520" y="1901880"/>
            <a:ext cx="3142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54"/>
          <p:cNvSpPr/>
          <p:nvPr/>
        </p:nvSpPr>
        <p:spPr>
          <a:xfrm>
            <a:off x="6389640" y="1436760"/>
            <a:ext cx="190440" cy="360"/>
          </a:xfrm>
          <a:custGeom>
            <a:avLst/>
            <a:gdLst/>
            <a:ahLst/>
            <a:rect l="l" t="t" r="r" b="b"/>
            <a:pathLst>
              <a:path w="190500" h="0">
                <a:moveTo>
                  <a:pt x="0" y="0"/>
                </a:moveTo>
                <a:lnTo>
                  <a:pt x="190500" y="0"/>
                </a:lnTo>
              </a:path>
            </a:pathLst>
          </a:custGeom>
          <a:noFill/>
          <a:ln w="702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55"/>
          <p:cNvSpPr/>
          <p:nvPr/>
        </p:nvSpPr>
        <p:spPr>
          <a:xfrm>
            <a:off x="6378480" y="1382760"/>
            <a:ext cx="216000" cy="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</a:t>
            </a:r>
            <a:endParaRPr b="1" i="1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56"/>
          <p:cNvSpPr/>
          <p:nvPr/>
        </p:nvSpPr>
        <p:spPr>
          <a:xfrm>
            <a:off x="8056440" y="1444680"/>
            <a:ext cx="45900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гр. 6: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57"/>
          <p:cNvSpPr/>
          <p:nvPr/>
        </p:nvSpPr>
        <p:spPr>
          <a:xfrm>
            <a:off x="7883640" y="1596960"/>
            <a:ext cx="8110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ны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58"/>
          <p:cNvSpPr/>
          <p:nvPr/>
        </p:nvSpPr>
        <p:spPr>
          <a:xfrm>
            <a:off x="8209080" y="1749600"/>
            <a:ext cx="155520" cy="139680"/>
          </a:xfrm>
          <a:custGeom>
            <a:avLst/>
            <a:gdLst/>
            <a:ahLst/>
            <a:rect l="l" t="t" r="r" b="b"/>
            <a:pathLst>
              <a:path w="155575" h="140335">
                <a:moveTo>
                  <a:pt x="0" y="140208"/>
                </a:moveTo>
                <a:lnTo>
                  <a:pt x="155448" y="140208"/>
                </a:lnTo>
                <a:lnTo>
                  <a:pt x="1554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59"/>
          <p:cNvSpPr/>
          <p:nvPr/>
        </p:nvSpPr>
        <p:spPr>
          <a:xfrm>
            <a:off x="8197920" y="1724040"/>
            <a:ext cx="147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60"/>
          <p:cNvSpPr/>
          <p:nvPr/>
        </p:nvSpPr>
        <p:spPr>
          <a:xfrm>
            <a:off x="7869240" y="1901880"/>
            <a:ext cx="841320" cy="13968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bject 61"/>
          <p:cNvSpPr/>
          <p:nvPr/>
        </p:nvSpPr>
        <p:spPr>
          <a:xfrm>
            <a:off x="7858080" y="1876320"/>
            <a:ext cx="8272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жизненны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object 62"/>
          <p:cNvSpPr/>
          <p:nvPr/>
        </p:nvSpPr>
        <p:spPr>
          <a:xfrm>
            <a:off x="8007480" y="2054160"/>
            <a:ext cx="485640" cy="139680"/>
          </a:xfrm>
          <a:custGeom>
            <a:avLst/>
            <a:gdLst/>
            <a:ahLst/>
            <a:rect l="l" t="t" r="r" b="b"/>
            <a:pathLst>
              <a:path w="485140" h="140335">
                <a:moveTo>
                  <a:pt x="0" y="140208"/>
                </a:moveTo>
                <a:lnTo>
                  <a:pt x="484631" y="140208"/>
                </a:lnTo>
                <a:lnTo>
                  <a:pt x="4846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object 63"/>
          <p:cNvSpPr/>
          <p:nvPr/>
        </p:nvSpPr>
        <p:spPr>
          <a:xfrm>
            <a:off x="8512200" y="2054160"/>
            <a:ext cx="360" cy="1396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bject 64"/>
          <p:cNvSpPr/>
          <p:nvPr/>
        </p:nvSpPr>
        <p:spPr>
          <a:xfrm>
            <a:off x="7996320" y="2028960"/>
            <a:ext cx="552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олого-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bject 65"/>
          <p:cNvSpPr/>
          <p:nvPr/>
        </p:nvSpPr>
        <p:spPr>
          <a:xfrm>
            <a:off x="7854840" y="2181240"/>
            <a:ext cx="810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bject 66"/>
          <p:cNvSpPr/>
          <p:nvPr/>
        </p:nvSpPr>
        <p:spPr>
          <a:xfrm>
            <a:off x="7900920" y="2206800"/>
            <a:ext cx="81144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томически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bject 67"/>
          <p:cNvSpPr/>
          <p:nvPr/>
        </p:nvSpPr>
        <p:spPr>
          <a:xfrm>
            <a:off x="7900920" y="2359080"/>
            <a:ext cx="75096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следован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bject 68"/>
          <p:cNvSpPr/>
          <p:nvPr/>
        </p:nvSpPr>
        <p:spPr>
          <a:xfrm>
            <a:off x="5681520" y="1482840"/>
            <a:ext cx="90720" cy="141120"/>
          </a:xfrm>
          <a:custGeom>
            <a:avLst/>
            <a:gdLst/>
            <a:ahLst/>
            <a:rect l="l" t="t" r="r" b="b"/>
            <a:pathLst>
              <a:path w="90170" h="140334">
                <a:moveTo>
                  <a:pt x="0" y="140208"/>
                </a:moveTo>
                <a:lnTo>
                  <a:pt x="89915" y="140208"/>
                </a:lnTo>
                <a:lnTo>
                  <a:pt x="899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bject 69"/>
          <p:cNvSpPr/>
          <p:nvPr/>
        </p:nvSpPr>
        <p:spPr>
          <a:xfrm>
            <a:off x="5670720" y="1457280"/>
            <a:ext cx="85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bject 70"/>
          <p:cNvSpPr/>
          <p:nvPr/>
        </p:nvSpPr>
        <p:spPr>
          <a:xfrm>
            <a:off x="5264280" y="1635120"/>
            <a:ext cx="931680" cy="141120"/>
          </a:xfrm>
          <a:custGeom>
            <a:avLst/>
            <a:gdLst/>
            <a:ahLst/>
            <a:rect l="l" t="t" r="r" b="b"/>
            <a:pathLst>
              <a:path w="931545" h="140335">
                <a:moveTo>
                  <a:pt x="0" y="140208"/>
                </a:moveTo>
                <a:lnTo>
                  <a:pt x="931163" y="140208"/>
                </a:lnTo>
                <a:lnTo>
                  <a:pt x="9311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bject 71"/>
          <p:cNvSpPr/>
          <p:nvPr/>
        </p:nvSpPr>
        <p:spPr>
          <a:xfrm>
            <a:off x="5253120" y="1609560"/>
            <a:ext cx="9190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разделениях,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5330880" y="1776240"/>
          <a:ext cx="785880" cy="457200"/>
        </p:xfrm>
        <a:graphic>
          <a:graphicData uri="http://schemas.openxmlformats.org/drawingml/2006/table">
            <a:tbl>
              <a:tblPr/>
              <a:tblGrid>
                <a:gridCol w="112680"/>
                <a:gridCol w="555480"/>
                <a:gridCol w="117720"/>
              </a:tblGrid>
              <a:tr h="152640">
                <a:tc gridSpan="3">
                  <a:txBody>
                    <a:bodyPr lIns="0" rIns="0" tIns="0" bIns="0" anchor="t">
                      <a:noAutofit/>
                    </a:bodyPr>
                    <a:p>
                      <a:pPr marL="324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казывающ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 gridSpan="3"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ицинскую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48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мощь 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object 73"/>
          <p:cNvSpPr/>
          <p:nvPr/>
        </p:nvSpPr>
        <p:spPr>
          <a:xfrm>
            <a:off x="5321160" y="2244600"/>
            <a:ext cx="816120" cy="141480"/>
          </a:xfrm>
          <a:custGeom>
            <a:avLst/>
            <a:gdLst/>
            <a:ahLst/>
            <a:rect l="l" t="t" r="r" b="b"/>
            <a:pathLst>
              <a:path w="817245" h="140335">
                <a:moveTo>
                  <a:pt x="0" y="140208"/>
                </a:moveTo>
                <a:lnTo>
                  <a:pt x="816863" y="140208"/>
                </a:lnTo>
                <a:lnTo>
                  <a:pt x="81686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bject 74"/>
          <p:cNvSpPr/>
          <p:nvPr/>
        </p:nvSpPr>
        <p:spPr>
          <a:xfrm>
            <a:off x="5308560" y="2219400"/>
            <a:ext cx="8064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мбулаторны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bject 75"/>
          <p:cNvSpPr/>
          <p:nvPr/>
        </p:nvSpPr>
        <p:spPr>
          <a:xfrm>
            <a:off x="5465880" y="2397240"/>
            <a:ext cx="490320" cy="141120"/>
          </a:xfrm>
          <a:custGeom>
            <a:avLst/>
            <a:gdLst/>
            <a:ahLst/>
            <a:rect l="l" t="t" r="r" b="b"/>
            <a:pathLst>
              <a:path w="490854" h="140335">
                <a:moveTo>
                  <a:pt x="0" y="140208"/>
                </a:moveTo>
                <a:lnTo>
                  <a:pt x="490727" y="140208"/>
                </a:lnTo>
                <a:lnTo>
                  <a:pt x="4907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bject 76"/>
          <p:cNvSpPr/>
          <p:nvPr/>
        </p:nvSpPr>
        <p:spPr>
          <a:xfrm>
            <a:off x="5452920" y="2371680"/>
            <a:ext cx="51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ия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bject 77"/>
          <p:cNvSpPr/>
          <p:nvPr/>
        </p:nvSpPr>
        <p:spPr>
          <a:xfrm>
            <a:off x="6338880" y="1787400"/>
            <a:ext cx="620640" cy="141480"/>
          </a:xfrm>
          <a:custGeom>
            <a:avLst/>
            <a:gdLst/>
            <a:ahLst/>
            <a:rect l="l" t="t" r="r" b="b"/>
            <a:pathLst>
              <a:path w="620395" h="140335">
                <a:moveTo>
                  <a:pt x="0" y="140208"/>
                </a:moveTo>
                <a:lnTo>
                  <a:pt x="620268" y="140208"/>
                </a:lnTo>
                <a:lnTo>
                  <a:pt x="62026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bject 78"/>
          <p:cNvSpPr/>
          <p:nvPr/>
        </p:nvSpPr>
        <p:spPr>
          <a:xfrm>
            <a:off x="6327720" y="1762200"/>
            <a:ext cx="6080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bject 79"/>
          <p:cNvSpPr/>
          <p:nvPr/>
        </p:nvSpPr>
        <p:spPr>
          <a:xfrm>
            <a:off x="6383160" y="1940040"/>
            <a:ext cx="528840" cy="141120"/>
          </a:xfrm>
          <a:custGeom>
            <a:avLst/>
            <a:gdLst/>
            <a:ahLst/>
            <a:rect l="l" t="t" r="r" b="b"/>
            <a:pathLst>
              <a:path w="528954" h="140335">
                <a:moveTo>
                  <a:pt x="0" y="140208"/>
                </a:moveTo>
                <a:lnTo>
                  <a:pt x="528827" y="140208"/>
                </a:lnTo>
                <a:lnTo>
                  <a:pt x="5288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bject 80"/>
          <p:cNvSpPr/>
          <p:nvPr/>
        </p:nvSpPr>
        <p:spPr>
          <a:xfrm>
            <a:off x="6372360" y="1914480"/>
            <a:ext cx="5173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невног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bject 81"/>
          <p:cNvSpPr/>
          <p:nvPr/>
        </p:nvSpPr>
        <p:spPr>
          <a:xfrm>
            <a:off x="6326280" y="2092320"/>
            <a:ext cx="609480" cy="141120"/>
          </a:xfrm>
          <a:custGeom>
            <a:avLst/>
            <a:gdLst/>
            <a:ahLst/>
            <a:rect l="l" t="t" r="r" b="b"/>
            <a:pathLst>
              <a:path w="609600" h="140335">
                <a:moveTo>
                  <a:pt x="0" y="140208"/>
                </a:moveTo>
                <a:lnTo>
                  <a:pt x="609599" y="140208"/>
                </a:lnTo>
                <a:lnTo>
                  <a:pt x="60959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bject 82"/>
          <p:cNvSpPr/>
          <p:nvPr/>
        </p:nvSpPr>
        <p:spPr>
          <a:xfrm>
            <a:off x="6313320" y="2066760"/>
            <a:ext cx="635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ционар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bject 83"/>
          <p:cNvSpPr/>
          <p:nvPr/>
        </p:nvSpPr>
        <p:spPr>
          <a:xfrm>
            <a:off x="7107120" y="1558800"/>
            <a:ext cx="630360" cy="141480"/>
          </a:xfrm>
          <a:custGeom>
            <a:avLst/>
            <a:gdLst/>
            <a:ahLst/>
            <a:rect l="l" t="t" r="r" b="b"/>
            <a:pathLst>
              <a:path w="629920" h="140335">
                <a:moveTo>
                  <a:pt x="0" y="140208"/>
                </a:moveTo>
                <a:lnTo>
                  <a:pt x="629412" y="140208"/>
                </a:lnTo>
                <a:lnTo>
                  <a:pt x="6294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bject 84"/>
          <p:cNvSpPr/>
          <p:nvPr/>
        </p:nvSpPr>
        <p:spPr>
          <a:xfrm>
            <a:off x="7095960" y="1533600"/>
            <a:ext cx="6177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ено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object 85"/>
          <p:cNvSpPr/>
          <p:nvPr/>
        </p:nvSpPr>
        <p:spPr>
          <a:xfrm>
            <a:off x="7059600" y="1711440"/>
            <a:ext cx="690480" cy="141120"/>
          </a:xfrm>
          <a:custGeom>
            <a:avLst/>
            <a:gdLst/>
            <a:ahLst/>
            <a:rect l="l" t="t" r="r" b="b"/>
            <a:pathLst>
              <a:path w="690879" h="140335">
                <a:moveTo>
                  <a:pt x="0" y="140208"/>
                </a:moveTo>
                <a:lnTo>
                  <a:pt x="690372" y="140208"/>
                </a:lnTo>
                <a:lnTo>
                  <a:pt x="6903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object 86"/>
          <p:cNvSpPr/>
          <p:nvPr/>
        </p:nvSpPr>
        <p:spPr>
          <a:xfrm>
            <a:off x="7048440" y="1685880"/>
            <a:ext cx="716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вецион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bject 87"/>
          <p:cNvSpPr/>
          <p:nvPr/>
        </p:nvSpPr>
        <p:spPr>
          <a:xfrm>
            <a:off x="708516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bject 88"/>
          <p:cNvSpPr/>
          <p:nvPr/>
        </p:nvSpPr>
        <p:spPr>
          <a:xfrm>
            <a:off x="7105680" y="1863720"/>
            <a:ext cx="214200" cy="141120"/>
          </a:xfrm>
          <a:custGeom>
            <a:avLst/>
            <a:gdLst/>
            <a:ahLst/>
            <a:rect l="l" t="t" r="r" b="b"/>
            <a:pathLst>
              <a:path w="215265" h="140335">
                <a:moveTo>
                  <a:pt x="0" y="140208"/>
                </a:moveTo>
                <a:lnTo>
                  <a:pt x="214883" y="140208"/>
                </a:lnTo>
                <a:lnTo>
                  <a:pt x="214883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bject 89"/>
          <p:cNvSpPr/>
          <p:nvPr/>
        </p:nvSpPr>
        <p:spPr>
          <a:xfrm>
            <a:off x="73375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49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bject 90"/>
          <p:cNvSpPr/>
          <p:nvPr/>
        </p:nvSpPr>
        <p:spPr>
          <a:xfrm>
            <a:off x="7354800" y="1863720"/>
            <a:ext cx="351000" cy="141120"/>
          </a:xfrm>
          <a:custGeom>
            <a:avLst/>
            <a:gdLst/>
            <a:ahLst/>
            <a:rect l="l" t="t" r="r" b="b"/>
            <a:pathLst>
              <a:path w="350520" h="140335">
                <a:moveTo>
                  <a:pt x="0" y="140208"/>
                </a:moveTo>
                <a:lnTo>
                  <a:pt x="350520" y="140208"/>
                </a:lnTo>
                <a:lnTo>
                  <a:pt x="35052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bject 91"/>
          <p:cNvSpPr/>
          <p:nvPr/>
        </p:nvSpPr>
        <p:spPr>
          <a:xfrm>
            <a:off x="7726320" y="18637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410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bject 92"/>
          <p:cNvSpPr/>
          <p:nvPr/>
        </p:nvSpPr>
        <p:spPr>
          <a:xfrm>
            <a:off x="7051680" y="1838160"/>
            <a:ext cx="709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ных вмеша-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bject 93"/>
          <p:cNvSpPr/>
          <p:nvPr/>
        </p:nvSpPr>
        <p:spPr>
          <a:xfrm>
            <a:off x="7089840" y="2016000"/>
            <a:ext cx="403200" cy="141480"/>
          </a:xfrm>
          <a:custGeom>
            <a:avLst/>
            <a:gdLst/>
            <a:ahLst/>
            <a:rect l="l" t="t" r="r" b="b"/>
            <a:pathLst>
              <a:path w="402590" h="140335">
                <a:moveTo>
                  <a:pt x="0" y="140208"/>
                </a:moveTo>
                <a:lnTo>
                  <a:pt x="402335" y="140208"/>
                </a:lnTo>
                <a:lnTo>
                  <a:pt x="40233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bject 94"/>
          <p:cNvSpPr/>
          <p:nvPr/>
        </p:nvSpPr>
        <p:spPr>
          <a:xfrm>
            <a:off x="7508880" y="2016000"/>
            <a:ext cx="360" cy="14148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34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bject 95"/>
          <p:cNvSpPr/>
          <p:nvPr/>
        </p:nvSpPr>
        <p:spPr>
          <a:xfrm>
            <a:off x="7524720" y="2016000"/>
            <a:ext cx="228600" cy="141480"/>
          </a:xfrm>
          <a:custGeom>
            <a:avLst/>
            <a:gdLst/>
            <a:ahLst/>
            <a:rect l="l" t="t" r="r" b="b"/>
            <a:pathLst>
              <a:path w="228600" h="140335">
                <a:moveTo>
                  <a:pt x="0" y="140208"/>
                </a:moveTo>
                <a:lnTo>
                  <a:pt x="228600" y="140208"/>
                </a:lnTo>
                <a:lnTo>
                  <a:pt x="2286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bject 96"/>
          <p:cNvSpPr/>
          <p:nvPr/>
        </p:nvSpPr>
        <p:spPr>
          <a:xfrm>
            <a:off x="7078680" y="1990800"/>
            <a:ext cx="655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ьств под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bject 97"/>
          <p:cNvSpPr/>
          <p:nvPr/>
        </p:nvSpPr>
        <p:spPr>
          <a:xfrm>
            <a:off x="7116840" y="2168640"/>
            <a:ext cx="608040" cy="27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ем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bject 98"/>
          <p:cNvSpPr/>
          <p:nvPr/>
        </p:nvSpPr>
        <p:spPr>
          <a:xfrm>
            <a:off x="7281720" y="2320920"/>
            <a:ext cx="246240" cy="141120"/>
          </a:xfrm>
          <a:custGeom>
            <a:avLst/>
            <a:gdLst/>
            <a:ahLst/>
            <a:rect l="l" t="t" r="r" b="b"/>
            <a:pathLst>
              <a:path w="245745" h="140335">
                <a:moveTo>
                  <a:pt x="0" y="140208"/>
                </a:moveTo>
                <a:lnTo>
                  <a:pt x="245364" y="140208"/>
                </a:lnTo>
                <a:lnTo>
                  <a:pt x="24536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bject 99"/>
          <p:cNvSpPr/>
          <p:nvPr/>
        </p:nvSpPr>
        <p:spPr>
          <a:xfrm>
            <a:off x="7270920" y="2295360"/>
            <a:ext cx="2696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bject 100"/>
          <p:cNvSpPr/>
          <p:nvPr/>
        </p:nvSpPr>
        <p:spPr>
          <a:xfrm>
            <a:off x="22017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bject 101"/>
          <p:cNvSpPr/>
          <p:nvPr/>
        </p:nvSpPr>
        <p:spPr>
          <a:xfrm>
            <a:off x="215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bject 102"/>
          <p:cNvSpPr/>
          <p:nvPr/>
        </p:nvSpPr>
        <p:spPr>
          <a:xfrm>
            <a:off x="4183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bject 103"/>
          <p:cNvSpPr/>
          <p:nvPr/>
        </p:nvSpPr>
        <p:spPr>
          <a:xfrm>
            <a:off x="4140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bject 104"/>
          <p:cNvSpPr/>
          <p:nvPr/>
        </p:nvSpPr>
        <p:spPr>
          <a:xfrm>
            <a:off x="4803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bject 105"/>
          <p:cNvSpPr/>
          <p:nvPr/>
        </p:nvSpPr>
        <p:spPr>
          <a:xfrm>
            <a:off x="475920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bject 106"/>
          <p:cNvSpPr/>
          <p:nvPr/>
        </p:nvSpPr>
        <p:spPr>
          <a:xfrm>
            <a:off x="571032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bject 107"/>
          <p:cNvSpPr/>
          <p:nvPr/>
        </p:nvSpPr>
        <p:spPr>
          <a:xfrm>
            <a:off x="56674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bject 108"/>
          <p:cNvSpPr/>
          <p:nvPr/>
        </p:nvSpPr>
        <p:spPr>
          <a:xfrm>
            <a:off x="663084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object 109"/>
          <p:cNvSpPr/>
          <p:nvPr/>
        </p:nvSpPr>
        <p:spPr>
          <a:xfrm>
            <a:off x="65865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bject 110"/>
          <p:cNvSpPr/>
          <p:nvPr/>
        </p:nvSpPr>
        <p:spPr>
          <a:xfrm>
            <a:off x="740556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bject 111"/>
          <p:cNvSpPr/>
          <p:nvPr/>
        </p:nvSpPr>
        <p:spPr>
          <a:xfrm>
            <a:off x="736128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bject 112"/>
          <p:cNvSpPr/>
          <p:nvPr/>
        </p:nvSpPr>
        <p:spPr>
          <a:xfrm>
            <a:off x="8269200" y="2549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4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bject 113"/>
          <p:cNvSpPr/>
          <p:nvPr/>
        </p:nvSpPr>
        <p:spPr>
          <a:xfrm>
            <a:off x="8226360" y="2523960"/>
            <a:ext cx="88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bject 114"/>
          <p:cNvSpPr/>
          <p:nvPr/>
        </p:nvSpPr>
        <p:spPr>
          <a:xfrm>
            <a:off x="573120" y="2701800"/>
            <a:ext cx="1057320" cy="141480"/>
          </a:xfrm>
          <a:custGeom>
            <a:avLst/>
            <a:gdLst/>
            <a:ahLst/>
            <a:rect l="l" t="t" r="r" b="b"/>
            <a:pathLst>
              <a:path w="1056639" h="140335">
                <a:moveTo>
                  <a:pt x="0" y="140208"/>
                </a:moveTo>
                <a:lnTo>
                  <a:pt x="1056131" y="140208"/>
                </a:lnTo>
                <a:lnTo>
                  <a:pt x="10561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bject 115"/>
          <p:cNvSpPr/>
          <p:nvPr/>
        </p:nvSpPr>
        <p:spPr>
          <a:xfrm>
            <a:off x="561960" y="2676600"/>
            <a:ext cx="10810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мягких ткане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bject 116"/>
          <p:cNvSpPr/>
          <p:nvPr/>
        </p:nvSpPr>
        <p:spPr>
          <a:xfrm>
            <a:off x="4119480" y="27018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bject 117"/>
          <p:cNvSpPr/>
          <p:nvPr/>
        </p:nvSpPr>
        <p:spPr>
          <a:xfrm>
            <a:off x="4106880" y="26766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bject 118"/>
          <p:cNvSpPr/>
          <p:nvPr/>
        </p:nvSpPr>
        <p:spPr>
          <a:xfrm>
            <a:off x="573120" y="2854440"/>
            <a:ext cx="190440" cy="141120"/>
          </a:xfrm>
          <a:custGeom>
            <a:avLst/>
            <a:gdLst/>
            <a:ahLst/>
            <a:rect l="l" t="t" r="r" b="b"/>
            <a:pathLst>
              <a:path w="189229" h="140335">
                <a:moveTo>
                  <a:pt x="0" y="140208"/>
                </a:moveTo>
                <a:lnTo>
                  <a:pt x="188976" y="140208"/>
                </a:lnTo>
                <a:lnTo>
                  <a:pt x="188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bject 119"/>
          <p:cNvSpPr/>
          <p:nvPr/>
        </p:nvSpPr>
        <p:spPr>
          <a:xfrm>
            <a:off x="762120" y="2854440"/>
            <a:ext cx="1288800" cy="141120"/>
          </a:xfrm>
          <a:custGeom>
            <a:avLst/>
            <a:gdLst/>
            <a:ahLst/>
            <a:rect l="l" t="t" r="r" b="b"/>
            <a:pathLst>
              <a:path w="1287780" h="140335">
                <a:moveTo>
                  <a:pt x="0" y="140208"/>
                </a:moveTo>
                <a:lnTo>
                  <a:pt x="1287780" y="140208"/>
                </a:lnTo>
                <a:lnTo>
                  <a:pt x="128778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bject 120"/>
          <p:cNvSpPr/>
          <p:nvPr/>
        </p:nvSpPr>
        <p:spPr>
          <a:xfrm>
            <a:off x="2050920" y="2854440"/>
            <a:ext cx="654120" cy="141120"/>
          </a:xfrm>
          <a:custGeom>
            <a:avLst/>
            <a:gdLst/>
            <a:ahLst/>
            <a:rect l="l" t="t" r="r" b="b"/>
            <a:pathLst>
              <a:path w="654050" h="140335">
                <a:moveTo>
                  <a:pt x="0" y="140208"/>
                </a:moveTo>
                <a:lnTo>
                  <a:pt x="653795" y="140208"/>
                </a:lnTo>
                <a:lnTo>
                  <a:pt x="65379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bject 121"/>
          <p:cNvSpPr/>
          <p:nvPr/>
        </p:nvSpPr>
        <p:spPr>
          <a:xfrm>
            <a:off x="750960" y="2828880"/>
            <a:ext cx="19666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поверхностных лимфоузло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bject 122"/>
          <p:cNvSpPr/>
          <p:nvPr/>
        </p:nvSpPr>
        <p:spPr>
          <a:xfrm>
            <a:off x="4070520" y="28544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object 123"/>
          <p:cNvSpPr/>
          <p:nvPr/>
        </p:nvSpPr>
        <p:spPr>
          <a:xfrm>
            <a:off x="4059360" y="28288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bject 124"/>
          <p:cNvSpPr/>
          <p:nvPr/>
        </p:nvSpPr>
        <p:spPr>
          <a:xfrm>
            <a:off x="573120" y="3006720"/>
            <a:ext cx="1163520" cy="141120"/>
          </a:xfrm>
          <a:custGeom>
            <a:avLst/>
            <a:gdLst/>
            <a:ahLst/>
            <a:rect l="l" t="t" r="r" b="b"/>
            <a:pathLst>
              <a:path w="1163320" h="140335">
                <a:moveTo>
                  <a:pt x="0" y="140208"/>
                </a:moveTo>
                <a:lnTo>
                  <a:pt x="1162812" y="140208"/>
                </a:lnTo>
                <a:lnTo>
                  <a:pt x="11628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bject 125"/>
          <p:cNvSpPr/>
          <p:nvPr/>
        </p:nvSpPr>
        <p:spPr>
          <a:xfrm>
            <a:off x="561960" y="2981160"/>
            <a:ext cx="118584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оловного мозг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bject 126"/>
          <p:cNvSpPr/>
          <p:nvPr/>
        </p:nvSpPr>
        <p:spPr>
          <a:xfrm>
            <a:off x="4119480" y="3006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bject 127"/>
          <p:cNvSpPr/>
          <p:nvPr/>
        </p:nvSpPr>
        <p:spPr>
          <a:xfrm>
            <a:off x="4106880" y="2981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bject 128"/>
          <p:cNvSpPr/>
          <p:nvPr/>
        </p:nvSpPr>
        <p:spPr>
          <a:xfrm>
            <a:off x="7359480" y="30067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bject 129"/>
          <p:cNvSpPr/>
          <p:nvPr/>
        </p:nvSpPr>
        <p:spPr>
          <a:xfrm>
            <a:off x="7348680" y="29811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bject 130"/>
          <p:cNvSpPr/>
          <p:nvPr/>
        </p:nvSpPr>
        <p:spPr>
          <a:xfrm>
            <a:off x="8223120" y="30067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bject 131"/>
          <p:cNvSpPr/>
          <p:nvPr/>
        </p:nvSpPr>
        <p:spPr>
          <a:xfrm>
            <a:off x="8211960" y="29811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object 132"/>
          <p:cNvSpPr/>
          <p:nvPr/>
        </p:nvSpPr>
        <p:spPr>
          <a:xfrm>
            <a:off x="573120" y="3159000"/>
            <a:ext cx="158760" cy="141480"/>
          </a:xfrm>
          <a:custGeom>
            <a:avLst/>
            <a:gdLst/>
            <a:ahLst/>
            <a:rect l="l" t="t" r="r" b="b"/>
            <a:pathLst>
              <a:path w="157479" h="140335">
                <a:moveTo>
                  <a:pt x="0" y="140208"/>
                </a:moveTo>
                <a:lnTo>
                  <a:pt x="156972" y="140208"/>
                </a:lnTo>
                <a:lnTo>
                  <a:pt x="15697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bject 133"/>
          <p:cNvSpPr/>
          <p:nvPr/>
        </p:nvSpPr>
        <p:spPr>
          <a:xfrm>
            <a:off x="730080" y="3159000"/>
            <a:ext cx="419400" cy="141480"/>
          </a:xfrm>
          <a:custGeom>
            <a:avLst/>
            <a:gdLst/>
            <a:ahLst/>
            <a:rect l="l" t="t" r="r" b="b"/>
            <a:pathLst>
              <a:path w="417830" h="140335">
                <a:moveTo>
                  <a:pt x="0" y="140208"/>
                </a:moveTo>
                <a:lnTo>
                  <a:pt x="417575" y="140208"/>
                </a:lnTo>
                <a:lnTo>
                  <a:pt x="41757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bject 134"/>
          <p:cNvSpPr/>
          <p:nvPr/>
        </p:nvSpPr>
        <p:spPr>
          <a:xfrm>
            <a:off x="1147680" y="3159000"/>
            <a:ext cx="1073160" cy="141480"/>
          </a:xfrm>
          <a:custGeom>
            <a:avLst/>
            <a:gdLst/>
            <a:ahLst/>
            <a:rect l="l" t="t" r="r" b="b"/>
            <a:pathLst>
              <a:path w="1071880" h="140335">
                <a:moveTo>
                  <a:pt x="0" y="140208"/>
                </a:moveTo>
                <a:lnTo>
                  <a:pt x="1071371" y="140208"/>
                </a:lnTo>
                <a:lnTo>
                  <a:pt x="107137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bject 135"/>
          <p:cNvSpPr/>
          <p:nvPr/>
        </p:nvSpPr>
        <p:spPr>
          <a:xfrm>
            <a:off x="717480" y="3133800"/>
            <a:ext cx="1514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них: эхоэнцефалограф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object 136"/>
          <p:cNvSpPr/>
          <p:nvPr/>
        </p:nvSpPr>
        <p:spPr>
          <a:xfrm>
            <a:off x="4070520" y="3159000"/>
            <a:ext cx="223560" cy="14148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object 137"/>
          <p:cNvSpPr/>
          <p:nvPr/>
        </p:nvSpPr>
        <p:spPr>
          <a:xfrm>
            <a:off x="4059360" y="313380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bject 138"/>
          <p:cNvSpPr/>
          <p:nvPr/>
        </p:nvSpPr>
        <p:spPr>
          <a:xfrm>
            <a:off x="7359480" y="3159000"/>
            <a:ext cx="9072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object 139"/>
          <p:cNvSpPr/>
          <p:nvPr/>
        </p:nvSpPr>
        <p:spPr>
          <a:xfrm>
            <a:off x="7348680" y="313380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object 140"/>
          <p:cNvSpPr/>
          <p:nvPr/>
        </p:nvSpPr>
        <p:spPr>
          <a:xfrm>
            <a:off x="8223120" y="3159000"/>
            <a:ext cx="92160" cy="14148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object 141"/>
          <p:cNvSpPr/>
          <p:nvPr/>
        </p:nvSpPr>
        <p:spPr>
          <a:xfrm>
            <a:off x="8211960" y="313380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object 142"/>
          <p:cNvSpPr/>
          <p:nvPr/>
        </p:nvSpPr>
        <p:spPr>
          <a:xfrm>
            <a:off x="573120" y="3311640"/>
            <a:ext cx="571320" cy="141120"/>
          </a:xfrm>
          <a:custGeom>
            <a:avLst/>
            <a:gdLst/>
            <a:ahLst/>
            <a:rect l="l" t="t" r="r" b="b"/>
            <a:pathLst>
              <a:path w="570230" h="140335">
                <a:moveTo>
                  <a:pt x="0" y="140208"/>
                </a:moveTo>
                <a:lnTo>
                  <a:pt x="569976" y="140208"/>
                </a:lnTo>
                <a:lnTo>
                  <a:pt x="56997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bject 143"/>
          <p:cNvSpPr/>
          <p:nvPr/>
        </p:nvSpPr>
        <p:spPr>
          <a:xfrm>
            <a:off x="1143000" y="3311640"/>
            <a:ext cx="950760" cy="141120"/>
          </a:xfrm>
          <a:custGeom>
            <a:avLst/>
            <a:gdLst/>
            <a:ahLst/>
            <a:rect l="l" t="t" r="r" b="b"/>
            <a:pathLst>
              <a:path w="949960" h="140335">
                <a:moveTo>
                  <a:pt x="0" y="140208"/>
                </a:moveTo>
                <a:lnTo>
                  <a:pt x="949452" y="140208"/>
                </a:lnTo>
                <a:lnTo>
                  <a:pt x="94945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bject 144"/>
          <p:cNvSpPr/>
          <p:nvPr/>
        </p:nvSpPr>
        <p:spPr>
          <a:xfrm>
            <a:off x="2112840" y="33116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bject 145"/>
          <p:cNvSpPr/>
          <p:nvPr/>
        </p:nvSpPr>
        <p:spPr>
          <a:xfrm>
            <a:off x="2131920" y="3311640"/>
            <a:ext cx="841320" cy="141120"/>
          </a:xfrm>
          <a:custGeom>
            <a:avLst/>
            <a:gdLst/>
            <a:ahLst/>
            <a:rect l="l" t="t" r="r" b="b"/>
            <a:pathLst>
              <a:path w="841375" h="140335">
                <a:moveTo>
                  <a:pt x="0" y="140208"/>
                </a:moveTo>
                <a:lnTo>
                  <a:pt x="841248" y="140208"/>
                </a:lnTo>
                <a:lnTo>
                  <a:pt x="84124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bject 146"/>
          <p:cNvSpPr/>
          <p:nvPr/>
        </p:nvSpPr>
        <p:spPr>
          <a:xfrm>
            <a:off x="1131840" y="3286080"/>
            <a:ext cx="18543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росонография детям до 1 год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bject 147"/>
          <p:cNvSpPr/>
          <p:nvPr/>
        </p:nvSpPr>
        <p:spPr>
          <a:xfrm>
            <a:off x="4070520" y="3311640"/>
            <a:ext cx="223560" cy="141120"/>
          </a:xfrm>
          <a:custGeom>
            <a:avLst/>
            <a:gdLst/>
            <a:ahLst/>
            <a:rect l="l" t="t" r="r" b="b"/>
            <a:pathLst>
              <a:path w="224154" h="140335">
                <a:moveTo>
                  <a:pt x="0" y="140208"/>
                </a:moveTo>
                <a:lnTo>
                  <a:pt x="224027" y="140208"/>
                </a:lnTo>
                <a:lnTo>
                  <a:pt x="224027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bject 148"/>
          <p:cNvSpPr/>
          <p:nvPr/>
        </p:nvSpPr>
        <p:spPr>
          <a:xfrm>
            <a:off x="4059360" y="3286080"/>
            <a:ext cx="2476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bject 149"/>
          <p:cNvSpPr/>
          <p:nvPr/>
        </p:nvSpPr>
        <p:spPr>
          <a:xfrm>
            <a:off x="7359480" y="33116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bject 150"/>
          <p:cNvSpPr/>
          <p:nvPr/>
        </p:nvSpPr>
        <p:spPr>
          <a:xfrm>
            <a:off x="7348680" y="32860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bject 151"/>
          <p:cNvSpPr/>
          <p:nvPr/>
        </p:nvSpPr>
        <p:spPr>
          <a:xfrm>
            <a:off x="8223120" y="33116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bject 152"/>
          <p:cNvSpPr/>
          <p:nvPr/>
        </p:nvSpPr>
        <p:spPr>
          <a:xfrm>
            <a:off x="8211960" y="32860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bject 153"/>
          <p:cNvSpPr/>
          <p:nvPr/>
        </p:nvSpPr>
        <p:spPr>
          <a:xfrm>
            <a:off x="573120" y="3463920"/>
            <a:ext cx="554040" cy="141120"/>
          </a:xfrm>
          <a:custGeom>
            <a:avLst/>
            <a:gdLst/>
            <a:ahLst/>
            <a:rect l="l" t="t" r="r" b="b"/>
            <a:pathLst>
              <a:path w="553719" h="140335">
                <a:moveTo>
                  <a:pt x="0" y="140208"/>
                </a:moveTo>
                <a:lnTo>
                  <a:pt x="553212" y="140208"/>
                </a:lnTo>
                <a:lnTo>
                  <a:pt x="553212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bject 154"/>
          <p:cNvSpPr/>
          <p:nvPr/>
        </p:nvSpPr>
        <p:spPr>
          <a:xfrm>
            <a:off x="561960" y="3438360"/>
            <a:ext cx="5778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глаза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bject 155"/>
          <p:cNvSpPr/>
          <p:nvPr/>
        </p:nvSpPr>
        <p:spPr>
          <a:xfrm>
            <a:off x="4119480" y="34639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bject 156"/>
          <p:cNvSpPr/>
          <p:nvPr/>
        </p:nvSpPr>
        <p:spPr>
          <a:xfrm>
            <a:off x="4106880" y="34383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bject 157"/>
          <p:cNvSpPr/>
          <p:nvPr/>
        </p:nvSpPr>
        <p:spPr>
          <a:xfrm>
            <a:off x="7359480" y="34639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bject 158"/>
          <p:cNvSpPr/>
          <p:nvPr/>
        </p:nvSpPr>
        <p:spPr>
          <a:xfrm>
            <a:off x="7348680" y="34383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bject 159"/>
          <p:cNvSpPr/>
          <p:nvPr/>
        </p:nvSpPr>
        <p:spPr>
          <a:xfrm>
            <a:off x="8223120" y="34639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bject 160"/>
          <p:cNvSpPr/>
          <p:nvPr/>
        </p:nvSpPr>
        <p:spPr>
          <a:xfrm>
            <a:off x="8211960" y="34383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bject 161"/>
          <p:cNvSpPr/>
          <p:nvPr/>
        </p:nvSpPr>
        <p:spPr>
          <a:xfrm>
            <a:off x="573120" y="3616200"/>
            <a:ext cx="3176640" cy="141480"/>
          </a:xfrm>
          <a:custGeom>
            <a:avLst/>
            <a:gdLst/>
            <a:ahLst/>
            <a:rect l="l" t="t" r="r" b="b"/>
            <a:pathLst>
              <a:path w="3176270" h="140335">
                <a:moveTo>
                  <a:pt x="0" y="140208"/>
                </a:moveTo>
                <a:lnTo>
                  <a:pt x="3176016" y="140208"/>
                </a:lnTo>
                <a:lnTo>
                  <a:pt x="31760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bject 162"/>
          <p:cNvSpPr/>
          <p:nvPr/>
        </p:nvSpPr>
        <p:spPr>
          <a:xfrm>
            <a:off x="561960" y="3591000"/>
            <a:ext cx="3162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органов грудной клетки (кроме сердца): вилочкова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bject 163"/>
          <p:cNvSpPr/>
          <p:nvPr/>
        </p:nvSpPr>
        <p:spPr>
          <a:xfrm>
            <a:off x="573120" y="3768840"/>
            <a:ext cx="2925720" cy="141120"/>
          </a:xfrm>
          <a:custGeom>
            <a:avLst/>
            <a:gdLst/>
            <a:ahLst/>
            <a:rect l="l" t="t" r="r" b="b"/>
            <a:pathLst>
              <a:path w="2924810" h="140335">
                <a:moveTo>
                  <a:pt x="0" y="140208"/>
                </a:moveTo>
                <a:lnTo>
                  <a:pt x="2924555" y="140208"/>
                </a:lnTo>
                <a:lnTo>
                  <a:pt x="292455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bject 164"/>
          <p:cNvSpPr/>
          <p:nvPr/>
        </p:nvSpPr>
        <p:spPr>
          <a:xfrm>
            <a:off x="561960" y="3743280"/>
            <a:ext cx="29098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, легкие, плевральная полость, внутригрудные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bject 165"/>
          <p:cNvSpPr/>
          <p:nvPr/>
        </p:nvSpPr>
        <p:spPr>
          <a:xfrm>
            <a:off x="573120" y="3921120"/>
            <a:ext cx="615960" cy="141120"/>
          </a:xfrm>
          <a:custGeom>
            <a:avLst/>
            <a:gdLst/>
            <a:ahLst/>
            <a:rect l="l" t="t" r="r" b="b"/>
            <a:pathLst>
              <a:path w="615950" h="140335">
                <a:moveTo>
                  <a:pt x="0" y="140208"/>
                </a:moveTo>
                <a:lnTo>
                  <a:pt x="615696" y="140208"/>
                </a:lnTo>
                <a:lnTo>
                  <a:pt x="61569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bject 166"/>
          <p:cNvSpPr/>
          <p:nvPr/>
        </p:nvSpPr>
        <p:spPr>
          <a:xfrm>
            <a:off x="561960" y="3895560"/>
            <a:ext cx="641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мфоузлы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bject 167"/>
          <p:cNvSpPr/>
          <p:nvPr/>
        </p:nvSpPr>
        <p:spPr>
          <a:xfrm>
            <a:off x="4119480" y="3768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bject 168"/>
          <p:cNvSpPr/>
          <p:nvPr/>
        </p:nvSpPr>
        <p:spPr>
          <a:xfrm>
            <a:off x="4106880" y="3743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bject 169"/>
          <p:cNvSpPr/>
          <p:nvPr/>
        </p:nvSpPr>
        <p:spPr>
          <a:xfrm>
            <a:off x="573120" y="4073400"/>
            <a:ext cx="1793880" cy="141480"/>
          </a:xfrm>
          <a:custGeom>
            <a:avLst/>
            <a:gdLst/>
            <a:ahLst/>
            <a:rect l="l" t="t" r="r" b="b"/>
            <a:pathLst>
              <a:path w="1792605" h="140335">
                <a:moveTo>
                  <a:pt x="0" y="140208"/>
                </a:moveTo>
                <a:lnTo>
                  <a:pt x="1792224" y="140208"/>
                </a:lnTo>
                <a:lnTo>
                  <a:pt x="179222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bject 170"/>
          <p:cNvSpPr/>
          <p:nvPr/>
        </p:nvSpPr>
        <p:spPr>
          <a:xfrm>
            <a:off x="561960" y="4048200"/>
            <a:ext cx="1816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наружных половых органов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bject 171"/>
          <p:cNvSpPr/>
          <p:nvPr/>
        </p:nvSpPr>
        <p:spPr>
          <a:xfrm>
            <a:off x="4119480" y="40734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bject 172"/>
          <p:cNvSpPr/>
          <p:nvPr/>
        </p:nvSpPr>
        <p:spPr>
          <a:xfrm>
            <a:off x="4106880" y="40482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bject 173"/>
          <p:cNvSpPr/>
          <p:nvPr/>
        </p:nvSpPr>
        <p:spPr>
          <a:xfrm>
            <a:off x="573120" y="4226040"/>
            <a:ext cx="1216080" cy="141120"/>
          </a:xfrm>
          <a:custGeom>
            <a:avLst/>
            <a:gdLst/>
            <a:ahLst/>
            <a:rect l="l" t="t" r="r" b="b"/>
            <a:pathLst>
              <a:path w="1214755" h="140335">
                <a:moveTo>
                  <a:pt x="0" y="140208"/>
                </a:moveTo>
                <a:lnTo>
                  <a:pt x="1214628" y="140208"/>
                </a:lnTo>
                <a:lnTo>
                  <a:pt x="12146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bject 174"/>
          <p:cNvSpPr/>
          <p:nvPr/>
        </p:nvSpPr>
        <p:spPr>
          <a:xfrm>
            <a:off x="1808280" y="422604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bject 175"/>
          <p:cNvSpPr/>
          <p:nvPr/>
        </p:nvSpPr>
        <p:spPr>
          <a:xfrm>
            <a:off x="1827360" y="4226040"/>
            <a:ext cx="736560" cy="141120"/>
          </a:xfrm>
          <a:custGeom>
            <a:avLst/>
            <a:gdLst/>
            <a:ahLst/>
            <a:rect l="l" t="t" r="r" b="b"/>
            <a:pathLst>
              <a:path w="737869" h="140335">
                <a:moveTo>
                  <a:pt x="0" y="140208"/>
                </a:moveTo>
                <a:lnTo>
                  <a:pt x="737615" y="140208"/>
                </a:lnTo>
                <a:lnTo>
                  <a:pt x="7376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bject 176"/>
          <p:cNvSpPr/>
          <p:nvPr/>
        </p:nvSpPr>
        <p:spPr>
          <a:xfrm>
            <a:off x="561960" y="4200480"/>
            <a:ext cx="20160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ндосонографические исследован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bject 177"/>
          <p:cNvSpPr/>
          <p:nvPr/>
        </p:nvSpPr>
        <p:spPr>
          <a:xfrm>
            <a:off x="4119480" y="42260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bject 178"/>
          <p:cNvSpPr/>
          <p:nvPr/>
        </p:nvSpPr>
        <p:spPr>
          <a:xfrm>
            <a:off x="4106880" y="42004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bject 179"/>
          <p:cNvSpPr/>
          <p:nvPr/>
        </p:nvSpPr>
        <p:spPr>
          <a:xfrm>
            <a:off x="573120" y="4378320"/>
            <a:ext cx="1708200" cy="141120"/>
          </a:xfrm>
          <a:custGeom>
            <a:avLst/>
            <a:gdLst/>
            <a:ahLst/>
            <a:rect l="l" t="t" r="r" b="b"/>
            <a:pathLst>
              <a:path w="1706880" h="140335">
                <a:moveTo>
                  <a:pt x="0" y="140208"/>
                </a:moveTo>
                <a:lnTo>
                  <a:pt x="1706879" y="140208"/>
                </a:lnTo>
                <a:lnTo>
                  <a:pt x="170687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bject 180"/>
          <p:cNvSpPr/>
          <p:nvPr/>
        </p:nvSpPr>
        <p:spPr>
          <a:xfrm>
            <a:off x="561960" y="4352760"/>
            <a:ext cx="17305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льтразвуковая денситометр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bject 181"/>
          <p:cNvSpPr/>
          <p:nvPr/>
        </p:nvSpPr>
        <p:spPr>
          <a:xfrm>
            <a:off x="4119480" y="43783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bject 182"/>
          <p:cNvSpPr/>
          <p:nvPr/>
        </p:nvSpPr>
        <p:spPr>
          <a:xfrm>
            <a:off x="4106880" y="43527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bject 183"/>
          <p:cNvSpPr/>
          <p:nvPr/>
        </p:nvSpPr>
        <p:spPr>
          <a:xfrm>
            <a:off x="7359480" y="437832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bject 184"/>
          <p:cNvSpPr/>
          <p:nvPr/>
        </p:nvSpPr>
        <p:spPr>
          <a:xfrm>
            <a:off x="7348680" y="435276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bject 185"/>
          <p:cNvSpPr/>
          <p:nvPr/>
        </p:nvSpPr>
        <p:spPr>
          <a:xfrm>
            <a:off x="8223120" y="437832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bject 186"/>
          <p:cNvSpPr/>
          <p:nvPr/>
        </p:nvSpPr>
        <p:spPr>
          <a:xfrm>
            <a:off x="8211960" y="435276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bject 187"/>
          <p:cNvSpPr/>
          <p:nvPr/>
        </p:nvSpPr>
        <p:spPr>
          <a:xfrm>
            <a:off x="573120" y="4530600"/>
            <a:ext cx="1895400" cy="141480"/>
          </a:xfrm>
          <a:custGeom>
            <a:avLst/>
            <a:gdLst/>
            <a:ahLst/>
            <a:rect l="l" t="t" r="r" b="b"/>
            <a:pathLst>
              <a:path w="1894839" h="140335">
                <a:moveTo>
                  <a:pt x="0" y="140208"/>
                </a:moveTo>
                <a:lnTo>
                  <a:pt x="1894331" y="140208"/>
                </a:lnTo>
                <a:lnTo>
                  <a:pt x="1894331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bject 188"/>
          <p:cNvSpPr/>
          <p:nvPr/>
        </p:nvSpPr>
        <p:spPr>
          <a:xfrm>
            <a:off x="561960" y="4505400"/>
            <a:ext cx="19177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раоперационные исследован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bject 189"/>
          <p:cNvSpPr/>
          <p:nvPr/>
        </p:nvSpPr>
        <p:spPr>
          <a:xfrm>
            <a:off x="4119480" y="4530600"/>
            <a:ext cx="128520" cy="14148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bject 190"/>
          <p:cNvSpPr/>
          <p:nvPr/>
        </p:nvSpPr>
        <p:spPr>
          <a:xfrm>
            <a:off x="4106880" y="450540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bject 191"/>
          <p:cNvSpPr/>
          <p:nvPr/>
        </p:nvSpPr>
        <p:spPr>
          <a:xfrm>
            <a:off x="573120" y="4683240"/>
            <a:ext cx="1177920" cy="141120"/>
          </a:xfrm>
          <a:custGeom>
            <a:avLst/>
            <a:gdLst/>
            <a:ahLst/>
            <a:rect l="l" t="t" r="r" b="b"/>
            <a:pathLst>
              <a:path w="1176655" h="140335">
                <a:moveTo>
                  <a:pt x="0" y="140208"/>
                </a:moveTo>
                <a:lnTo>
                  <a:pt x="1176528" y="140208"/>
                </a:lnTo>
                <a:lnTo>
                  <a:pt x="1176528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bject 192"/>
          <p:cNvSpPr/>
          <p:nvPr/>
        </p:nvSpPr>
        <p:spPr>
          <a:xfrm>
            <a:off x="561960" y="4657680"/>
            <a:ext cx="1200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чие исследования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bject 193"/>
          <p:cNvSpPr/>
          <p:nvPr/>
        </p:nvSpPr>
        <p:spPr>
          <a:xfrm>
            <a:off x="4119480" y="46832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bject 194"/>
          <p:cNvSpPr/>
          <p:nvPr/>
        </p:nvSpPr>
        <p:spPr>
          <a:xfrm>
            <a:off x="4106880" y="46576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object 195"/>
          <p:cNvSpPr/>
          <p:nvPr/>
        </p:nvSpPr>
        <p:spPr>
          <a:xfrm>
            <a:off x="533520" y="4835520"/>
            <a:ext cx="360" cy="141120"/>
          </a:xfrm>
          <a:custGeom>
            <a:avLst/>
            <a:gdLst/>
            <a:ahLst/>
            <a:rect l="l" t="t" r="r" b="b"/>
            <a:pathLst>
              <a:path w="0" h="140335">
                <a:moveTo>
                  <a:pt x="0" y="0"/>
                </a:moveTo>
                <a:lnTo>
                  <a:pt x="0" y="140208"/>
                </a:lnTo>
              </a:path>
            </a:pathLst>
          </a:custGeom>
          <a:noFill/>
          <a:ln w="626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object 196"/>
          <p:cNvSpPr/>
          <p:nvPr/>
        </p:nvSpPr>
        <p:spPr>
          <a:xfrm>
            <a:off x="565200" y="4835520"/>
            <a:ext cx="2819520" cy="141120"/>
          </a:xfrm>
          <a:custGeom>
            <a:avLst/>
            <a:gdLst/>
            <a:ahLst/>
            <a:rect l="l" t="t" r="r" b="b"/>
            <a:pathLst>
              <a:path w="2819400" h="140335">
                <a:moveTo>
                  <a:pt x="0" y="140208"/>
                </a:moveTo>
                <a:lnTo>
                  <a:pt x="2819400" y="140208"/>
                </a:lnTo>
                <a:lnTo>
                  <a:pt x="281940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object 197"/>
          <p:cNvSpPr/>
          <p:nvPr/>
        </p:nvSpPr>
        <p:spPr>
          <a:xfrm>
            <a:off x="552600" y="4809960"/>
            <a:ext cx="2805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общего числа исследований (стр. 1) выполнено: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object 198"/>
          <p:cNvSpPr/>
          <p:nvPr/>
        </p:nvSpPr>
        <p:spPr>
          <a:xfrm>
            <a:off x="754200" y="4987800"/>
            <a:ext cx="1804680" cy="141480"/>
          </a:xfrm>
          <a:custGeom>
            <a:avLst/>
            <a:gdLst/>
            <a:ahLst/>
            <a:rect l="l" t="t" r="r" b="b"/>
            <a:pathLst>
              <a:path w="1804670" h="140335">
                <a:moveTo>
                  <a:pt x="0" y="140208"/>
                </a:moveTo>
                <a:lnTo>
                  <a:pt x="1804416" y="140208"/>
                </a:lnTo>
                <a:lnTo>
                  <a:pt x="18044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object 199"/>
          <p:cNvSpPr/>
          <p:nvPr/>
        </p:nvSpPr>
        <p:spPr>
          <a:xfrm>
            <a:off x="741240" y="4962600"/>
            <a:ext cx="18288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рожденным и детям до 2 ле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object 200"/>
          <p:cNvSpPr/>
          <p:nvPr/>
        </p:nvSpPr>
        <p:spPr>
          <a:xfrm>
            <a:off x="4119480" y="49118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object 201"/>
          <p:cNvSpPr/>
          <p:nvPr/>
        </p:nvSpPr>
        <p:spPr>
          <a:xfrm>
            <a:off x="4106880" y="48862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object 202"/>
          <p:cNvSpPr/>
          <p:nvPr/>
        </p:nvSpPr>
        <p:spPr>
          <a:xfrm>
            <a:off x="501480" y="514044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bject 203"/>
          <p:cNvSpPr/>
          <p:nvPr/>
        </p:nvSpPr>
        <p:spPr>
          <a:xfrm>
            <a:off x="755640" y="5140440"/>
            <a:ext cx="2260440" cy="141120"/>
          </a:xfrm>
          <a:custGeom>
            <a:avLst/>
            <a:gdLst/>
            <a:ahLst/>
            <a:rect l="l" t="t" r="r" b="b"/>
            <a:pathLst>
              <a:path w="2261870" h="140335">
                <a:moveTo>
                  <a:pt x="0" y="140208"/>
                </a:moveTo>
                <a:lnTo>
                  <a:pt x="2261616" y="140208"/>
                </a:lnTo>
                <a:lnTo>
                  <a:pt x="2261616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bject 204"/>
          <p:cNvSpPr/>
          <p:nvPr/>
        </p:nvSpPr>
        <p:spPr>
          <a:xfrm>
            <a:off x="743040" y="5114880"/>
            <a:ext cx="228420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внутривенным контрастированием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object 205"/>
          <p:cNvSpPr/>
          <p:nvPr/>
        </p:nvSpPr>
        <p:spPr>
          <a:xfrm>
            <a:off x="4119480" y="514044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bject 206"/>
          <p:cNvSpPr/>
          <p:nvPr/>
        </p:nvSpPr>
        <p:spPr>
          <a:xfrm>
            <a:off x="4106880" y="511488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bject 207"/>
          <p:cNvSpPr/>
          <p:nvPr/>
        </p:nvSpPr>
        <p:spPr>
          <a:xfrm>
            <a:off x="7359480" y="5140440"/>
            <a:ext cx="9072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bject 208"/>
          <p:cNvSpPr/>
          <p:nvPr/>
        </p:nvSpPr>
        <p:spPr>
          <a:xfrm>
            <a:off x="7348680" y="5114880"/>
            <a:ext cx="115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object 209"/>
          <p:cNvSpPr/>
          <p:nvPr/>
        </p:nvSpPr>
        <p:spPr>
          <a:xfrm>
            <a:off x="8223120" y="5140440"/>
            <a:ext cx="92160" cy="141120"/>
          </a:xfrm>
          <a:custGeom>
            <a:avLst/>
            <a:gdLst/>
            <a:ahLst/>
            <a:rect l="l" t="t" r="r" b="b"/>
            <a:pathLst>
              <a:path w="91440" h="140335">
                <a:moveTo>
                  <a:pt x="0" y="140208"/>
                </a:moveTo>
                <a:lnTo>
                  <a:pt x="91440" y="140208"/>
                </a:lnTo>
                <a:lnTo>
                  <a:pt x="91440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bject 210"/>
          <p:cNvSpPr/>
          <p:nvPr/>
        </p:nvSpPr>
        <p:spPr>
          <a:xfrm>
            <a:off x="8211960" y="5114880"/>
            <a:ext cx="1177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bject 211"/>
          <p:cNvSpPr/>
          <p:nvPr/>
        </p:nvSpPr>
        <p:spPr>
          <a:xfrm>
            <a:off x="501480" y="5292720"/>
            <a:ext cx="254160" cy="141120"/>
          </a:xfrm>
          <a:custGeom>
            <a:avLst/>
            <a:gdLst/>
            <a:ahLst/>
            <a:rect l="l" t="t" r="r" b="b"/>
            <a:pathLst>
              <a:path w="253365" h="140335">
                <a:moveTo>
                  <a:pt x="0" y="140208"/>
                </a:moveTo>
                <a:lnTo>
                  <a:pt x="252984" y="140208"/>
                </a:lnTo>
                <a:lnTo>
                  <a:pt x="25298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bject 212"/>
          <p:cNvSpPr/>
          <p:nvPr/>
        </p:nvSpPr>
        <p:spPr>
          <a:xfrm>
            <a:off x="755640" y="5292720"/>
            <a:ext cx="365040" cy="141120"/>
          </a:xfrm>
          <a:custGeom>
            <a:avLst/>
            <a:gdLst/>
            <a:ahLst/>
            <a:rect l="l" t="t" r="r" b="b"/>
            <a:pathLst>
              <a:path w="365759" h="140335">
                <a:moveTo>
                  <a:pt x="0" y="140208"/>
                </a:moveTo>
                <a:lnTo>
                  <a:pt x="365759" y="140208"/>
                </a:lnTo>
                <a:lnTo>
                  <a:pt x="365759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bject 213"/>
          <p:cNvSpPr/>
          <p:nvPr/>
        </p:nvSpPr>
        <p:spPr>
          <a:xfrm>
            <a:off x="1120680" y="5292720"/>
            <a:ext cx="793800" cy="141120"/>
          </a:xfrm>
          <a:custGeom>
            <a:avLst/>
            <a:gdLst/>
            <a:ahLst/>
            <a:rect l="l" t="t" r="r" b="b"/>
            <a:pathLst>
              <a:path w="794385" h="140335">
                <a:moveTo>
                  <a:pt x="0" y="140208"/>
                </a:moveTo>
                <a:lnTo>
                  <a:pt x="794004" y="140208"/>
                </a:lnTo>
                <a:lnTo>
                  <a:pt x="794004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bject 214"/>
          <p:cNvSpPr/>
          <p:nvPr/>
        </p:nvSpPr>
        <p:spPr>
          <a:xfrm>
            <a:off x="743040" y="5267160"/>
            <a:ext cx="11858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ЗИ с эластографией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bject 215"/>
          <p:cNvSpPr/>
          <p:nvPr/>
        </p:nvSpPr>
        <p:spPr>
          <a:xfrm>
            <a:off x="4119480" y="5292720"/>
            <a:ext cx="128520" cy="141120"/>
          </a:xfrm>
          <a:custGeom>
            <a:avLst/>
            <a:gdLst/>
            <a:ahLst/>
            <a:rect l="l" t="t" r="r" b="b"/>
            <a:pathLst>
              <a:path w="128270" h="140335">
                <a:moveTo>
                  <a:pt x="0" y="140208"/>
                </a:moveTo>
                <a:lnTo>
                  <a:pt x="128015" y="140208"/>
                </a:lnTo>
                <a:lnTo>
                  <a:pt x="128015" y="0"/>
                </a:lnTo>
                <a:lnTo>
                  <a:pt x="0" y="0"/>
                </a:lnTo>
                <a:lnTo>
                  <a:pt x="0" y="1402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bject 216"/>
          <p:cNvSpPr/>
          <p:nvPr/>
        </p:nvSpPr>
        <p:spPr>
          <a:xfrm>
            <a:off x="4106880" y="5267160"/>
            <a:ext cx="15408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Скругленный прямоугольник 12"/>
          <p:cNvSpPr/>
          <p:nvPr/>
        </p:nvSpPr>
        <p:spPr>
          <a:xfrm>
            <a:off x="1241280" y="5614920"/>
            <a:ext cx="5334120" cy="381240"/>
          </a:xfrm>
          <a:prstGeom prst="roundRect">
            <a:avLst>
              <a:gd name="adj" fmla="val 16667"/>
            </a:avLst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7 должна быть меньше или равна графе 6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object 3"/>
          <p:cNvSpPr/>
          <p:nvPr/>
        </p:nvSpPr>
        <p:spPr>
          <a:xfrm>
            <a:off x="684360" y="2565360"/>
            <a:ext cx="1440" cy="3225960"/>
          </a:xfrm>
          <a:custGeom>
            <a:avLst/>
            <a:gdLst/>
            <a:ahLst/>
            <a:rect l="l" t="t" r="r" b="b"/>
            <a:pathLst>
              <a:path w="1904" h="3225800">
                <a:moveTo>
                  <a:pt x="1587" y="0"/>
                </a:moveTo>
                <a:lnTo>
                  <a:pt x="0" y="322580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bject 5"/>
          <p:cNvSpPr/>
          <p:nvPr/>
        </p:nvSpPr>
        <p:spPr>
          <a:xfrm>
            <a:off x="804960" y="179280"/>
            <a:ext cx="7643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119 «Магнитно-резонансные томографии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Таблица 7" descr=""/>
          <p:cNvPicPr/>
          <p:nvPr/>
        </p:nvPicPr>
        <p:blipFill>
          <a:blip r:embed="rId1"/>
          <a:stretch/>
        </p:blipFill>
        <p:spPr>
          <a:xfrm>
            <a:off x="596880" y="1206360"/>
            <a:ext cx="8182080" cy="5091120"/>
          </a:xfrm>
          <a:prstGeom prst="rect">
            <a:avLst/>
          </a:prstGeom>
          <a:ln w="0">
            <a:noFill/>
          </a:ln>
        </p:spPr>
      </p:pic>
      <p:sp>
        <p:nvSpPr>
          <p:cNvPr id="1040" name="Rectangle 453"/>
          <p:cNvSpPr/>
          <p:nvPr/>
        </p:nvSpPr>
        <p:spPr>
          <a:xfrm>
            <a:off x="4932360" y="2857680"/>
            <a:ext cx="3862440" cy="157932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больше суммы граф 5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за счет исследований, выполненных пациентам, получавших медицинскую помощь в стационарных условиях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453"/>
          <p:cNvSpPr/>
          <p:nvPr/>
        </p:nvSpPr>
        <p:spPr>
          <a:xfrm>
            <a:off x="4932360" y="4700520"/>
            <a:ext cx="3836880" cy="91908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должна быть равна сумме строк со 2 по 1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2" name=""/>
          <p:cNvGraphicFramePr/>
          <p:nvPr/>
        </p:nvGraphicFramePr>
        <p:xfrm>
          <a:off x="222120" y="426960"/>
          <a:ext cx="8783640" cy="6431040"/>
        </p:xfrm>
        <a:graphic>
          <a:graphicData uri="http://schemas.openxmlformats.org/drawingml/2006/table">
            <a:tbl>
              <a:tblPr/>
              <a:tblGrid>
                <a:gridCol w="3498840"/>
                <a:gridCol w="495360"/>
                <a:gridCol w="709560"/>
                <a:gridCol w="1278000"/>
                <a:gridCol w="566640"/>
                <a:gridCol w="781200"/>
                <a:gridCol w="145404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управляемые поворотные столы-штативы с функцией рентгеноскопи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3 рабочих места включая поворотные столы-штативы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2 рабочих места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диагностические комплексы на 1 рабочее мест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фровые аппараты для исследований органов грудной клетки (цифровые флюорограф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шасси автомоби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еночные флюор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шасси автомоби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тные аппара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е рентгенотелевизионные установки типа С-дуг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урологические аппара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ммографические аппара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функцией томосинтез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тальные аппараты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ицельные (радиовизиограф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3" name="Rectangle 605"/>
          <p:cNvSpPr/>
          <p:nvPr/>
        </p:nvSpPr>
        <p:spPr>
          <a:xfrm>
            <a:off x="228600" y="41400"/>
            <a:ext cx="8534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453"/>
          <p:cNvSpPr/>
          <p:nvPr/>
        </p:nvSpPr>
        <p:spPr>
          <a:xfrm>
            <a:off x="4216320" y="3022560"/>
            <a:ext cx="4724640" cy="380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любой из граф 4, 5, 6, 7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453"/>
          <p:cNvSpPr/>
          <p:nvPr/>
        </p:nvSpPr>
        <p:spPr>
          <a:xfrm>
            <a:off x="4216320" y="3656160"/>
            <a:ext cx="472464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4 должна быть больше строки 4.1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453"/>
          <p:cNvSpPr/>
          <p:nvPr/>
        </p:nvSpPr>
        <p:spPr>
          <a:xfrm>
            <a:off x="4281480" y="4319640"/>
            <a:ext cx="4724280" cy="45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5 должна быть больше строки 5.1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228600" y="838080"/>
          <a:ext cx="8686800" cy="5273640"/>
        </p:xfrm>
        <a:graphic>
          <a:graphicData uri="http://schemas.openxmlformats.org/drawingml/2006/table">
            <a:tbl>
              <a:tblPr/>
              <a:tblGrid>
                <a:gridCol w="3119400"/>
                <a:gridCol w="503280"/>
                <a:gridCol w="982800"/>
                <a:gridCol w="1538280"/>
                <a:gridCol w="503280"/>
                <a:gridCol w="865080"/>
                <a:gridCol w="117468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орамные томографы (ортопантомографы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ифр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тальные том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иографические аппараты стационарн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е том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шаг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альные односрезов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ральные многосрезовые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838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 ч.: менее 16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-40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среза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и более срез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.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68760" rIns="68760" tIns="0" bIns="0" anchor="t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еоденситометры рентгеновски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9" name="Прямоугольник 3"/>
          <p:cNvSpPr/>
          <p:nvPr/>
        </p:nvSpPr>
        <p:spPr>
          <a:xfrm>
            <a:off x="4643280" y="4292640"/>
            <a:ext cx="3529080" cy="936720"/>
          </a:xfrm>
          <a:prstGeom prst="rect">
            <a:avLst/>
          </a:prstGeom>
          <a:solidFill>
            <a:srgbClr val="dfedf2"/>
          </a:solidFill>
          <a:ln w="25560">
            <a:solidFill>
              <a:srgbClr val="2d7e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ока 13=  сумме строк 13.1+13.2+13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0" name=""/>
          <p:cNvGraphicFramePr/>
          <p:nvPr/>
        </p:nvGraphicFramePr>
        <p:xfrm>
          <a:off x="228600" y="838080"/>
          <a:ext cx="8686800" cy="5430960"/>
        </p:xfrm>
        <a:graphic>
          <a:graphicData uri="http://schemas.openxmlformats.org/drawingml/2006/table">
            <a:tbl>
              <a:tblPr/>
              <a:tblGrid>
                <a:gridCol w="3048120"/>
                <a:gridCol w="647640"/>
                <a:gridCol w="863640"/>
                <a:gridCol w="1368360"/>
                <a:gridCol w="576360"/>
                <a:gridCol w="792000"/>
                <a:gridCol w="139068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вские аппараты всего (без компьютерных томографов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 томографы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нее 1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костей и суставов    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3,0 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явочные автоматы и каме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ы компьютерной радиографии (рентгенографии на фотостимулируемых люминофорах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УЗИ, 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ртативны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доплерограф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эластографи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хоэнцефалограф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1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2" name=""/>
          <p:cNvGraphicFramePr/>
          <p:nvPr/>
        </p:nvGraphicFramePr>
        <p:xfrm>
          <a:off x="228600" y="762120"/>
          <a:ext cx="8807400" cy="5324400"/>
        </p:xfrm>
        <a:graphic>
          <a:graphicData uri="http://schemas.openxmlformats.org/drawingml/2006/table">
            <a:tbl>
              <a:tblPr/>
              <a:tblGrid>
                <a:gridCol w="3479760"/>
                <a:gridCol w="503280"/>
                <a:gridCol w="639720"/>
                <a:gridCol w="1241640"/>
                <a:gridCol w="583920"/>
                <a:gridCol w="803520"/>
                <a:gridCol w="1555560"/>
              </a:tblGrid>
              <a:tr h="27468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для радионуклидной диагностики, 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ланарные диагностические гамма-каме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547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фотонные эмиссионные компьютерные томографы (ОФЭКТ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щенные ОФЭКТ/КТ установ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ронно-эмиссионные томографы (ПЭТ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4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щенные ПЭТ/КТ установ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циклотроном для синтеза ультракороткоживущих РФ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щенные ПЭТ/МРТ установк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циклотроном для синтеза ультракороткоживущих РФ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6.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клотроны для синтеза ультракороткоживущих РФП (без ПЭТ установки)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68760" rIns="68760" tIns="0" bIns="0" anchor="b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ограф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аппаратов, подключенных к сети Интернет для передачи данных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ческая информационная сеть (RIS)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подключенных к системе получения, архивирования, хранения и поискацифровых изображений (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CS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3" name="Rectangle 605"/>
          <p:cNvSpPr/>
          <p:nvPr/>
        </p:nvSpPr>
        <p:spPr>
          <a:xfrm>
            <a:off x="228600" y="380880"/>
            <a:ext cx="8534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6. Аппараты и оборудование для лучевой 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4" name=""/>
          <p:cNvGraphicFramePr/>
          <p:nvPr/>
        </p:nvGraphicFramePr>
        <p:xfrm>
          <a:off x="128520" y="577800"/>
          <a:ext cx="8939160" cy="6008760"/>
        </p:xfrm>
        <a:graphic>
          <a:graphicData uri="http://schemas.openxmlformats.org/drawingml/2006/table">
            <a:tbl>
              <a:tblPr/>
              <a:tblGrid>
                <a:gridCol w="3938760"/>
                <a:gridCol w="433440"/>
                <a:gridCol w="576000"/>
                <a:gridCol w="1224000"/>
                <a:gridCol w="647640"/>
                <a:gridCol w="792360"/>
                <a:gridCol w="1326960"/>
              </a:tblGrid>
              <a:tr h="21348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511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10 лет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 в амбулаторных условиях (из гр.6)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терапевтические аппараты, всего: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зкофокусные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глубокой рентгено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мма-терапевтические аппараты для дистанционной лучевой терапии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ейные ускорители электронов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конвенциальной лучевой терапии 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ез мнопластинчатого коллиматор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6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конформной радиотерапии 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 многопластинчатым коллиматором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 возможностью контроля укладки пациента по рентгеновским изображениям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контроля укладки пациента по изображениям, полученным из терапевтического пучк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лучевой терапии с модуляцией интенсивност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ротационного облучения с модуляцией интенсивности пучка излучения     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синхронизации лучевой терапии с дыханием пациента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проведения стереотаксической лучевой 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6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зможностью облучения энергиям 10+ МэВ и электронами                   (высокоэнергетические)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7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ы и комплекты оборудования для проведения контактной радиотерапии, всего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нутриполостной радио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290520" indent="428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тканевой с высокой мощностью дозы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тканевой микроисточниками с низкой мощностью дозы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ликационно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сосудистой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стандартные специализированные аппараты для лучевой терапии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5" name="Rectangle 453"/>
          <p:cNvSpPr/>
          <p:nvPr/>
        </p:nvSpPr>
        <p:spPr>
          <a:xfrm>
            <a:off x="4495680" y="1778040"/>
            <a:ext cx="4572000" cy="6858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33"/>
                </a:solidFill>
                <a:latin typeface="Times New Roman"/>
              </a:rPr>
              <a:t>Сведения о наличии аппаратов и оборудования указываются по состоянию на 31.12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453"/>
          <p:cNvSpPr/>
          <p:nvPr/>
        </p:nvSpPr>
        <p:spPr>
          <a:xfrm>
            <a:off x="4533840" y="2517840"/>
            <a:ext cx="4564080" cy="4572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афа 3 должна быть больше любой из граф 4,  5,  6, 7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453"/>
          <p:cNvSpPr/>
          <p:nvPr/>
        </p:nvSpPr>
        <p:spPr>
          <a:xfrm>
            <a:off x="4533840" y="3084480"/>
            <a:ext cx="4496040" cy="6858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1 может быть больше суммы строк 1.1+1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453"/>
          <p:cNvSpPr/>
          <p:nvPr/>
        </p:nvSpPr>
        <p:spPr>
          <a:xfrm>
            <a:off x="4533840" y="3965400"/>
            <a:ext cx="4496040" cy="4860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3 = строкам 3.1+3.2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453"/>
          <p:cNvSpPr/>
          <p:nvPr/>
        </p:nvSpPr>
        <p:spPr>
          <a:xfrm>
            <a:off x="4495680" y="4649760"/>
            <a:ext cx="4496040" cy="48564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4 = строкам 4.1+4.2+4.3+4.4+4.5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53"/>
          <p:cNvSpPr/>
          <p:nvPr/>
        </p:nvSpPr>
        <p:spPr>
          <a:xfrm>
            <a:off x="4586400" y="5533920"/>
            <a:ext cx="4495680" cy="486000"/>
          </a:xfrm>
          <a:prstGeom prst="rect">
            <a:avLst/>
          </a:prstGeom>
          <a:solidFill>
            <a:srgbClr val="b9e1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трока 5 = строкам 5.1+5.2+5.3+5.4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</a:rPr>
              <a:t>Разницу поясни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605"/>
          <p:cNvSpPr/>
          <p:nvPr/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7. Аппараты и оборудование отделений (кабинетов) лучевой терап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38320" y="631800"/>
            <a:ext cx="670536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98"/>
          <p:cNvSpPr/>
          <p:nvPr/>
        </p:nvSpPr>
        <p:spPr>
          <a:xfrm>
            <a:off x="380880" y="1301760"/>
            <a:ext cx="8382240" cy="54039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соответствии с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ом Минздрава РФ от 31.05.2019 №372н «Об утверждении положения об организации оказания паллиативной медицинской помощи, включая порядок взаимодействия медицинских организаций, организаций социального обслуживания и общественных объединений, иных некоммерческих организаций, осуществляющих свою деятельность в сфере охраны»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ллиативную медицинскую помощь оказываются: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льдшерами,  при условии возложения на них функций лечащего врача и иными медицинскими работниками со средним медицинским образованием фельдшерских здравпунктов, фельдшерско-акушерских пунктов, врачебных амбулаторий, иных медицинских организаций (их структурных подразделений), оказывающих первичную доврачебную медико-санитарную помощ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ами-терапевтами, врачами терапевтами-участковыми, врачами-педиатрами, врачами-педиатрами участковыми, врачами общей практики (семейными врачами), врачами-специалистами медицинских организаций, оказывающих первичную медико-санитарную помощь, специализированную медицинскую помощь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7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ачами по паллиативной медицинской помощи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B421-77B1-4BD3-8801-896D3A4218E7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0e5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эндоскопических отделений (кабинетов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Заголовок 1"/>
          <p:cNvSpPr/>
          <p:nvPr/>
        </p:nvSpPr>
        <p:spPr>
          <a:xfrm>
            <a:off x="138240" y="530280"/>
            <a:ext cx="1887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5125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415800" y="1030320"/>
          <a:ext cx="8728200" cy="5727600"/>
        </p:xfrm>
        <a:graphic>
          <a:graphicData uri="http://schemas.openxmlformats.org/drawingml/2006/table">
            <a:tbl>
              <a:tblPr/>
              <a:tblGrid>
                <a:gridCol w="2238480"/>
                <a:gridCol w="372960"/>
                <a:gridCol w="500040"/>
                <a:gridCol w="1084320"/>
                <a:gridCol w="662040"/>
                <a:gridCol w="662040"/>
                <a:gridCol w="739800"/>
                <a:gridCol w="739800"/>
                <a:gridCol w="904680"/>
                <a:gridCol w="824040"/>
              </a:tblGrid>
              <a:tr h="420120"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зофагогастро-дуоден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но-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-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тосигмо-ид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-носкоп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о-капсульных исследо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лечебные манипуляци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условиях  ДС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х под анестези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доброкачественны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й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indent="71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секцией в подслизистом сло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ие инородных тел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онная дилатац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тир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-17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ка кровотечений,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2480" rIns="42480" tIns="0" bIns="0" anchor="t">
                      <a:noAutofit/>
                    </a:bodyPr>
                    <a:p>
                      <a:pPr marL="108000" indent="88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 экстренным показания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клипс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8" name="Rectangle 453"/>
          <p:cNvSpPr/>
          <p:nvPr/>
        </p:nvSpPr>
        <p:spPr>
          <a:xfrm>
            <a:off x="3205080" y="2637000"/>
            <a:ext cx="5410440" cy="576000"/>
          </a:xfrm>
          <a:prstGeom prst="rect">
            <a:avLst/>
          </a:prstGeom>
          <a:solidFill>
            <a:srgbClr val="d0e5eb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или равна сумме строк 9 и 10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53"/>
          <p:cNvSpPr/>
          <p:nvPr/>
        </p:nvSpPr>
        <p:spPr>
          <a:xfrm>
            <a:off x="3581280" y="3505320"/>
            <a:ext cx="3654720" cy="141444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рафе 10 (прочие) можно отнести: лапароскопии, цистоскопии, ларингоскопии, уретроскопии, гистероскопи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Скругленная прямоугольная выноска 10"/>
          <p:cNvSpPr/>
          <p:nvPr/>
        </p:nvSpPr>
        <p:spPr>
          <a:xfrm>
            <a:off x="3657600" y="5257800"/>
            <a:ext cx="1828800" cy="1447920"/>
          </a:xfrm>
          <a:prstGeom prst="wedgeRoundRectCallout">
            <a:avLst>
              <a:gd name="adj1" fmla="val 133439"/>
              <a:gd name="adj2" fmla="val 23620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33CA-924D-4EE8-BBDC-25B75AE46215}" type="slidenum">
              <a:rPr b="0" lang="ru-RU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45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ппараты и оборудование эндоскопических отделений (кабинетов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Заголовок 1"/>
          <p:cNvSpPr/>
          <p:nvPr/>
        </p:nvSpPr>
        <p:spPr>
          <a:xfrm>
            <a:off x="324000" y="549360"/>
            <a:ext cx="158400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marL="519480" indent="-51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5126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468360" y="828720"/>
          <a:ext cx="8567640" cy="5540400"/>
        </p:xfrm>
        <a:graphic>
          <a:graphicData uri="http://schemas.openxmlformats.org/drawingml/2006/table">
            <a:tbl>
              <a:tblPr/>
              <a:tblGrid>
                <a:gridCol w="2935080"/>
                <a:gridCol w="525600"/>
                <a:gridCol w="781200"/>
                <a:gridCol w="1036440"/>
                <a:gridCol w="897120"/>
                <a:gridCol w="796680"/>
                <a:gridCol w="798480"/>
                <a:gridCol w="797040"/>
              </a:tblGrid>
              <a:tr h="280800"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до 3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от 4 до 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луатации свыше 7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е эндоскопы для верхних отделов желудочно-кишечного тракта,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идеогастр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оде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е эндоскопы для нижних отделов желудочно-кишечного тракта,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видеоколон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моид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гидные ректороманоскопы (осветител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гидные ректороманоскопы (тубус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пароскоп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45720" rIns="45720" tIns="0" bIns="0" anchor="t">
                      <a:noAutofit/>
                    </a:bodyPr>
                    <a:p>
                      <a:pPr marL="20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афы специализированные для сушки и хранения эндоскоп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Rectangle 453"/>
          <p:cNvSpPr/>
          <p:nvPr/>
        </p:nvSpPr>
        <p:spPr>
          <a:xfrm>
            <a:off x="3792600" y="3060720"/>
            <a:ext cx="482580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равна сумме граф 6+7+8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53"/>
          <p:cNvSpPr/>
          <p:nvPr/>
        </p:nvSpPr>
        <p:spPr>
          <a:xfrm>
            <a:off x="4013280" y="3727440"/>
            <a:ext cx="438300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4 и 5 (каждая отдельно) меньше или равны графе 3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53"/>
          <p:cNvSpPr/>
          <p:nvPr/>
        </p:nvSpPr>
        <p:spPr>
          <a:xfrm>
            <a:off x="4238640" y="4422600"/>
            <a:ext cx="4086360" cy="56844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больше или равна сумме строк 1.1+1.2+1.3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453"/>
          <p:cNvSpPr/>
          <p:nvPr/>
        </p:nvSpPr>
        <p:spPr>
          <a:xfrm>
            <a:off x="4211640" y="5070600"/>
            <a:ext cx="4086360" cy="568080"/>
          </a:xfrm>
          <a:prstGeom prst="rect">
            <a:avLst/>
          </a:prstGeom>
          <a:solidFill>
            <a:srgbClr val="dfedf2"/>
          </a:solidFill>
          <a:ln w="9360">
            <a:solidFill>
              <a:srgbClr val="c84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2 больше или равна сумме строк 2.1+2.2 по всем графам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53"/>
          <p:cNvSpPr/>
          <p:nvPr/>
        </p:nvSpPr>
        <p:spPr>
          <a:xfrm>
            <a:off x="4889520" y="6039000"/>
            <a:ext cx="4254480" cy="75240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. 5125  графы со 4 по 10 должны быть согласованы с данными по аппарат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453"/>
          <p:cNvSpPr/>
          <p:nvPr/>
        </p:nvSpPr>
        <p:spPr>
          <a:xfrm>
            <a:off x="101520" y="6259680"/>
            <a:ext cx="4415040" cy="760320"/>
          </a:xfrm>
          <a:prstGeom prst="rect">
            <a:avLst/>
          </a:prstGeom>
          <a:solidFill>
            <a:srgbClr val="dfed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о наличии аппаратов и оборудования указываются по состоянию на 31.12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Скругленная прямоугольная выноска 15"/>
          <p:cNvSpPr/>
          <p:nvPr/>
        </p:nvSpPr>
        <p:spPr>
          <a:xfrm>
            <a:off x="7383600" y="1182600"/>
            <a:ext cx="1828800" cy="1447920"/>
          </a:xfrm>
          <a:prstGeom prst="wedgeRoundRectCallout">
            <a:avLst>
              <a:gd name="adj1" fmla="val -168226"/>
              <a:gd name="adj2" fmla="val 270564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43000" y="512280"/>
            <a:ext cx="175248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605"/>
          <p:cNvSpPr/>
          <p:nvPr/>
        </p:nvSpPr>
        <p:spPr>
          <a:xfrm>
            <a:off x="243000" y="19044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4. Деятельность кабинетов функциональной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Прямоугольник 4"/>
          <p:cNvSpPr/>
          <p:nvPr/>
        </p:nvSpPr>
        <p:spPr>
          <a:xfrm>
            <a:off x="152280" y="4267080"/>
            <a:ext cx="8839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аблица заполняется  на основании сведений, указанных в журнале регистрации исследований, выполненных в отделении (кабинете) функциональной диагностики (ф. 157/у-93 приказ МЗ России от 30.11.93 № 283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следовании одного пациента одномоментно (при одном обращении) несколькими различными методами функциональной диагностики с выдачей отдельных врачебных заключений по каждому методу каждое исследование регистрируется под новым порядковым номером с заполнением всех граф журнала и включается в соответствующие таблицы отчета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228600" y="1066680"/>
          <a:ext cx="8763120" cy="3144960"/>
        </p:xfrm>
        <a:graphic>
          <a:graphicData uri="http://schemas.openxmlformats.org/drawingml/2006/table">
            <a:tbl>
              <a:tblPr/>
              <a:tblGrid>
                <a:gridCol w="3505320"/>
                <a:gridCol w="761760"/>
                <a:gridCol w="1295640"/>
                <a:gridCol w="1752480"/>
                <a:gridCol w="1447920"/>
              </a:tblGrid>
              <a:tr h="182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аименование показател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поликлинике, амбулато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 дневном стациона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обследованных лиц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 (стр.01): де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ц старше трудоспособного возра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но исследований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 (стр.04): детя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лицам старше трудоспособного возра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делано исследований (из стр.04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ердечно-сосудистой систе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нервной систе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истемы внешнего дыхан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20">
                <a:tc>
                  <a:txBody>
                    <a:bodyPr lIns="2286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других сист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28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0" name="Rectangle 453"/>
          <p:cNvSpPr/>
          <p:nvPr/>
        </p:nvSpPr>
        <p:spPr>
          <a:xfrm>
            <a:off x="4572000" y="1905120"/>
            <a:ext cx="441972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3 может быть больше суммы граф 4+5 за счет исследований, выполненных пациентам, получавших медицинскую помощь в стационарных условиях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53"/>
          <p:cNvSpPr/>
          <p:nvPr/>
        </p:nvSpPr>
        <p:spPr>
          <a:xfrm>
            <a:off x="4572000" y="2971800"/>
            <a:ext cx="4419720" cy="914400"/>
          </a:xfrm>
          <a:prstGeom prst="rect">
            <a:avLst/>
          </a:prstGeom>
          <a:solidFill>
            <a:srgbClr val="c4b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Числу исследований (строка 07) соответствует графа 3 журнала регистрации без перевода в условные единицы, т.е. учету подлежит весь метод исслед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Скругленная прямоугольная выноска 12"/>
          <p:cNvSpPr/>
          <p:nvPr/>
        </p:nvSpPr>
        <p:spPr>
          <a:xfrm>
            <a:off x="6388200" y="1147680"/>
            <a:ext cx="2493720" cy="3318120"/>
          </a:xfrm>
          <a:prstGeom prst="wedgeRoundRectCallout">
            <a:avLst>
              <a:gd name="adj1" fmla="val -265435"/>
              <a:gd name="adj2" fmla="val 47324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-360" y="522360"/>
            <a:ext cx="232236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605"/>
          <p:cNvSpPr/>
          <p:nvPr/>
        </p:nvSpPr>
        <p:spPr>
          <a:xfrm>
            <a:off x="1579680" y="231840"/>
            <a:ext cx="5976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5. Методы функциональной диагностик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444600" y="990720"/>
          <a:ext cx="8229600" cy="4408200"/>
        </p:xfrm>
        <a:graphic>
          <a:graphicData uri="http://schemas.openxmlformats.org/drawingml/2006/table">
            <a:tbl>
              <a:tblPr/>
              <a:tblGrid>
                <a:gridCol w="5045040"/>
                <a:gridCol w="1050840"/>
                <a:gridCol w="2133720"/>
              </a:tblGrid>
              <a:tr h="218880"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ы исследования систем организм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КГ (из стр.07 т. 5401)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с компьютерным анализом дан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исло ЭКГ в ДДК  (из п. 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есс-ЭК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ЧПЭС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Холтеровское мониторирование (ХМ) ЭКГ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М АД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ликардиограф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центральной гемодинами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методом реограф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перифирического кровообращ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з них: реовазограф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Другие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методы исследования сердечно-сосудистой систем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…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я моторики органов желудочно-кишечного трак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Исследование запирательного аппарата прямой киш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рочие методы исследова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9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utoShape 3"/>
          <p:cNvSpPr/>
          <p:nvPr/>
        </p:nvSpPr>
        <p:spPr>
          <a:xfrm flipH="1">
            <a:off x="-720" y="5189400"/>
            <a:ext cx="4932360" cy="1687680"/>
          </a:xfrm>
          <a:prstGeom prst="wedgeRoundRectCallout">
            <a:avLst>
              <a:gd name="adj1" fmla="val 3199"/>
              <a:gd name="adj2" fmla="val 20217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нные совпадают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7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+4+5+6+7+8+9+11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9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0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1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ока 10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32+33+</a:t>
            </a:r>
            <a:r>
              <a:rPr b="1" i="1" lang="ru-RU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4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Скругленная прямоугольная выноска 10"/>
          <p:cNvSpPr/>
          <p:nvPr/>
        </p:nvSpPr>
        <p:spPr>
          <a:xfrm>
            <a:off x="6372360" y="1117440"/>
            <a:ext cx="2608200" cy="3819600"/>
          </a:xfrm>
          <a:prstGeom prst="wedgeRoundRectCallout">
            <a:avLst>
              <a:gd name="adj1" fmla="val -255703"/>
              <a:gd name="adj2" fmla="val 78773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м цветом выделены строки, в которых есть расшифровка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РУГИЕ методы исследований»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о строкам 7, 9 и 10 таблицы 5401 количество  исследований должно строго совпадать данными из таблицы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AutoShape 3"/>
          <p:cNvSpPr/>
          <p:nvPr/>
        </p:nvSpPr>
        <p:spPr>
          <a:xfrm flipH="1">
            <a:off x="5076720" y="5589720"/>
            <a:ext cx="3903840" cy="1036440"/>
          </a:xfrm>
          <a:prstGeom prst="wedgeRoundRectCallout">
            <a:avLst>
              <a:gd name="adj1" fmla="val 3199"/>
              <a:gd name="adj2" fmla="val 20217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ы расхожде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1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02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8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14, 16, 17, 19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243000" y="112680"/>
            <a:ext cx="8638920" cy="781200"/>
          </a:xfrm>
          <a:prstGeom prst="rect">
            <a:avLst/>
          </a:prstGeom>
          <a:solidFill>
            <a:srgbClr val="dfed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98080" y="457200"/>
            <a:ext cx="209556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540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605"/>
          <p:cNvSpPr/>
          <p:nvPr/>
        </p:nvSpPr>
        <p:spPr>
          <a:xfrm>
            <a:off x="304920" y="19044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marL="787680" indent="-787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6. Оснащение аппаратурой и оборудованием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449280" y="806400"/>
          <a:ext cx="8305920" cy="6051600"/>
        </p:xfrm>
        <a:graphic>
          <a:graphicData uri="http://schemas.openxmlformats.org/drawingml/2006/table">
            <a:tbl>
              <a:tblPr/>
              <a:tblGrid>
                <a:gridCol w="4762440"/>
                <a:gridCol w="646200"/>
                <a:gridCol w="1452600"/>
                <a:gridCol w="1444680"/>
              </a:tblGrid>
              <a:tr h="3366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аппаратов и оборудовани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единиц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 отделениях анестезиологии-реаним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урное оснащение (указать к-во): электрокардиограф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ы для дозированной физической нагрузк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marL="7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елоэргомет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 для ИВЛ,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транспортн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неинвазивной вентиля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ы для наркоз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ы глубины анестез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иторы пациен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транспортны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льтигазмонит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бриллято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параты ультразвуковой навиг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прицевые помп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узионные насос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количество единиц аппаратуры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 в эксплуатации до 3-х лет включите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AutoShape 1"/>
          <p:cNvSpPr/>
          <p:nvPr/>
        </p:nvSpPr>
        <p:spPr>
          <a:xfrm>
            <a:off x="5867280" y="4648320"/>
            <a:ext cx="2895840" cy="1719000"/>
          </a:xfrm>
          <a:prstGeom prst="wedgeRoundRectCallout">
            <a:avLst>
              <a:gd name="adj1" fmla="val -45504"/>
              <a:gd name="adj2" fmla="val -16819"/>
              <a:gd name="adj3" fmla="val 16667"/>
            </a:avLst>
          </a:prstGeom>
          <a:solidFill>
            <a:srgbClr val="c4b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2304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ывается аппаратурное оснащение из числа единиц оборудования, принадлежащих медицинской организации на 31 декабря отчетного год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Скругленная прямоугольная выноска 1"/>
          <p:cNvSpPr/>
          <p:nvPr/>
        </p:nvSpPr>
        <p:spPr>
          <a:xfrm>
            <a:off x="3429000" y="3732120"/>
            <a:ext cx="3124080" cy="763560"/>
          </a:xfrm>
          <a:prstGeom prst="wedgeRoundRectCallout">
            <a:avLst>
              <a:gd name="adj1" fmla="val 72912"/>
              <a:gd name="adj2" fmla="val -137662"/>
              <a:gd name="adj3" fmla="val 16667"/>
            </a:avLst>
          </a:prstGeom>
          <a:solidFill>
            <a:srgbClr val="5bff21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данных необходимо предоставить пояснение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рямоугольник 4"/>
          <p:cNvSpPr/>
          <p:nvPr/>
        </p:nvSpPr>
        <p:spPr>
          <a:xfrm>
            <a:off x="896760" y="-27000"/>
            <a:ext cx="13194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1" name=""/>
          <p:cNvGraphicFramePr/>
          <p:nvPr/>
        </p:nvGraphicFramePr>
        <p:xfrm>
          <a:off x="203040" y="692280"/>
          <a:ext cx="8788680" cy="6081480"/>
        </p:xfrm>
        <a:graphic>
          <a:graphicData uri="http://schemas.openxmlformats.org/drawingml/2006/table">
            <a:tbl>
              <a:tblPr/>
              <a:tblGrid>
                <a:gridCol w="3710160"/>
                <a:gridCol w="542880"/>
                <a:gridCol w="1054080"/>
                <a:gridCol w="1701720"/>
                <a:gridCol w="595440"/>
                <a:gridCol w="1184400"/>
              </a:tblGrid>
              <a:tr h="27468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5600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ппаратов и оборудования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азделениях, оказывающих медицинскую помощь 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 сроком эксплуатации свыше 5 лет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й/ автоматизированный комплекс для генотестирования донорской кров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атический иммуногематологический анализатор для проведения иммуногематологических исследо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 для контроля стерильности компонентов кров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 для плазмаферез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 для цитаферез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замораживатель для плазмы кров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 оборудования для глицеринизации и деглицеринизации эритроцит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 оборудования для проведения фотогемотерап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а теплоизоляционная низкотемпературная для хранения свежезамороженной плазм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т оборудования для замораживания и хранения клеток крови при сверхнизкой темпера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й комплекс заготовки кров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2" name="Rectangle 605"/>
          <p:cNvSpPr/>
          <p:nvPr/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0. Аппараты и оборудование отделений службы переливания кров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722160" y="230004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вина Наталья Михайл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- статис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.т. 8(3842) 680502, доб. 40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ктронный адрес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stat@kuzdra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6320" y="1066680"/>
          <a:ext cx="8839080" cy="5183280"/>
        </p:xfrm>
        <a:graphic>
          <a:graphicData uri="http://schemas.openxmlformats.org/drawingml/2006/table">
            <a:tbl>
              <a:tblPr/>
              <a:tblGrid>
                <a:gridCol w="1379520"/>
                <a:gridCol w="52524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–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ездной патронажной службой для оказания паллиативной медицинской помощи на дому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291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1694"/>
          <p:cNvSpPr/>
          <p:nvPr/>
        </p:nvSpPr>
        <p:spPr>
          <a:xfrm>
            <a:off x="3282840" y="4611600"/>
            <a:ext cx="5632560" cy="55260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Сумма строк 124 и 125 может быть больше строки 60 за счет иных специалист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: круговая 1"/>
          <p:cNvSpPr/>
          <p:nvPr/>
        </p:nvSpPr>
        <p:spPr>
          <a:xfrm rot="5400000">
            <a:off x="2019240" y="3765600"/>
            <a:ext cx="642960" cy="627120"/>
          </a:xfrm>
          <a:custGeom>
            <a:avLst/>
            <a:gdLst/>
            <a:ahLst/>
            <a:rect l="l" t="t" r="r" b="b"/>
            <a:pathLst>
              <a:path w="642937" h="627062">
                <a:moveTo>
                  <a:pt x="39191" y="313531"/>
                </a:moveTo>
                <a:cubicBezTo>
                  <a:pt x="39191" y="176624"/>
                  <a:pt x="143048" y="60673"/>
                  <a:pt x="282572" y="41808"/>
                </a:cubicBezTo>
                <a:cubicBezTo>
                  <a:pt x="420435" y="23168"/>
                  <a:pt x="551700" y="104978"/>
                  <a:pt x="591785" y="234523"/>
                </a:cubicBezTo>
                <a:lnTo>
                  <a:pt x="628805" y="234523"/>
                </a:lnTo>
                <a:lnTo>
                  <a:pt x="564554" y="313531"/>
                </a:lnTo>
                <a:lnTo>
                  <a:pt x="472040" y="234523"/>
                </a:lnTo>
                <a:lnTo>
                  <a:pt x="508056" y="234523"/>
                </a:lnTo>
                <a:cubicBezTo>
                  <a:pt x="469638" y="150720"/>
                  <a:pt x="375950" y="103665"/>
                  <a:pt x="282427" y="121200"/>
                </a:cubicBezTo>
                <a:cubicBezTo>
                  <a:pt x="186678" y="139153"/>
                  <a:pt x="117575" y="219774"/>
                  <a:pt x="117575" y="313531"/>
                </a:cubicBezTo>
                <a:lnTo>
                  <a:pt x="39191" y="313531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: круговая 2"/>
          <p:cNvSpPr/>
          <p:nvPr/>
        </p:nvSpPr>
        <p:spPr>
          <a:xfrm rot="5400000">
            <a:off x="1979640" y="3990960"/>
            <a:ext cx="1379520" cy="1074960"/>
          </a:xfrm>
          <a:custGeom>
            <a:avLst/>
            <a:gdLst/>
            <a:ahLst/>
            <a:rect l="l" t="t" r="r" b="b"/>
            <a:pathLst>
              <a:path w="1379538" h="1074737">
                <a:moveTo>
                  <a:pt x="67171" y="537369"/>
                </a:moveTo>
                <a:cubicBezTo>
                  <a:pt x="67171" y="297671"/>
                  <a:pt x="305923" y="96341"/>
                  <a:pt x="621393" y="70016"/>
                </a:cubicBezTo>
                <a:cubicBezTo>
                  <a:pt x="900297" y="46743"/>
                  <a:pt x="1165350" y="167244"/>
                  <a:pt x="1268646" y="364278"/>
                </a:cubicBezTo>
                <a:lnTo>
                  <a:pt x="1325705" y="364277"/>
                </a:lnTo>
                <a:lnTo>
                  <a:pt x="1245196" y="537368"/>
                </a:lnTo>
                <a:lnTo>
                  <a:pt x="1057020" y="364277"/>
                </a:lnTo>
                <a:lnTo>
                  <a:pt x="1108187" y="364277"/>
                </a:lnTo>
                <a:cubicBezTo>
                  <a:pt x="1007593" y="249219"/>
                  <a:pt x="817046" y="186427"/>
                  <a:pt x="623657" y="204606"/>
                </a:cubicBezTo>
                <a:cubicBezTo>
                  <a:pt x="381797" y="227342"/>
                  <a:pt x="201513" y="369454"/>
                  <a:pt x="201513" y="537368"/>
                </a:cubicBezTo>
                <a:lnTo>
                  <a:pt x="67171" y="537369"/>
                </a:lnTo>
                <a:close/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320" y="1066680"/>
          <a:ext cx="8839080" cy="3095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404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8b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697"/>
          <p:cNvSpPr/>
          <p:nvPr/>
        </p:nvSpPr>
        <p:spPr>
          <a:xfrm>
            <a:off x="7365600" y="457200"/>
            <a:ext cx="1494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0"/>
          <p:cNvSpPr/>
          <p:nvPr/>
        </p:nvSpPr>
        <p:spPr>
          <a:xfrm>
            <a:off x="1577880" y="3222720"/>
            <a:ext cx="7337520" cy="155412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. 3 – гр. 5 (взрослые всего) должна быть больш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. 3 – гр. 5 – гр. 7 (взрослые с профилактической целью) по всем строкам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То есть, число посещений в поликлинику взрослых всего должно быть больше числа посещений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зрослых в поликлинику с профилактическими целям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1"/>
          <p:cNvSpPr/>
          <p:nvPr/>
        </p:nvSpPr>
        <p:spPr>
          <a:xfrm>
            <a:off x="1577880" y="4994280"/>
            <a:ext cx="7337520" cy="1465560"/>
          </a:xfrm>
          <a:prstGeom prst="rect">
            <a:avLst/>
          </a:prstGeom>
          <a:solidFill>
            <a:srgbClr val="ffe9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. 9 – гр. 11 (всего с профилактической целью) должна быть больше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р. 12 – гр. 13 (дети с профилактической целью) по всем строка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о есть, число посещений на дому с профилактическими целями всего должно быть больше числа посещений детей на дому с профилактическими целями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0600" y="231480"/>
            <a:ext cx="67053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25480" y="960480"/>
            <a:ext cx="670572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marL="745560" indent="-74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т посещений, связанных 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vid-1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90600" y="1522440"/>
            <a:ext cx="8529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целей статистического учета, в случаях, связанных с COVID-19 заполняется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лон пациента, получающего медицинскую помощь в амбулаторных условиях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алее – ТАЛОН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223920" y="2538360"/>
            <a:ext cx="8529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имерные формулировки нозологических компонентов диагнозов, связанных с COVID-19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COVID-19, положительный результат теста на вирус     U07.1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COVID-19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07.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464a72"/>
                </a:solidFill>
                <a:latin typeface="Times New Roman"/>
              </a:rPr>
              <a:t>по поводу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COVID-19, вирус не идентифицирован                            U07.2     </a:t>
            </a:r>
            <a:r>
              <a:rPr b="1" lang="ru-RU" sz="1800" spc="-1" strike="noStrike">
                <a:solidFill>
                  <a:srgbClr val="464a72"/>
                </a:solidFill>
                <a:latin typeface="Times New Roman"/>
              </a:rPr>
              <a:t>заболевания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Подозрение на COVID-19                                                   U07.2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Подозрение на COVID-19, тест не проведен                    U07.2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Подозрение на COVID-19, исключенное отрицательным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ом теста на вирус                                                     Z03.8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Наблюдение при подозрении на COVID-19                      Z03.8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Носительство возбудителя COVID-19                               Z22.8   </a:t>
            </a:r>
            <a:r>
              <a:rPr b="1" lang="ru-RU" sz="1800" spc="-1" strike="noStrike">
                <a:solidFill>
                  <a:srgbClr val="732341"/>
                </a:solidFill>
                <a:latin typeface="Times New Roman"/>
              </a:rPr>
              <a:t>с профилактиче-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. Контакт с больным COVID-19                                           Z20.8       </a:t>
            </a:r>
            <a:r>
              <a:rPr b="1" lang="ru-RU" sz="1800" spc="-1" strike="noStrike">
                <a:solidFill>
                  <a:srgbClr val="732341"/>
                </a:solidFill>
                <a:latin typeface="Times New Roman"/>
              </a:rPr>
              <a:t>ской целью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. Скрининговое обследование с целью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явления COVID-19                                                              Z11.5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. Изоляция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29.0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5681520" y="3108240"/>
            <a:ext cx="2843280" cy="142740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5681520" y="4730760"/>
            <a:ext cx="2843280" cy="205416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73234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0600" y="231480"/>
            <a:ext cx="6705360" cy="53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мбулаторных условия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25480" y="960480"/>
            <a:ext cx="6705720" cy="4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marL="745560" indent="-745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чет посещений, связанных 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vid-19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301680" y="5510160"/>
            <a:ext cx="3494160" cy="7318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3f4b7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425520" y="4413240"/>
            <a:ext cx="3178080" cy="58428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732341"/>
            </a:solidFill>
            <a:miter/>
          </a:ln>
          <a:effectLst>
            <a:outerShdw dist="17819" dir="2700000" blurRad="0" rotWithShape="0">
              <a:srgbClr val="262d4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rcRect l="0" t="8814" r="0" b="10044"/>
          <a:stretch/>
        </p:blipFill>
        <p:spPr>
          <a:xfrm>
            <a:off x="260280" y="1994040"/>
            <a:ext cx="3576600" cy="2246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96"/>
          <p:cNvSpPr/>
          <p:nvPr/>
        </p:nvSpPr>
        <p:spPr>
          <a:xfrm>
            <a:off x="4226040" y="2158920"/>
            <a:ext cx="4492440" cy="824040"/>
          </a:xfrm>
          <a:prstGeom prst="rect">
            <a:avLst/>
          </a:prstGeom>
          <a:solidFill>
            <a:srgbClr val="ea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братился пациент по поводу контакта с больны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COVID-19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08"/>
          <p:cNvSpPr/>
          <p:nvPr/>
        </p:nvSpPr>
        <p:spPr>
          <a:xfrm>
            <a:off x="2075040" y="1389240"/>
            <a:ext cx="4967280" cy="5205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АЛОН открывается на обращение!!!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6"/>
          <p:cNvSpPr/>
          <p:nvPr/>
        </p:nvSpPr>
        <p:spPr>
          <a:xfrm>
            <a:off x="4241880" y="3166920"/>
            <a:ext cx="4492440" cy="580680"/>
          </a:xfrm>
          <a:prstGeom prst="rect">
            <a:avLst/>
          </a:prstGeom>
          <a:solidFill>
            <a:srgbClr val="ea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ткрывается ТАЛОН с профилактической целью 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20.8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6"/>
          <p:cNvSpPr/>
          <p:nvPr/>
        </p:nvSpPr>
        <p:spPr>
          <a:xfrm>
            <a:off x="4226040" y="3952800"/>
            <a:ext cx="4492440" cy="1067400"/>
          </a:xfrm>
          <a:prstGeom prst="rect">
            <a:avLst/>
          </a:prstGeom>
          <a:solidFill>
            <a:srgbClr val="ea8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рач ежедневно в течении 10 дней проводит медицинский осмотр пациента на дому, проводятся соответствующие диагностические исследования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96"/>
          <p:cNvSpPr/>
          <p:nvPr/>
        </p:nvSpPr>
        <p:spPr>
          <a:xfrm>
            <a:off x="4226040" y="5410080"/>
            <a:ext cx="4492440" cy="824040"/>
          </a:xfrm>
          <a:prstGeom prst="rect">
            <a:avLst/>
          </a:prstGeom>
          <a:solidFill>
            <a:srgbClr val="b3de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 11 день наблюдения приходит подтвержденный положительный тес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COVID-19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ject 41"/>
          <p:cNvSpPr/>
          <p:nvPr/>
        </p:nvSpPr>
        <p:spPr>
          <a:xfrm rot="5400000">
            <a:off x="6295680" y="2917800"/>
            <a:ext cx="344520" cy="243000"/>
          </a:xfrm>
          <a:custGeom>
            <a:avLst/>
            <a:gdLst>
              <a:gd name="textAreaLeft" fmla="*/ 0 w 344520"/>
              <a:gd name="textAreaRight" fmla="*/ 344880 w 3445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732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bject 41"/>
          <p:cNvSpPr/>
          <p:nvPr/>
        </p:nvSpPr>
        <p:spPr>
          <a:xfrm rot="5400000">
            <a:off x="6321240" y="3746520"/>
            <a:ext cx="344520" cy="242640"/>
          </a:xfrm>
          <a:custGeom>
            <a:avLst/>
            <a:gdLst>
              <a:gd name="textAreaLeft" fmla="*/ 0 w 344520"/>
              <a:gd name="textAreaRight" fmla="*/ 344880 w 3445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732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bject 41"/>
          <p:cNvSpPr/>
          <p:nvPr/>
        </p:nvSpPr>
        <p:spPr>
          <a:xfrm rot="5400000">
            <a:off x="6300360" y="5092560"/>
            <a:ext cx="344520" cy="243000"/>
          </a:xfrm>
          <a:custGeom>
            <a:avLst/>
            <a:gdLst>
              <a:gd name="textAreaLeft" fmla="*/ 0 w 344520"/>
              <a:gd name="textAreaRight" fmla="*/ 344880 w 34452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732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Левая фигурная скобка 25"/>
          <p:cNvSpPr/>
          <p:nvPr/>
        </p:nvSpPr>
        <p:spPr>
          <a:xfrm>
            <a:off x="3860640" y="2158920"/>
            <a:ext cx="392400" cy="2884680"/>
          </a:xfrm>
          <a:custGeom>
            <a:avLst/>
            <a:gdLst>
              <a:gd name="textAreaLeft" fmla="*/ 250920 w 392400"/>
              <a:gd name="textAreaRight" fmla="*/ 392760 w 392400"/>
              <a:gd name="textAreaTop" fmla="*/ 10080 h 2884680"/>
              <a:gd name="textAreaBottom" fmla="*/ 2874600 h 288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3"/>
                  <a:pt x="10800" y="245"/>
                </a:cubicBezTo>
                <a:lnTo>
                  <a:pt x="10800" y="18599"/>
                </a:lnTo>
                <a:cubicBezTo>
                  <a:pt x="10800" y="18722"/>
                  <a:pt x="5400" y="18844"/>
                  <a:pt x="0" y="18844"/>
                </a:cubicBezTo>
                <a:cubicBezTo>
                  <a:pt x="5400" y="18844"/>
                  <a:pt x="10800" y="18967"/>
                  <a:pt x="10800" y="19089"/>
                </a:cubicBezTo>
                <a:lnTo>
                  <a:pt x="10800" y="21355"/>
                </a:lnTo>
                <a:cubicBezTo>
                  <a:pt x="10800" y="21478"/>
                  <a:pt x="16200" y="21600"/>
                  <a:pt x="21600" y="21600"/>
                </a:cubicBezTo>
              </a:path>
            </a:pathLst>
          </a:custGeom>
          <a:solidFill>
            <a:srgbClr val="73234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6"/>
          <p:cNvSpPr/>
          <p:nvPr/>
        </p:nvSpPr>
        <p:spPr>
          <a:xfrm>
            <a:off x="425520" y="4413240"/>
            <a:ext cx="32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бращение с профилактической целью с 10 посещениями на дому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Левая фигурная скобка 27"/>
          <p:cNvSpPr/>
          <p:nvPr/>
        </p:nvSpPr>
        <p:spPr>
          <a:xfrm>
            <a:off x="3897360" y="5410080"/>
            <a:ext cx="334800" cy="831960"/>
          </a:xfrm>
          <a:custGeom>
            <a:avLst/>
            <a:gdLst>
              <a:gd name="textAreaLeft" fmla="*/ 213840 w 334800"/>
              <a:gd name="textAreaRight" fmla="*/ 335160 w 334800"/>
              <a:gd name="textAreaTop" fmla="*/ 8640 h 831960"/>
              <a:gd name="textAreaBottom" fmla="*/ 823320 h 8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4"/>
                  <a:pt x="10800" y="728"/>
                </a:cubicBezTo>
                <a:lnTo>
                  <a:pt x="10800" y="10072"/>
                </a:lnTo>
                <a:cubicBezTo>
                  <a:pt x="10800" y="10436"/>
                  <a:pt x="5400" y="10800"/>
                  <a:pt x="0" y="10800"/>
                </a:cubicBezTo>
                <a:cubicBezTo>
                  <a:pt x="5400" y="10800"/>
                  <a:pt x="10800" y="11164"/>
                  <a:pt x="10800" y="11528"/>
                </a:cubicBezTo>
                <a:lnTo>
                  <a:pt x="10800" y="20872"/>
                </a:lnTo>
                <a:cubicBezTo>
                  <a:pt x="10800" y="21236"/>
                  <a:pt x="16200" y="21600"/>
                  <a:pt x="21600" y="21600"/>
                </a:cubicBezTo>
              </a:path>
            </a:pathLst>
          </a:custGeom>
          <a:solidFill>
            <a:srgbClr val="41a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6"/>
          <p:cNvSpPr/>
          <p:nvPr/>
        </p:nvSpPr>
        <p:spPr>
          <a:xfrm>
            <a:off x="425520" y="5605560"/>
            <a:ext cx="32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Открывается новый ТАЛОН по поводу заболевания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лица 2101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280" y="914400"/>
          <a:ext cx="8763120" cy="468936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делениях,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68760" rIns="68760" tIns="0" bIns="0" anchor="t">
                      <a:noAutofit/>
                    </a:bodyPr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ия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68760" rIns="68760" tIns="0" bIns="0" anchor="t">
                      <a:noAutofit/>
                    </a:bodyPr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0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: в передвижных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.1</a:t>
                      </a:r>
                      <a:endParaRPr b="1" i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нутриформенный контроль: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трока 4 = сумме строк 4.2+4.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52280" y="5756400"/>
            <a:ext cx="8744040" cy="903240"/>
          </a:xfrm>
          <a:prstGeom prst="rect">
            <a:avLst/>
          </a:prstGeom>
          <a:solidFill>
            <a:srgbClr val="ffd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indent="447840" algn="just">
              <a:lnSpc>
                <a:spcPct val="100000"/>
              </a:lnSpc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сещения к зубным врачам и гигиенистам стоматологическими в таблицу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е включаются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ет деятельности ведется в таблице 2700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Головина Наталья Михайловна</cp:lastModifiedBy>
  <cp:lastPrinted>2020-12-08T08:50:46Z</cp:lastPrinted>
  <dcterms:modified xsi:type="dcterms:W3CDTF">2020-12-10T06:57:30Z</dcterms:modified>
  <cp:revision>1307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