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1F33-5560-43B3-8EA1-08F844970D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FF80-B694-496A-8EAE-022393801D2B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3F8A-EAF8-44B4-AE58-E2D9FCCA5BC9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A56F-25C2-4E8D-B998-0DE67052A2FE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93A8-1D23-42C9-AB61-2C00111357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A5AA-4159-4C76-BF28-7350472CA80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4D58-228F-42A6-B001-F582CE6AA08A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B062-1975-4F14-98DD-8C09302D25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421A-BB1C-445A-AA67-874C199B4403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2DE1-6510-4FA5-9FD9-32E037424A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F759-5313-412E-8EAC-5C324B06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8BE-C495-4C30-ABE3-58907314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9C10-E20F-44C3-BACC-313DCF12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7B5D-8C67-40C4-91A1-3E1EBBDC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FC1-42DE-4269-9D99-B47D6F15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AB77-E866-4E81-A363-D1337285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CB4-BAAC-4B29-BD38-1A332243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89D-781D-403A-8D67-39FA097A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09BC-29E8-45A9-9C50-4349CB5D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3B3-A33A-44CD-945F-1955FCEF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C22-6E57-42EA-A564-CDAD117D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7C4-3738-4AE4-898F-6CF036A8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4896-6C87-446C-8AE9-F97D0E3F4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0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1609560" y="466560"/>
            <a:ext cx="897264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91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96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01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1" descr=""/>
          <p:cNvPicPr/>
          <p:nvPr/>
        </p:nvPicPr>
        <p:blipFill>
          <a:blip r:embed="rId1"/>
          <a:stretch/>
        </p:blipFill>
        <p:spPr>
          <a:xfrm>
            <a:off x="8537400" y="5440320"/>
            <a:ext cx="29052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6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ВИЧ-ИНФЕКЦИ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беременных женщин, всего) –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исло женщин, завершивших беременность родами в отчетном году) &gt;= 13,1000,ст1,гр11+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1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,5000,ст2,гр3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11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ст1,гр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2446200" y="1440000"/>
            <a:ext cx="8247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a@kuzdrav.r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евская Марина Анатольев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-статист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.т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(3842)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0502 доб.406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957320" y="1987560"/>
            <a:ext cx="8491680" cy="368136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2104920" y="5722920"/>
            <a:ext cx="8772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чет включаются сведения обо всех прерываниях беременности в сроки до 22 недель, независимо от метода и места прерывания беремен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Объект 4" descr=""/>
          <p:cNvPicPr/>
          <p:nvPr/>
        </p:nvPicPr>
        <p:blipFill>
          <a:blip r:embed="rId1"/>
          <a:stretch/>
        </p:blipFill>
        <p:spPr>
          <a:xfrm>
            <a:off x="1957320" y="1835280"/>
            <a:ext cx="800424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56" name="Группа 13"/>
          <p:cNvGrpSpPr/>
          <p:nvPr/>
        </p:nvGrpSpPr>
        <p:grpSpPr>
          <a:xfrm>
            <a:off x="654120" y="1471680"/>
            <a:ext cx="10101240" cy="4957560"/>
            <a:chOff x="654120" y="1471680"/>
            <a:chExt cx="10101240" cy="4957560"/>
          </a:xfrm>
        </p:grpSpPr>
        <p:pic>
          <p:nvPicPr>
            <p:cNvPr id="57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47168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5"/>
            <p:cNvSpPr/>
            <p:nvPr/>
          </p:nvSpPr>
          <p:spPr>
            <a:xfrm>
              <a:off x="839160" y="222336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7"/>
            <p:cNvSpPr/>
            <p:nvPr/>
          </p:nvSpPr>
          <p:spPr>
            <a:xfrm>
              <a:off x="1258920" y="3626280"/>
              <a:ext cx="107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TextBox 12"/>
            <p:cNvSpPr/>
            <p:nvPr/>
          </p:nvSpPr>
          <p:spPr>
            <a:xfrm>
              <a:off x="877680" y="5151960"/>
              <a:ext cx="117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 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7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68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Box 5"/>
            <p:cNvSpPr/>
            <p:nvPr/>
          </p:nvSpPr>
          <p:spPr>
            <a:xfrm>
              <a:off x="875880" y="2788200"/>
              <a:ext cx="182880" cy="5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Box 7"/>
            <p:cNvSpPr/>
            <p:nvPr/>
          </p:nvSpPr>
          <p:spPr>
            <a:xfrm>
              <a:off x="1127880" y="4006080"/>
              <a:ext cx="1065240" cy="5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Box 12"/>
            <p:cNvSpPr/>
            <p:nvPr/>
          </p:nvSpPr>
          <p:spPr>
            <a:xfrm>
              <a:off x="1290600" y="5330160"/>
              <a:ext cx="1162080" cy="5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6"/>
          <p:cNvSpPr/>
          <p:nvPr/>
        </p:nvSpPr>
        <p:spPr>
          <a:xfrm>
            <a:off x="1052640" y="2489040"/>
            <a:ext cx="4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1425600" y="35449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8"/>
          <p:cNvSpPr/>
          <p:nvPr/>
        </p:nvSpPr>
        <p:spPr>
          <a:xfrm>
            <a:off x="1455840" y="452772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1068480" y="5524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8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79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5"/>
            <p:cNvSpPr/>
            <p:nvPr/>
          </p:nvSpPr>
          <p:spPr>
            <a:xfrm>
              <a:off x="1361520" y="190332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7"/>
            <p:cNvSpPr/>
            <p:nvPr/>
          </p:nvSpPr>
          <p:spPr>
            <a:xfrm>
              <a:off x="1732680" y="342792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12"/>
            <p:cNvSpPr/>
            <p:nvPr/>
          </p:nvSpPr>
          <p:spPr>
            <a:xfrm>
              <a:off x="1321200" y="49014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оп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951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Раевская</cp:lastModifiedBy>
  <cp:lastPrinted>2018-12-10T14:36:03Z</cp:lastPrinted>
  <dcterms:modified xsi:type="dcterms:W3CDTF">2020-12-11T11:27:13Z</dcterms:modified>
  <cp:revision>128</cp:revision>
  <dc:subject/>
  <dc:title>Презентация PowerPoint</dc:title>
</cp:coreProperties>
</file>