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ftr" idx="56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 type="sldNum" idx="57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AE78-0BAF-4A2D-B6F8-5111F8C7DE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8280-6384-460C-8287-498CC824B1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15A-F7E0-4C99-A59F-9987D083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43E7-6BCA-48E4-89EB-5D99033A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243E5-CF4C-491E-81E1-2BD67538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8598A-37F7-481C-B8D0-C8FBCBD8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0B816-CBFE-48B7-B21A-E8C6E59E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C1455-2B0B-46B9-979B-AE059E5F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9E30F-B65D-40EE-94D1-172F20A9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BEED3-B8AA-4759-A87D-8FC2F696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73FCA-4C99-404A-B818-0B548CB8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1F709-B364-44E1-BEFA-9A0C1FB0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B1D2E-B073-4D91-B3A6-75B139F4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0EC3C-6B1A-4039-B338-D84AF02E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BAB-A995-4A86-BE24-115E2B98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D1263-C870-454E-930C-82F17B81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5B971-8147-483D-B9C3-96B1FCAE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00E0C-F21C-46FA-8296-E5E16038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987FC-2424-4D76-BA2B-B5C20816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D01FB-E64C-46FD-963C-10A63B83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B3E50-B0D6-4916-8719-7EDF86F7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D23F4-06BB-46E3-A660-EAAED055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62995-1DE0-4DC3-9B58-2954B27D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3232E-2107-4A58-9100-A80A45E4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5B0EE-B744-4303-81FC-DF8F8E0D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EB2-0D85-454A-9BB4-474B7019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5AA41-53D7-475F-9E87-6BDD032A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DFC87-D6DD-482D-A36E-EB63B040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5D72A-2A7F-4491-B224-0B37206B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9F882-E90F-4834-A444-56DF4C60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E4B56-1DE1-4B8F-9C73-3EC57BA7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BC339-5CEC-4167-B91D-34742030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06B6F-EB7D-4D26-9CA7-DD5E9BA0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B8609-FABF-49ED-9BA4-452F6066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E3F93-43CB-40D8-9487-58E08AB3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F33DB-5C6F-41A9-AD1B-1396490B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080B-2CB3-4CFE-B7F4-67533C7A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5652C-EF4C-4A23-8E0B-A2B474E9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49BD8-C3FA-4920-A5CB-A2BBE8BE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68B82-A670-4475-8967-87A33663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BC1E7-DF37-4C5B-887C-F894BAE8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3F8B5-7CAD-4337-B931-47F18A84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724F3-FF1D-4576-BC08-06BCA131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943D5-2E3A-4746-BF48-9076B44E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F4E2C-99F4-422B-8F16-F79E8EBB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45B67-BF78-4F56-BBD1-2056AD64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B1761-DC62-4546-9A5D-5D5F950F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7B25-A98C-459D-A6CD-F45A4704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5F9AD-3F1B-48AF-A92B-AB8A95F1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1F6A4-8125-45DC-959C-1B410970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D34D3-F6F6-439A-B9C7-F3350D79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D2FF9-BA74-4BCB-BF27-17288926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C0C71-7303-4446-87B8-CC7FAB1C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6806B-1385-450A-AB96-CF2AB171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0EE82-36B9-409A-81AA-B951FF96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F8D46A-149E-4766-AB78-DEC677E6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D1E78-E355-4359-BEDF-DC5BEB48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ABFAD-E18A-4823-801B-F53BB2D8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8960-DB9D-4A06-B88B-E5A7A162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0F1DE-A783-4718-8687-BF3DD800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24A1A0-EC62-491B-8C68-3370F05B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3F3B4B-9E54-4428-8FEF-AFF0F587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B002A-CAD6-4711-9381-39CB9B3F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B261D-D009-4176-8DC0-29217B3B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1A4F8-F972-482A-9F9E-CDBEB6E1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315092-C6E0-4192-9591-300CAC41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2197E6-87FB-4743-A2E8-093A25F0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889F45-FC6E-4C3D-AE87-2A31559F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FEFC4B-F4A6-4BF3-A08A-C1C9D227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86B9-8E3A-483D-95AD-1F1756E9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516A24-705F-4C4A-9D01-96BABFA0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5C426C-3032-4EA1-B8CE-B3450A50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A59BF4-54B9-4028-8BC4-67C924EB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6C2D87-6BAF-47B2-A41E-B7C1E8EF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F31FCC-99D1-45AB-B076-D498B918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5B26C1-6FBD-4299-AE24-592F8ECB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6EBE0-F5C2-44C2-A1D5-A141B55B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7A5A5F-6E50-491F-823C-42FE7ADB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746DAF-BA80-4DF7-B0BA-752E6486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66B375-8CD4-4E1B-93BA-4762C82A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073C-4482-4037-A39A-122D7162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7BD7D-C4D7-4E63-864A-E79CA8AF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FF67AD-0D2C-4EA4-BB9E-57E497D1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5476CF-6D9B-41B0-8445-67100DE6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93389C-0390-42DE-9A20-59A97718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9650D0-0C4F-47CE-8CE7-DCBA0F4F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3D0F31-E1CB-4CA1-93C7-65398965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D52075-2181-448E-BB4B-9099DF87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A4AFF0-EA79-4FD2-A02F-A6D9E58C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1CF6C0-2307-493C-9D2E-70C876EE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322780-46A0-453B-A5C5-03467638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B417-49CD-48ED-9B86-404ED559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F3C86B-9763-4FB3-B85C-C10B1B8B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4254BA-9BDF-413A-A09A-C90C694F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FE9447-D113-41B6-8FA9-9D0EE010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EF9895-A40F-4F06-91E5-B8ECE826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98F0CC-2331-45BB-9BD3-2900A616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7B8114-E6AE-43F6-A20B-DAC71B11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7B5CF8-EEEF-45A7-B4C1-66491FBF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4575E8-F3F5-4672-958A-61DA9C36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D8B512-3A82-4F82-BC8A-4B3B3F0C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DFD595-FE56-4723-B559-E0F80AB1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CA96-9903-4612-BA03-B3F126A8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8697AA-5CEC-477D-AE08-261CAAEE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E996C6-1113-4BE8-8EF1-503833BE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FE80AD-B7A6-4F6F-AE56-8BA181E9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51FA07-2F35-4E8C-9F77-2290218B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3DE1FE-0FD9-40C5-BEEF-2DC970D4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88B51B-2B11-4E87-B7D5-061B9E66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BE7C9A-1B57-4FDC-B604-7E1BD07D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9D223C-4136-4752-B59E-E73E7FE4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EF5F0E-34BA-4CCE-BA96-2C71003D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8A9723-045E-48DC-A3C7-6C36CF3B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097-1F74-48B5-A03E-D1D7D881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69B1-20AB-469C-ABB6-4589AFB1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6F51EA-AFCC-4B7E-8473-4FBD4C7E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B2E87-C285-40DB-B968-4B988DAE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EB4AB1-8A17-4352-B133-EC8F46F2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07F68F-3F3A-486B-95C4-4078E89FA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067B1A-CE73-40F0-8106-E243F958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533868-6361-4028-A5F5-CA49321A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BCD6F6-38FC-4CFD-8FDA-822EFC20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03BF05-886F-42C0-9C2E-00391EC8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63061E-4F49-4A31-9F63-9BE3BD5B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4F8279-9BDF-43E9-B468-C32C5090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D1DF-ABAF-45B7-B49B-997D2E8F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6BEBC6-7979-4E04-89C2-F3A5A500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00E61F-A876-414B-A007-A4467B37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C76BDE-7935-4644-91BD-58CC5AAA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5ED7F9-D49A-4460-9D8C-8EAD0F1A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F05D73-4066-4A78-B3E9-F706DEF3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C411EC-336C-4599-8D11-01C9BD9D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82C9CD-C228-4BF5-9799-67BB67557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CB41-AAD3-486E-9BEB-64518ED9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E072-AE6E-4E81-8CDE-FCE95DBA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E9A6-9FA9-4271-A375-EADB991F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63957-963A-4237-9231-CF9945F6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5908F-7E27-465A-B92B-B7DEEF9D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A03AF-DD75-40E7-82E6-18733E1A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AC04E-6AF9-4C14-BA5A-3E767853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1FB62-3202-46C8-B2DC-7261AB9B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F0A-1B6C-4DE3-B861-2AB65558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9B837-23F8-4583-9C2C-F05A75E3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08460-426B-494E-B026-1993C35A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2F61E-5210-4CDD-AA26-417154AE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99AF8-0F73-4748-BF06-7CD2C025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01C2F-BA8D-408F-9593-A1D7455F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09041-07C7-4F64-BAB1-7D51C2A2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D2A65-6C2E-4D39-B369-3B6747C2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BC828-85F1-49B4-A244-D3D0EAA1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C8AB5-4142-4DC2-A056-98A4F279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5FCA3-4311-4972-B3D6-5E870A82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792-74DA-4BDD-8491-601EAD45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EC079-EC4D-4491-82E2-E03B145D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06057-9BB7-4EAA-9755-588AF419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225C9-21C7-4F6F-B60C-0EC480B2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C7BDC-7712-4FA2-B064-CEA68271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E26CA-326D-49AC-A464-EA9F34BE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F5414-3346-4AFD-BF2F-0C946122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D1BF8-B764-402F-9CD5-03A1FC9B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EC5AD-3D50-4C20-B50F-DDBB6FD4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35018-C12B-4D63-A079-BB2CB8D5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D4EB8-9204-403F-A338-42728ADD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02A2-D7CB-40AD-A5C3-4FA93944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019C5-0300-4EBB-9835-C1F995CD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1D06D-2326-485B-B84C-AD0F077F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69567-9051-433C-95CE-9E75F10A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88902-5BFC-46E5-BE02-59AFC0EF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820EA-E04D-4AC5-84B9-1D6DD4A8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7FBF7-ED0C-4557-8D11-6CDD742E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6C96A-1CA6-4892-AA2C-95F9DFF4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E6DB0-83ED-494E-B2A3-03A2F328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D9151-2896-4662-916B-B175B003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C2E05-50B5-46FB-AF23-B7CFF222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9D9-0067-4A4A-98CB-D986B6AD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94BCD-A6E0-4913-AE48-68035CBD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A9B50-8193-4EF2-8D0D-AD459287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7022B-1E19-4C0F-80DB-7EB4BBE8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09600-BA17-4DD5-B355-655B2EAE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D658F-4448-4118-8947-ABB1A6CC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BFE23-A910-4617-B4D2-F69E29B1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448EA-9BEF-477D-A7E1-1E8F85E2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A4895-4954-42F7-933F-0D03BB63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27AAD-F03A-43CD-9CF7-DC2B85F8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832A2-0374-4262-AADC-8AE46E0B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B60-E98E-48B8-9135-281D9A2A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A9461-1AED-4621-8633-735DE6A6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ED259-5833-4120-B5DF-CFA51CB6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2BBCF-AE23-4253-BA6F-4BFDA2AD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5E78B-E7C8-40B2-82FE-0CD95AAC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70EB8-5809-48A4-930B-B4AA5BDD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E887A-DB0D-4FD0-8F15-2C851600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9E362-21D4-43C1-891C-FA6E3CC6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DFD3F-D4C2-4B75-82A2-DC78068C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F6CC5-F46D-4839-B7C1-524C29A1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6A098-254E-4B84-8051-7077C443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6AE-A515-4DF7-B601-C30D3E3C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A24F0-4447-420D-9F28-16EF8593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9B642-DB54-47A4-B200-B850FA26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4347D-0828-4ACB-A6E5-A09F7944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F6858-077D-4A5E-B296-F285866B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DC535-506C-4D08-8DFE-88E53DE0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BCB43-F0F7-4396-B248-E8720F97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1D1BE-D4CB-43C6-90AE-01280D18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59212-C999-472B-8CC3-DFB9DF05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76798-9343-48D1-87A2-17A97AD1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91489-9724-4DC3-8AB0-8FD79BB5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A9C-BAA4-46D6-94B7-E576C64E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A3EF9-01AB-451E-8063-60F60B18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3B6A2-AA53-4C04-9BC2-3DE20D84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D91A2-62F3-4FDD-BB32-F4A9E1C8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B2F97-3A33-4D5F-BAB7-B67F6687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95E0A-BF19-42C3-8A8E-31B4C238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DC2F7-03EA-49AB-898B-DD73C8D3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03D96-4A46-4DD4-99A4-7720827B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C9FA9-3CA4-474F-A34C-D095EF39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FCE71-55C9-4060-AF8F-77F11ADF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263AD-3A43-4A87-A7D7-BC860B7F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B87C-FC3F-49B9-9C3D-3393B0A2F4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5463-F0DC-44D2-8238-C840E6A9D6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0CF8-1F89-47EE-B612-AFCA3299F3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F222-6CF2-46DA-B7BC-A186E0CEEBF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7BF7-EE07-467E-A90B-4C4E8F34E2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2735-555C-4B88-AE69-043875A99D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8556-77AC-4BC9-B072-88CF61FFEF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AEA5-F1B9-48BE-8734-D6875BEF90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1E2C-4E31-4EF2-B4A5-D1D1EEFFB06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202E-F02A-4DAB-B494-6C074451E2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7876-3B56-4FDC-A9DC-36483371C4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5D75-C1D1-4CA1-9519-B4D320EEBD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C832-135C-42D4-84C9-0F6B06773F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B23C-F71E-4ECC-8A91-65CD37D794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5A9F-822B-4FB1-8856-941B480FD7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D2BF-80B4-4A58-B25D-E83DAF3DEC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2CD4-05B5-43EA-9125-AA0DD23033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c8ef"/>
            </a:gs>
            <a:gs pos="100000">
              <a:srgbClr val="89ad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6AAE-3A06-4C46-8BCD-34C684D600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52578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МЕДИЦИНСКОЙ ОРГАНИЗАЦИИ»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Rectangle 2"/>
          <p:cNvSpPr/>
          <p:nvPr/>
        </p:nvSpPr>
        <p:spPr>
          <a:xfrm>
            <a:off x="914400" y="586728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20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Прямоугольник 1"/>
          <p:cNvSpPr/>
          <p:nvPr/>
        </p:nvSpPr>
        <p:spPr>
          <a:xfrm>
            <a:off x="1143000" y="4114800"/>
            <a:ext cx="716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рач-статистик отдела мед. статистики и анализа ГАУЗ «КМИАЦ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Карзакова Наталья Владислав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л. почт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knv@kuzdrav.ru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, тел. 68-05-02, доб.40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304920" y="4572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795960" indent="-795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1436"/>
                </a:solidFill>
                <a:latin typeface="Times New Roman"/>
                <a:ea typeface="Arial"/>
              </a:rPr>
              <a:t>Например, внутрибольничный перевод в дневной стационар в А* городской больниц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228600" y="1523880"/>
          <a:ext cx="3581280" cy="1311480"/>
        </p:xfrm>
        <a:graphic>
          <a:graphicData uri="http://schemas.openxmlformats.org/drawingml/2006/table">
            <a:tbl>
              <a:tblPr/>
              <a:tblGrid>
                <a:gridCol w="1689120"/>
                <a:gridCol w="1892160"/>
              </a:tblGrid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и ко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339a">
                        <a:alpha val="50000"/>
                      </a:srgbClr>
                    </a:solidFill>
                  </a:tcPr>
                </a:tc>
              </a:tr>
              <a:tr h="3348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4" name="AutoShape 20"/>
          <p:cNvSpPr/>
          <p:nvPr/>
        </p:nvSpPr>
        <p:spPr>
          <a:xfrm rot="18817200">
            <a:off x="709560" y="2406240"/>
            <a:ext cx="1457640" cy="692280"/>
          </a:xfrm>
          <a:prstGeom prst="rightArrow">
            <a:avLst>
              <a:gd name="adj1" fmla="val 50000"/>
              <a:gd name="adj2" fmla="val 52639"/>
            </a:avLst>
          </a:prstGeom>
          <a:solidFill>
            <a:srgbClr val="ac339a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тупи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AutoShape 21"/>
          <p:cNvSpPr/>
          <p:nvPr/>
        </p:nvSpPr>
        <p:spPr>
          <a:xfrm>
            <a:off x="3809880" y="16002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ac339a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ыписа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евод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5410080" y="1523880"/>
          <a:ext cx="3581640" cy="1433520"/>
        </p:xfrm>
        <a:graphic>
          <a:graphicData uri="http://schemas.openxmlformats.org/drawingml/2006/table">
            <a:tbl>
              <a:tblPr/>
              <a:tblGrid>
                <a:gridCol w="1752840"/>
                <a:gridCol w="1828800"/>
              </a:tblGrid>
              <a:tr h="3668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и ко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rowSpan="3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. стационар при поликлини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339a">
                        <a:alpha val="50000"/>
                      </a:srgbClr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7" name="Rectangle 2"/>
          <p:cNvSpPr/>
          <p:nvPr/>
        </p:nvSpPr>
        <p:spPr>
          <a:xfrm>
            <a:off x="2819520" y="3657600"/>
            <a:ext cx="365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ФФСН №30,  таблица 3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AutoShape 40"/>
          <p:cNvSpPr/>
          <p:nvPr/>
        </p:nvSpPr>
        <p:spPr>
          <a:xfrm rot="5400000">
            <a:off x="4381560" y="-952560"/>
            <a:ext cx="457200" cy="8610480"/>
          </a:xfrm>
          <a:custGeom>
            <a:avLst/>
            <a:gdLst>
              <a:gd name="textAreaLeft" fmla="*/ 0 w 457200"/>
              <a:gd name="textAreaRight" fmla="*/ 164880 w 457200"/>
              <a:gd name="textAreaTop" fmla="*/ 224280 h 8610480"/>
              <a:gd name="textAreaBottom" fmla="*/ 8386200 h 861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2"/>
          <p:cNvSpPr/>
          <p:nvPr/>
        </p:nvSpPr>
        <p:spPr>
          <a:xfrm>
            <a:off x="228600" y="1143000"/>
            <a:ext cx="3581280" cy="380880"/>
          </a:xfrm>
          <a:prstGeom prst="rect">
            <a:avLst/>
          </a:prstGeom>
          <a:solidFill>
            <a:srgbClr val="ac339a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Круглосуточный стациона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2"/>
          <p:cNvSpPr/>
          <p:nvPr/>
        </p:nvSpPr>
        <p:spPr>
          <a:xfrm>
            <a:off x="5410080" y="1143000"/>
            <a:ext cx="3581640" cy="380880"/>
          </a:xfrm>
          <a:prstGeom prst="rect">
            <a:avLst/>
          </a:prstGeom>
          <a:solidFill>
            <a:srgbClr val="ac339a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невной стациона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1066680" y="4114800"/>
          <a:ext cx="6782040" cy="2408400"/>
        </p:xfrm>
        <a:graphic>
          <a:graphicData uri="http://schemas.openxmlformats.org/drawingml/2006/table">
            <a:tbl>
              <a:tblPr/>
              <a:tblGrid>
                <a:gridCol w="2238480"/>
                <a:gridCol w="565200"/>
                <a:gridCol w="1289160"/>
                <a:gridCol w="1158840"/>
                <a:gridCol w="1530360"/>
              </a:tblGrid>
              <a:tr h="33516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дневные стационары  (всех тип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822" name="Прямая со стрелкой 11"/>
          <p:cNvCxnSpPr/>
          <p:nvPr/>
        </p:nvCxnSpPr>
        <p:spPr>
          <a:xfrm>
            <a:off x="2292120" y="2239920"/>
            <a:ext cx="2223000" cy="3874320"/>
          </a:xfrm>
          <a:prstGeom prst="straightConnector1">
            <a:avLst/>
          </a:prstGeom>
          <a:ln w="38160">
            <a:solidFill>
              <a:srgbClr val="ac339a"/>
            </a:solidFill>
            <a:miter/>
            <a:tailEnd len="med" type="arrow" w="med"/>
          </a:ln>
        </p:spPr>
      </p:cxnSp>
      <p:cxnSp>
        <p:nvCxnSpPr>
          <p:cNvPr id="823" name="Прямая со стрелкой 12"/>
          <p:cNvCxnSpPr/>
          <p:nvPr/>
        </p:nvCxnSpPr>
        <p:spPr>
          <a:xfrm>
            <a:off x="3487680" y="2179800"/>
            <a:ext cx="2208960" cy="4023360"/>
          </a:xfrm>
          <a:prstGeom prst="straightConnector1">
            <a:avLst/>
          </a:prstGeom>
          <a:ln w="38160">
            <a:solidFill>
              <a:srgbClr val="ac339a"/>
            </a:solidFill>
            <a:miter/>
            <a:tailEnd len="med" type="arrow" w="med"/>
          </a:ln>
        </p:spPr>
      </p:cxnSp>
      <p:cxnSp>
        <p:nvCxnSpPr>
          <p:cNvPr id="824" name="Прямая со стрелкой 13"/>
          <p:cNvCxnSpPr/>
          <p:nvPr/>
        </p:nvCxnSpPr>
        <p:spPr>
          <a:xfrm>
            <a:off x="3487680" y="2179440"/>
            <a:ext cx="3504240" cy="3934440"/>
          </a:xfrm>
          <a:prstGeom prst="straightConnector1">
            <a:avLst/>
          </a:prstGeom>
          <a:ln w="38160">
            <a:solidFill>
              <a:srgbClr val="ac339a"/>
            </a:solidFill>
            <a:miter/>
            <a:tailEnd len="med" type="arrow" w="med"/>
          </a:ln>
        </p:spPr>
      </p:cxnSp>
      <p:sp>
        <p:nvSpPr>
          <p:cNvPr id="825" name="Скругленный прямоугольник 18"/>
          <p:cNvSpPr/>
          <p:nvPr/>
        </p:nvSpPr>
        <p:spPr>
          <a:xfrm>
            <a:off x="6364440" y="3033720"/>
            <a:ext cx="2627280" cy="990720"/>
          </a:xfrm>
          <a:prstGeom prst="roundRect">
            <a:avLst>
              <a:gd name="adj" fmla="val 16667"/>
            </a:avLst>
          </a:prstGeom>
          <a:solidFill>
            <a:srgbClr val="cae8f6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рия болезни стационарного больного закры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Например, перевод в другую медицинскую организацию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7" name="Rectangle 2"/>
          <p:cNvSpPr/>
          <p:nvPr/>
        </p:nvSpPr>
        <p:spPr>
          <a:xfrm>
            <a:off x="177840" y="965160"/>
            <a:ext cx="3456000" cy="380880"/>
          </a:xfrm>
          <a:prstGeom prst="rect">
            <a:avLst/>
          </a:prstGeom>
          <a:solidFill>
            <a:srgbClr val="ac339a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А** районная боль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2"/>
          <p:cNvSpPr/>
          <p:nvPr/>
        </p:nvSpPr>
        <p:spPr>
          <a:xfrm>
            <a:off x="5257800" y="952560"/>
            <a:ext cx="3768840" cy="380880"/>
          </a:xfrm>
          <a:prstGeom prst="rect">
            <a:avLst/>
          </a:prstGeom>
          <a:solidFill>
            <a:srgbClr val="ac339a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Б** областная боль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193680" y="1390680"/>
          <a:ext cx="3429000" cy="1341360"/>
        </p:xfrm>
        <a:graphic>
          <a:graphicData uri="http://schemas.openxmlformats.org/drawingml/2006/table">
            <a:tbl>
              <a:tblPr/>
              <a:tblGrid>
                <a:gridCol w="1676520"/>
                <a:gridCol w="1752480"/>
              </a:tblGrid>
              <a:tr h="3650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и ко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339a">
                        <a:alpha val="50000"/>
                      </a:srgbClr>
                    </a:solidFill>
                  </a:tcPr>
                </a:tc>
              </a:tr>
              <a:tr h="3348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5292720" y="1355760"/>
          <a:ext cx="3733920" cy="1616040"/>
        </p:xfrm>
        <a:graphic>
          <a:graphicData uri="http://schemas.openxmlformats.org/drawingml/2006/table">
            <a:tbl>
              <a:tblPr/>
              <a:tblGrid>
                <a:gridCol w="1828800"/>
                <a:gridCol w="1905120"/>
              </a:tblGrid>
              <a:tr h="3650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и ко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339a">
                        <a:alpha val="50000"/>
                      </a:srgbClr>
                    </a:solidFill>
                  </a:tcPr>
                </a:tc>
              </a:tr>
              <a:tr h="5796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1" name="AutoShape 271"/>
          <p:cNvSpPr/>
          <p:nvPr/>
        </p:nvSpPr>
        <p:spPr>
          <a:xfrm>
            <a:off x="3608280" y="1503360"/>
            <a:ext cx="1684440" cy="920880"/>
          </a:xfrm>
          <a:prstGeom prst="rightArrow">
            <a:avLst>
              <a:gd name="adj1" fmla="val 50000"/>
              <a:gd name="adj2" fmla="val 43747"/>
            </a:avLst>
          </a:prstGeom>
          <a:solidFill>
            <a:srgbClr val="ac339a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ыписа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(переводом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38"/>
          <p:cNvSpPr/>
          <p:nvPr/>
        </p:nvSpPr>
        <p:spPr>
          <a:xfrm rot="5400000">
            <a:off x="4381560" y="-1201680"/>
            <a:ext cx="457200" cy="8610480"/>
          </a:xfrm>
          <a:custGeom>
            <a:avLst/>
            <a:gdLst>
              <a:gd name="textAreaLeft" fmla="*/ 0 w 457200"/>
              <a:gd name="textAreaRight" fmla="*/ 164880 w 457200"/>
              <a:gd name="textAreaTop" fmla="*/ 224280 h 8610480"/>
              <a:gd name="textAreaBottom" fmla="*/ 8386200 h 861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2"/>
          <p:cNvSpPr/>
          <p:nvPr/>
        </p:nvSpPr>
        <p:spPr>
          <a:xfrm>
            <a:off x="353880" y="326376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ФФСН №30,  таблица 3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2"/>
          <p:cNvSpPr/>
          <p:nvPr/>
        </p:nvSpPr>
        <p:spPr>
          <a:xfrm>
            <a:off x="5243400" y="3354480"/>
            <a:ext cx="33321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5000"/>
          </a:bodyPr>
          <a:p>
            <a:pPr marL="376920" indent="-376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ФФСН №30,  таблица 3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276120" y="3632040"/>
          <a:ext cx="4191120" cy="2735280"/>
        </p:xfrm>
        <a:graphic>
          <a:graphicData uri="http://schemas.openxmlformats.org/drawingml/2006/table">
            <a:tbl>
              <a:tblPr/>
              <a:tblGrid>
                <a:gridCol w="1719360"/>
                <a:gridCol w="436680"/>
                <a:gridCol w="869760"/>
                <a:gridCol w="1165320"/>
              </a:tblGrid>
              <a:tr h="3207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6" name=""/>
          <p:cNvGraphicFramePr/>
          <p:nvPr/>
        </p:nvGraphicFramePr>
        <p:xfrm>
          <a:off x="4710240" y="3648240"/>
          <a:ext cx="4190760" cy="2730240"/>
        </p:xfrm>
        <a:graphic>
          <a:graphicData uri="http://schemas.openxmlformats.org/drawingml/2006/table">
            <a:tbl>
              <a:tblPr/>
              <a:tblGrid>
                <a:gridCol w="1784160"/>
                <a:gridCol w="452520"/>
                <a:gridCol w="903240"/>
                <a:gridCol w="1050840"/>
              </a:tblGrid>
              <a:tr h="35064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7" name="Rectangle 2"/>
          <p:cNvSpPr/>
          <p:nvPr/>
        </p:nvSpPr>
        <p:spPr>
          <a:xfrm>
            <a:off x="620640" y="6378480"/>
            <a:ext cx="2819520" cy="457200"/>
          </a:xfrm>
          <a:prstGeom prst="rect">
            <a:avLst/>
          </a:prstGeom>
          <a:solidFill>
            <a:srgbClr val="f4b7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3101 – </a:t>
            </a:r>
            <a:r>
              <a:rPr b="1" lang="ru-RU" sz="1400" spc="-1" strike="noStrike">
                <a:solidFill>
                  <a:srgbClr val="990033"/>
                </a:solidFill>
                <a:latin typeface="Times New Roman"/>
                <a:ea typeface="Arial"/>
              </a:rPr>
              <a:t>ВАЖНО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Скругленный прямоугольник 8"/>
          <p:cNvSpPr/>
          <p:nvPr/>
        </p:nvSpPr>
        <p:spPr>
          <a:xfrm>
            <a:off x="3505320" y="2441520"/>
            <a:ext cx="2666880" cy="822240"/>
          </a:xfrm>
          <a:prstGeom prst="roundRect">
            <a:avLst>
              <a:gd name="adj" fmla="val 16667"/>
            </a:avLst>
          </a:prstGeom>
          <a:solidFill>
            <a:srgbClr val="cae8f6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болезни стационарного больного закры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9" name="Прямая со стрелкой 17"/>
          <p:cNvCxnSpPr/>
          <p:nvPr/>
        </p:nvCxnSpPr>
        <p:spPr>
          <a:xfrm>
            <a:off x="2793600" y="2157120"/>
            <a:ext cx="345240" cy="3863160"/>
          </a:xfrm>
          <a:prstGeom prst="straightConnector1">
            <a:avLst/>
          </a:prstGeom>
          <a:ln w="38160">
            <a:solidFill>
              <a:srgbClr val="ac339a"/>
            </a:solidFill>
            <a:miter/>
            <a:tailEnd len="med" type="arrow" w="med"/>
          </a:ln>
        </p:spPr>
      </p:cxnSp>
      <p:cxnSp>
        <p:nvCxnSpPr>
          <p:cNvPr id="840" name="Прямая со стрелкой 18"/>
          <p:cNvCxnSpPr/>
          <p:nvPr/>
        </p:nvCxnSpPr>
        <p:spPr>
          <a:xfrm>
            <a:off x="3208320" y="2163240"/>
            <a:ext cx="1048320" cy="3855240"/>
          </a:xfrm>
          <a:prstGeom prst="straightConnector1">
            <a:avLst/>
          </a:prstGeom>
          <a:ln w="38160">
            <a:solidFill>
              <a:srgbClr val="ac339a"/>
            </a:solidFill>
            <a:miter/>
            <a:tailEnd len="med" type="arrow" w="med"/>
          </a:ln>
        </p:spPr>
      </p:cxnSp>
      <p:cxnSp>
        <p:nvCxnSpPr>
          <p:cNvPr id="841" name="Прямая со стрелкой 19"/>
          <p:cNvCxnSpPr/>
          <p:nvPr/>
        </p:nvCxnSpPr>
        <p:spPr>
          <a:xfrm flipH="1">
            <a:off x="7695720" y="2163240"/>
            <a:ext cx="378720" cy="3558600"/>
          </a:xfrm>
          <a:prstGeom prst="straightConnector1">
            <a:avLst/>
          </a:prstGeom>
          <a:ln w="38160">
            <a:solidFill>
              <a:srgbClr val="ac339a"/>
            </a:solidFill>
            <a:miter/>
            <a:tailEnd len="med" type="arrow" w="med"/>
          </a:ln>
        </p:spPr>
      </p:cxnSp>
      <p:cxnSp>
        <p:nvCxnSpPr>
          <p:cNvPr id="842" name="Прямая со стрелкой 20"/>
          <p:cNvCxnSpPr/>
          <p:nvPr/>
        </p:nvCxnSpPr>
        <p:spPr>
          <a:xfrm>
            <a:off x="8326440" y="2163600"/>
            <a:ext cx="378720" cy="3571200"/>
          </a:xfrm>
          <a:prstGeom prst="straightConnector1">
            <a:avLst/>
          </a:prstGeom>
          <a:ln w="38160">
            <a:solidFill>
              <a:srgbClr val="ac339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3" descr="007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4" name="Text Box 3"/>
          <p:cNvSpPr/>
          <p:nvPr/>
        </p:nvSpPr>
        <p:spPr>
          <a:xfrm>
            <a:off x="2324160" y="4397400"/>
            <a:ext cx="4800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Сведения о движении пациентов в строке 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4"/>
          <p:cNvSpPr/>
          <p:nvPr/>
        </p:nvSpPr>
        <p:spPr>
          <a:xfrm>
            <a:off x="2220840" y="4732200"/>
            <a:ext cx="4800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Сведения о движении пациентов в строке 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Text Box 5"/>
          <p:cNvSpPr/>
          <p:nvPr/>
        </p:nvSpPr>
        <p:spPr>
          <a:xfrm>
            <a:off x="2438280" y="5195880"/>
            <a:ext cx="4800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Сведения о движении пациентов в строке 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2133720" y="5729400"/>
            <a:ext cx="6172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Сведения о движении пациентов в строке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8" name="Прямая со стрелкой 7"/>
          <p:cNvCxnSpPr>
            <a:stCxn id="844" idx="1"/>
          </p:cNvCxnSpPr>
          <p:nvPr/>
        </p:nvCxnSpPr>
        <p:spPr>
          <a:xfrm flipH="1">
            <a:off x="1333080" y="4581000"/>
            <a:ext cx="991440" cy="273960"/>
          </a:xfrm>
          <a:prstGeom prst="straightConnector1">
            <a:avLst/>
          </a:prstGeom>
          <a:ln w="9360">
            <a:solidFill>
              <a:srgbClr val="b53a60"/>
            </a:solidFill>
            <a:miter/>
            <a:tailEnd len="med" type="triangle" w="med"/>
          </a:ln>
        </p:spPr>
      </p:cxnSp>
      <p:cxnSp>
        <p:nvCxnSpPr>
          <p:cNvPr id="849" name="Прямая со стрелкой 8"/>
          <p:cNvCxnSpPr>
            <a:stCxn id="845" idx="1"/>
          </p:cNvCxnSpPr>
          <p:nvPr/>
        </p:nvCxnSpPr>
        <p:spPr>
          <a:xfrm flipH="1">
            <a:off x="1382400" y="4916520"/>
            <a:ext cx="838800" cy="273240"/>
          </a:xfrm>
          <a:prstGeom prst="straightConnector1">
            <a:avLst/>
          </a:prstGeom>
          <a:ln w="9360">
            <a:solidFill>
              <a:srgbClr val="b53a60"/>
            </a:solidFill>
            <a:miter/>
            <a:tailEnd len="med" type="triangle" w="med"/>
          </a:ln>
        </p:spPr>
      </p:cxnSp>
      <p:cxnSp>
        <p:nvCxnSpPr>
          <p:cNvPr id="850" name="Прямая со стрелкой 9"/>
          <p:cNvCxnSpPr/>
          <p:nvPr/>
        </p:nvCxnSpPr>
        <p:spPr>
          <a:xfrm flipH="1">
            <a:off x="1409400" y="5427360"/>
            <a:ext cx="915120" cy="153000"/>
          </a:xfrm>
          <a:prstGeom prst="straightConnector1">
            <a:avLst/>
          </a:prstGeom>
          <a:ln w="9360">
            <a:solidFill>
              <a:srgbClr val="b53a60"/>
            </a:solidFill>
            <a:miter/>
            <a:tailEnd len="med" type="arrow" w="med"/>
          </a:ln>
        </p:spPr>
      </p:cxnSp>
      <p:cxnSp>
        <p:nvCxnSpPr>
          <p:cNvPr id="851" name="Прямая со стрелкой 10"/>
          <p:cNvCxnSpPr/>
          <p:nvPr/>
        </p:nvCxnSpPr>
        <p:spPr>
          <a:xfrm flipH="1" flipV="1">
            <a:off x="1409040" y="5836680"/>
            <a:ext cx="708840" cy="138600"/>
          </a:xfrm>
          <a:prstGeom prst="straightConnector1">
            <a:avLst/>
          </a:prstGeom>
          <a:ln w="9360">
            <a:solidFill>
              <a:srgbClr val="b53a60"/>
            </a:solidFill>
            <a:miter/>
            <a:tailEnd len="med" type="arrow" w="med"/>
          </a:ln>
        </p:spPr>
      </p:cxnSp>
      <p:sp>
        <p:nvSpPr>
          <p:cNvPr id="852" name="Text Box 7"/>
          <p:cNvSpPr/>
          <p:nvPr/>
        </p:nvSpPr>
        <p:spPr>
          <a:xfrm>
            <a:off x="6019920" y="30492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Таблица 3100 заполняе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по профилям коек, а не по наименованию от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Прямоугольник 1"/>
          <p:cNvSpPr/>
          <p:nvPr/>
        </p:nvSpPr>
        <p:spPr>
          <a:xfrm>
            <a:off x="2841480" y="727200"/>
            <a:ext cx="32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75e"/>
                </a:solidFill>
                <a:latin typeface="Times New Roman"/>
              </a:rPr>
              <a:t>учетная форма № 007/у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454"/>
          <p:cNvSpPr/>
          <p:nvPr/>
        </p:nvSpPr>
        <p:spPr>
          <a:xfrm>
            <a:off x="152280" y="55627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Обратить внима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на движение пациентов соответствующего возрас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койках  профиля «для детей» не должны лечиться взрослые пациенты, также как и на койках профиля «для взрослых» не должны показываться пролеченные де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0" y="152280"/>
          <a:ext cx="9144000" cy="5135760"/>
        </p:xfrm>
        <a:graphic>
          <a:graphicData uri="http://schemas.openxmlformats.org/drawingml/2006/table">
            <a:tbl>
              <a:tblPr/>
              <a:tblGrid>
                <a:gridCol w="868320"/>
                <a:gridCol w="382680"/>
                <a:gridCol w="703080"/>
                <a:gridCol w="625680"/>
                <a:gridCol w="623880"/>
                <a:gridCol w="625320"/>
                <a:gridCol w="703440"/>
                <a:gridCol w="625320"/>
                <a:gridCol w="547920"/>
                <a:gridCol w="625320"/>
                <a:gridCol w="625320"/>
                <a:gridCol w="781200"/>
                <a:gridCol w="781200"/>
                <a:gridCol w="625320"/>
              </a:tblGrid>
              <a:tr h="30492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и закрытия на ремо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тупивших (гр.6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дневные стационары  (всех тип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а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 ч лиц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 ч лиц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 ч лиц старше трудоспособно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. для вз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. для де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. для вз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152280" y="457200"/>
          <a:ext cx="8610840" cy="4505400"/>
        </p:xfrm>
        <a:graphic>
          <a:graphicData uri="http://schemas.openxmlformats.org/drawingml/2006/table">
            <a:tbl>
              <a:tblPr/>
              <a:tblGrid>
                <a:gridCol w="2895840"/>
                <a:gridCol w="838080"/>
                <a:gridCol w="1828800"/>
                <a:gridCol w="1676520"/>
                <a:gridCol w="1371600"/>
              </a:tblGrid>
              <a:tr h="5122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ременных и рожени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ddf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нек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гинекологические для вспомогательных  репродуктивн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нек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9" name="Rectangle 453"/>
          <p:cNvSpPr/>
          <p:nvPr/>
        </p:nvSpPr>
        <p:spPr>
          <a:xfrm>
            <a:off x="3886200" y="1828800"/>
            <a:ext cx="4876920" cy="312408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 строке «Всего» показывается число коек, движение пациентов и использование коечного фонда в целом по стационар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последующих строках показываются суммарные сведения по профилям кое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Аборты должны входить в состав гинекологических коек в строке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444"/>
          <p:cNvSpPr/>
          <p:nvPr/>
        </p:nvSpPr>
        <p:spPr>
          <a:xfrm>
            <a:off x="152280" y="502920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293f"/>
                </a:solidFill>
                <a:latin typeface="Times New Roman"/>
                <a:ea typeface="Arial"/>
              </a:rPr>
              <a:t>       </a:t>
            </a:r>
            <a:r>
              <a:rPr b="1" lang="ru-RU" sz="1600" spc="-1" strike="noStrike">
                <a:solidFill>
                  <a:srgbClr val="13293f"/>
                </a:solidFill>
                <a:latin typeface="Times New Roman"/>
                <a:ea typeface="Arial"/>
              </a:rPr>
              <a:t>В случае перевода новорожденного (больного) на койки патологии новорожденных в педиатрические стационары, он показывается как выписанный переводом из родильных отделений акушерских стационар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444"/>
          <p:cNvSpPr/>
          <p:nvPr/>
        </p:nvSpPr>
        <p:spPr>
          <a:xfrm>
            <a:off x="152280" y="58672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293f"/>
                </a:solidFill>
                <a:latin typeface="Times New Roman"/>
                <a:ea typeface="Arial"/>
              </a:rPr>
              <a:t>       </a:t>
            </a:r>
            <a:r>
              <a:rPr b="1" lang="ru-RU" sz="1600" spc="-1" strike="noStrike">
                <a:solidFill>
                  <a:srgbClr val="13293f"/>
                </a:solidFill>
                <a:latin typeface="Times New Roman"/>
                <a:ea typeface="Arial"/>
              </a:rPr>
              <a:t>В акушерских стационарах медицинских организаций любого</a:t>
            </a:r>
            <a:r>
              <a:rPr b="1" lang="en-US" sz="1600" spc="-1" strike="noStrike">
                <a:solidFill>
                  <a:srgbClr val="13293f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13293f"/>
                </a:solidFill>
                <a:latin typeface="Times New Roman"/>
                <a:ea typeface="Arial"/>
              </a:rPr>
              <a:t>уровня должны быть предусмотрены койки для</a:t>
            </a:r>
            <a:r>
              <a:rPr b="1" lang="en-US" sz="1600" spc="-1" strike="noStrike">
                <a:solidFill>
                  <a:srgbClr val="13293f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13293f"/>
                </a:solidFill>
                <a:latin typeface="Times New Roman"/>
                <a:ea typeface="Arial"/>
              </a:rPr>
              <a:t>реанимации новорожденных, которые показываются по строке 45.1 или 45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3" name=""/>
          <p:cNvGraphicFramePr/>
          <p:nvPr/>
        </p:nvGraphicFramePr>
        <p:xfrm>
          <a:off x="228600" y="838080"/>
          <a:ext cx="8610480" cy="4724640"/>
        </p:xfrm>
        <a:graphic>
          <a:graphicData uri="http://schemas.openxmlformats.org/drawingml/2006/table">
            <a:tbl>
              <a:tblPr/>
              <a:tblGrid>
                <a:gridCol w="4541760"/>
                <a:gridCol w="716040"/>
                <a:gridCol w="981000"/>
                <a:gridCol w="1390680"/>
                <a:gridCol w="981000"/>
              </a:tblGrid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кардиологические 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больных с остр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ом миокар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еврологические для больных с остры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ями мозгового кровообра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сихоневр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4" name="Rectangle 524"/>
          <p:cNvSpPr/>
          <p:nvPr/>
        </p:nvSpPr>
        <p:spPr>
          <a:xfrm>
            <a:off x="5486400" y="2514600"/>
            <a:ext cx="3352680" cy="10666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9 может быть больше суммы строк 19.1 + 19.2 за счет кардиологических коек для взросл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525"/>
          <p:cNvSpPr/>
          <p:nvPr/>
        </p:nvSpPr>
        <p:spPr>
          <a:xfrm>
            <a:off x="5486400" y="3886200"/>
            <a:ext cx="3352680" cy="106668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22 может быть больше суммы строк 22.1 + 22.2 за счет неврологических коек для взросл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525"/>
          <p:cNvSpPr/>
          <p:nvPr/>
        </p:nvSpPr>
        <p:spPr>
          <a:xfrm>
            <a:off x="76320" y="571500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293f"/>
                </a:solidFill>
                <a:latin typeface="Times New Roman"/>
                <a:ea typeface="Arial"/>
              </a:rPr>
              <a:t>      </a:t>
            </a:r>
            <a:r>
              <a:rPr b="1" lang="ru-RU" sz="1600" spc="-1" strike="noStrike">
                <a:solidFill>
                  <a:srgbClr val="13293f"/>
                </a:solidFill>
                <a:latin typeface="Times New Roman"/>
                <a:ea typeface="Arial"/>
              </a:rPr>
              <a:t>При наличии реанимационных коек в отделениях ПСО (первичные сосудистые отделения) и РСЦ (региональные сосудистые центры) сведения по ним показываем по строке 45 «реанимационные койк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8" name=""/>
          <p:cNvGraphicFramePr/>
          <p:nvPr/>
        </p:nvGraphicFramePr>
        <p:xfrm>
          <a:off x="304920" y="838080"/>
          <a:ext cx="8534160" cy="3184560"/>
        </p:xfrm>
        <a:graphic>
          <a:graphicData uri="http://schemas.openxmlformats.org/drawingml/2006/table">
            <a:tbl>
              <a:tblPr/>
              <a:tblGrid>
                <a:gridCol w="3200400"/>
                <a:gridCol w="838080"/>
                <a:gridCol w="1371600"/>
                <a:gridCol w="2151000"/>
                <a:gridCol w="973080"/>
              </a:tblGrid>
              <a:tr h="6062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ы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ы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 сомат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патологии новорожденных 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ношенных де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и для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9" name="Rectangle 407"/>
          <p:cNvSpPr/>
          <p:nvPr/>
        </p:nvSpPr>
        <p:spPr>
          <a:xfrm>
            <a:off x="4343400" y="2286000"/>
            <a:ext cx="4495680" cy="173664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з числа педиатрических коек приказом руководителя медицинской организации могут быть выделены койки патологии новорожденных и недоношенных, койки для новорожденных, которые показывают в строке 35.1 и 35.2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413"/>
          <p:cNvSpPr/>
          <p:nvPr/>
        </p:nvSpPr>
        <p:spPr>
          <a:xfrm>
            <a:off x="76320" y="4495680"/>
            <a:ext cx="8915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293f"/>
                </a:solidFill>
                <a:latin typeface="Times New Roman"/>
                <a:ea typeface="Arial"/>
              </a:rPr>
              <a:t>       </a:t>
            </a:r>
            <a:r>
              <a:rPr b="1" lang="ru-RU" sz="1600" spc="-1" strike="noStrike">
                <a:solidFill>
                  <a:srgbClr val="13293f"/>
                </a:solidFill>
                <a:latin typeface="Times New Roman"/>
                <a:ea typeface="Arial"/>
              </a:rPr>
              <a:t>Койки для новорожденных, строка 35.1, развертываются для оказания медицинской помощи больным новорожденным в организации </a:t>
            </a:r>
            <a:r>
              <a:rPr b="1" lang="en-US" sz="1600" spc="-1" strike="noStrike">
                <a:solidFill>
                  <a:srgbClr val="13293f"/>
                </a:solidFill>
                <a:latin typeface="Times New Roman"/>
                <a:ea typeface="Arial"/>
              </a:rPr>
              <a:t>III</a:t>
            </a:r>
            <a:r>
              <a:rPr b="1" lang="ru-RU" sz="1600" spc="-1" strike="noStrike">
                <a:solidFill>
                  <a:srgbClr val="13293f"/>
                </a:solidFill>
                <a:latin typeface="Times New Roman"/>
                <a:ea typeface="Arial"/>
              </a:rPr>
              <a:t> уровня -  перинатальные центры. Кроме того, в  педиатрических стационара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228600" y="914400"/>
          <a:ext cx="8763120" cy="4832280"/>
        </p:xfrm>
        <a:graphic>
          <a:graphicData uri="http://schemas.openxmlformats.org/drawingml/2006/table">
            <a:tbl>
              <a:tblPr/>
              <a:tblGrid>
                <a:gridCol w="2841480"/>
                <a:gridCol w="947880"/>
                <a:gridCol w="1341360"/>
                <a:gridCol w="1736640"/>
                <a:gridCol w="1895760"/>
              </a:tblGrid>
              <a:tr h="596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еанимационные для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3293f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 для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VID-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краткосрочного пребы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суточного пребы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3" name="Rectangle 349"/>
          <p:cNvSpPr/>
          <p:nvPr/>
        </p:nvSpPr>
        <p:spPr>
          <a:xfrm>
            <a:off x="4038480" y="2590920"/>
            <a:ext cx="4953240" cy="175248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еанимационные койки показывают в  строке 4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Койки интенсивной терапии включают в состав реанимационных коек и показывают в строке 45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45.4 показывается из строки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444"/>
          <p:cNvSpPr/>
          <p:nvPr/>
        </p:nvSpPr>
        <p:spPr>
          <a:xfrm>
            <a:off x="380880" y="5746680"/>
            <a:ext cx="8534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293f"/>
                </a:solidFill>
                <a:latin typeface="Times New Roman"/>
                <a:ea typeface="Times New Roman"/>
              </a:rPr>
              <a:t>В акушерских стационарах медицинских организаций любого уровня должны быть предусмотрены реанимационные койки для новорожденных или интенсивной терапии для новорожде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Line 2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6" name=""/>
          <p:cNvGraphicFramePr/>
          <p:nvPr/>
        </p:nvGraphicFramePr>
        <p:xfrm>
          <a:off x="228600" y="685800"/>
          <a:ext cx="8763120" cy="3733920"/>
        </p:xfrm>
        <a:graphic>
          <a:graphicData uri="http://schemas.openxmlformats.org/drawingml/2006/table">
            <a:tbl>
              <a:tblPr/>
              <a:tblGrid>
                <a:gridCol w="2286000"/>
                <a:gridCol w="762120"/>
                <a:gridCol w="1676160"/>
                <a:gridCol w="2362320"/>
                <a:gridCol w="1676520"/>
              </a:tblGrid>
              <a:tr h="40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койки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койки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ен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ольных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(стр. 01) - платных коек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7" name="Rectangle 352"/>
          <p:cNvSpPr/>
          <p:nvPr/>
        </p:nvSpPr>
        <p:spPr>
          <a:xfrm>
            <a:off x="3276720" y="2209680"/>
            <a:ext cx="5715000" cy="106704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латные койки включают в таблицу 3100 и показывают по строкам, соответствующим их профилям. Кроме того, сумму всех платных коек показывают в дополнительной стр. 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351"/>
          <p:cNvSpPr/>
          <p:nvPr/>
        </p:nvSpPr>
        <p:spPr>
          <a:xfrm>
            <a:off x="4267080" y="3886200"/>
            <a:ext cx="3886200" cy="38088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 стр. 78 графы 3-5 не заполняю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Прямоугольник 1"/>
          <p:cNvSpPr/>
          <p:nvPr/>
        </p:nvSpPr>
        <p:spPr>
          <a:xfrm>
            <a:off x="239760" y="4419720"/>
            <a:ext cx="8751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293f"/>
                </a:solidFill>
                <a:latin typeface="Times New Roman"/>
              </a:rPr>
              <a:t>В стр. 78 показывают «движение» больных новорожденны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293f"/>
                </a:solidFill>
                <a:latin typeface="Times New Roman"/>
              </a:rPr>
              <a:t>Это относится к новорожденным, родившимися больными или заболевшими в акушерских стационара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293f"/>
                </a:solidFill>
                <a:latin typeface="Times New Roman"/>
              </a:rPr>
              <a:t>Если перевод пациента не проводился и случай считается законченным в акушерском стационаре, то пациент показывается как выписанный (или умерший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293f"/>
                </a:solidFill>
                <a:latin typeface="Times New Roman"/>
              </a:rPr>
              <a:t>Если новорожденный переводится, то показывается выписанным переводом в иную медицинскую организацию для долечивани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304920" y="762120"/>
            <a:ext cx="84978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1436"/>
                </a:solidFill>
                <a:latin typeface="Times New Roman"/>
                <a:ea typeface="Arial"/>
              </a:rPr>
              <a:t>СРЕДНЕГОДОВАЯ ЗАНЯТОСТЬ КОЙ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1436"/>
                </a:solidFill>
                <a:latin typeface="Times New Roman"/>
                <a:ea typeface="Arial"/>
              </a:rPr>
              <a:t>(СРЕДНЕЕ ЧИСЛО ДНЕЙ РАБОТЫ КОЙКИ В ГОД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Число к/д, фактически проведенных пациентами стационара за год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33"/>
                </a:solidFill>
                <a:latin typeface="Times New Roman"/>
                <a:ea typeface="Arial"/>
              </a:rPr>
              <a:t>Число среднегодовых коек          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АННЫЙ ПОКАЗАТЕЛЬ ДОЛЖЕН УКЛАДЫВАТЬСЯ В РЕКОМЕНДОВАННЫЙ НОРМАТИВ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Arial"/>
              </a:rPr>
              <a:t>330 ДН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РЕДНЕГОДОВАЯ ЗАНЯТОСТЬ КОЙКИ МОЖЕТ БЫТЬ МЕНЕЕ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Arial"/>
              </a:rPr>
              <a:t>300 ДНЕЙ (285-300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ГОДУ В МЕДИЦИНСКИХ ОРГАНИЗАЦИЯХ РОДОВСПОМОЖЕНИЯ (КОЙКИ ПАТОЛОГИИ БЕРЕМЕННОСТИ, КОЙКИ ДЛЯ БЕРЕМЕННЫХ И РОЖЕНИЦ) И В ИНФЕКЦИОННЫХ БОЛЬНИЦАХ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ОСТАЛЬНЫХ МЕДИЦИНСКИХ ОРГАНИЗАЦИЯХ СРЕДНЕГОДОВАЯ ЗАНЯТОСТЬ КОЙКИ ДОЛЖНА БЫТЬ БОЛЕЕ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Arial"/>
              </a:rPr>
              <a:t>300 ДНЕ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НО НЕ ПРЕВЫШАТЬ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Arial"/>
              </a:rPr>
              <a:t>348 ДНЕ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КАК ПО ПРОФИЛЯМ, ТАК И ПО ОРГАНИЗАЦИИ В ЦЕЛ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Arial"/>
              </a:rPr>
              <a:t>Предоставить пояснительные записки (за подписью руководителя ) по работе койки по профилю ниже 285 и более 348 дней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5"/>
          <p:cNvSpPr/>
          <p:nvPr/>
        </p:nvSpPr>
        <p:spPr>
          <a:xfrm>
            <a:off x="1219320" y="21337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ДЕ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ДЕЯТЕЛЬНОСТЬ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МЕДИЦИНСКОЙ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ОРГАНИЗАЦИИ ПО ОКАЗАНИЮ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ОЙ ПОМОЩИ В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СТАЦИОНАРНЫХ УСЛОВ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таблица 3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6304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ЧЕТА ЧИСЛА СРЕДНЕГОДОВЫХ КОЕК НЕОБХОДИМО СУММУ СРЕДНЕМЕСЯЧНЫХ ЧИСЕЛ КОЕК РАЗДЕЛИТЬ НА 12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ИЮНЯ ПРОИЗОШЛО ИЗМЕНЕНИЕ ЧИСЛА КОЕК ГАСТРОЭНТЕРОЛОГИЧЕСКОГО ПРОФИЛЯ С 40 НА 30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. ГОД. КОЕК=(40+40+40+40+40+30+30+30+30+30+30+30)/12=34,2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5 ИЮНЯ ПРОИЗОШЛО ИЗМЕНЕНИЕ ЧИСЛА КОЕК ГАСТРОЭНТЕРОЛОГИЧЕСКОГО ПРОФИЛЯ С 40 НА 30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ДЛЯ ДАННОГО МЕСЯЦА РАССЧИТАТЬ ЧИСЛО СРЕДНЕМЕСЯЧНЫХ КОЕК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СУММУ ЕЖЕДНЕВНОГО ЧИСЛА КОЕК НЕОБХОДИМО РАЗДЕЛИТЬ НА ЧИСЛО ДНЕЙ В РАСЧЕТНОМ МЕСЯЦЕ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ДНЕЙ Х 40 КОЕК=600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ДНЕЙ Х 30 КОЕК=450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1050 КОЕК : 30 ДНЕЙ = 35 КОЕК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. ГОД. КОЕК=(40+40+40+40+40+35+30+30+30+30+30+30)/12=34,6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/>
          </p:nvPr>
        </p:nvSpPr>
        <p:spPr>
          <a:xfrm>
            <a:off x="762120" y="2437920"/>
            <a:ext cx="7686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8c239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3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610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ЗДРАВСОЦРАЗВИТИЯ РОССИИ ОТ 17.05.2012 N 555Н  «ОБ УТВЕРЖДЕНИИ НОМЕНКЛАТУРЫ КОЕЧНОГО ФОНДА ПО ПРОФИЛЯМ МЕДИЦИНСКОЙ ПОМОЩИ»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76320" y="1695600"/>
          <a:ext cx="8915400" cy="5072040"/>
        </p:xfrm>
        <a:graphic>
          <a:graphicData uri="http://schemas.openxmlformats.org/drawingml/2006/table">
            <a:tbl>
              <a:tblPr/>
              <a:tblGrid>
                <a:gridCol w="2658960"/>
                <a:gridCol w="625644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медицинской помощ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31436"/>
                          </a:solidFill>
                          <a:latin typeface="Times New Roman"/>
                          <a:ea typeface="Times New Roman"/>
                        </a:rPr>
                        <a:t>Профиль койки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ое дело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ременных и рожениц, патологии беременности, койки сестринского ухода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ременных и рожениц, патологии беременности, гинекологические, гинекологические для детей, гинекологические для вспомогательных репродуктивн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ческие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я и реаниматология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, реанимационные для новорожденных, интенсивной терапии, интенсивной терапии для новорожденных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я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троэнтерологические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венерология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матологические, венерологические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я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, кардиологические интенсивной терапии, кардиологические для больных с острым инфарктом миокар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я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, неврологические для больных с острыми нарушениями мозгового кровообращения, неврологические интенсивной терапии, психоневрологические для детей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я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ии новорожденных и недоношенных детей,  для новорожденных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88" name="Rectangle 3"/>
          <p:cNvSpPr/>
          <p:nvPr/>
        </p:nvSpPr>
        <p:spPr>
          <a:xfrm>
            <a:off x="304920" y="11430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1436"/>
                </a:solidFill>
                <a:latin typeface="Times New Roman"/>
                <a:ea typeface="Arial"/>
              </a:rPr>
              <a:t>НОМЕНКЛАТУРА КОЕЧНОГО ФОНД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31436"/>
                </a:solidFill>
                <a:latin typeface="Times New Roman"/>
                <a:ea typeface="Arial"/>
              </a:rPr>
              <a:t>ПО ПРОФИЛЯМ МЕДИЦИНСКОЙ ПОМОЩ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072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ПРИМЕР,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533520" y="2286000"/>
          <a:ext cx="7848360" cy="3962520"/>
        </p:xfrm>
        <a:graphic>
          <a:graphicData uri="http://schemas.openxmlformats.org/drawingml/2006/table">
            <a:tbl>
              <a:tblPr/>
              <a:tblGrid>
                <a:gridCol w="2313000"/>
                <a:gridCol w="3043080"/>
                <a:gridCol w="249228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тд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31436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31436"/>
                          </a:solidFill>
                          <a:latin typeface="Times New Roman"/>
                          <a:ea typeface="Times New Roman"/>
                        </a:rPr>
                        <a:t>профилей ко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ФСН №30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3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 45, 4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е 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е для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ойной хирургии 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ойной хирургии для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 45, 4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некологические 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а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91" name="Rectangle 2"/>
          <p:cNvSpPr/>
          <p:nvPr/>
        </p:nvSpPr>
        <p:spPr>
          <a:xfrm>
            <a:off x="457200" y="533520"/>
            <a:ext cx="800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1436"/>
                </a:solidFill>
                <a:latin typeface="Times New Roman"/>
                <a:ea typeface="Arial"/>
              </a:rPr>
              <a:t>Важно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2"/>
          <p:cNvSpPr/>
          <p:nvPr/>
        </p:nvSpPr>
        <p:spPr>
          <a:xfrm>
            <a:off x="533520" y="990720"/>
            <a:ext cx="7848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1436"/>
                </a:solidFill>
                <a:latin typeface="Times New Roman"/>
                <a:ea typeface="Arial"/>
              </a:rPr>
              <a:t>Таблица 3100 заполняется по профилям коек, а не 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1436"/>
                </a:solidFill>
                <a:latin typeface="Times New Roman"/>
                <a:ea typeface="Arial"/>
              </a:rPr>
              <a:t>наименованию отде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ИЯ, ВНЕСЕННЫЕ В ФОРМУ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ДОБАВЛЕНЫ НОВЫЕ СТРОКИ, ТАБЛИЦА №3100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457200" y="1066680"/>
          <a:ext cx="8381880" cy="4724640"/>
        </p:xfrm>
        <a:graphic>
          <a:graphicData uri="http://schemas.openxmlformats.org/drawingml/2006/table">
            <a:tbl>
              <a:tblPr/>
              <a:tblGrid>
                <a:gridCol w="5133960"/>
                <a:gridCol w="755640"/>
                <a:gridCol w="982800"/>
                <a:gridCol w="753840"/>
                <a:gridCol w="755640"/>
              </a:tblGrid>
              <a:tr h="7318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b">
                      <a:noAutofit/>
                    </a:bodyPr>
                    <a:p>
                      <a:pPr marL="34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для взросл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b">
                      <a:noAutofit/>
                    </a:bodyPr>
                    <a:p>
                      <a:pPr marL="34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лепроз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68760" rIns="68760" tIns="0" bIns="0" anchor="b">
                      <a:noAutofit/>
                    </a:bodyPr>
                    <a:p>
                      <a:pPr marL="34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VID-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b">
                      <a:noAutofit/>
                    </a:bodyPr>
                    <a:p>
                      <a:pPr marL="34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b">
                      <a:noAutofit/>
                    </a:bodyPr>
                    <a:p>
                      <a:pPr marL="34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лепроз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b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VID-1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54360" rIns="54360" tIns="0" bIns="0" anchor="b">
                      <a:noAutofit/>
                    </a:bodyPr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ориноларингологические дл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54360" rIns="54360" tIns="0" bIns="0" anchor="b">
                      <a:noAutofit/>
                    </a:bodyPr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оториноларингологические для детей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для кохлеарной   имплан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5" name="Объект 2" descr=""/>
          <p:cNvPicPr/>
          <p:nvPr/>
        </p:nvPicPr>
        <p:blipFill>
          <a:blip r:embed="rId1"/>
          <a:stretch/>
        </p:blipFill>
        <p:spPr>
          <a:xfrm>
            <a:off x="6308640" y="3127320"/>
            <a:ext cx="2586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МЕНЕНИЯ, ВНЕСЕННЫЕ В ФОРМУ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ДОБАВЛЕНЫ НОВЫЕ СТРОКИ, ТАБЛИЦА №3100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797" name=""/>
          <p:cNvGraphicFramePr/>
          <p:nvPr/>
        </p:nvGraphicFramePr>
        <p:xfrm>
          <a:off x="457200" y="1066680"/>
          <a:ext cx="8381880" cy="5092920"/>
        </p:xfrm>
        <a:graphic>
          <a:graphicData uri="http://schemas.openxmlformats.org/drawingml/2006/table">
            <a:tbl>
              <a:tblPr/>
              <a:tblGrid>
                <a:gridCol w="5133960"/>
                <a:gridCol w="755640"/>
                <a:gridCol w="982800"/>
                <a:gridCol w="753840"/>
                <a:gridCol w="755640"/>
              </a:tblGrid>
              <a:tr h="7318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, фактически развернутых и свернутых на ремо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 отчетног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b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b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 для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b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b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ой терапии для новорожд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760" rIns="68760" tIns="0" bIns="0" anchor="b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VID-1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b">
                      <a:noAutofit/>
                    </a:bodyPr>
                    <a:p>
                      <a:pPr marL="34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54360" rIns="54360" tIns="0" bIns="0" anchor="b">
                      <a:noAutofit/>
                    </a:bodyPr>
                    <a:p>
                      <a:pPr marL="34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роме того – дополнительно развернутые койки для лечения пациентов с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VID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 19 (инфекционны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54360" rIns="54360" tIns="0" bIns="0" anchor="b">
                      <a:noAutofit/>
                    </a:bodyPr>
                    <a:p>
                      <a:pPr marL="34920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algn="ctr">
                        <a:lnSpc>
                          <a:spcPts val="117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8" name="Rectangle 524"/>
          <p:cNvSpPr/>
          <p:nvPr/>
        </p:nvSpPr>
        <p:spPr>
          <a:xfrm>
            <a:off x="474840" y="5562720"/>
            <a:ext cx="8381880" cy="1066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тоговую строку (1) включается «строка 80» начиная с 6 графы (это сумма строк со 2 по 77 (по основным строкам) + 80 строка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стр.80 – гр.3,4,5 в стр.1 не входя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ОРМАЦИЯ ОТ МЕДИЦИНСКОЙ ОРГАНИЗАЦИ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85440" y="182844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457200" algn="just">
              <a:lnSpc>
                <a:spcPct val="120000"/>
              </a:lnSpc>
              <a:spcBef>
                <a:spcPts val="1001"/>
              </a:spcBef>
              <a:buClr>
                <a:srgbClr val="c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ОСТАВИТЬ ПРИ СДАЧИ ГОДОВОГО ОТЧЕТА КОПИИ ПРИКАЗОВ О КОЛИЧЕСТВЕ ПЕРЕПРОФИЛИРОВАННЫХ КОЕК ДЛЯ ЛЕЧЕНИЯ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VID-19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ГО, И В ТОМ ЧИСЛЕ ПО ПРОФИЛЯМ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8600" indent="45720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457200" y="3808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йки общего профиля должны быть перепрофилированы и показаны по соответствующему профилю в соответствии с приказом Минздравсоцразвития России от 17.05.2012  № 555н (терапевтические, сестринского ухода, паллиативные или др.)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 algn="just">
              <a:lnSpc>
                <a:spcPct val="80000"/>
              </a:lnSpc>
              <a:spcBef>
                <a:spcPts val="45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понятия «сверхсметные» реанимационные койки нет. Все койки реанимационного профиля включаются в общий коечный фонд медицинской организации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йки одноименного профиля, развернутые в различных отделениях медицинской организации, показывают суммарно одной строкой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5c83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городской больнице на конец отчетного года работало: в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рапевтическом отделении 5 коек по профилю «интенсивная терапия»,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хирургическом отделении 5 коек по профилю «интенсивная терапия»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этом случае, в таблице 3100 по графе 3 строке 45.2 «интенсивной терапии»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вим 10            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дел заполняется по данным «Сводной ведомости учета движения пациентов и коечного фонда медицинской организации, оказывающей медицинскую помощь в стационарных условиях» 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(учетная форма № 016/у-02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«Листков ежедневного учета движения пациентов и коечного фонда медицинской организации, оказывающей медицинскую помощь в стационарных условиях» 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(учетная форма № 007/у-02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учаи перевода пациентов из любого профильного отделения в другое отделение этой же медицинской организации показывают как </a:t>
            </a:r>
            <a:r>
              <a:rPr b="1" lang="ru-RU" sz="1800" spc="-1" strike="noStrike">
                <a:solidFill>
                  <a:srgbClr val="831436"/>
                </a:solidFill>
                <a:latin typeface="Times New Roman"/>
              </a:rPr>
              <a:t>внутрибольничные переводы</a:t>
            </a:r>
            <a:r>
              <a:rPr b="0" lang="ru-RU" sz="1800" spc="-1" strike="noStrike">
                <a:solidFill>
                  <a:srgbClr val="831436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циенты, направленные в дневной стационар, в другую медицинскую организацию или из них, считают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выписанным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водом и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поступившими</a:t>
            </a:r>
            <a:r>
              <a:rPr b="0" lang="ru-RU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водом, а не переведенными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1400" indent="-2214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1209600" y="45864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1436"/>
                </a:solidFill>
                <a:latin typeface="Times New Roman"/>
                <a:ea typeface="Arial"/>
              </a:rPr>
              <a:t>Например, внутрибольничный перевод в А** городской больниц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152280" y="1371600"/>
          <a:ext cx="3429000" cy="1341360"/>
        </p:xfrm>
        <a:graphic>
          <a:graphicData uri="http://schemas.openxmlformats.org/drawingml/2006/table">
            <a:tbl>
              <a:tblPr/>
              <a:tblGrid>
                <a:gridCol w="1689120"/>
                <a:gridCol w="1739880"/>
              </a:tblGrid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и ко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339a">
                        <a:alpha val="50000"/>
                      </a:srgbClr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AutoShape 59"/>
          <p:cNvSpPr/>
          <p:nvPr/>
        </p:nvSpPr>
        <p:spPr>
          <a:xfrm rot="18830400">
            <a:off x="579240" y="2244600"/>
            <a:ext cx="1457280" cy="692280"/>
          </a:xfrm>
          <a:prstGeom prst="rightArrow">
            <a:avLst>
              <a:gd name="adj1" fmla="val 50000"/>
              <a:gd name="adj2" fmla="val 52626"/>
            </a:avLst>
          </a:prstGeom>
          <a:solidFill>
            <a:srgbClr val="ac339a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тупи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AutoShape 61"/>
          <p:cNvSpPr/>
          <p:nvPr/>
        </p:nvSpPr>
        <p:spPr>
          <a:xfrm>
            <a:off x="3589200" y="1639800"/>
            <a:ext cx="1600200" cy="486000"/>
          </a:xfrm>
          <a:prstGeom prst="rightArrow">
            <a:avLst>
              <a:gd name="adj1" fmla="val 50000"/>
              <a:gd name="adj2" fmla="val 82315"/>
            </a:avLst>
          </a:prstGeom>
          <a:solidFill>
            <a:srgbClr val="ac339a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ереведе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5181480" y="1371600"/>
          <a:ext cx="3810240" cy="1339920"/>
        </p:xfrm>
        <a:graphic>
          <a:graphicData uri="http://schemas.openxmlformats.org/drawingml/2006/table">
            <a:tbl>
              <a:tblPr/>
              <a:tblGrid>
                <a:gridCol w="1828800"/>
                <a:gridCol w="1981440"/>
              </a:tblGrid>
              <a:tr h="3650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и ко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c339a">
                        <a:alpha val="50000"/>
                      </a:srgbClr>
                    </a:solidFill>
                  </a:tcPr>
                </a:tc>
              </a:tr>
              <a:tr h="3348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нсивн.терап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7" name="Rectangle 2"/>
          <p:cNvSpPr/>
          <p:nvPr/>
        </p:nvSpPr>
        <p:spPr>
          <a:xfrm>
            <a:off x="2743200" y="35053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ФФСН №30, таблица 3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AutoShape 118"/>
          <p:cNvSpPr/>
          <p:nvPr/>
        </p:nvSpPr>
        <p:spPr>
          <a:xfrm rot="5400000">
            <a:off x="4381560" y="-1028520"/>
            <a:ext cx="457200" cy="8610480"/>
          </a:xfrm>
          <a:custGeom>
            <a:avLst/>
            <a:gdLst>
              <a:gd name="textAreaLeft" fmla="*/ 0 w 457200"/>
              <a:gd name="textAreaRight" fmla="*/ 164880 w 457200"/>
              <a:gd name="textAreaTop" fmla="*/ 224280 h 8610480"/>
              <a:gd name="textAreaBottom" fmla="*/ 8386200 h 861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914400" y="3962520"/>
          <a:ext cx="7543800" cy="2408040"/>
        </p:xfrm>
        <a:graphic>
          <a:graphicData uri="http://schemas.openxmlformats.org/drawingml/2006/table">
            <a:tbl>
              <a:tblPr/>
              <a:tblGrid>
                <a:gridCol w="2362320"/>
                <a:gridCol w="753840"/>
                <a:gridCol w="1257480"/>
                <a:gridCol w="1468440"/>
                <a:gridCol w="1701720"/>
              </a:tblGrid>
              <a:tr h="33516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четном г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-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дневные стационары  (всех тип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ческие для взросл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810" name="Прямая со стрелкой 9"/>
          <p:cNvCxnSpPr/>
          <p:nvPr/>
        </p:nvCxnSpPr>
        <p:spPr>
          <a:xfrm>
            <a:off x="2631600" y="2125440"/>
            <a:ext cx="1964520" cy="3856680"/>
          </a:xfrm>
          <a:prstGeom prst="straightConnector1">
            <a:avLst/>
          </a:prstGeom>
          <a:ln w="38160">
            <a:solidFill>
              <a:srgbClr val="ac339a"/>
            </a:solidFill>
            <a:miter/>
            <a:tailEnd len="med" type="arrow" w="med"/>
          </a:ln>
        </p:spPr>
      </p:cxnSp>
      <p:cxnSp>
        <p:nvCxnSpPr>
          <p:cNvPr id="811" name="Прямая со стрелкой 13"/>
          <p:cNvCxnSpPr/>
          <p:nvPr/>
        </p:nvCxnSpPr>
        <p:spPr>
          <a:xfrm flipH="1">
            <a:off x="6019200" y="2125800"/>
            <a:ext cx="1143720" cy="3513600"/>
          </a:xfrm>
          <a:prstGeom prst="straightConnector1">
            <a:avLst/>
          </a:prstGeom>
          <a:ln w="38160">
            <a:solidFill>
              <a:srgbClr val="ac339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Карзакова Наталья Владиславовна</cp:lastModifiedBy>
  <cp:lastPrinted>2017-12-14T02:23:38Z</cp:lastPrinted>
  <dcterms:modified xsi:type="dcterms:W3CDTF">2020-12-10T09:02:23Z</dcterms:modified>
  <cp:revision>8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